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4F43-CD3F-4C9A-B08A-C195530B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7756-03AF-4293-9E68-1C45B7F8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124-309A-4206-A7F1-65F8998C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806-E7FF-43F9-9DB4-7D31FB35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803D-7041-4CC3-8B3E-B60F1194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33CC-47D2-44B8-AF63-90779CC2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1589-AE3A-490A-95E6-8493245E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7736-89F1-4263-A92B-40CF8FD0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A31F-CB9F-48D3-9378-8BBABB17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10B4-9263-4213-B1FF-CE51EED1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AE8E-DFD1-4EAE-869E-E5BA2F94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1E4F-5814-42A7-88B5-46DB8203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780F-E667-4F5E-A31D-A5B11EA848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-1182600"/>
            <a:ext cx="8458200" cy="90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Hor"/>
              </a:rPr>
              <a:t>ورقة عمل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Hor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Hor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Hor"/>
              </a:rPr>
              <a:t>الاسم:                                                                                           الصف:الأول ثانو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Hor"/>
              </a:rPr>
              <a:t>وقت التنفيذ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Hor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Hor"/>
              </a:rPr>
              <a:t>دقائق.                                                                      طريقة التنفيذ:فرد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Hor"/>
              </a:rPr>
              <a:t>هدف التنفيذ:أن تعرف الطالبة كلاً من (البيانات- المعلومات )، تعدد مزايا المعلومات المستخلصة بالحاس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Ho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L-Hor"/>
              </a:rPr>
              <a:t>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Hor"/>
              </a:rPr>
              <a:t>طالبت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Hor"/>
              </a:rPr>
              <a:t>هل يمكنك مساعدة صديقاتي في التعريف عن أنفسهن لورقتي..لقد سبق لك التعرف عليهن..وانت الوحيدة التي تستطيعين الشرح لورقتي فعرفيها عليهن......  شاكرة لك مساعدتك 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Hor"/>
              </a:rPr>
              <a:t>صديقتي الأولى :البيانات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L-Hor"/>
              </a:rPr>
              <a:t>...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Hor"/>
              </a:rPr>
              <a:t>صديقتي الثانية:المعلومات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Hor"/>
              </a:rPr>
              <a:t>اذكري اثنين من مزايا المعلومات المستخلصة بالحاس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L-Hor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L-Hor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j0286034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914400" cy="1000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-107640"/>
            <a:ext cx="831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hurooq 07"/>
              </a:rPr>
              <a:t>ورقة عمل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hurooq 07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hurooq 07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hurooq 07"/>
              </a:rPr>
              <a:t>الاسم:                                                                                           الصف:الأول ثانو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hurooq 07"/>
              </a:rPr>
              <a:t>وقت التنفيذ  :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hurooq 07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hurooq 07"/>
              </a:rPr>
              <a:t> دقائق .                                                                      طريقة التنفيذ:فرد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hurooq 07"/>
              </a:rPr>
              <a:t>هدف التنفيذ:أن تذكر الطالبة طريقة تمثيل البيانات في الحاس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757160"/>
            <a:ext cx="82245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hurooq 07"/>
              </a:rPr>
              <a:t>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hurooq 07"/>
              </a:rPr>
              <a:t>طالبتي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hurooq 07"/>
              </a:rPr>
              <a:t>هل يمكنك مساعدة صديقتك  في التعريف عن طريقة تمثيل البيانات في الحاسب؟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hurooq 07"/>
              </a:rPr>
              <a:t>والمقصود بالبايت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hurooq 07"/>
              </a:rPr>
              <a:t>..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hurooq 07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hurooq 07"/>
              </a:rPr>
              <a:t>شاكرة لكِ مساعدت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5157720"/>
            <a:ext cx="1527120" cy="1700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23:52:41Z</dcterms:created>
  <dc:creator>Ghadah</dc:creator>
  <dc:description/>
  <dc:language>en-US</dc:language>
  <cp:lastModifiedBy>GhAdA</cp:lastModifiedBy>
  <dcterms:modified xsi:type="dcterms:W3CDTF">2005-09-28T02:08:47Z</dcterms:modified>
  <cp:revision>86</cp:revision>
  <dc:subject/>
  <dc:title>مقدمة في الحاسب والمعلومات</dc:title>
</cp:coreProperties>
</file>