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0AA-3BBF-4B36-B2DA-6E6F53FC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1E49-F162-484D-ADDA-46DA7DCE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3644-0345-4404-868C-BB4D7E8A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7089-2AEB-48D1-85BF-B85DA3D2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DB05-8B0E-49CF-AC9B-C39FE6E7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7669-1C24-45C8-9378-A2486F2C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4C8-2D22-4F29-9D3D-575D9554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CEA5-6FA2-46CC-9D43-6EB0DA42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A104-8539-45D1-A77A-7F041353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F49D-7B1A-4C2A-8185-9BE5FF90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3D00-202B-4756-86C1-FBA3522D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DD7-15AB-4778-87EE-16EC3A9B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50B3-E3D4-4E80-95D2-06BAA14FA3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4179960"/>
            <a:ext cx="3162240" cy="1409760"/>
          </a:xfrm>
          <a:prstGeom prst="wedgeEllipseCallout">
            <a:avLst>
              <a:gd name="adj1" fmla="val -73592"/>
              <a:gd name="adj2" fmla="val 51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إنه عصرنا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هل تعلمين معنى ذلك...؟؟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اتجهي للأعلى...واكتبي.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5600" y="715320"/>
            <a:ext cx="88128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Al-Hadith1"/>
                <a:cs typeface="Times New Roman"/>
              </a:rPr>
              <a:t>ورقة عمل(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l-Hadith1"/>
                <a:ea typeface="Times New Roman"/>
              </a:rPr>
              <a:t>1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l-Hadith1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FS_Graphic"/>
                <a:cs typeface="Times New Roman"/>
              </a:rPr>
              <a:t>الاسم:                                                                                           الصف:الأول ثانو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FS_Graphic"/>
                <a:cs typeface="Times New Roman"/>
              </a:rPr>
              <a:t>وقت التنفيذ:</a:t>
            </a:r>
            <a:r>
              <a:rPr b="0" lang="ar-SA" sz="2000" spc="-1" strike="noStrike">
                <a:solidFill>
                  <a:srgbClr val="000000"/>
                </a:solidFill>
                <a:latin typeface="FS_Graphic"/>
                <a:ea typeface="Times New Roman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FS_Graphic"/>
                <a:cs typeface="Times New Roman"/>
              </a:rPr>
              <a:t>دقائق.                                                                      طريقة التنفيذ:فرد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FS_Graphic"/>
                <a:cs typeface="Times New Roman"/>
              </a:rPr>
              <a:t>هدف التنفيذ:لفت انتباه الطالبات لمعنى عصر الحاسب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FS_Graphic"/>
                <a:ea typeface="Times New Roman"/>
              </a:rPr>
              <a:t>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S_Graphic"/>
                <a:cs typeface="Times New Roman"/>
              </a:rPr>
              <a:t>عصر الحاسب....هو عصرنا الذي أضحينا فيه الآن....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S_Graphic"/>
                <a:cs typeface="Times New Roman"/>
              </a:rPr>
              <a:t>طالبتي العزيز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S_Graphic"/>
                <a:cs typeface="Times New Roman"/>
              </a:rPr>
              <a:t>فسري معنى العبارة السابقة فيما لا يزيد عن سطرين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FS_Graphic"/>
                <a:ea typeface="Times New Roman"/>
              </a:rPr>
              <a:t>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FS_Graphic"/>
                <a:ea typeface="Times New Roman"/>
              </a:rPr>
              <a:t>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5157720"/>
            <a:ext cx="15271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j0286034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914400" cy="100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-229320"/>
            <a:ext cx="831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FS_Graphic"/>
              </a:rPr>
              <a:t>ورقة عمل(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FS_Graphic"/>
              </a:rPr>
              <a:t>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FS_Grap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FS_Graphic"/>
              </a:rPr>
              <a:t>الاسم:                                                                                           الصف:الأول ثانو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FS_Graphic"/>
              </a:rPr>
              <a:t>وقت التنفيذ: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FS_Graphic"/>
              </a:rPr>
              <a:t>1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FS_Graphic"/>
              </a:rPr>
              <a:t>دقائق.                                                                         طريقة التنفيذ:فرد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FS_Graphic"/>
              </a:rPr>
              <a:t>هدف التنفي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FS_Graphic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FS_Graphic"/>
              </a:rPr>
              <a:t>- تعرف الحاسب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FS_Graphic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FS_Graphic"/>
              </a:rPr>
              <a:t>.تعدد الطالبة أنواع الحاسب  الشخصي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FS_Graphic"/>
              </a:rPr>
              <a:t>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FS_Graphic"/>
              </a:rPr>
              <a:t>.تبين سبب تسمية كل من الحاسب (المنزلي- المحمو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FS_Graphic"/>
              </a:rPr>
              <a:t>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616040"/>
            <a:ext cx="82249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FS_Graphic"/>
              </a:rPr>
              <a:t>طالبتي المنقذة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FS_Graphic"/>
              </a:rPr>
              <a:t>مع امتناني الشديد احتاج إليك لتجيبي عن الأسئلة التي تثير التساؤل وتسبب الحيرة لورقتي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FS_Graphic"/>
              </a:rPr>
              <a:t>عرفي الحاسب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FS_Graphic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FS_Graphic"/>
              </a:rPr>
              <a:t>)عددي أنواع الحاسب الشخصي؟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FS_Graphic"/>
              </a:rPr>
              <a:t>............................................................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FS_Graphic"/>
              </a:rPr>
              <a:t>............................................................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FS_Graphic"/>
              </a:rPr>
              <a:t>...........................................................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FS_Graphic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FS_Graphic"/>
              </a:rPr>
              <a:t>)"لكل إنسان حظ من اسمه" ولي صديقتان إحداهما تدعى (الحاسب المنزلي) والأخرى تدعى(الحاسب المحمول)............... ترى ما هو الحظ(الجزء) الذي اكتسباه من اسميهم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FS_Graphic"/>
              </a:rPr>
              <a:t>................................................................................................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FS_Graphic"/>
              </a:rPr>
              <a:t>................................................................................................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FS_Graphic"/>
              </a:rPr>
              <a:t>...............................................................................................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157720"/>
            <a:ext cx="1527120" cy="1700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32000" y="5837400"/>
            <a:ext cx="3025800" cy="1020600"/>
          </a:xfrm>
          <a:prstGeom prst="wedgeEllipseCallout">
            <a:avLst>
              <a:gd name="adj1" fmla="val -57134"/>
              <a:gd name="adj2" fmla="val -69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أنا أدعى( الحاسب المنزلي)...هل رأيت أختي...(الحاسب المحمول)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لا بد أنها تبحث عما اكتسبته من اسمها...أرجوك إذا عثرتي عليها ساعديها..............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29200" y="2286000"/>
            <a:ext cx="262908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الاسم: الحاسب الشخصي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عدد المستخدمين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عدد المها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قدرة المعالجة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43280" y="2286000"/>
            <a:ext cx="262872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الاسم: محطة العم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عدد المستخدمين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عدد المها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قدرة المعالجة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2362320"/>
            <a:ext cx="343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19240" y="2362320"/>
            <a:ext cx="343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38560" y="3809880"/>
            <a:ext cx="262908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الاسم: الحاسب الخاد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عدد المستخدمين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عدد المها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قدرة المعالجة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3809880"/>
            <a:ext cx="262908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الاسم: الحاسب المرك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عدد المستخدمين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عدد المها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قدرة المعالجة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266840" y="3736800"/>
            <a:ext cx="343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3962520"/>
            <a:ext cx="343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-215640"/>
            <a:ext cx="8339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FS_Graphic"/>
              </a:rPr>
              <a:t>ورقة عمل(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FS_Graphic"/>
              </a:rPr>
              <a:t>3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FS_Graphi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FS_Graphic"/>
              </a:rPr>
              <a:t>الاسم:                                                                                           الصف:الأول ثانوي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FS_Graphic"/>
              </a:rPr>
              <a:t>وقت التنفيذ: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FS_Graphic"/>
              </a:rPr>
              <a:t>8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FS_Graphic"/>
              </a:rPr>
              <a:t>دقائق.                                                                      طريقة التنفيذ:فردي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FS_Graphic"/>
              </a:rPr>
              <a:t>هدف التنفيذ: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FS_Graphic"/>
              </a:rPr>
              <a:t>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FS_Graphic"/>
              </a:rPr>
              <a:t>. معرفة الفرق بين (الحاسب الشخصي ومحطة العمل)-وبين الحاسب المتوسط والمركزي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FS_Graphic"/>
              </a:rPr>
              <a:t>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FS_Graphic"/>
              </a:rPr>
              <a:t>طالبتي الفاضلة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FS_Graphic"/>
              </a:rPr>
              <a:t>لديك بطاقات أحوال يجب أن تستخدمي ذاكرتك لتكملي فراغاتها ويستطيع أصحابها استخدمها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FS_Graphic"/>
              </a:rPr>
              <a:t>هلاّ تتفضلين وتكمليها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331280" y="3475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331280" y="3551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860000"/>
            <a:ext cx="7508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FS_Graphic"/>
              </a:rPr>
              <a:t>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FS_Graphic"/>
              </a:rPr>
              <a:t>طالبتي...هل تعرفت على الأخت الصغرى لأصحاب البطاقات السابقة وتدعى (حاسب التحكم)..اعتقد ذلك ..هل يمكن أن تساعدي ورقتي فقط بإخبارها عن أماكن تواجدها الدائم..........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FS_Graphic"/>
              </a:rPr>
              <a:t>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FS_Graphic"/>
              </a:rPr>
              <a:t>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3962520"/>
            <a:ext cx="343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433520"/>
            <a:ext cx="8575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البتي المتميزة:مستعينة بالله أجيبي عن الأسئلة التالي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عددي أهم خواص الحاسب الآلي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ما المقصود بـ(أحادي المهام والاستخدام)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انسبي كل مما يلي لنوع الحاسب الذي ينتمي إليه (حاسب مركزي-حاسب متوسط-حاسب شخصي-حاسب محمول – حاسب تحكم – محطة عمل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حاسب إدارة الجوازات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حاسب السيار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حاسب المهند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حاسب وزارة المعار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حاسب جامعة الملك عبد العزي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485640" y="-65160"/>
            <a:ext cx="916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رقة عمل(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اسم:                                                                                           الصف:االأول ثانو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قت التنفيذ: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قائق.                                                                      طريقة التنفيذ:فرد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هدف التنفيذ:التغذية الراجع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23:52:41Z</dcterms:created>
  <dc:creator>Ghadah</dc:creator>
  <dc:description/>
  <dc:language>en-US</dc:language>
  <cp:lastModifiedBy>GhAdA</cp:lastModifiedBy>
  <dcterms:modified xsi:type="dcterms:W3CDTF">2005-09-25T17:32:48Z</dcterms:modified>
  <cp:revision>63</cp:revision>
  <dc:subject/>
  <dc:title>مقدمة في الحاسب والمعلومات</dc:title>
</cp:coreProperties>
</file>