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ABC-46F4-4A63-9F57-9139DB4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ADE-949B-456C-8D73-CE402806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350-0623-4227-BE58-353BB27B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DBB-71D2-4B16-980D-D8FADBE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2D1C-AA5D-41E3-B609-18F1087F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4659-0796-4CBC-9D04-31238C9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A7F-B5CD-4A45-911D-FA551754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DC93-F403-4BC9-8359-581AA56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927C-17A3-4199-A00D-60FFBE37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8CE-B55A-41EE-86AA-D6DAF028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8AA0-3B42-4FEA-8F0D-0006FA0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61A-9919-43A7-A374-DCC1CC35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1380-8163-40F1-AADE-618BC4FF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94A7-3782-48BA-922B-7BB25A17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E9A7-8B95-4C7E-A4D3-8AED1DE9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19A-D80E-4BC4-BF11-A14E0C5A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8C1-92BE-4540-B85A-228CFDBB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096-6607-4A3E-8FBC-DBB2DF68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344-A1EC-468C-B4D0-0E48E3E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4C3-1792-4B25-B002-EDA4C6A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50C-31C9-4B79-A132-BA9DB38A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E46-A7A9-4FBB-AE7C-0ACF67EE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DFB-8641-474C-9EE9-C2B82CA4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25C-75DF-4F31-88DD-65DF4167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81F8-C658-478D-8750-901449784D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9609-D56E-4E92-8B0E-967DA2D7EF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394720"/>
            <a:ext cx="82249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س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) إذا كانت سعة قرص قلم التخزين 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USB Flash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 هي 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2/1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 ج.بايت,و باعتبار أن كل بايت يمثل حرفاً هجائيا أو رقما ، وأن الكلمة تتكون عادة من ثمانية حروف. فكم عدد الكلمات التي يمكن تخزينها على القرص؟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س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) أكملي الفراغات التالية بالوحدة المناسبة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يعتبر أصغر مقيا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يمث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02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با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.يمث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02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102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102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102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با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.عبارة عن ثمانية أرقام ثنائ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-229680"/>
            <a:ext cx="831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ورقة عمل(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اسم:                                                                                                    الصف:الأول ثانو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قت التنفيذ: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دقائق.                                                                         طريقة التنفيذ: مجموعة                    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كونة من طالبت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هدف التنفي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- تحسب سعة تخزين قرص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- تميز بين سعات التخزين المختلف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1441440" cy="1297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1125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2160" y="12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8:28:34Z</dcterms:created>
  <dc:creator>GhAdA</dc:creator>
  <dc:description/>
  <dc:language>en-US</dc:language>
  <cp:lastModifiedBy>GhAdA</cp:lastModifiedBy>
  <dcterms:modified xsi:type="dcterms:W3CDTF">2005-09-28T01:34:54Z</dcterms:modified>
  <cp:revision>196</cp:revision>
  <dc:subject/>
  <dc:title>الباب الثاني مكونات الحاسب وإدخال البيانات</dc:title>
</cp:coreProperties>
</file>