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FB7A-BEF7-4449-9D80-B1C32D37C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4D93-5841-4E81-A5FF-7388F772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BDE8-FB55-48F1-9580-F44F3124F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4668-2010-46E2-8534-21970DA5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636C-C8FF-4AD0-B404-704993FD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0A35-F9B9-45D1-999F-25D585D5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1338-243A-4CA4-AEFD-9A82F101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9B2F-C8A7-4A32-838D-66D286E6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D063-B6AF-459B-B6FA-2E520157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D23C-930B-4CF9-BE89-4BFC57D8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D3CE-1D67-4D00-887F-5DC5D4E6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B1B6-0FB1-4961-824E-1D2E9B40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FA95-7B83-4ECC-A3ED-5E109D75E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9160" y="2558520"/>
            <a:ext cx="8958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48486c"/>
                </a:solidFill>
                <a:uFillTx/>
                <a:latin typeface="Comic Sans MS"/>
                <a:cs typeface="Shurooq 07"/>
              </a:rPr>
              <a:t>طالبتي النجيبة قومي بتنفيذ الخطوات التال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1</a:t>
            </a: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- انشئي مجلد في القرص الصلب </a:t>
            </a:r>
            <a:r>
              <a:rPr b="0" lang="en-US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C</a:t>
            </a: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 يحمل اسم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2</a:t>
            </a: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- انشئي مجلد يحمل لقبك داخل المجلد الساب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3</a:t>
            </a: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- انشئي ملف اسمه ( صورتي) ونوعه (صورة) داخل الملف الذي يحمل لقب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4</a:t>
            </a: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- غيري سمة ملف الصورة الذي انشأته واجعليه مخفيا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5</a:t>
            </a: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- اجعلي الملف المخفي مرئي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0720" y="-120240"/>
            <a:ext cx="8315280" cy="28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Arial"/>
                <a:cs typeface="Shurooq 07"/>
              </a:rPr>
              <a:t>ورقة عمل (</a:t>
            </a:r>
            <a:r>
              <a:rPr b="0" lang="ar-SA" sz="2400" spc="-1" strike="noStrike">
                <a:solidFill>
                  <a:srgbClr val="48486c"/>
                </a:solidFill>
                <a:latin typeface="Arial"/>
                <a:ea typeface="Shurooq 07"/>
              </a:rPr>
              <a:t>1</a:t>
            </a:r>
            <a:r>
              <a:rPr b="0" lang="ar-SA" sz="2400" spc="-1" strike="noStrike">
                <a:solidFill>
                  <a:srgbClr val="48486c"/>
                </a:solidFill>
                <a:latin typeface="Arial"/>
                <a:ea typeface="Shurooq 07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Arial"/>
                <a:cs typeface="Shurooq 07"/>
              </a:rPr>
              <a:t>الاسم:                                                                                            الصف:الأول ثانو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Arial"/>
                <a:cs typeface="Shurooq 07"/>
              </a:rPr>
              <a:t>وقت التنفيذ:</a:t>
            </a:r>
            <a:r>
              <a:rPr b="0" lang="ar-SA" sz="2400" spc="-1" strike="noStrike">
                <a:solidFill>
                  <a:srgbClr val="48486c"/>
                </a:solidFill>
                <a:latin typeface="Arial"/>
                <a:ea typeface="Shurooq 07"/>
              </a:rPr>
              <a:t>3</a:t>
            </a:r>
            <a:r>
              <a:rPr b="0" lang="ar-SA" sz="2400" spc="-1" strike="noStrike">
                <a:solidFill>
                  <a:srgbClr val="48486c"/>
                </a:solidFill>
                <a:latin typeface="Arial"/>
                <a:ea typeface="Shurooq 07"/>
              </a:rPr>
              <a:t> دقائق.                                                                         طريقة التنفيذ: 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cs typeface="Shurooq 07"/>
              </a:rPr>
              <a:t>فردي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8486c"/>
                </a:solidFill>
                <a:latin typeface="Arial"/>
                <a:cs typeface="Shurooq 07"/>
              </a:rPr>
              <a:t>هدف التنفي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1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- انشاء مجلد .    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	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2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- الانتقال عبر المجلدات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 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3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- انشاء ملف             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4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-تغيير سمات ملف أو مجلدا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9160" y="2373480"/>
            <a:ext cx="8958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48486c"/>
                </a:solidFill>
                <a:uFillTx/>
                <a:latin typeface="Comic Sans MS"/>
                <a:cs typeface="Shurooq 07"/>
              </a:rPr>
              <a:t>طالبتي النجيبة قومي بتنفيذ الخطوات التال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1</a:t>
            </a: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- انشئي مجلد في القرص الصلب </a:t>
            </a:r>
            <a:r>
              <a:rPr b="0" lang="en-US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C</a:t>
            </a: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 وسميه (مادة الحاسب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2</a:t>
            </a: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- انشئي اختصار لمجلد (مادة الحاسب) ،وضعيه على سطح المكت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3</a:t>
            </a: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- انشئي مجلد آخر وسميه (معمل الحاسب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4</a:t>
            </a: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- انقلي المجلد الثاني داخل المجلد الأو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5</a:t>
            </a: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- ضعي نسخة أخرى لمجلد ( معمل الحاسب) بداخل مجلد ( مادة الحاسب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6</a:t>
            </a: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- قومي بإعادة تسمية نسخة المجلد ليصبح </a:t>
            </a:r>
            <a:r>
              <a:rPr b="0" lang="en-US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(</a:t>
            </a:r>
            <a:r>
              <a:rPr b="0" lang="en-US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LAB</a:t>
            </a:r>
            <a:r>
              <a:rPr b="0" lang="en-US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7</a:t>
            </a: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- قومي بحذف المجلد المسمى (معمل الحاسب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0720" y="-120240"/>
            <a:ext cx="8315280" cy="28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Arial"/>
                <a:cs typeface="Shurooq 07"/>
              </a:rPr>
              <a:t>ورقة عمل (</a:t>
            </a:r>
            <a:r>
              <a:rPr b="0" lang="ar-SA" sz="2400" spc="-1" strike="noStrike">
                <a:solidFill>
                  <a:srgbClr val="48486c"/>
                </a:solidFill>
                <a:latin typeface="Arial"/>
                <a:ea typeface="Shurooq 07"/>
              </a:rPr>
              <a:t>1</a:t>
            </a:r>
            <a:r>
              <a:rPr b="0" lang="ar-SA" sz="2400" spc="-1" strike="noStrike">
                <a:solidFill>
                  <a:srgbClr val="48486c"/>
                </a:solidFill>
                <a:latin typeface="Arial"/>
                <a:ea typeface="Shurooq 07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Arial"/>
                <a:cs typeface="Shurooq 07"/>
              </a:rPr>
              <a:t>الاسم:                                                                                            الصف:الأول ثانو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Arial"/>
                <a:cs typeface="Shurooq 07"/>
              </a:rPr>
              <a:t>وقت التنفيذ:</a:t>
            </a:r>
            <a:r>
              <a:rPr b="0" lang="ar-SA" sz="2400" spc="-1" strike="noStrike">
                <a:solidFill>
                  <a:srgbClr val="48486c"/>
                </a:solidFill>
                <a:latin typeface="Arial"/>
                <a:ea typeface="Shurooq 07"/>
              </a:rPr>
              <a:t>3</a:t>
            </a:r>
            <a:r>
              <a:rPr b="0" lang="ar-SA" sz="2400" spc="-1" strike="noStrike">
                <a:solidFill>
                  <a:srgbClr val="48486c"/>
                </a:solidFill>
                <a:latin typeface="Arial"/>
                <a:ea typeface="Shurooq 07"/>
              </a:rPr>
              <a:t> دقائق.                                                                         طريقة التنفيذ: 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cs typeface="Shurooq 07"/>
              </a:rPr>
              <a:t>فردي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8486c"/>
                </a:solidFill>
                <a:latin typeface="Arial"/>
                <a:cs typeface="Shurooq 07"/>
              </a:rPr>
              <a:t>هدف التنفي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1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- نسخ مجلد .    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	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2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- نقل مجلد .                   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3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- تغيير اسم مجلد أو مل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4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-حذف ملف أو مجلد </a:t>
            </a:r>
            <a:r>
              <a:rPr b="0" lang="en-US" sz="2000" spc="-1" strike="noStrike">
                <a:solidFill>
                  <a:srgbClr val="48486c"/>
                </a:solidFill>
                <a:latin typeface="Arial"/>
                <a:ea typeface="Shurooq 07"/>
              </a:rPr>
              <a:t>   </a:t>
            </a:r>
            <a:r>
              <a:rPr b="0" lang="en-US" sz="2000" spc="-1" strike="noStrike">
                <a:solidFill>
                  <a:srgbClr val="48486c"/>
                </a:solidFill>
                <a:latin typeface="Arial"/>
                <a:ea typeface="Shurooq 07"/>
              </a:rPr>
              <a:t>	</a:t>
            </a:r>
            <a:r>
              <a:rPr b="0" lang="en-US" sz="2000" spc="-1" strike="noStrike">
                <a:solidFill>
                  <a:srgbClr val="48486c"/>
                </a:solidFill>
                <a:latin typeface="Arial"/>
                <a:ea typeface="Shurooq 07"/>
              </a:rPr>
              <a:t>	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5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- القدرة على انشاء الاختصار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9160" y="2777760"/>
            <a:ext cx="8958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48486c"/>
                </a:solidFill>
                <a:uFillTx/>
                <a:latin typeface="Comic Sans MS"/>
                <a:cs typeface="Shurooq 07"/>
              </a:rPr>
              <a:t>طالبتي النجيبة قومي بتنفيذ الخطوات التال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1</a:t>
            </a:r>
            <a:r>
              <a:rPr b="0" lang="en-US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- احضري قرص مرن جدي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2</a:t>
            </a:r>
            <a:r>
              <a:rPr b="0" lang="en-US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- قومي بعملية التجهيز لهذا القر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3</a:t>
            </a:r>
            <a:r>
              <a:rPr b="0" lang="en-US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- قومي بإرسال ملفات معينة من القرص الثابت إلى القرص المر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4</a:t>
            </a:r>
            <a:r>
              <a:rPr b="0" lang="en-US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- انسخي المجلد الموجود في القرص المرن إلى سطح المكت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5</a:t>
            </a:r>
            <a:r>
              <a:rPr b="0" lang="en-US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- انسخي محتويات قرص مرن إلى قرص مرن آخ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0720" y="-120240"/>
            <a:ext cx="8315280" cy="28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Arial"/>
                <a:cs typeface="Shurooq 07"/>
              </a:rPr>
              <a:t>ورقة عمل (</a:t>
            </a:r>
            <a:r>
              <a:rPr b="0" lang="ar-SA" sz="2400" spc="-1" strike="noStrike">
                <a:solidFill>
                  <a:srgbClr val="48486c"/>
                </a:solidFill>
                <a:latin typeface="Arial"/>
                <a:ea typeface="Shurooq 07"/>
              </a:rPr>
              <a:t>1</a:t>
            </a:r>
            <a:r>
              <a:rPr b="0" lang="ar-SA" sz="2400" spc="-1" strike="noStrike">
                <a:solidFill>
                  <a:srgbClr val="48486c"/>
                </a:solidFill>
                <a:latin typeface="Arial"/>
                <a:ea typeface="Shurooq 07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Arial"/>
                <a:cs typeface="Shurooq 07"/>
              </a:rPr>
              <a:t>الاسم:                                                                                            الصف:الأول ثانو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Arial"/>
                <a:cs typeface="Shurooq 07"/>
              </a:rPr>
              <a:t>وقت التنفيذ:</a:t>
            </a:r>
            <a:r>
              <a:rPr b="0" lang="ar-SA" sz="2400" spc="-1" strike="noStrike">
                <a:solidFill>
                  <a:srgbClr val="48486c"/>
                </a:solidFill>
                <a:latin typeface="Arial"/>
                <a:ea typeface="Shurooq 07"/>
              </a:rPr>
              <a:t>3</a:t>
            </a:r>
            <a:r>
              <a:rPr b="0" lang="ar-SA" sz="2400" spc="-1" strike="noStrike">
                <a:solidFill>
                  <a:srgbClr val="48486c"/>
                </a:solidFill>
                <a:latin typeface="Arial"/>
                <a:ea typeface="Shurooq 07"/>
              </a:rPr>
              <a:t> دقائق.                                                                         طريقة التنفيذ: 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cs typeface="Shurooq 07"/>
              </a:rPr>
              <a:t>فردي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8486c"/>
                </a:solidFill>
                <a:latin typeface="Arial"/>
                <a:cs typeface="Shurooq 07"/>
              </a:rPr>
              <a:t>هدف التنفي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1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- استعراض محتويات قرص .    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	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2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- نسخ محتوى قرص إلى آخر .          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3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- تجهيز القرص المرن لتهيئته للاستخدا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9160" y="2616480"/>
            <a:ext cx="8958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48486c"/>
                </a:solidFill>
                <a:uFillTx/>
                <a:latin typeface="Comic Sans MS"/>
                <a:cs typeface="Shurooq 07"/>
              </a:rPr>
              <a:t>طالبتي النجيبة قومي بتنفيذ الخطوات التال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1</a:t>
            </a: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- شغلي برنامج (الرسام) من خلال قائمة (كافة البرامج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2</a:t>
            </a: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- انشئي اختصار على سطح المكتب لبرنامج الرسا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3</a:t>
            </a: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- شغلي برنامج </a:t>
            </a:r>
            <a:r>
              <a:rPr b="0" lang="en-US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MS-Word</a:t>
            </a: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 من خلال الأمر تشغي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4</a:t>
            </a: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- أضيفي اختصار داخل قائمة (ابدأ) لبرنامج </a:t>
            </a:r>
            <a:r>
              <a:rPr b="0" lang="en-US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Internet Expl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0720" y="32400"/>
            <a:ext cx="831528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Arial"/>
                <a:cs typeface="Shurooq 07"/>
              </a:rPr>
              <a:t>ورقة عمل (</a:t>
            </a:r>
            <a:r>
              <a:rPr b="0" lang="ar-SA" sz="2400" spc="-1" strike="noStrike">
                <a:solidFill>
                  <a:srgbClr val="48486c"/>
                </a:solidFill>
                <a:latin typeface="Arial"/>
                <a:ea typeface="Shurooq 07"/>
              </a:rPr>
              <a:t>1</a:t>
            </a:r>
            <a:r>
              <a:rPr b="0" lang="ar-SA" sz="2400" spc="-1" strike="noStrike">
                <a:solidFill>
                  <a:srgbClr val="48486c"/>
                </a:solidFill>
                <a:latin typeface="Arial"/>
                <a:ea typeface="Shurooq 07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Arial"/>
                <a:cs typeface="Shurooq 07"/>
              </a:rPr>
              <a:t>الاسم:                                                                                            الصف:الأول ثانو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Arial"/>
                <a:cs typeface="Shurooq 07"/>
              </a:rPr>
              <a:t>وقت التنفيذ:</a:t>
            </a:r>
            <a:r>
              <a:rPr b="0" lang="ar-SA" sz="2400" spc="-1" strike="noStrike">
                <a:solidFill>
                  <a:srgbClr val="48486c"/>
                </a:solidFill>
                <a:latin typeface="Arial"/>
                <a:ea typeface="Shurooq 07"/>
              </a:rPr>
              <a:t>3</a:t>
            </a:r>
            <a:r>
              <a:rPr b="0" lang="ar-SA" sz="2400" spc="-1" strike="noStrike">
                <a:solidFill>
                  <a:srgbClr val="48486c"/>
                </a:solidFill>
                <a:latin typeface="Arial"/>
                <a:ea typeface="Shurooq 07"/>
              </a:rPr>
              <a:t> دقائق.                                                                         طريقة التنفيذ: 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cs typeface="Shurooq 07"/>
              </a:rPr>
              <a:t>فردي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8486c"/>
                </a:solidFill>
                <a:latin typeface="Arial"/>
                <a:cs typeface="Shurooq 07"/>
              </a:rPr>
              <a:t>هدف التنفي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1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- تشغيل بعض البرمجيات التطبيقية 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23:52:41Z</dcterms:created>
  <dc:creator>Ghadah</dc:creator>
  <dc:description/>
  <dc:language>en-US</dc:language>
  <cp:lastModifiedBy>GhAdA</cp:lastModifiedBy>
  <dcterms:modified xsi:type="dcterms:W3CDTF">2005-10-15T22:59:22Z</dcterms:modified>
  <cp:revision>113</cp:revision>
  <dc:subject/>
  <dc:title>مقدمة في الحاسب والمعلومات</dc:title>
</cp:coreProperties>
</file>