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gif" ContentType="image/gif"/>
  <Override PartName="/ppt/media/image5.gif" ContentType="image/gif"/>
  <Override PartName="/ppt/media/image2.png" ContentType="image/png"/>
  <Override PartName="/ppt/media/image22.gif" ContentType="image/gif"/>
  <Override PartName="/ppt/media/image3.png" ContentType="image/png"/>
  <Override PartName="/ppt/media/DRIVEBY.WAV" ContentType="audio/x-wav"/>
  <Override PartName="/ppt/media/image6.gif" ContentType="image/gif"/>
  <Override PartName="/ppt/media/CAMERA.WAV" ContentType="audio/x-wav"/>
  <Override PartName="/ppt/media/image4.png" ContentType="image/png"/>
  <Override PartName="/ppt/media/TYPE.WAV" ContentType="audio/x-wav"/>
  <Override PartName="/ppt/media/CHIMES.WAV" ContentType="audio/x-wav"/>
  <Override PartName="/ppt/media/image7.gif" ContentType="image/gif"/>
  <Override PartName="/ppt/media/image8.gif" ContentType="image/gif"/>
  <Override PartName="/ppt/media/WHOOSH.WAV" ContentType="audio/x-wav"/>
  <Override PartName="/ppt/media/image1.png" ContentType="image/png"/>
  <Override PartName="/ppt/media/image19.gif" ContentType="image/gif"/>
  <Override PartName="/ppt/media/CASHREG.WAV" ContentType="audio/x-wav"/>
  <Override PartName="/ppt/media/image21.gif" ContentType="image/gif"/>
  <Override PartName="/ppt/media/image9.wmf" ContentType="image/x-wmf"/>
  <Override PartName="/ppt/media/image12.png" ContentType="image/png"/>
  <Override PartName="/ppt/media/image13.gif" ContentType="image/gif"/>
  <Override PartName="/ppt/media/image16.png" ContentType="image/png"/>
  <Override PartName="/ppt/media/ricochet.wav" ContentType="audio/x-wav"/>
  <Override PartName="/ppt/media/image10.wmf" ContentType="image/x-wmf"/>
  <Override PartName="/ppt/media/image14.gif" ContentType="image/gif"/>
  <Override PartName="/ppt/media/image17.png" ContentType="image/png"/>
  <Override PartName="/ppt/media/image11.wmf" ContentType="image/x-wmf"/>
  <Override PartName="/ppt/media/image15.gif" ContentType="image/gif"/>
  <Override PartName="/ppt/media/LASER.WAV" ContentType="audio/x-wav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3AF-850E-4C80-9BAA-3018B30F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06E-2510-4BD0-A909-D93EE7F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018-D780-4D54-83D4-583D4F67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126-B0F1-4FF5-9AE6-B59D4117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C883-02C6-43F2-AC9C-A7C9D004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074B-5819-4909-A433-C675A579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E23D-17A1-48D5-9F45-9EFCCE98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399-6290-445C-9DFD-71AEE28D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3240-13AC-4076-912B-856803C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8F15-45D1-420D-A7D5-C62E117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05B-CC66-457A-8A08-7A6CEA1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06B-6D43-4728-8A25-55BC036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DAD-AEA2-44D8-8EA8-1DBCECF2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3A5-5351-4F94-B8C6-000F949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4216-F104-453D-9043-C60C8CC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6B43-1431-49D4-A6F0-8D67E96B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05DD-4FB8-4BF0-B619-FC923928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D9A-F2E5-4779-9175-15465D2D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4FE-E6F6-4A91-811C-7A502883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0A6-7A72-43C3-985C-00D9403F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8F2-FA8D-4723-A476-0E0B234C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E99-7E5E-4456-B452-00EDDCF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937-A28F-4BAA-89C1-7669D6FA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67E-985C-40D1-BCAE-A23970C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 </a:t>
            </a:r>
            <a:fld id="{B67F1275-19B8-4A1C-9F69-81E25A48E8FF}" type="datetime11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09:32:4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BA5F-C154-4447-9031-609A3C71A97C}" type="slidenum">
              <a: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 </a:t>
            </a:r>
            <a:fld id="{C2E1F6AF-05F4-441D-BF77-56E36FA392CD}" type="datetime11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09:32:4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91C-A92B-4F91-BEFC-A6F08E2695E4}" type="slidenum">
              <a:rPr b="0" lang="ar-SA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987640" y="3644640"/>
            <a:ext cx="5688360" cy="216072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c0c0c0"/>
            </a:outerShdw>
          </a:effectLst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80880" y="3124080"/>
            <a:ext cx="23353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10E6-4746-459A-8CF8-982026E9A29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7012C6-3BCD-490B-8F9B-10617A318829}" type="datetime11">
              <a:rPr lang="en-US"/>
              <a:t>09:32:4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74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حتاج ذلك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صد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م النف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صب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خالط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خبرة والتجر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الدور الحقيق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اقعية لا المثال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79600" y="2279520"/>
            <a:ext cx="3738600" cy="351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762120" y="609120"/>
            <a:ext cx="8263080" cy="1143360"/>
          </a:xfrm>
          <a:prstGeom prst="rect">
            <a:avLst/>
          </a:pr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ff3300"/>
            </a:solidFill>
            <a:miter/>
          </a:ln>
          <a:effectLst>
            <a:outerShdw dist="36147" dir="2700000" blurRad="0" rotWithShape="0">
              <a:srgbClr val="c0c0c0"/>
            </a:outerShdw>
          </a:effectLst>
        </p:spPr>
        <p:txBody>
          <a:bodyPr lIns="92160" rIns="92160" tIns="46080" bIns="460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333-2B5D-4CF9-8DB2-4F15E0D5337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D7543-A3E6-46C0-B5DD-E10EF3E523D0}" type="datetime11">
              <a:rPr lang="en-US"/>
              <a:t>09:32:41</a:t>
            </a:fld>
          </a:p>
        </p:txBody>
      </p:sp>
    </p:spTree>
  </p:cSld>
  <p:transition spd="slow">
    <p:checker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479600" y="2014560"/>
            <a:ext cx="3738600" cy="4046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622840" y="1981080"/>
            <a:ext cx="322740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AC1-E89F-4554-85F7-E6D4C868B19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05750-66A4-4EC3-8418-9DC0EE0F9E90}" type="datetime11">
              <a:rPr lang="en-US"/>
              <a:t>09:32:41</a:t>
            </a:fld>
          </a:p>
        </p:txBody>
      </p:sp>
    </p:spTree>
  </p:cSld>
  <p:transition spd="slow"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  <a:ea typeface="Traditional Arab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244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3366"/>
                </a:solidFill>
                <a:latin typeface="Times New Roman"/>
                <a:cs typeface="Traditional Arabic"/>
              </a:rPr>
              <a:t>فيم يكو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صة : ( مكانا ، أسلوبا ، وسائل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نشطة اللاصف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ياة العامة اليوم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سلوب الخطا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14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3366"/>
                </a:solidFill>
                <a:latin typeface="Times New Roman"/>
                <a:cs typeface="Traditional Arabic"/>
              </a:rPr>
              <a:t>ما أهمية ذلك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بعاد الملل عن الذا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رد السآمة عن الآخر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أثير بشكل أكب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وف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467840" cy="99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075-F521-45B3-B2E4-11CA9BC638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CFF4B-3708-4C69-B294-6F56DCB19D80}" type="datetime11">
              <a:rPr lang="en-US"/>
              <a:t>09:32:41</a:t>
            </a:fld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81176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أساس العملية التعليم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اجاتها ليست مجرد المعلوما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بشر وليس جماد</a:t>
            </a: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طريق إلى تغييرها يبدأ بقلبه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د تكون رئيسة وقد يكون مجرم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أعظم رصيد عند الل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عدها للحياة لا لمجرد الامتحا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32000" y="267012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FCC-C4C0-42A1-A8EE-6EF09F9F06F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9EBB1-2C8D-4828-85E2-FC3CF991523B}" type="datetime11">
              <a:rPr lang="en-US"/>
              <a:t>09:32:41</a:t>
            </a:fld>
          </a:p>
        </p:txBody>
      </p:sp>
    </p:spTree>
  </p:cSld>
  <p:transition>
    <p:pull dir="l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00680" y="2997360"/>
            <a:ext cx="3200400" cy="3170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996633"/>
                </a:solidFill>
                <a:latin typeface="Times New Roman"/>
                <a:cs typeface="Traditional Arabic"/>
              </a:rPr>
              <a:t>أتمنى أن نكون جميعا مثاليات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9760" y="1981080"/>
            <a:ext cx="409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raditional Arab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79600" y="2206800"/>
            <a:ext cx="3738600" cy="36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0DA-7210-40EA-9FAB-DFA06DD8EC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AAC3F-2879-4E5E-9C6B-9AC7B59B596C}" type="datetime11">
              <a:rPr lang="en-US"/>
              <a:t>09:32:41</a:t>
            </a:fld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46404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ماذا الإخلاص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 algn="r" rtl="1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حتى لا تضيع الجهود (قل للذي لا يخلص لا تتعب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 algn="r" rtl="1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حصول التوفيق والنجاح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 algn="r" rtl="1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لإتق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 algn="r" rtl="1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لاستمر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ال صلى الله عليه وسلم : ( من تعلم علما ينتفع به في الآخرة يريد به عرضا من الدنيا لم يرح رائحة الجنة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2492280"/>
            <a:ext cx="838440" cy="24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055-589B-40CB-BD1A-02537F2184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DB499-FC5C-4170-89B6-0C100A1AFDFC}" type="datetime11">
              <a:rPr lang="en-US"/>
              <a:t>09:32:41</a:t>
            </a:fld>
          </a:p>
        </p:txBody>
      </p:sp>
    </p:spTree>
  </p:cSld>
  <p:transition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ال تعالى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ا أيها الذين آمنوا لم تقولون ما لا تفعلون ، كبر مقتا عند الله أن تقولوا ما لا تفعلو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838160" y="1981080"/>
            <a:ext cx="3017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501-4C00-49E1-B32E-CE4523C0743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FDF24-FC70-41AD-B885-6218C4A23620}" type="datetime11">
              <a:rPr lang="en-US"/>
              <a:t>09:32:41</a:t>
            </a:fld>
          </a:p>
        </p:txBody>
      </p:sp>
    </p:spTree>
  </p:cSld>
  <p:transition>
    <p:checke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ar-SA" sz="4400" spc="-1" strike="noStrike">
              <a:solidFill>
                <a:srgbClr val="996633"/>
              </a:solidFill>
              <a:latin typeface="Times New Roman"/>
              <a:ea typeface="Traditional Arab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r" rtl="1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أثر الإنسان بما يرى أكثر مما يسم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تى لا تتربى الطالبة على التناقض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يكتب الله للنصيحة القبول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لحفاظ على أقتاب بطنك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731520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743200" y="60948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dalus"/>
              </a:rPr>
              <a:t>ماأهمية ذلك ؟ 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67F-7C38-42C3-B302-FB5E0396FA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C7843-E775-4205-B261-F25FD4CC678E}" type="datetime11">
              <a:rPr lang="en-US"/>
              <a:t>09:32:41</a:t>
            </a:fld>
          </a:p>
        </p:txBody>
      </p:sp>
    </p:spTree>
  </p:cSld>
  <p:transition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69040" y="2368440"/>
            <a:ext cx="3736800" cy="334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380960" y="838080"/>
            <a:ext cx="7305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كوني صاحبة قضية تعيشي لها لا صاحبة مهنة تتكسبين منه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32000" y="2479680"/>
            <a:ext cx="3674880" cy="34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17B-27AE-40A0-A41B-9704BB294B8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D5DB4-94A7-487F-895A-5FCD0A1EB56C}" type="datetime11">
              <a:rPr lang="en-US"/>
              <a:t>09:32:41</a:t>
            </a:fld>
          </a:p>
        </p:txBody>
      </p:sp>
    </p:spTree>
  </p:cSld>
  <p:transition>
    <p:split dir="in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138560" y="1981080"/>
            <a:ext cx="49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901"/>
              </a:spcBef>
              <a:buClr>
                <a:srgbClr val="ff33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ل بإمكانك أن تجيبي على أسئلة ما درستيها في الجامع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901"/>
              </a:spcBef>
              <a:buClr>
                <a:srgbClr val="ff33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ل تعرفي الأمور المستجدة في مجال تخصصك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901"/>
              </a:spcBef>
              <a:buClr>
                <a:srgbClr val="ff33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 تقرئين يوميا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r" rtl="1">
              <a:spcBef>
                <a:spcPts val="901"/>
              </a:spcBef>
              <a:buClr>
                <a:srgbClr val="ff33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آخر كتاب قرأتيه ومعرض زرتي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1981080"/>
            <a:ext cx="2995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C62-81BF-46B1-B02C-4A75BCD32DB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22474-425A-45B1-BBCD-81AE04242CCD}" type="datetime11">
              <a:rPr lang="en-US"/>
              <a:t>09:32:41</a:t>
            </a:fld>
          </a:p>
        </p:txBody>
      </p: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764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 algn="ct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قال هلك الناس فهو أهلك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اد النبي </a:t>
            </a:r>
            <a:r>
              <a:rPr b="1" lang="ar-AE" sz="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لى الله عليه وسلم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عرابيا مريضا يتلوى من شدة الحمى ، فقال له مواسيا ومشجعا : (طهور) فقال الأعرابي : ( بل هي حمى تفور ، على شيخ كبير ، لتورده القبور ، قال : ( فهي إذن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41529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ED0-B5D4-4A33-8A94-D02404B8715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BBE7C-BF8D-434B-BE37-CD36850B25C4}" type="datetime11">
              <a:rPr lang="en-US"/>
              <a:t>09:32:41</a:t>
            </a:fld>
          </a:p>
        </p:txBody>
      </p:sp>
    </p:spTree>
  </p:cSld>
  <p:transition>
    <p:cover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  <a:ea typeface="Traditional Arab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لسي المتفائلين لا المتشائم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كري بالإيجابيات لا السلبي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كثري من ذكر الل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ذكري ثواب الآخ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فذي أعمالا سهلة تحقق النجا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ليك بالاسترخاء والراحة والمتع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قرئي كتبا في ذلك ( دعي القلق ، جددي حياتك 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7162920" cy="1082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981080" y="380880"/>
            <a:ext cx="67820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dalus"/>
              </a:rPr>
              <a:t>طريق الإيجاب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36874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AC2-3743-49C8-96B4-1CFB7CBB8B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9FEAA-3E52-49D2-B4EF-C8BA6D27D078}" type="datetime11">
              <a:rPr lang="en-US"/>
              <a:t>09:32:41</a:t>
            </a:fld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62000" y="1916280"/>
            <a:ext cx="4443480" cy="41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دروس والمحاضر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رشاد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شاركة في الأفراح والأترا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ديم المساعدة وحل المشكل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شاركة في الفعاليات المجتمع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واصل مع وسائل الإعلا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أليف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8920" y="304560"/>
            <a:ext cx="7564680" cy="1143360"/>
          </a:xfrm>
          <a:prstGeom prst="rect">
            <a:avLst/>
          </a:pr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c0c0c0"/>
            </a:outerShdw>
          </a:effectLst>
        </p:spPr>
        <p:txBody>
          <a:bodyPr lIns="92160" rIns="92160" tIns="46080" bIns="460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84520" y="1981080"/>
            <a:ext cx="3127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3EF-1AED-4F52-85D6-030227DBE16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D60CF-A62E-4AC3-B0E9-DFE21CA0DA6C}" type="datetime11">
              <a:rPr lang="en-US"/>
              <a:t>09:32:41</a:t>
            </a:fld>
          </a:p>
        </p:txBody>
      </p:sp>
    </p:spTree>
  </p:cSld>
  <p:transition>
    <p:pull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20:17:24Z</dcterms:created>
  <dc:creator>عبدالله الكمالي</dc:creator>
  <dc:description/>
  <dc:language>en-US</dc:language>
  <cp:lastModifiedBy>gns</cp:lastModifiedBy>
  <dcterms:modified xsi:type="dcterms:W3CDTF">2008-03-20T11:55:17Z</dcterms:modified>
  <cp:revision>39</cp:revision>
  <dc:subject/>
  <dc:title>لا يوجد عنوان للشريحة</dc:title>
</cp:coreProperties>
</file>