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CBE9-D2B2-4709-9898-2CF048CF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6B83-E6DA-4341-9366-8379B542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E909-8377-4E78-A5A5-9D7697C8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0ADA-4611-4534-A7E1-19E2F888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099-79E1-415E-AD74-3D2CC966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91AB-7655-4BA4-A133-83A6D61B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B052-1303-445D-80C1-F5977F2C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DC94-94CA-4307-90C5-49BB0315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00F6-AA32-44A6-957C-4C43239B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0446-AA3F-413A-A1D2-2E39F658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03AF-0602-4552-99A3-98D9766D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F415-2E01-471A-B660-87839A3F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8AEE-575F-4E0E-A621-2292FF275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183852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0" y="24382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4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101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40384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e   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s   I   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e  o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h 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16000" y="1341360"/>
            <a:ext cx="40388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u   a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.  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e 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8.  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t r  l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9. 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r  m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. 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o  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76360" y="475920"/>
            <a:ext cx="72928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a. This tool is Y-shap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It is a Y-shap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a. This building is U-shap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It is a U-shap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 a. This pipe is S-shap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It is an S-shap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 a. This goal is H-shap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It is an  S-shap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  a. This room is L-shap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It is an L-shap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115920"/>
            <a:ext cx="101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1:09:49Z</dcterms:created>
  <dc:creator>Abu Anas</dc:creator>
  <dc:description/>
  <dc:language>en-US</dc:language>
  <cp:lastModifiedBy>Abu Anas</cp:lastModifiedBy>
  <dcterms:modified xsi:type="dcterms:W3CDTF">2005-10-07T22:07:32Z</dcterms:modified>
  <cp:revision>8</cp:revision>
  <dc:subject/>
  <dc:title>الشريحة 1</dc:title>
</cp:coreProperties>
</file>