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607-E8C4-4A90-8EA0-B3FB0A42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BA0-05D1-4084-A4A9-C8CA62E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D11-4BC6-45E9-A0B2-2228609A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AED-4231-4CD0-AF34-A763C99E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9D6-80B8-43E3-AD56-FECBAA73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5DD-5F10-422F-BB45-D817201B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E14-8C83-4287-A5E9-90020D35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F4D-BAEE-4BFD-8C6F-643EAD5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4C8-1553-4A65-9840-8725EB87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A19-9D53-46A3-8B7D-4EFDA38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CC9-8406-4704-8716-0DE1468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247-5FA4-435C-B1E5-533DD30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2FE7-758D-499D-93D9-E8AE3415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4 week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9 programme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SR50,00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 20 minu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. Mr. Al-Khal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2:32:46Z</dcterms:created>
  <dc:creator>Abu Anas</dc:creator>
  <dc:description/>
  <dc:language>en-US</dc:language>
  <cp:lastModifiedBy>Abu Anas</cp:lastModifiedBy>
  <dcterms:modified xsi:type="dcterms:W3CDTF">2005-09-16T19:58:07Z</dcterms:modified>
  <cp:revision>4</cp:revision>
  <dc:subject/>
  <dc:title>الشريحة 1</dc:title>
</cp:coreProperties>
</file>