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A13-18C2-4A17-A515-989968FC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D30-9DF4-4D76-9D39-47C82E7F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9DC-66ED-49E8-B7D9-42C715BD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54D0-03CD-4CAF-A451-5D829AFB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EB2-0880-43BE-96E8-F2EB2C88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30A-D794-43A3-A076-C179A4A6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29B-AF08-4D22-969A-6674536B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40A-A98F-4E73-9464-E738A2F7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75D-E23C-40BE-91FD-847884D8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0AD-3D0E-4FB6-8061-048281DB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F4C-5D66-4096-8724-576064D0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FA2-920C-491D-973B-F96FF154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9F6A-59C1-48F9-9F1E-94AE49B87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A sho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a place where you can buy thing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A satell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a thing which orbits the ear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A farm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a person who grows foo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A por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a person who carries suitca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A thermome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a thing which measures temperatu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A donke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an animal which you pulls car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A camer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a thing which takes photograph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An envelop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a thing which holds a let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A came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an person who carries people in the deser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A post offi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a place where you can buy stamp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14:44Z</dcterms:created>
  <dc:creator>Abu Anas</dc:creator>
  <dc:description/>
  <dc:language>en-US</dc:language>
  <cp:lastModifiedBy>Abu Anas</cp:lastModifiedBy>
  <dcterms:modified xsi:type="dcterms:W3CDTF">2005-09-12T20:44:32Z</dcterms:modified>
  <cp:revision>3</cp:revision>
  <dc:subject/>
  <dc:title>الشريحة 1</dc:title>
</cp:coreProperties>
</file>