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AFE-CFE3-4A70-B590-209E65BE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0A0-6C57-4968-A34E-126AABA2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605-B6D1-4320-B844-CDE80F17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678-CB9A-4946-ABF5-DD28FC49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2AF-5CB4-4391-B4DB-0DC4AF49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5CC-3802-4E7E-A039-6E8844A2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58A-53B7-4A8E-9CA8-14AF0D47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E89-AFEE-470B-81AE-A5A078CF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AB8-5C2F-4D2F-9CBE-791FFE13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1CB-C3B6-41F4-948A-756827E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7D3-B689-4EED-903D-AD30A5BB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625-645F-4FE9-8FA9-77EE8888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A030-BBC9-44FF-A1F4-DDD3259BC6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8671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1631880"/>
            <a:ext cx="5762520" cy="1076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WORD STUD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hysic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11:32Z</dcterms:created>
  <dc:creator>Abu Anas</dc:creator>
  <dc:description/>
  <dc:language>en-US</dc:language>
  <cp:lastModifiedBy>Abu Anas</cp:lastModifiedBy>
  <dcterms:modified xsi:type="dcterms:W3CDTF">2005-09-11T22:07:51Z</dcterms:modified>
  <cp:revision>9</cp:revision>
  <dc:subject/>
  <dc:title>1</dc:title>
</cp:coreProperties>
</file>