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A6D-5B7C-4668-B875-D5EA7CF6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653-0008-4E7F-BAC9-D6BD247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EC-5CAF-45D0-BDC3-E7CDEC02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326-0925-4908-AC43-FE60C00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25A-1BC8-4579-A22A-0642F859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C76-7CDA-42CA-A532-367AAD9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DB2-102C-486B-A73A-7772D0B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7A6-BEBF-4562-8C1D-27E7385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044-2664-4642-86CF-10048A4B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2F2-1DC2-444F-8FB6-077888B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92B-CA93-4A8B-872A-D201CA3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57D-18E9-4B8C-8C3A-087F4FE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D4B-4AB9-478A-8EEB-07D99A4D98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631880"/>
            <a:ext cx="576252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WORD STUD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bout, approximately, around, exac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Foreig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uest, host, studio, tak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nt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22:04:19Z</dcterms:modified>
  <cp:revision>9</cp:revision>
  <dc:subject/>
  <dc:title>1</dc:title>
</cp:coreProperties>
</file>