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76D-6264-408D-856A-A3ED8012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58C-122A-4585-BC2F-9308C3B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7E3-DF68-4046-BB03-D9E988F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3B5-0B8A-4B6E-8BC4-CDD71AC2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332-7D67-4B14-8B82-5A7B912C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B5A-694A-48F5-BBD7-549E2A4E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C00-B809-4A6B-A74D-9C92756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1AA-304B-4AB6-9A5B-967177B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2A3-4023-4D51-9A70-56221A1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182-53EF-4B33-A2F9-6CF2316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9F5-447A-4097-8BC5-18EFAA7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75D-04AE-455C-8284-02918E88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DC48-8843-4D68-AB6E-4C036985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520" y="1125360"/>
            <a:ext cx="82231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had better wash your f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had better hur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d better ju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ad better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2520" y="1125360"/>
            <a:ext cx="82231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engineer’s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engineers’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boys’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boy’s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reporters’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7T22:25:46Z</dcterms:modified>
  <cp:revision>10</cp:revision>
  <dc:subject/>
  <dc:title>الشريحة 1</dc:title>
</cp:coreProperties>
</file>