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92B2-2799-4C58-90EA-F12A7C18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148-DBE5-43E7-9BB8-55323F7F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2CB-2253-4C6E-9FCB-26DF19A8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FEB3-3110-49C5-9EAD-BFF66947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BC93-ECB2-4B08-8DBC-EAE367EC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8D37-7F3D-447F-91B4-9BEB05BD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879-8497-4302-80B7-9765E78C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58E-DFF7-46CC-8030-533C35A4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6B0-457A-4962-B22C-8B837CFB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E23-9DF8-4221-956F-6AF66BD1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D16-23B9-437D-BFB3-EE752CB3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664-ED71-45C7-99C9-FB9EC970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5C1A-17DD-460C-9809-8A0CC96A6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63640" y="2664000"/>
            <a:ext cx="183852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354560" y="2492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ie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nis and swi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dd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12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) Sau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) at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) inter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12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6:11:32Z</dcterms:created>
  <dc:creator>Abu Anas</dc:creator>
  <dc:description/>
  <dc:language>en-US</dc:language>
  <cp:lastModifiedBy>معمل الانجليزي</cp:lastModifiedBy>
  <dcterms:modified xsi:type="dcterms:W3CDTF">2005-10-08T09:29:46Z</dcterms:modified>
  <cp:revision>10</cp:revision>
  <dc:subject/>
  <dc:title>1</dc:title>
</cp:coreProperties>
</file>