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F0D2-8F1D-418F-A6A7-D9E5DF8F0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A7EC-E02C-4585-BBC4-1C0820F19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86B1-BAFD-4FC4-A800-DA4DBA48B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7616-867D-46EB-A413-7FA8B5927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C167-2305-49F5-A26D-8A9A1119A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B3DC-EA6C-42F9-B46E-9FB32610A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F713-5B79-4AD5-9586-A9C6D3FD0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2DAF-EE08-4977-A189-81EE23568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FA2C-E46A-4778-96F8-5B5725C18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018D-EC63-4512-A7D4-6C273836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4E19-2C04-4530-BB53-A1246EBD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CC85-DB31-4A5E-AF8D-E1373918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90CE1-5BAB-4C3B-A3EE-498013108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1838520" cy="1752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572000" y="2438280"/>
            <a:ext cx="2986200" cy="200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6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50560" y="183960"/>
            <a:ext cx="4043160" cy="59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79880" indent="-479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un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79880" indent="-479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ir f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79880" indent="-479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arding p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79880" indent="-479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79880" indent="-479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par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79880" indent="-479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u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79880" indent="-479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t the mo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79880" indent="-479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t lea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79880" indent="-479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79880" indent="-479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76480" y="257040"/>
            <a:ext cx="404316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7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1. look forward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7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2. save 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7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3. jo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7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4. bo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7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5. 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7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6. 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7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7. lou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7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8. vi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7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9. everyt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7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0. ch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5T10:57:27Z</dcterms:created>
  <dc:creator>Abu Anas</dc:creator>
  <dc:description/>
  <dc:language>en-US</dc:language>
  <cp:lastModifiedBy>Abu Anas</cp:lastModifiedBy>
  <dcterms:modified xsi:type="dcterms:W3CDTF">2005-11-30T12:21:00Z</dcterms:modified>
  <cp:revision>6</cp:revision>
  <dc:subject/>
  <dc:title>الشريحة 1</dc:title>
</cp:coreProperties>
</file>