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700-5843-4343-B1F2-6EA6C87B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FF5-FB27-4518-AEBE-129B7AFD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77C-BBDF-450B-A6F3-1EA24F8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0A8-A405-4F66-8801-795ADE03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FA9-D653-478D-8DAC-59DB3C0F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775-EAC0-476C-9B0E-EE5C4940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9A9-00A5-4224-95D7-B17E0341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988-17FD-4C64-9686-8DE60B3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00D-F4CE-4BB3-8AF7-8A4350AB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5DD-943C-4D34-B717-AF0CF57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387-4435-42F0-83F0-5E57CD9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B62-008B-49D2-BAE9-EC99A9D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77C-69BE-41E0-9EA2-8EA72BED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432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e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e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58:29Z</dcterms:created>
  <dc:creator>Abu Anas</dc:creator>
  <dc:description/>
  <dc:language>en-US</dc:language>
  <cp:lastModifiedBy>Abu Anas</cp:lastModifiedBy>
  <dcterms:modified xsi:type="dcterms:W3CDTF">2005-09-27T14:57:18Z</dcterms:modified>
  <cp:revision>2</cp:revision>
  <dc:subject/>
  <dc:title>الشريحة 1</dc:title>
</cp:coreProperties>
</file>