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FCC-9479-4B85-AAD7-C4F86ACF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4A8-267B-4BEE-863A-65697D8A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15D-CFF1-42C9-A1F9-0B870AE0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F52-F37B-42BB-8359-D36E84F3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790-6772-49BB-9536-436F7D55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4D2-7B4E-46EE-A716-1A00F971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1F2-65BA-4370-AE73-130EFC8A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6FB-BD90-4B05-86FA-FEAE7FFD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15E-E80B-4BD9-8994-723A04A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BE7-934A-4C7F-A532-3CE59EC8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0E9-B988-4F92-ABFB-1CEE97E0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64E-FD0C-414C-B922-6E9CF5D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661A-53F5-44AE-B986-B8B1F5E13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2520" y="404640"/>
            <a:ext cx="822312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you build the ho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ong did it t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 of house wa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ape wa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it have a lot of furni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there a gar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0-05T18:40:52Z</dcterms:modified>
  <cp:revision>5</cp:revision>
  <dc:subject/>
  <dc:title>الشريحة 1</dc:title>
</cp:coreProperties>
</file>