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EB54-A3B1-4E1C-81EE-9594B3943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9A3D-AE0E-45F1-BBC8-31523200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1D71-B0D9-4BB5-8398-14EB05025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BB4B-0E03-4946-A505-28B172BE4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5423-AD1F-4B49-8597-16365898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B5B2-45B7-4396-8A30-6231818F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0A13-6F2D-49A7-9B0B-AED7709C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A44D-FAB3-49DB-8DE0-ACD510A9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83F9-574F-493A-BAF6-1B1E04F2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5248-6F80-4E9C-B1F0-B6E6115F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6BDB-F113-4AE7-A9D4-320A840B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3A21-F30C-41A9-A873-A0B78A2A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5F53-9783-4783-9FE2-CAF0BE3DF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Let’s meet the Team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1838160" cy="1752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419720" y="38671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59280" y="5381280"/>
            <a:ext cx="273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9760" y="1595520"/>
            <a:ext cx="403236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focu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vie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88000" y="1595520"/>
            <a:ext cx="403200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merama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mma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1T16:11:32Z</dcterms:created>
  <dc:creator>Abu Anas</dc:creator>
  <dc:description/>
  <dc:language>en-US</dc:language>
  <cp:lastModifiedBy>Abu Anas</cp:lastModifiedBy>
  <dcterms:modified xsi:type="dcterms:W3CDTF">2005-09-11T16:20:15Z</dcterms:modified>
  <cp:revision>2</cp:revision>
  <dc:subject/>
  <dc:title>1</dc:title>
</cp:coreProperties>
</file>