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E14-0E3D-49EF-9C54-F1D35D67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890-DB89-480D-A4F0-4BF1BC2D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EE7-F3E9-42FB-AADE-2CE0B363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C6C-9FF8-4D62-954B-56D9F691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26A-56A1-4D67-8A99-FCCB9C4E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0EC-F588-4AEE-A0A2-00CFAC98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B84-1499-4872-8C32-BF3FE968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D5D-9429-4E37-967C-E95D9EC9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7D6-A9C6-4DD8-9116-481CCCCC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7D3-45B3-4150-8B69-F1B13918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7EF-07B6-4941-B2B6-6CCEB807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4820-84DD-4207-8ED9-C56EF481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4382-9692-4C88-A410-B516CDC59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6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619280" y="260280"/>
            <a:ext cx="3240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189000"/>
            <a:ext cx="7905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7905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6160" y="2852640"/>
            <a:ext cx="7905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4221000"/>
            <a:ext cx="7905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5516640"/>
            <a:ext cx="7905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48320" y="1595520"/>
            <a:ext cx="39700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5520"/>
            <a:ext cx="3970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   o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    a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   e  n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  c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1773360"/>
            <a:ext cx="39704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o r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  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   u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0:57:27Z</dcterms:created>
  <dc:creator>Abu Anas</dc:creator>
  <dc:description/>
  <dc:language>en-US</dc:language>
  <cp:lastModifiedBy>Abu Anas</cp:lastModifiedBy>
  <dcterms:modified xsi:type="dcterms:W3CDTF">2005-11-29T16:48:28Z</dcterms:modified>
  <cp:revision>14</cp:revision>
  <dc:subject/>
  <dc:title>الشريحة 1</dc:title>
</cp:coreProperties>
</file>