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DF1-5201-4CAB-95EC-C4BB556B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112-237F-4B82-BD7D-0A817DA6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CD6-57F3-4B86-8468-3C68F53B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083-1974-42B2-BCD5-9A6BE4D8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974-5DBF-4E1F-B2D7-2DE28E02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AFC-F574-47F7-AA81-178CED6E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67D-1915-4A07-B4B4-4B653C2E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9DE-3BD3-4953-86B2-E33A3BA6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E4E-E978-43E5-B46F-B2F2A219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36F-6295-4EEE-8B0B-DD98E7F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C3D-8E20-4275-903F-D645076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743-072A-4C87-AE18-18F3752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A81D-619F-419C-B3FA-74F3D0B14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3970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us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ervie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un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m Al-Q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ha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49920" y="549000"/>
            <a:ext cx="3970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Palest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“In Focu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 camera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ca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 k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. vari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1:12:46Z</dcterms:created>
  <dc:creator>Abu Anas</dc:creator>
  <dc:description/>
  <dc:language>en-US</dc:language>
  <cp:lastModifiedBy>Abu Anas</cp:lastModifiedBy>
  <dcterms:modified xsi:type="dcterms:W3CDTF">2005-09-16T19:55:53Z</dcterms:modified>
  <cp:revision>4</cp:revision>
  <dc:subject/>
  <dc:title>الشريحة 1</dc:title>
</cp:coreProperties>
</file>