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928-9CC8-4CE0-860C-8D2E082C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744-FACC-49F7-A55F-03F8D7B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2AF-FE3D-44E6-B3CE-BA1FE541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32E-C682-4F95-8587-56CECDAB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7F0-3D9D-467E-93E7-618F6B6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722-E598-4F8F-B37A-5BD12A4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F8B-F877-4DA0-A544-9E30FF6A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439-98C7-4226-8106-D97DE2BD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72C-0A3E-44F3-ADA8-6C145CF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672-EE19-4514-89ED-68DCD54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691-0D91-4E60-B89D-D405D87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9EA-517A-4DC7-8E70-7DA3792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81F-5C4B-4948-82CA-6D49F1FD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4465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an element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a prim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a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a second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a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comp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35640" y="476280"/>
            <a:ext cx="3457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52:13Z</dcterms:created>
  <dc:creator>Abu Anas</dc:creator>
  <dc:description/>
  <dc:language>en-US</dc:language>
  <cp:lastModifiedBy>Abu Anas</cp:lastModifiedBy>
  <dcterms:modified xsi:type="dcterms:W3CDTF">2005-10-05T16:44:31Z</dcterms:modified>
  <cp:revision>4</cp:revision>
  <dc:subject/>
  <dc:title>الشريحة 1</dc:title>
</cp:coreProperties>
</file>