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D20-910B-4622-BEF4-D3B2E885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A87-7598-4DCB-9981-8A9BE0C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20B-F722-4678-8AAF-E52AD348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5A7-802F-4FFB-91A9-B182E30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927-B523-4B4F-B440-5FFFA18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0B8-16D7-41D4-8074-E20CB0F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2CE-632B-4DB4-A227-AA41F319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A72-958A-4796-A1DB-5DF572F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439-3080-44A5-9CEA-BF524D45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236-DA05-43C0-87EE-2C7AD9A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3C6-2C6D-4FBC-976F-498B117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F67-9B32-41EE-B273-4FC21BB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66F-763C-49D8-B621-F287166B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461520"/>
            <a:ext cx="4098960" cy="59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. go ahead w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2920" y="476280"/>
            <a:ext cx="42498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nega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. Haj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8. m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. be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per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9760" y="694800"/>
            <a:ext cx="4032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1. foreig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.int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. n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 tak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5. discu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0" y="620280"/>
            <a:ext cx="403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6. tot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scr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8. gu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9.in order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0. h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840" y="124920"/>
            <a:ext cx="166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fo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p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cam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i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o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. dis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in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rv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we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2:39:32Z</dcterms:created>
  <dc:creator>Abu Anas</dc:creator>
  <dc:description/>
  <dc:language>en-US</dc:language>
  <cp:lastModifiedBy>Abu Anas</cp:lastModifiedBy>
  <dcterms:modified xsi:type="dcterms:W3CDTF">2005-09-16T20:01:07Z</dcterms:modified>
  <cp:revision>5</cp:revision>
  <dc:subject/>
  <dc:title>الشريحة 1</dc:title>
</cp:coreProperties>
</file>