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A39-24C5-408E-8ED9-5FBF4819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83A-76CE-4D85-B38C-F2E70379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0B2-E2E2-4D34-B6E6-89F7B4CC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7E9-7E7F-404E-B813-A65AEE54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501-D4B1-4B80-B280-8DB2C1D1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D43-8883-40FB-BB00-E6B43731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22A-806F-49F5-BD50-4DB557A8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C84-A460-4B85-B0EB-32E78536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954-5119-4F1C-BB82-7F7782EA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E93-94F7-45C2-93C1-47CAE1CB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5D0-E372-4E2C-8CAD-9C411899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27E-ADE6-4A66-A7A8-EA389919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4C06-EBAF-4F15-8AB2-B9F24DA8A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515520"/>
            <a:ext cx="8893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You have got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an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gramm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Your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rogrammes should be long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Your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rogrammes should be  earl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Your journey is too long and too expens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 The total cost is too mu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0:59:26Z</dcterms:created>
  <dc:creator>Abu Anas</dc:creator>
  <dc:description/>
  <dc:language>en-US</dc:language>
  <cp:lastModifiedBy>Abu Anas</cp:lastModifiedBy>
  <dcterms:modified xsi:type="dcterms:W3CDTF">2005-09-27T14:55:53Z</dcterms:modified>
  <cp:revision>3</cp:revision>
  <dc:subject/>
  <dc:title>الشريحة 1</dc:title>
</cp:coreProperties>
</file>