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801-8981-4D16-821A-5E90F265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0FD-0354-43F4-BF3C-1F3B6E60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E6B-3DFC-4629-B9CA-85AE9D37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46F-FE36-4043-94C7-107037F6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63F-85F1-4E5E-AF7B-14BF9275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B9E-32F2-478F-A778-6FFF3EA6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956-2A33-47C5-B8FA-FB16FBDA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74F-0743-4951-B754-8C16F1C1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908-F60E-4CF5-ABBF-394C11D9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925-833D-46F2-B3BD-4617379B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30C-997F-49C8-8B7A-B371258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6A4-B618-4535-9138-23B8769A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BA04-87D9-449F-8F0D-3FCB0C36F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2100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6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, I arrived 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1-26T18:29:08Z</dcterms:modified>
  <cp:revision>4</cp:revision>
  <dc:subject/>
  <dc:title>الشريحة 1</dc:title>
</cp:coreProperties>
</file>