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607-9501-4E4D-B495-C777A210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BF7-527B-4AE9-A824-B56BE00B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285-8595-479C-93A2-B4AE5A85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8B0-71BC-4FDC-B592-7ADD0CCA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479-11A6-4258-B17B-5BA24BF1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D9A-DD0C-4C10-A87E-A3B6F34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66F-0C94-419A-A9EC-253145A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C23-E26F-4A33-8B1E-9250E57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B7C-F9CD-4A43-B9DD-C8FE48F4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D70-579C-4B34-B743-07D5BDE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74E-8D8E-491E-95DA-AE52B1E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31D-5D12-46C2-8AB7-CDE5A10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BA40-20B9-43C9-ABD8-CC21A510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7960" y="1628280"/>
            <a:ext cx="4043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d b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43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kn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al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1595520"/>
            <a:ext cx="3970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5520"/>
            <a:ext cx="3970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LL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0-07T22:38:00Z</dcterms:modified>
  <cp:revision>12</cp:revision>
  <dc:subject/>
  <dc:title>الشريحة 1</dc:title>
</cp:coreProperties>
</file>