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AEC-5B4A-4685-9D3C-BA1D93DB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169-CCC6-4496-9BD1-F9AF6186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045-80F4-453D-85B3-0DA9D397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11F-A6DE-45D0-9672-5DA990F3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DBC-77AE-4EF3-B0F8-FBC7BF5D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E33-121E-494F-89C3-3A29A072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A57-F82A-4532-AE37-9C6A5477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391-C232-43F1-BB19-9BA449F7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7C2-D41E-416E-A62C-99BCF7B2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2C2-BE6C-41B6-90DF-ED0A4536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846-1810-48BE-97E6-8A6B0B4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B9A-4C0A-4701-8A1B-01B9449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F7B8-C322-47C6-A919-BD68743FA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inter se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hot and hu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rains a 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ir legs keep them dray above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36:54Z</dcterms:created>
  <dc:creator>Abu Anas</dc:creator>
  <dc:description/>
  <dc:language>en-US</dc:language>
  <cp:lastModifiedBy>Abu Anas</cp:lastModifiedBy>
  <dcterms:modified xsi:type="dcterms:W3CDTF">2005-10-05T10:49:33Z</dcterms:modified>
  <cp:revision>3</cp:revision>
  <dc:subject/>
  <dc:title>الشريحة 1</dc:title>
</cp:coreProperties>
</file>