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B5C-20A8-4CAA-BCBA-D7302557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2AE-49D7-48B2-A7AA-E04B17B9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766-D000-49D9-B64F-0DDFAA9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F1E-B071-4EEB-99BB-AB5771A0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0DF-D85A-454E-A117-32DF72D1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BF3-91DB-4469-BC39-3477E019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ED9-AA85-4CD8-BF8F-DBB3E7D9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9D3-4478-405B-95C5-54018BA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470-59BF-487E-B428-DFE419A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F7C-74CB-4367-A04E-62C0CD7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311-0F11-4980-B4BE-2C8A9C1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8BA-A82C-458F-AC34-F642F7B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0A17-A8EB-46C0-A95A-882BD41B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ves are natural, houses are man-mad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comfortabl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cav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urni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5:02:55Z</dcterms:created>
  <dc:creator>Abu Anas</dc:creator>
  <dc:description/>
  <dc:language>en-US</dc:language>
  <cp:lastModifiedBy>Abu Anas</cp:lastModifiedBy>
  <dcterms:modified xsi:type="dcterms:W3CDTF">2005-09-27T15:52:02Z</dcterms:modified>
  <cp:revision>4</cp:revision>
  <dc:subject/>
  <dc:title>الشريحة 1</dc:title>
</cp:coreProperties>
</file>