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BF3E-F9E5-4FBE-84F8-AF9356EE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6A7-7664-4E33-AF76-BF22302F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7675-F4CC-431F-926D-51A8AFE6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07AB-9752-49B6-9F5B-63A7B58F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DC9-3B20-43C5-B63A-D9A61FDB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575A-7DCB-41AB-A793-5B4343AF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78AF-C397-411B-826F-A5470EF3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465B-B439-4A4D-88EF-35642944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7543-3947-465B-8B9F-CF213895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3BD8-1D1B-4155-BE7C-68AF3192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481-7094-4B1F-BF5C-56A498A8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101E-FA76-4AB8-B8DD-8BD5FECB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65AA-BE30-4089-AFDE-3999D744B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5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2520" y="404640"/>
            <a:ext cx="8223120" cy="59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ilgrim’s certifica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 196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rown, red and gre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t is easier to car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0:57:27Z</dcterms:created>
  <dc:creator>Abu Anas</dc:creator>
  <dc:description/>
  <dc:language>en-US</dc:language>
  <cp:lastModifiedBy>Abu Anas</cp:lastModifiedBy>
  <dcterms:modified xsi:type="dcterms:W3CDTF">2005-10-07T22:31:34Z</dcterms:modified>
  <cp:revision>9</cp:revision>
  <dc:subject/>
  <dc:title>الشريحة 1</dc:title>
</cp:coreProperties>
</file>