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E6D8-9088-4E82-9CD5-7AC66485F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3DD7-5383-4546-96F8-52A518A3B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12EE-C7BA-4352-91D3-1994B810E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0016-72E0-42C7-B6F6-DBA3CD2FE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8F86-A162-40B8-A47D-A219A614E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AF33-40A4-4154-ADAE-7966D253C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7E6B-3D09-4177-A654-48EEEB0AB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4DA3-BD1A-4017-AE4A-1B36BE238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323A-973F-4DA1-A289-63867FEA2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214F-B67B-4B81-B6C2-A0849518F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11A0-C4F0-4336-AE19-13D4623DE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4550-AB55-47C6-AD26-7CB616CBA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26873-91B8-45B9-9DC4-C10DCED7EE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752480" y="2666880"/>
            <a:ext cx="1838520" cy="1752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572000" y="2438280"/>
            <a:ext cx="2986200" cy="200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4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54764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3399"/>
                </a:solidFill>
                <a:latin typeface="Arial"/>
              </a:rPr>
              <a:t>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340000" y="764640"/>
            <a:ext cx="634680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. protect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2. cover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fel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we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coul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did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no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835280" y="1523520"/>
            <a:ext cx="6851520" cy="492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vemen did not liv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y did not fee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y did not draw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..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154764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3399"/>
                </a:solidFill>
                <a:latin typeface="Arial"/>
              </a:rPr>
              <a:t>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50560" y="16398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re did cavemen liv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id they cover the floor wit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id they have fires in the cav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154764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3399"/>
                </a:solidFill>
                <a:latin typeface="Arial"/>
              </a:rPr>
              <a:t>C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6T15:23:01Z</dcterms:created>
  <dc:creator>Abu Anas</dc:creator>
  <dc:description/>
  <dc:language>en-US</dc:language>
  <cp:lastModifiedBy>Abu Anas</cp:lastModifiedBy>
  <dcterms:modified xsi:type="dcterms:W3CDTF">2005-09-27T15:59:55Z</dcterms:modified>
  <cp:revision>3</cp:revision>
  <dc:subject/>
  <dc:title>الشريحة 1</dc:title>
</cp:coreProperties>
</file>