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F2BA-8EF4-4FDC-A769-FC848BE0C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3B59-385D-4B48-9766-9D2829028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59E7-EB9B-4004-801E-077185A68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D2ED-FD29-4532-A548-40FB68410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5F50-9287-4713-8FAB-033B6399C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D23B-D9A6-4877-BFC6-A3FCC64F7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7C02-7AE5-4944-A837-3CB5F40A2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F59B-AA3B-4CA9-8258-21E6DCCA6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10F7-9B00-4379-82A7-A12A2CF51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160B-4B2D-4B01-B2B0-8F3341A9B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6F2D-0F61-4B26-8337-E159C6971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524A-0342-477F-A959-AB1949F21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8C365-47A1-43BC-9FAB-D0143B74DB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752480" y="2666880"/>
            <a:ext cx="1838520" cy="17528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4572000" y="2438280"/>
            <a:ext cx="2986200" cy="200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P. 1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224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P-1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45920" y="2171880"/>
            <a:ext cx="800244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2. Let me see it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. Let me mend it for you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4. Let me ask him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5. Let me cut it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137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904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rtl="1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t’s walk into town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0" rtl="1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t’s go to a restaurant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0" rtl="1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t’s phone him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0" rtl="1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t’s have some juice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07:26:42Z</dcterms:created>
  <dc:creator>Abu Anas</dc:creator>
  <dc:description/>
  <dc:language>en-US</dc:language>
  <cp:lastModifiedBy>Abu Anas</cp:lastModifiedBy>
  <dcterms:modified xsi:type="dcterms:W3CDTF">2005-09-12T20:19:35Z</dcterms:modified>
  <cp:revision>4</cp:revision>
  <dc:subject/>
  <dc:title>الشريحة 1</dc:title>
</cp:coreProperties>
</file>