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DA0-5261-4405-92EC-183854E0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30F-B731-43CD-B534-D94FAA90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EFE-9F30-4638-8EEB-1C471146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06A-B91C-4D21-A448-06F54BDF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55D-2E03-4C20-BA88-55184B4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E9D-D2C8-48E2-ABC1-C2B687D5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BD8-08D7-454E-91BA-B123CA81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AE2-620E-4DA4-9753-84A85102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758-EAB6-4E4D-85C1-FE79D0C6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31B-587E-44F2-B017-0E74D0F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A2B-DCFD-4C3D-835C-5A144214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F5C-BF6B-4BF3-B17E-49B8860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A3AA-D1DA-4467-9BEC-BFCDDB579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2160" y="692280"/>
            <a:ext cx="4043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 b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p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3280" y="692280"/>
            <a:ext cx="4043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 m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not h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 not done has 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49:05Z</dcterms:created>
  <dc:creator>Abu Anas</dc:creator>
  <dc:description/>
  <dc:language>en-US</dc:language>
  <cp:lastModifiedBy>Abu Anas</cp:lastModifiedBy>
  <dcterms:modified xsi:type="dcterms:W3CDTF">2005-10-07T22:42:14Z</dcterms:modified>
  <cp:revision>4</cp:revision>
  <dc:subject/>
  <dc:title>الشريحة 1</dc:title>
</cp:coreProperties>
</file>