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8F0E-EFC2-401F-8824-1D1124CC7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1EF9-E84F-4498-A678-F47DD567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9169-85D7-433A-99C0-8A9EA2E3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1A58-44C0-44BB-AB69-ABD4390E0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D9B8-50F1-4859-AD69-B82CF66E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29CB-C318-4BBF-9D29-5AAFE49C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9C80-9379-45DD-B622-2F2238AD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AB46-0111-4B0D-B02B-BE4451FC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6F2F-CFA6-4AA7-9BAA-2C9D1DBB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F6E6-173B-4B9F-8A0B-790B3D63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2EE4-4FFF-41D7-8D09-866DC28A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D0FA-48FF-4D5D-9E33-3381A049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2E74-C770-4174-A3E2-3F28BAB60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1838160" cy="1752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38671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5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35280" y="1631880"/>
            <a:ext cx="5762520" cy="1076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WORD STUDY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ppe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trodu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ilve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1T16:11:32Z</dcterms:created>
  <dc:creator>Abu Anas</dc:creator>
  <dc:description/>
  <dc:language>en-US</dc:language>
  <cp:lastModifiedBy>Abu Anas</cp:lastModifiedBy>
  <dcterms:modified xsi:type="dcterms:W3CDTF">2005-09-11T22:12:38Z</dcterms:modified>
  <cp:revision>11</cp:revision>
  <dc:subject/>
  <dc:title>1</dc:title>
</cp:coreProperties>
</file>