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F58-FE03-4C94-BFC5-C5B63BDF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66B-BE2A-4BA2-9FD3-DDA07ACB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083-8F28-44FB-A309-AC158BE9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0E4-8729-47E7-9B27-31C30D20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FB9-77A7-4C49-9CCA-7FEB2ACB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0DA-1FEB-4185-BDDF-FBB814FB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AA7-4032-4808-910D-9D191A13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85F-74A2-4BC7-8199-2AEE0DFB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278-8511-4C37-8CEA-D974F804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166-5D29-4FE4-BA2A-758A7716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24E-6650-4674-B279-BBB91049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7BA-2DE2-465A-B6B5-48B8A5C3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5915-BB48-4355-B650-0865C5E52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8671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1631880"/>
            <a:ext cx="5762520" cy="1076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WORD STUD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g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urni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n-made, natur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so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11:32Z</dcterms:created>
  <dc:creator>Abu Anas</dc:creator>
  <dc:description/>
  <dc:language>en-US</dc:language>
  <cp:lastModifiedBy>Abu Anas</cp:lastModifiedBy>
  <dcterms:modified xsi:type="dcterms:W3CDTF">2005-09-11T22:10:05Z</dcterms:modified>
  <cp:revision>10</cp:revision>
  <dc:subject/>
  <dc:title>1</dc:title>
</cp:coreProperties>
</file>