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9B83-FCE8-4248-9FC8-BDBEB7E0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8411-8661-4C93-8E67-B845A685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185D-C8BA-4379-BCD3-96E22984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4DA-7BBA-477A-B3AD-529DA4E6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BD90-3CFD-411E-94DC-63AAB084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A6B-3096-48DB-8678-53BB23E6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65BE-89DA-4E5D-B03C-417317CB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6C73-348B-4A5E-9553-76BE0AF9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4CD-76D3-47B2-9125-EE2B8651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716B-4A98-4390-A532-79EFF9F3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11B-CB1D-4486-978A-C094BE9C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3777-726D-4E90-B588-F4110107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A05D-B167-4EE2-9F9D-71AAB8198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2160" y="404640"/>
            <a:ext cx="4043160" cy="59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n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3280" y="477720"/>
            <a:ext cx="4043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 w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 Wo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box-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 sl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 man-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. nowa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 c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 especi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0:57:27Z</dcterms:created>
  <dc:creator>Abu Anas</dc:creator>
  <dc:description/>
  <dc:language>en-US</dc:language>
  <cp:lastModifiedBy>Abu Anas</cp:lastModifiedBy>
  <dcterms:modified xsi:type="dcterms:W3CDTF">2005-10-05T16:48:47Z</dcterms:modified>
  <cp:revision>3</cp:revision>
  <dc:subject/>
  <dc:title>الشريحة 1</dc:title>
</cp:coreProperties>
</file>