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8FD0-104E-4781-AFAF-4EA104C90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5FC6-01EE-47A4-9633-B73C72B6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463D-3E1E-4B70-A3F8-5404814FB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8113-DFEE-47D8-9F65-8C655980E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EE33-698E-4496-A950-B9886AE1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BF15-3C3E-4A51-93B9-92379F0B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5D4B-1D08-4F78-B028-2DC91DFE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2AE7-445E-467F-AF47-A19DBA47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FBA8-1146-4DB5-BE6F-CBB64B0E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036D-F354-4EC3-9F07-28878BF0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D79C-A74E-4D54-B7EA-F18AAEFE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983E-A4AE-41D7-859B-DBFC0915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FCB7-5CF2-4882-B8C4-70FB29831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1838520" cy="1752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0" y="2438280"/>
            <a:ext cx="2986200" cy="20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2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1:54:42Z</dcterms:created>
  <dc:creator>Abu Anas</dc:creator>
  <dc:description/>
  <dc:language>en-US</dc:language>
  <cp:lastModifiedBy>Abu Anas</cp:lastModifiedBy>
  <dcterms:modified xsi:type="dcterms:W3CDTF">2005-09-20T11:54:50Z</dcterms:modified>
  <cp:revision>1</cp:revision>
  <dc:subject/>
  <dc:title>الشريحة 1</dc:title>
</cp:coreProperties>
</file>