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B24-F1D3-4BCF-99B6-AE7D38E0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E7A-A2EC-449D-938A-B6F79373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4B2-D09E-439C-99AF-486537EF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051-9027-470B-A70C-C404B00C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126-ACD1-48A6-B210-332BD02F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300-0860-4395-940E-B764E287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8D3-E1CE-482D-9A37-AF70B87B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2C0C-4E43-4037-AB03-ED453E40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26C-2545-4B4C-AAB6-FDA58B0B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EF4-CF0F-476B-9271-BA380D2D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1C0E-2393-4A90-828B-440C695A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634-EF61-4479-9929-6C1F0AC8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A49E-30FC-41D0-B1C2-0EC5019137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1800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419720" y="38671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9760" y="836640"/>
            <a:ext cx="4032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3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am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 is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ou are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am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e is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88000" y="836640"/>
            <a:ext cx="4032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349"/>
              </a:spcBef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e not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e not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 not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y are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e not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6:11:32Z</dcterms:created>
  <dc:creator>Abu Anas</dc:creator>
  <dc:description/>
  <dc:language>en-US</dc:language>
  <cp:lastModifiedBy>Abu Anas</cp:lastModifiedBy>
  <dcterms:modified xsi:type="dcterms:W3CDTF">2005-09-11T16:40:35Z</dcterms:modified>
  <cp:revision>4</cp:revision>
  <dc:subject/>
  <dc:title>1</dc:title>
</cp:coreProperties>
</file>