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FA1-6D3B-4986-B77A-725E45AF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93A-8BED-4DD7-9FD3-C47A8422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CF8-E445-48D1-9949-DCCF9953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5AA-A749-4AA5-BC61-65C36FCE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E10-8C47-4310-8184-8086AA7C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EE2-E0F7-48B2-8300-5D65D4CC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EE3-A68B-4F66-83B1-9380CBB5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2CB-7107-4A14-A595-9ECFF9ED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8BE-5E20-4C27-AF70-F8C28C8B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4A0-0609-4035-92F4-2FC93252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D35-0060-4B1C-9B5A-E973E442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A93-1EE1-4EBB-A764-2DD64C13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D940-7074-4950-9F9D-6BA942677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92360" y="266400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282920" y="2492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This is Yasser Al-Om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He is twenty-tw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He is from S 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It is Ha’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Al- Jazira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cameram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businessm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6:11:32Z</dcterms:created>
  <dc:creator>Abu Anas</dc:creator>
  <dc:description/>
  <dc:language>en-US</dc:language>
  <cp:lastModifiedBy>Abu Anas</cp:lastModifiedBy>
  <dcterms:modified xsi:type="dcterms:W3CDTF">2006-09-01T17:16:27Z</dcterms:modified>
  <cp:revision>12</cp:revision>
  <dc:subject/>
  <dc:title>1</dc:title>
</cp:coreProperties>
</file>