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88D-F17F-470C-99C6-6B29FB26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6E5-F7BE-4CBE-A384-EBED11A0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107-CFBF-450E-A7A7-E3520D73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A79-FF91-4000-ADC2-568A5B44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9AB-5503-47F5-8626-14A1AEE2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5E3-6FFF-4430-AD0E-42851ACD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260-F779-418B-B418-E9F67F27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EBD-5F32-44E9-9E52-D684303B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4B7-8EA6-4598-998E-3B2695BF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F93-6A50-4BE1-BCA7-7A4063DA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295-9AFF-469E-85C3-C1EDD5BC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D07-C77A-4709-B46B-05AD4505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CC82-5CE6-404D-ABD9-55EF070AC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7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441320" y="1557000"/>
            <a:ext cx="4496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the most expens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the b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the dir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the wor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043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the saf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the most beautif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the nic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the most import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835280" y="1484280"/>
            <a:ext cx="6121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 st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 arr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 does…take 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 do…lea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0:57:27Z</dcterms:created>
  <dc:creator>Abu Anas</dc:creator>
  <dc:description/>
  <dc:language>en-US</dc:language>
  <cp:lastModifiedBy>Abu Anas</cp:lastModifiedBy>
  <dcterms:modified xsi:type="dcterms:W3CDTF">2005-11-30T12:19:44Z</dcterms:modified>
  <cp:revision>14</cp:revision>
  <dc:subject/>
  <dc:title>الشريحة 1</dc:title>
</cp:coreProperties>
</file>