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139F-271A-4A16-A981-0657DA55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832-7C8E-4C7A-AD31-9CD207B9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0CD-15B2-4C58-9D4F-B3F5E3B1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EA41-D990-49BF-A025-8077A0EE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6131-B6AE-4335-ADEA-CEA49DCC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2FB-7C19-4D84-ABE1-2F7C9DA1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5081-2B02-448F-ACAD-FCE70501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21F-8441-41A1-80DB-7F7084BD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C2BD-C7AC-4544-AD63-5F41830D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0045-D2D9-43BA-833F-11BD6D5A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181-055D-4B19-8455-222D85E6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B5A6-593D-448D-9DDF-6ABB2F22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DF1B-9B2C-4064-BA37-19E65BBEC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183816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38671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35280" y="1631880"/>
            <a:ext cx="5762520" cy="1076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WORD STUDY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Custo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Interested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Ke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Ow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Vario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16:11:32Z</dcterms:created>
  <dc:creator>Abu Anas</dc:creator>
  <dc:description/>
  <dc:language>en-US</dc:language>
  <cp:lastModifiedBy>Abu Anas</cp:lastModifiedBy>
  <dcterms:modified xsi:type="dcterms:W3CDTF">2005-09-11T22:05:26Z</dcterms:modified>
  <cp:revision>8</cp:revision>
  <dc:subject/>
  <dc:title>1</dc:title>
</cp:coreProperties>
</file>