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21F1-40BA-4D90-9CB1-FBAA3363F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8D1B-CCE4-4FF6-9ECC-DB19A6D8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5660-F841-4DDD-B38B-D017C89F8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71C7-4EA6-4F33-A4B1-85FDED73A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1763-B482-4A98-BBCE-2F525E52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F08C-616C-48AB-9E9F-E78F8188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28ED-EC3C-484B-A936-D06D4710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AAE3-2513-4C23-A1B7-DB625D85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28F8-6DCA-4BD3-AF4A-B0C33273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DC97-6DB5-4B7B-8DCC-EF7975CD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B712-78A3-438A-BB57-172465F9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0EC0-CC1C-410C-ABC6-98F487A4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5B57-665A-424B-9031-541ACD7DA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1838520" cy="1752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0" y="2438280"/>
            <a:ext cx="2986200" cy="20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3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23640" y="620640"/>
            <a:ext cx="8569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. elementary, junior, high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. No, they don’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. 120 credit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. junior high school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5. every chil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2:12:25Z</dcterms:created>
  <dc:creator>Abu Anas</dc:creator>
  <dc:description/>
  <dc:language>en-US</dc:language>
  <cp:lastModifiedBy>Abu Anas</cp:lastModifiedBy>
  <dcterms:modified xsi:type="dcterms:W3CDTF">2005-09-27T15:09:11Z</dcterms:modified>
  <cp:revision>3</cp:revision>
  <dc:subject/>
  <dc:title>الشريحة 1</dc:title>
</cp:coreProperties>
</file>