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85E-ABEA-425C-9056-87D17D55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D2B-AAB8-4B0E-9D21-8DC1300B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81E-4594-4C72-AC7B-735740DB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DEC-6763-42BC-9628-CE04EA2A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C8D-714B-4A84-BF18-BB8E51DF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567-EC63-4708-9ACB-BED08086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22A-3ED2-4E42-8C85-02E35EB1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9D7-543E-4561-9B2B-F68A7C19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35C-5E6A-4C5B-BEC6-FEA8A16A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515D-98CE-440F-8F49-DDC25C2F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A1C-2397-4BF6-A58D-44BE8749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7FA-79F8-4D87-8FAF-4124B882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917B-4D15-4C9F-806F-974AAE089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7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hope so, t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think s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think s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hope so, t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hope so, t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7:14:58Z</dcterms:created>
  <dc:creator>Abu Anas</dc:creator>
  <dc:description/>
  <dc:language>en-US</dc:language>
  <cp:lastModifiedBy>Abu Anas</cp:lastModifiedBy>
  <dcterms:modified xsi:type="dcterms:W3CDTF">2005-11-29T17:15:22Z</dcterms:modified>
  <cp:revision>1</cp:revision>
  <dc:subject/>
  <dc:title>الشريحة 1</dc:title>
</cp:coreProperties>
</file>