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4DE-8C89-4104-8941-96335BC2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2BD-9AA3-407F-BA9E-5EB13CFE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67F-1F5D-4AF7-983A-459BC719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D6C-5849-4B76-A90A-778F7DD8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68A-F96A-4C72-8E57-362B63A3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B98-D190-49E3-99B7-B81C9673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B3F-A3F5-4CDD-9F6C-FC3DC1EF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A05-3BE5-40BA-819C-CA533756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F3C-690E-4CBD-95D6-A27EADC5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4C5-0FC7-44D6-BC57-9428420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9AE-76BC-450F-BA42-953B7972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741-9FC9-4BD3-8C75-401B497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A20A-E616-4BD5-9064-CBCE57FEA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13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he programme will be about peo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t will take place every two wee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Mr. Al-Ali will be the host on the program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You will talk to foreign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e will do the exercise be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4470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I am going to be your h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He is going to talk about people's heal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They are going to discuss everything in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We are going to take a look at training in a technical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You are going to see me again 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13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55:33Z</dcterms:created>
  <dc:creator>Abu Anas</dc:creator>
  <dc:description/>
  <dc:language>en-US</dc:language>
  <cp:lastModifiedBy>Abu Anas</cp:lastModifiedBy>
  <dcterms:modified xsi:type="dcterms:W3CDTF">2005-09-12T20:49:26Z</dcterms:modified>
  <cp:revision>4</cp:revision>
  <dc:subject/>
  <dc:title>الشريحة 1</dc:title>
</cp:coreProperties>
</file>