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7C9-B564-4C33-BA7B-78884620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74D-C8CE-4F0C-9472-31CAEC64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E58-55D5-4623-8980-3FB497DB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835-C734-44A0-91A0-B211FDE7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CD0-EB3D-44E6-840F-93004837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CE5-17F5-47E2-AA79-2938906A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CB6-2C47-439D-A605-C19F971D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8BF-2377-4477-8F8C-CB0CEDB5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DC4-486E-4813-8277-5EC4A180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18F-85B8-49AA-9551-28272A9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F4E-DDB5-4F8B-9144-308D5EA1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B16-2F02-4B4F-9039-73383172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3DE3-ECFB-41B7-865E-10B821789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5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2520" y="404640"/>
            <a:ext cx="822312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65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o Sud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5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5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olla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5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 ban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0:57:27Z</dcterms:created>
  <dc:creator>Abu Anas</dc:creator>
  <dc:description/>
  <dc:language>en-US</dc:language>
  <cp:lastModifiedBy>Abu Anas</cp:lastModifiedBy>
  <dcterms:modified xsi:type="dcterms:W3CDTF">2005-10-07T22:28:29Z</dcterms:modified>
  <cp:revision>8</cp:revision>
  <dc:subject/>
  <dc:title>الشريحة 1</dc:title>
</cp:coreProperties>
</file>