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5DB-4DB8-42F7-83D9-9B786B32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6BB-CB84-4B6F-8AC9-F66E1CE0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B01-3087-4E6E-8ECF-36ABEDAB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88B-8D21-4E75-83EF-41A85965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989-6D69-49A7-BC96-835599F5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9E6-F486-43EC-BB93-A985578F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FBB-5B5C-4975-A882-0F24E42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EF5-CF4E-4E48-9ADE-194BC1B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2F2-8CFD-4127-A27C-29BE79C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DFB-F3C0-4F89-A153-0501CAD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4B6-8D78-45DD-ADF7-D67F6BE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87E-B4D5-4ABE-A124-BA1BC870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3C9-5E07-4E0D-876E-39652C1E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forward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15:07Z</dcterms:modified>
  <cp:revision>12</cp:revision>
  <dc:subject/>
  <dc:title>1</dc:title>
</cp:coreProperties>
</file>