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EEE7-6AD7-40E0-B9AC-31CE53C2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2AB-4E92-4520-9E0A-A95E86AB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8B8F-9B7B-4735-B7F5-B9E03BAC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3E60-15F8-44C7-AD8E-4943E694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6301-B30F-4E16-970E-923E45CC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01D2-230C-4AA5-8771-B456333C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0D3F-12A6-484F-A8CA-C226CC04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12BF-1069-4430-9E94-BA2B1210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6163-6837-4090-8130-842AC4D0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4191-355A-4881-9723-C99B7CEC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447D-B8A9-4FF0-AC6D-23E3FBC0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0ECE-EC31-46BF-A8F1-D9369344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D069-67F0-4327-9020-71FD8CA688E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1052640"/>
            <a:ext cx="83534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درس السابع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250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35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وَ فِي كُلِّ مَرَّةٍ </a:t>
            </a:r>
            <a:r>
              <a:rPr b="1" lang="en-US" sz="14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 rtl="1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يَأ ْتِي الـْجَوَابُ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 rtl="1">
              <a:spcBef>
                <a:spcPts val="35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غـَيْرَ صَحِيح ٍ</a:t>
            </a:r>
            <a:r>
              <a:rPr b="1" lang="en-US" sz="1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500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حُلَّ لِي هَذِهِ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الـْمَسْألـَة َالصَّعْبَة َ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 rtl="1">
              <a:spcBef>
                <a:spcPts val="35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  <a:ea typeface="Arial"/>
              </a:rPr>
              <a:t> يَا أ َبـِي .</a:t>
            </a:r>
            <a:r>
              <a:rPr b="1" lang="en-US" sz="1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450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قـَالَ الأبُ :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  <a:ea typeface="Arial"/>
              </a:rPr>
              <a:t> لا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  <a:ea typeface="Arial"/>
              </a:rPr>
              <a:t> يَا بُنَيَّ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475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اعْتَمِدْ عَلـَى اللهِ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أ َوَّلا ً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ثـُمَّ عَلـَى نَفـْسِك.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525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4920" y="44280"/>
            <a:ext cx="9144000" cy="66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 rtl="1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اشْتَدَّ ضِيقُ سَهْل ٍ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 rtl="1">
              <a:spcBef>
                <a:spcPts val="35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وَ قـَالَ: سَأ َتْرُكُهَا</a:t>
            </a:r>
            <a:r>
              <a:rPr b="1" lang="en-US" sz="1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475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قـَالَ الأبُ:لا، يَجِبُ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 rtl="1">
              <a:spcBef>
                <a:spcPts val="35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أ َنْ تُحَاو ِلَ حَتَّى تَصِلَ إ ِلـَى الـْحَلِّ</a:t>
            </a:r>
            <a:r>
              <a:rPr b="1" lang="en-US" sz="1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725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هَلْ تَعْر ِف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حِكَايَة َ النَّمْلـَةِ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35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يَا بُنَيَّ؟</a:t>
            </a:r>
            <a:r>
              <a:rPr b="1" lang="en-US" sz="11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425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قـَالَ الابْنُ 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وَ مَا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35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حِكَايَتُهَا ؟</a:t>
            </a:r>
            <a:r>
              <a:rPr b="1" lang="en-US" sz="1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400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قـَالَ الأبُ : بَحَثـَتْ 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 rtl="1">
              <a:spcBef>
                <a:spcPts val="35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نَمْلـَة ٌحَتَّى وَجَدَتْ حَبَّة َ قـَمْح ٍ كَبـِيرَةً</a:t>
            </a:r>
            <a:r>
              <a:rPr b="1" lang="en-US" sz="1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775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504720"/>
            <a:ext cx="9144000" cy="60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فـَحَمَلـَتْهَا و حَاوَلَتْ</a:t>
            </a:r>
            <a:r>
              <a:rPr b="1" lang="en-US" sz="1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 rtl="1">
              <a:spcBef>
                <a:spcPts val="35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أ َنْ</a:t>
            </a:r>
            <a:r>
              <a:rPr b="1" lang="en-US" sz="1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i-IN" sz="11700" spc="-1" strike="noStrike">
                <a:solidFill>
                  <a:srgbClr val="ff0000"/>
                </a:solidFill>
                <a:latin typeface="Arial"/>
                <a:cs typeface="Arial"/>
              </a:rPr>
              <a:t>تَصْعَدَ </a:t>
            </a: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بـِهَا صَخْرَة ً</a:t>
            </a:r>
            <a:r>
              <a:rPr b="0" lang="en-US" sz="1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550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50920" y="1052640"/>
            <a:ext cx="835344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حَاو ِلْ يَا بُنَيَّ 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350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فِي أ َعْلاهَا جُحْرُهَا وَ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وَقـَعَتِ النَّمْلـَة 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575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فـَسَقـَطـَتْ مِنْهَا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 rtl="1">
              <a:spcBef>
                <a:spcPts val="35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الـْحَبَّة َ وَ لـَكِنَّهَا  عَادَتْ فـَحَمَلـَتْهَا</a:t>
            </a:r>
            <a:r>
              <a:rPr b="1" lang="en-US" sz="1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،</a:t>
            </a:r>
            <a:r>
              <a:rPr b="1" lang="en-US" sz="1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5" dur="575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 rtl="1">
              <a:spcBef>
                <a:spcPts val="35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وَ</a:t>
            </a:r>
            <a:r>
              <a:rPr b="1" lang="hi-IN" sz="11700" spc="-1" strike="noStrike">
                <a:solidFill>
                  <a:srgbClr val="ff0000"/>
                </a:solidFill>
                <a:latin typeface="Arial"/>
                <a:cs typeface="Arial"/>
              </a:rPr>
              <a:t>حَاوَلـَتْ</a:t>
            </a:r>
            <a:r>
              <a:rPr b="1" lang="en-US" sz="1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فـَوَقـَعَتْ، وَ تَكَرَّرَ ذَلِكَ مَرَّاتٍ</a:t>
            </a:r>
            <a:r>
              <a:rPr b="1" lang="en-US" sz="1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فـَ</a:t>
            </a:r>
            <a:r>
              <a:rPr b="1" lang="hi-IN" sz="11700" spc="-1" strike="noStrike">
                <a:solidFill>
                  <a:srgbClr val="ff0000"/>
                </a:solidFill>
                <a:latin typeface="Arial"/>
                <a:cs typeface="Arial"/>
              </a:rPr>
              <a:t>لـَمْ</a:t>
            </a:r>
            <a:r>
              <a:rPr b="1" lang="en-US" sz="1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i-IN" sz="11700" spc="-1" strike="noStrike">
                <a:solidFill>
                  <a:srgbClr val="ff0000"/>
                </a:solidFill>
                <a:latin typeface="Arial"/>
                <a:cs typeface="Arial"/>
              </a:rPr>
              <a:t>تَيْأ َسْ</a:t>
            </a:r>
            <a:r>
              <a:rPr b="1" lang="en-US" sz="11700" spc="-1" strike="noStrike">
                <a:solidFill>
                  <a:srgbClr val="000000"/>
                </a:solidFill>
                <a:latin typeface="Arial"/>
                <a:ea typeface="Arial"/>
              </a:rPr>
              <a:t> ،    </a:t>
            </a:r>
            <a:r>
              <a:rPr b="1" lang="en-US" sz="1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625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 rtl="1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 rtl="1">
              <a:spcBef>
                <a:spcPts val="35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وَ</a:t>
            </a:r>
            <a:r>
              <a:rPr b="1" lang="en-US" sz="1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i-IN" sz="11700" spc="-1" strike="noStrike">
                <a:solidFill>
                  <a:srgbClr val="ff0000"/>
                </a:solidFill>
                <a:latin typeface="Arial"/>
                <a:cs typeface="Arial"/>
              </a:rPr>
              <a:t>كَافـَحَتْ</a:t>
            </a:r>
            <a:r>
              <a:rPr b="1" lang="en-US" sz="1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حَتَّى  نَجَحَتْ ، وَ حَمَلـَتِ الْحَبَّة َإلَى جُحْر ِهَا</a:t>
            </a:r>
            <a:r>
              <a:rPr b="1" lang="en-US" sz="11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600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وَ هِيَ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  <a:ea typeface="Arial"/>
              </a:rPr>
              <a:t> مَسْرُورَة ٌ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 rtl="1">
              <a:spcBef>
                <a:spcPts val="35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00"/>
                </a:solidFill>
                <a:latin typeface="Arial"/>
                <a:ea typeface="Arial"/>
              </a:rPr>
              <a:t> بـِنَجَاحِهَا</a:t>
            </a:r>
            <a:r>
              <a:rPr b="1" lang="en-US" sz="117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350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قـَالَ الابْنُ :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الآنَ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35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فـَهـِمْتُ</a:t>
            </a:r>
            <a:r>
              <a:rPr b="1" lang="en-US" sz="117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3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400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وَعَادَ إلـَى الـْمَسْألَةِ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ctr" rtl="1">
              <a:spcBef>
                <a:spcPts val="35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وَ حَاوَلَ حَتَّى حَلـَّهَا</a:t>
            </a:r>
            <a:r>
              <a:rPr b="1" lang="en-US" sz="117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625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وَ صَارَ يَعْتَمِدُ بَعْدَ اللهِ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عَلـَى نَفـْسِه ِ .</a:t>
            </a:r>
            <a:r>
              <a:rPr b="1" lang="en-US" sz="11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6" dur="550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1976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 rtl="1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200" spc="-1" strike="noStrike">
                <a:solidFill>
                  <a:srgbClr val="ffff00"/>
                </a:solidFill>
                <a:latin typeface="Arial"/>
              </a:rPr>
              <a:t>دَخَلَ الـْوَالِدُ 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 rtl="1">
              <a:spcBef>
                <a:spcPts val="23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 rtl="1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200" spc="-1" strike="noStrike">
                <a:solidFill>
                  <a:srgbClr val="ffff00"/>
                </a:solidFill>
                <a:latin typeface="Arial"/>
              </a:rPr>
              <a:t>عَلـَى ابْنِهِ سَهْلٍ</a:t>
            </a:r>
            <a:r>
              <a:rPr b="0" lang="en-US" sz="1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425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503280"/>
            <a:ext cx="91440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 rtl="1">
              <a:spcBef>
                <a:spcPts val="35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200" spc="-1" strike="noStrike">
                <a:solidFill>
                  <a:srgbClr val="ffff00"/>
                </a:solidFill>
                <a:latin typeface="Arial"/>
                <a:cs typeface="Arial"/>
              </a:rPr>
              <a:t>وَأمَامَهُ مَسْألـَة ُ 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 rtl="1">
              <a:spcBef>
                <a:spcPts val="35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200" spc="-1" strike="noStrike">
                <a:solidFill>
                  <a:srgbClr val="ffff00"/>
                </a:solidFill>
                <a:latin typeface="Arial"/>
                <a:cs typeface="Arial"/>
              </a:rPr>
              <a:t>ر ِيَاضِيَّاتٍ</a:t>
            </a:r>
            <a:r>
              <a:rPr b="0" lang="en-US" sz="1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7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25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 rtl="1">
              <a:spcBef>
                <a:spcPts val="32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600" spc="-1" strike="noStrike">
                <a:solidFill>
                  <a:srgbClr val="ffff00"/>
                </a:solidFill>
                <a:latin typeface="Arial"/>
                <a:cs typeface="Arial"/>
              </a:rPr>
              <a:t>يُحَاو ِلُ حَلـَّهَا</a:t>
            </a:r>
            <a:r>
              <a:rPr b="1" lang="en-US" sz="129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 rtl="1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600" spc="-1" strike="noStrike">
                <a:solidFill>
                  <a:srgbClr val="ffff00"/>
                </a:solidFill>
                <a:latin typeface="Arial"/>
                <a:cs typeface="Arial"/>
              </a:rPr>
              <a:t>وَ هُوَ فِي شَيْءٍ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 rtl="1">
              <a:spcBef>
                <a:spcPts val="35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600" spc="-1" strike="noStrike">
                <a:solidFill>
                  <a:srgbClr val="ffff00"/>
                </a:solidFill>
                <a:latin typeface="Arial"/>
                <a:cs typeface="Arial"/>
              </a:rPr>
              <a:t>مِنَ الضِّيق</a:t>
            </a:r>
            <a:r>
              <a:rPr b="1" lang="en-US" sz="11700" spc="-1" strike="noStrike">
                <a:solidFill>
                  <a:srgbClr val="000000"/>
                </a:solidFill>
                <a:latin typeface="Arial"/>
                <a:ea typeface="Arial"/>
              </a:rPr>
              <a:t> ِ</a:t>
            </a:r>
            <a:r>
              <a:rPr b="1" lang="en-US" sz="1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550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35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انْتَظـَرَ الأبُ</a:t>
            </a:r>
            <a:r>
              <a:rPr b="1" lang="en-US" sz="14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0000"/>
                </a:solidFill>
                <a:latin typeface="Arial"/>
                <a:cs typeface="Arial"/>
              </a:rPr>
              <a:t>صَامِتَا ً</a:t>
            </a:r>
            <a:r>
              <a:rPr b="1" lang="en-US" sz="1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لا يَتَكَلـَّم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7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450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وَلـَكِنَّ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35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الطـِّفـْلَ </a:t>
            </a:r>
            <a:r>
              <a:rPr b="1" lang="en-US" sz="14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"/>
                <a:cs typeface="Arial"/>
              </a:rPr>
              <a:t>بَادَرَهُ بـِقـَوْلِهِ: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450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 rtl="1">
              <a:spcBef>
                <a:spcPts val="32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600" spc="-1" strike="noStrike">
                <a:solidFill>
                  <a:srgbClr val="ffff00"/>
                </a:solidFill>
                <a:latin typeface="Arial"/>
                <a:cs typeface="Arial"/>
              </a:rPr>
              <a:t>أبـِي لـَنْ أ َحُلَّ</a:t>
            </a:r>
            <a:r>
              <a:rPr b="1" lang="en-US" sz="129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 rtl="1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600" spc="-1" strike="noStrike">
                <a:solidFill>
                  <a:srgbClr val="ffff00"/>
                </a:solidFill>
                <a:latin typeface="Arial"/>
                <a:cs typeface="Arial"/>
              </a:rPr>
              <a:t>هَذِهِ الـْمَسْأ َلـَة َ ،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 rtl="1">
              <a:spcBef>
                <a:spcPts val="35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600" spc="-1" strike="noStrike">
                <a:solidFill>
                  <a:srgbClr val="ffff00"/>
                </a:solidFill>
                <a:latin typeface="Arial"/>
                <a:cs typeface="Arial"/>
              </a:rPr>
              <a:t>لـَقـَدْ حَاوَلْتُ كَثِيراً</a:t>
            </a:r>
            <a:r>
              <a:rPr b="1" lang="en-US" sz="1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sh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625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17:06:19Z</dcterms:created>
  <dc:creator> طلال محمدالطيب عاشور </dc:creator>
  <dc:description/>
  <dc:language>en-US</dc:language>
  <cp:lastModifiedBy> طلال محمدالطيب عاشور </cp:lastModifiedBy>
  <dcterms:modified xsi:type="dcterms:W3CDTF">2006-01-15T17:06:19Z</dcterms:modified>
  <cp:revision>6</cp:revision>
  <dc:subject/>
  <dc:title>الشريحة 1</dc:title>
</cp:coreProperties>
</file>