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421-C1A8-43E2-B4BD-AA3E9791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439-60BD-4244-85E1-BBD78637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F618-070B-4D21-AFD3-98F0B6F9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D9D-29D3-4E19-BB41-D8ABAB78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4195-A44A-4BCD-84B4-B8FF2E45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8AE-869A-4A8F-85E5-70AD585C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486-BD24-444B-8B80-B50C8B16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559-1560-473E-90FF-39AFF0D9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0C1-24F9-461A-96AC-007DCE52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466-414D-452F-9049-2520193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7ECF-9CEB-4681-8BBB-F161239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84C-5C21-4F15-9B39-34ADBD8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AC5E-E63D-4B33-857D-2A5A68C31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  <a:cs typeface="DecoType Naskh"/>
              </a:rPr>
              <a:t>بسم الله الرحمن الرحي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cc"/>
                </a:solidFill>
                <a:latin typeface="Arial"/>
                <a:ea typeface="Simple Bold Jut Out"/>
              </a:rPr>
              <a:t>        </a:t>
            </a:r>
            <a:r>
              <a:rPr b="0" lang="ar-SA" sz="3600" spc="-1" strike="noStrike">
                <a:solidFill>
                  <a:srgbClr val="99ccff"/>
                </a:solidFill>
                <a:latin typeface="Arial"/>
                <a:cs typeface="Simple Bold Jut Out"/>
              </a:rPr>
              <a:t>مدارس التربية النموذج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ccff"/>
                </a:solidFill>
                <a:latin typeface="Arial"/>
                <a:ea typeface="Simple Bold Jut Out"/>
              </a:rPr>
              <a:t>                 درس في القراءة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ccff"/>
                </a:solidFill>
                <a:latin typeface="Arial"/>
                <a:ea typeface="Simple Bold Jut Out"/>
              </a:rPr>
              <a:t>           الصف الثالث الابتدائ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ccff"/>
                </a:solidFill>
                <a:latin typeface="Arial"/>
                <a:ea typeface="Simple Bold Jut Out"/>
              </a:rPr>
              <a:t>              المعلمة:مجد حدا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60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60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60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600"/>
                            </p:stCondLst>
                            <p:childTnLst>
                              <p:par>
                                <p:cTn id="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0" y="4869000"/>
            <a:ext cx="41148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ar-SA" sz="3600" spc="-1" strike="noStrike">
                <a:solidFill>
                  <a:srgbClr val="ffffcc"/>
                </a:solidFill>
                <a:latin typeface="Arial"/>
              </a:rPr>
              <a:t>بـــــادَر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941720"/>
            <a:ext cx="41148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ar-SA" sz="3600" spc="-1" strike="noStrike">
                <a:solidFill>
                  <a:srgbClr val="ffffcc"/>
                </a:solidFill>
                <a:latin typeface="Arial"/>
              </a:rPr>
              <a:t>أ</a:t>
            </a:r>
            <a:r>
              <a:rPr b="0" lang="ar-SA" sz="3600" spc="-1" strike="noStrike">
                <a:solidFill>
                  <a:srgbClr val="ccecff"/>
                </a:solidFill>
                <a:latin typeface="Arial"/>
              </a:rPr>
              <a:t>سْــــــرع</a:t>
            </a:r>
            <a:r>
              <a:rPr b="0" lang="ar-SA" sz="36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3429000"/>
            <a:ext cx="411480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A" sz="3600" spc="-1" strike="noStrike">
                <a:solidFill>
                  <a:srgbClr val="ffffcc"/>
                </a:solidFill>
                <a:latin typeface="Arial"/>
              </a:rPr>
              <a:t>صامتـــــــًا</a:t>
            </a:r>
            <a:r>
              <a:rPr b="0" lang="ar-SA" sz="36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284640"/>
            <a:ext cx="411480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ccecff"/>
                </a:solidFill>
                <a:latin typeface="Arial"/>
              </a:rPr>
              <a:t>ساكتـــــــً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2071800"/>
            <a:ext cx="411480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ar-SA" sz="3600" spc="-1" strike="noStrike">
                <a:solidFill>
                  <a:srgbClr val="ffffcc"/>
                </a:solidFill>
                <a:latin typeface="Arial"/>
              </a:rPr>
              <a:t>الكلمــــــــــة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8480" y="2071800"/>
            <a:ext cx="411480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ar-SA" sz="3600" spc="-1" strike="noStrike">
                <a:solidFill>
                  <a:srgbClr val="ccecff"/>
                </a:solidFill>
                <a:latin typeface="Arial"/>
              </a:rPr>
              <a:t>معنـــــــا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06864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450864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5950080"/>
            <a:ext cx="82296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00120" y="318960"/>
            <a:ext cx="785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Arial"/>
              </a:rPr>
              <a:t>معانـــــي  الكلمـــــــــــــات</a:t>
            </a:r>
            <a:r>
              <a:rPr b="1" lang="ar-SA" sz="44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773360"/>
            <a:ext cx="820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720" y="1773360"/>
            <a:ext cx="0" cy="41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773360"/>
            <a:ext cx="0" cy="41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1773360"/>
            <a:ext cx="0" cy="417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936720" y="476280"/>
            <a:ext cx="111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cc"/>
                </a:solidFill>
                <a:latin typeface="Arial"/>
              </a:rPr>
              <a:t>سبحان الذي ألهم النمل الصبر والمثابر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حاول يابُ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Arial"/>
              </a:rPr>
              <a:t>قال الأبُ: بحَثــَتْ نملةٌ حتى وجدَتْ حَبَّةَ قمح ٍ كبيرة ٍ فحَملتْها وحاولتْ أنْ تصْعدَ بها صخرةً في أعلاها جُحرُها .ووقَعتِ النَّملةُ، فسقَطَتْ منها الحبَّةُ ولكِنَّها عادتْ فحَمَلتها ،وحاولتْ فوقَعتْ، وتكرَّرَ ذلكَ مرَّاتٍ فلم ْ تَيأسْ ،وكافَحَتْ حتَّى نجحتْ 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Arial"/>
              </a:rPr>
              <a:t>وحَملتِ الحبَّةَ إلى جُحرها وهي مَسرورةٌ بنجاحِ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Arial"/>
              </a:rPr>
              <a:t>قالَ الابنُ: الآنَ فهِمْت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Arial"/>
              </a:rPr>
              <a:t>وعادَ إلى المَسألةِ، وحاوَلَ حتَّى حلَّها.وصارَ يَعتمدُ بَعدَ الله على نفسِهِ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0" y="5435640"/>
            <a:ext cx="411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  كَافحـــ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435640"/>
            <a:ext cx="411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  قاومَت بِقوَّ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551480"/>
            <a:ext cx="4114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  لم تيأ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551480"/>
            <a:ext cx="4114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  لم تقطع  الأم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665520"/>
            <a:ext cx="411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  حاوَلـــ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665520"/>
            <a:ext cx="4114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  عادت تحمل حبة القم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2781360"/>
            <a:ext cx="4114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  تصعَــــد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81360"/>
            <a:ext cx="4114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   تتَسلَّق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700280"/>
            <a:ext cx="4114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     الكلمــــــ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700280"/>
            <a:ext cx="4114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ecff"/>
                </a:solidFill>
                <a:latin typeface="Arial"/>
              </a:rPr>
              <a:t>    معنــــــا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70028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8136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66552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5514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543564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321600"/>
            <a:ext cx="8229600" cy="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700280"/>
            <a:ext cx="0" cy="4621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700280"/>
            <a:ext cx="0" cy="4621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86800" y="1700280"/>
            <a:ext cx="0" cy="4621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6440" y="404640"/>
            <a:ext cx="785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Arial"/>
              </a:rPr>
              <a:t>معانـــــي  الكلمـــــــــــــات</a:t>
            </a:r>
            <a:r>
              <a:rPr b="1" lang="ar-SA" sz="44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51280" y="21765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29960" y="520560"/>
            <a:ext cx="76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ماذا يمثـل هذا الوجه؟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41400" y="4508640"/>
            <a:ext cx="61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متى تكونين هكذا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80000" y="2276640"/>
            <a:ext cx="2049480" cy="2049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8200" y="549360"/>
            <a:ext cx="76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ماذا يمثـل هذا الوجه؟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23960" y="4581360"/>
            <a:ext cx="61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متى تكونين هكذا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2195640" cy="203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280" y="549360"/>
            <a:ext cx="76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ماذا يمثـل هذا الوجه؟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3960" y="4941720"/>
            <a:ext cx="61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متى تكونين هكذا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ef1f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87640" y="1773360"/>
            <a:ext cx="300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6072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71640" y="1916280"/>
            <a:ext cx="172908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00"/>
                </a:solidFill>
                <a:latin typeface="Arial"/>
              </a:rPr>
              <a:t>حاول يابُنَيّ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425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00"/>
                </a:solidFill>
                <a:latin typeface="Arial"/>
              </a:rPr>
              <a:t>دَخلَ الوالدُ على ابنهِ سهلٍ ،وأََمامهُ مسأَلةُ رياضيّاتٍ يحاولُ حلَّها ، وَهُوَ في شيءٍ منَ الضِّيق ِ. انتظرَ الأبُ صامتاً لايتكلَّمُ ولكنَّ الطِّفلَ بادرهُ بقولهِ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00"/>
                </a:solidFill>
                <a:latin typeface="Arial"/>
              </a:rPr>
              <a:t>أَبي ، لنْ أَحلَّ هذهِ المسألةَ، لقدْ حاولتُ كثيراً ، وفي كلِّ مرَّةٍ يأتي الجوابُ غيرَ صحيح ٍ .حلَّ لي هذهِ المسألةَ الصَّعبةَ ياأبي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00"/>
                </a:solidFill>
                <a:latin typeface="Arial"/>
              </a:rPr>
              <a:t>قالَ الأبُ : لايابنيَّ اعتمِدْ على الله أوَّلاً ،ثمَّ على نفسك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00"/>
                </a:solidFill>
                <a:latin typeface="Arial"/>
              </a:rPr>
              <a:t>اشتدَّ ضيقُ سهلٍ وقالَ : سأترُكُهَ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00"/>
                </a:solidFill>
                <a:latin typeface="Arial"/>
              </a:rPr>
              <a:t>قالَ الأبُ : لا ,يجبُ أنْ تُحاولَ حتَّى تصلَ إلى الحلِّ .هلْ تعْرفُ حكايةَ النَّملةِ يابنيَّ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8000"/>
                </a:solidFill>
                <a:latin typeface="Arial"/>
              </a:rPr>
              <a:t>قالَ الابنُ وما حكايتُهَ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14:11:41Z</dcterms:created>
  <dc:creator>xp</dc:creator>
  <dc:description/>
  <dc:language>en-US</dc:language>
  <cp:lastModifiedBy>xp</cp:lastModifiedBy>
  <dcterms:modified xsi:type="dcterms:W3CDTF">2006-02-28T16:23:26Z</dcterms:modified>
  <cp:revision>29</cp:revision>
  <dc:subject/>
  <dc:title>الشريحة 1</dc:title>
</cp:coreProperties>
</file>