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7FE-1547-477C-85BA-911C7E3A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52E-4FF0-4AF7-93E9-5DB35B5A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A69-54CD-4C28-904A-6A838291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B4C5-62FE-4201-B29D-3D135A44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090-A272-449A-A01E-2AE4605F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FE2-8DE2-4950-A475-7AB97DCF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6D61-CC83-4F41-A820-3D4D6E99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032-7371-41CC-A71E-6AE416C7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BACE-CD13-4B54-8E0A-FD0D1F92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9F57-0AC2-4F1F-B899-9CA4AE15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A0C-1676-47BC-9F21-CF587E6B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8F9-71CD-41B0-BAF9-90CB4ADC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8992-06F3-449D-9DEB-76B976A4D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9560" y="484200"/>
            <a:ext cx="8009640" cy="60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ffffff"/>
                </a:solidFill>
                <a:latin typeface="Arial Narrow"/>
                <a:cs typeface="Andalus"/>
              </a:rPr>
              <a:t>بسم الله الرحمن الرحي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Arial"/>
              </a:rPr>
              <a:t>مدارس التربية النموذج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</a:rPr>
              <a:t>درس في القراء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</a:rPr>
              <a:t>الصف الثالث الابتدائية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Andalus"/>
              </a:rPr>
              <a:t>المعلمة:مجد حداد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35080" y="765000"/>
            <a:ext cx="726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</a:rPr>
              <a:t>؟</a:t>
            </a:r>
            <a:r>
              <a:rPr b="1" lang="ar-SA" sz="4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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ن أين هاجر الرس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78120" y="4602240"/>
            <a:ext cx="474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ومن هاجر معه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17716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886320" y="1341360"/>
            <a:ext cx="1008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هل اتجها مباشرة إلى المدينة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8360" y="3716280"/>
            <a:ext cx="670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إذاً إلى أين اتجها أولاً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6600"/>
                </a:solidFill>
                <a:uFillTx/>
                <a:latin typeface="Arial"/>
              </a:rPr>
              <a:t>بُطولة ُ فتاة</a:t>
            </a:r>
            <a:r>
              <a:rPr b="1" lang="ar-SA" sz="5400" spc="-1" strike="noStrike" u="sng">
                <a:solidFill>
                  <a:srgbClr val="006600"/>
                </a:solidFill>
                <a:uFillTx/>
                <a:latin typeface="Arial"/>
              </a:rPr>
              <a:t> 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كانتْ أسماءُ بنتُ أبي بَكْرٍ ـ رضيَ الله عنهُماـ في البَيْتِ وَقتَ الظـَّهيَرةِ ، وكانت معَها أختُها عائشة ُ.. ونظرَتْ أسماءُ في دَهشةٍ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رَسولُ الله </a:t>
            </a:r>
            <a:r>
              <a:rPr b="1" lang="ar-SA" sz="3200" spc="-1" strike="noStrike">
                <a:solidFill>
                  <a:srgbClr val="003300"/>
                </a:solidFill>
                <a:latin typeface="AGA Arabesque"/>
                <a:ea typeface="AGA Arabesque"/>
              </a:rPr>
              <a:t></a:t>
            </a: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يُقْبِلُ ،ووالِدُها يُسْرعُ إليه فيَلْقاهُ باهْتِمام ٍ ويَجْلِسُ معهُ ويَنْتَظِرُ ما يأمُرُ بهِ ..وينظُرُ</a:t>
            </a:r>
            <a:r>
              <a:rPr b="1" lang="ar-SA" sz="3200" spc="-1" strike="noStrike">
                <a:solidFill>
                  <a:srgbClr val="003300"/>
                </a:solidFill>
                <a:latin typeface="AGA Arabesque"/>
                <a:ea typeface="AGA Arabesque"/>
              </a:rPr>
              <a:t></a:t>
            </a: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،ويَقولُ لهُ: أخْرجْ منْ عِنْدَك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فَيُجيبُ: إنَّما هُما ابْنتايَ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ويُحدِّثُهُ </a:t>
            </a:r>
            <a:r>
              <a:rPr b="1" lang="ar-SA" sz="3200" spc="-1" strike="noStrike">
                <a:solidFill>
                  <a:srgbClr val="003300"/>
                </a:solidFill>
                <a:latin typeface="AGA Arabesque"/>
                <a:ea typeface="AGA Arabesque"/>
              </a:rPr>
              <a:t></a:t>
            </a: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 فَيُخْبِرُهُ بِأمرِ الهِجْرَةِ ،فيَقُولُ أبوبَكْرٍ :الصُّحْبَة الصُّحْبَة َ َ يارسولَ الله ِ! فَقَالَ: نَعَمْ .ويَخْرُج ُ</a:t>
            </a:r>
            <a:r>
              <a:rPr b="1" lang="ar-SA" sz="3200" spc="-1" strike="noStrike">
                <a:solidFill>
                  <a:srgbClr val="003300"/>
                </a:solidFill>
                <a:latin typeface="AGA Arabesque"/>
                <a:ea typeface="AGA Arabesque"/>
              </a:rPr>
              <a:t></a:t>
            </a: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 ،ومَعَهُ صاحِبُهُ ، فيَذْهَبان ِ بيْنَ الجِبَال ِ، ويَصْعدانِ في جبَلِ ثَورٍ حتَّى يصِلا إلى الغَار في أعلا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54440" y="4610160"/>
            <a:ext cx="411480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00"/>
                </a:solidFill>
                <a:latin typeface="Arial"/>
              </a:rPr>
              <a:t>  الصُّحْبة 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4610160"/>
            <a:ext cx="411480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Arial"/>
              </a:rPr>
              <a:t>  أُحِبُّ أن أُرافِقَك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54440" y="3559320"/>
            <a:ext cx="411480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00"/>
                </a:solidFill>
                <a:latin typeface="Arial"/>
              </a:rPr>
              <a:t>   دَهْشة 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3559320"/>
            <a:ext cx="411480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Arial"/>
              </a:rPr>
              <a:t>  حَيْرَةٍ واسْتِغْراب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54440" y="2349360"/>
            <a:ext cx="411480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00"/>
                </a:solidFill>
                <a:latin typeface="Arial"/>
              </a:rPr>
              <a:t>    الكلمــــ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2349360"/>
            <a:ext cx="411480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Arial"/>
              </a:rPr>
              <a:t>   معنــــــــا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2349360"/>
            <a:ext cx="82296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355932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461016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5659560"/>
            <a:ext cx="82296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2349360"/>
            <a:ext cx="0" cy="3310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54440" y="2349360"/>
            <a:ext cx="0" cy="331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769240" y="2349360"/>
            <a:ext cx="0" cy="3310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14080" y="692280"/>
            <a:ext cx="707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3300"/>
                </a:solidFill>
                <a:uFillTx/>
                <a:latin typeface="Arial"/>
              </a:rPr>
              <a:t>معاني الكلمــــــــات</a:t>
            </a:r>
            <a:r>
              <a:rPr b="1" lang="ar-SA" sz="54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99"/>
                </a:solidFill>
                <a:latin typeface="Arial"/>
              </a:rPr>
              <a:t> (إذ هُما في الغَار إذ يَقُولُ لِصَاحِبِه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99"/>
                </a:solidFill>
                <a:latin typeface="Arial"/>
              </a:rPr>
              <a:t>         لاتَحْزَن إنَّ اللهَ مَعَنَا 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الطَّريق ُ إلى الغار طويلٌ وشاقٌ، وصُخورُهُ تُمزِّقُ الأقدامَ ،والكفَّارُ هُنا وهُناك في كُلِّ ناحيةٍ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وكانَ على أسماءَ ـ رضي الله عنها ـ أنْ تَحمِلَ إليهما الطَّعامَ والأخبارَ، وأنْ تقطَعَ هذا الطَّريقَ، وعلى مدى ثلاثةِ أيام ٍ كانتْ تذهَبُ إليهما ، مُعرِّضَةً حياتها للخطرِ في سبيل ِ اللهِ ..وبِعونٍ منَ اللهِ تمَّتِ الهِجرةُ منْ مكَّةَإلى المَدينةِ، منْ بلدِ الشِّركِ إلى بلدِ الإسلا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وكانتْ أسماءُ بطلة ً،لها نصيبٌ ومُشاركة ٌ في هذا الحدثِ الإسلاميِّ العظيم ِ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336600"/>
                </a:solidFill>
                <a:uFillTx/>
                <a:latin typeface="Arial"/>
              </a:rPr>
              <a:t>بُطولة ُ فتاة</a:t>
            </a:r>
            <a:r>
              <a:rPr b="1" lang="ar-SA" sz="4400" spc="-1" strike="noStrike" u="sng">
                <a:solidFill>
                  <a:srgbClr val="336600"/>
                </a:solidFill>
                <a:uFillTx/>
                <a:latin typeface="Arial"/>
              </a:rPr>
              <a:t> 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817360" y="692280"/>
            <a:ext cx="707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3300"/>
                </a:solidFill>
                <a:uFillTx/>
                <a:latin typeface="Arial"/>
              </a:rPr>
              <a:t>معاني الكلمــــــــات</a:t>
            </a:r>
            <a:r>
              <a:rPr b="1" lang="ar-SA" sz="54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5146560"/>
            <a:ext cx="411480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6600"/>
                </a:solidFill>
                <a:latin typeface="Arial"/>
              </a:rPr>
              <a:t>  نصيـــ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5146560"/>
            <a:ext cx="411480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Arial"/>
              </a:rPr>
              <a:t>  قِسمة وح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4165560"/>
            <a:ext cx="41148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6600"/>
                </a:solidFill>
                <a:latin typeface="Arial"/>
              </a:rPr>
              <a:t>   مـــد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65560"/>
            <a:ext cx="41148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Arial"/>
              </a:rPr>
              <a:t>  طو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3186000"/>
            <a:ext cx="411480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6600"/>
                </a:solidFill>
                <a:latin typeface="Arial"/>
              </a:rPr>
              <a:t>   شـــــاقّ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186000"/>
            <a:ext cx="411480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Arial"/>
              </a:rPr>
              <a:t>  صعــــب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1989000"/>
            <a:ext cx="41148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6600"/>
                </a:solidFill>
                <a:latin typeface="Arial"/>
              </a:rPr>
              <a:t>     الكلمـــــــ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989000"/>
            <a:ext cx="41148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Arial"/>
              </a:rPr>
              <a:t>      معنـــــا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989000"/>
            <a:ext cx="82296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18600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16556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514656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989000"/>
            <a:ext cx="0" cy="41371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1989000"/>
            <a:ext cx="0" cy="4137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686800" y="1989000"/>
            <a:ext cx="0" cy="41371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4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8:29:12Z</dcterms:created>
  <dc:creator>xp</dc:creator>
  <dc:description/>
  <dc:language>en-US</dc:language>
  <cp:lastModifiedBy>xp</cp:lastModifiedBy>
  <dcterms:modified xsi:type="dcterms:W3CDTF">2006-02-28T16:34:53Z</dcterms:modified>
  <cp:revision>15</cp:revision>
  <dc:subject/>
  <dc:title>الشريحة 1</dc:title>
</cp:coreProperties>
</file>