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0A7-C0D1-4FA4-8ACD-CE806680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F1D-E481-4000-A900-A700C01C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D3D-23F1-41DC-AE76-1AB61102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056-B4F5-4082-9CFD-F5815ECA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F79-895B-4E6C-82F6-FBE409BF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A01-F583-4518-9E58-871C3509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77E-9357-4CF4-8CA7-D7B57559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A94-DEAB-45D3-8AD7-39E847A7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B79-1393-4AFE-8C39-3A7AED1D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B53-FD18-4327-8FA3-FBD29E5F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209-D68C-4165-ABC6-6AF50178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971-E0F3-4641-99D5-5FB3A413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3022-34BB-4488-AA5C-A424293B8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47640" y="3357720"/>
            <a:ext cx="6050160" cy="2590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516404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مدارس التربية النموذج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درس في القراء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الصف الثالث الابتد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المعلمة:مجد حداد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333360"/>
            <a:ext cx="5183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بسم الله الرحمن الرحي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258920" cy="1438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340000" y="4581360"/>
            <a:ext cx="1655640" cy="1582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-252360" y="3573360"/>
            <a:ext cx="13208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126240" y="1268280"/>
            <a:ext cx="651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3366"/>
                </a:solidFill>
                <a:uFillTx/>
                <a:latin typeface="Arial"/>
              </a:rPr>
              <a:t>معاني الكلمـــــــــات</a:t>
            </a:r>
            <a:r>
              <a:rPr b="1" lang="ar-SA" sz="4800" spc="-1" strike="noStrike" u="sng">
                <a:solidFill>
                  <a:srgbClr val="003366"/>
                </a:solidFill>
                <a:uFillTx/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83160" y="4092480"/>
            <a:ext cx="41148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Arial"/>
              </a:rPr>
              <a:t>  يُعانُـــــــو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4092480"/>
            <a:ext cx="41148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66"/>
                </a:solidFill>
                <a:latin typeface="Arial"/>
              </a:rPr>
              <a:t>  يُقاسُــــــو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83160" y="2565360"/>
            <a:ext cx="4114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Arial"/>
              </a:rPr>
              <a:t>   الكلمـــــ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565360"/>
            <a:ext cx="4114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66"/>
                </a:solidFill>
                <a:latin typeface="Arial"/>
              </a:rPr>
              <a:t>    معنــــــا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565360"/>
            <a:ext cx="8229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0924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5477040"/>
            <a:ext cx="8229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2565360"/>
            <a:ext cx="0" cy="291168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83160" y="2565360"/>
            <a:ext cx="0" cy="2911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97960" y="2565360"/>
            <a:ext cx="0" cy="291168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092240" y="404640"/>
            <a:ext cx="1136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اذا كان يركب الإنسان للانتقال من مكان لآخر 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05360"/>
            <a:ext cx="4140360" cy="265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498760" cy="288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32720" y="5229360"/>
            <a:ext cx="206676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9640" y="1413000"/>
            <a:ext cx="3751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057680" y="476280"/>
            <a:ext cx="114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ما اليوم فماذا يركب الإنسان للانتقال من مكان لآخر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500720" cy="364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1125360"/>
            <a:ext cx="3959280" cy="2163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00720" y="357336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1193760"/>
            <a:ext cx="4140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551640" cy="3718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76720" y="3716280"/>
            <a:ext cx="4067280" cy="314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4859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7320" y="1700280"/>
            <a:ext cx="8701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63300"/>
                </a:solidFill>
                <a:latin typeface="Arial"/>
              </a:rPr>
              <a:t>ماذا نسمي كل هذه الأدوات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63300"/>
                </a:solidFill>
                <a:latin typeface="Arial"/>
              </a:rPr>
              <a:t>إذاً ماذا نعني بوسائل المواصلات</a:t>
            </a:r>
            <a:r>
              <a:rPr b="0" lang="ar-SA" sz="4400" spc="-1" strike="noStrike">
                <a:solidFill>
                  <a:srgbClr val="663300"/>
                </a:solidFill>
                <a:latin typeface="Arial"/>
              </a:rPr>
              <a:t>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ff"/>
                </a:solidFill>
                <a:latin typeface="Arial"/>
              </a:rPr>
              <a:t>المواصلات في بلادنا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99ff"/>
                </a:solidFill>
                <a:latin typeface="Arial"/>
              </a:rPr>
              <a:t>قال خالدٌ :أبي ,أريد أن نزورَ عمِّي في جازانَ ,هل هيَ بعيدةٌ عن عرعرَ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99ff"/>
                </a:solidFill>
                <a:latin typeface="Arial"/>
              </a:rPr>
              <a:t>قالَ الأب : إنَّ مملكتنا رحيبة ٌ ياخالد ,ونحنُ في الشِّمال ِ,وجازانُ في الجنوب ِ.إنها نائية ٌ عنَّا ,ولكنَّها قريبة ٌ منَّ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99ff"/>
                </a:solidFill>
                <a:latin typeface="Arial"/>
              </a:rPr>
              <a:t>قالَ خالد ٌ: كيفَ ذلك َ ياأبي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99ff"/>
                </a:solidFill>
                <a:latin typeface="Arial"/>
              </a:rPr>
              <a:t>قالَ الأبُ :إنَّ حكومَتَنَا ياخاَلِدُ زَفَّتَتِ الطـُّرقَ ،وأقَامتِ المطارَاتِ الدَّاخليِّة َ و الدوليَّة،وأنْشَأتِ الموانئ الكَبيرةَ،ومدَّتْ سِكة حديدٍ بينََ الدَّمَّام ِ والرِّياضِ.فَرَبطت بَين أنحاءِ المملكةِ وعُنِيَتْ بالمُواصلات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99ff"/>
                </a:solidFill>
                <a:latin typeface="Arial"/>
              </a:rPr>
              <a:t>الخارجيةِ جَوًّا وبرًّا وبحرًّا ،فأصْبَحَتِ الممْلكةُ على صِلةٍ بأرجَاءِ العَالَم ِ.</a:t>
            </a:r>
            <a:r>
              <a:rPr b="0" lang="ar-SA" sz="32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54440" y="5237280"/>
            <a:ext cx="41148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66"/>
                </a:solidFill>
                <a:latin typeface="Arial"/>
              </a:rPr>
              <a:t>عُنِيَــــت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5237280"/>
            <a:ext cx="41148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660066"/>
                </a:solidFill>
                <a:latin typeface="Arial"/>
              </a:rPr>
              <a:t>اهْتَـــمَّــت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54440" y="3938760"/>
            <a:ext cx="41148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66"/>
                </a:solidFill>
                <a:latin typeface="Arial"/>
              </a:rPr>
              <a:t>نَــائيـــــة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938760"/>
            <a:ext cx="41148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ar-SA" sz="4000" spc="-1" strike="noStrike">
                <a:solidFill>
                  <a:srgbClr val="660066"/>
                </a:solidFill>
                <a:latin typeface="Arial"/>
              </a:rPr>
              <a:t>بَعيــــــدة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54440" y="2639880"/>
            <a:ext cx="41148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ar-SA" sz="4000" spc="-1" strike="noStrike">
                <a:solidFill>
                  <a:srgbClr val="000066"/>
                </a:solidFill>
                <a:latin typeface="Arial"/>
              </a:rPr>
              <a:t>رَحيبـَـــة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2639880"/>
            <a:ext cx="41148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660066"/>
                </a:solidFill>
                <a:latin typeface="Arial"/>
              </a:rPr>
              <a:t>وَاسِــعَـــة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54440" y="1341360"/>
            <a:ext cx="41148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ar-SA" sz="4400" spc="-1" strike="noStrike">
                <a:solidFill>
                  <a:srgbClr val="000066"/>
                </a:solidFill>
                <a:latin typeface="Arial"/>
              </a:rPr>
              <a:t>الكلمـــــ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341360"/>
            <a:ext cx="41148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ar-SA" sz="4000" spc="-1" strike="noStrike">
                <a:solidFill>
                  <a:srgbClr val="660066"/>
                </a:solidFill>
                <a:latin typeface="Arial"/>
              </a:rPr>
              <a:t>معناهـــــــــ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341360"/>
            <a:ext cx="8229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2639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393876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2372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6535800"/>
            <a:ext cx="8229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341360"/>
            <a:ext cx="0" cy="51944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54440" y="1341360"/>
            <a:ext cx="0" cy="5194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69240" y="1341360"/>
            <a:ext cx="0" cy="51944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6240" y="404640"/>
            <a:ext cx="651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3366"/>
                </a:solidFill>
                <a:uFillTx/>
                <a:latin typeface="Arial"/>
              </a:rPr>
              <a:t>معاني الكلمـــــــــات</a:t>
            </a:r>
            <a:r>
              <a:rPr b="1" lang="ar-SA" sz="4800" spc="-1" strike="noStrike" u="sng">
                <a:solidFill>
                  <a:srgbClr val="003366"/>
                </a:solidFill>
                <a:uFillTx/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لاتنسي ياابنتي دعاء الركوب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( سبحان الذي سخر لنا هذا وماكنا له مقرني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وإنا إلى ربنا لمنقلبون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622080" cy="64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244000" y="3933720"/>
            <a:ext cx="62208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317080" y="1916280"/>
            <a:ext cx="62208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0920" y="3429000"/>
            <a:ext cx="62208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24000" y="5805360"/>
            <a:ext cx="62208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4284720" y="5950080"/>
            <a:ext cx="622080" cy="64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250920" y="1197000"/>
            <a:ext cx="622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ff"/>
                </a:solidFill>
                <a:latin typeface="Arial"/>
              </a:rPr>
              <a:t>قالَ خالِدٌ : ومتى نذْهبُ إلى جازانَ ياأب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ff"/>
                </a:solidFill>
                <a:latin typeface="Arial"/>
              </a:rPr>
              <a:t>قالَ الأبُ: في الأسبوع ِ القادم ِ نرْكَبُ الطَّيََّارةَ إليها إنْ شاءَ الله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ff"/>
                </a:solidFill>
                <a:latin typeface="Arial"/>
              </a:rPr>
              <a:t>قالَ خالدٌ :أنا في دَهْشةٍ! كَيفَ كانَ النَّاسُ ينْتقِلونَ في الماض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ff"/>
                </a:solidFill>
                <a:latin typeface="Arial"/>
              </a:rPr>
              <a:t>قالَ الأبُ:كانوا يُعانونَ الصِّعابَ. كانوا يرْكَبونَ الحَميرَ والخَيلَ والجِمال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ff"/>
                </a:solidFill>
                <a:latin typeface="Arial"/>
              </a:rPr>
              <a:t>أمَّا اليومُ فقَدْ تقدَّمَتْ وسائلُ المُواصلاتِ عِنْدَنا بفَضْلِ اللهِ تقَدُّمًا كبيرً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ff"/>
                </a:solidFill>
                <a:latin typeface="Arial"/>
              </a:rPr>
              <a:t>المواصلات في بلادنا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7:21:21Z</dcterms:created>
  <dc:creator>xp</dc:creator>
  <dc:description/>
  <dc:language>en-US</dc:language>
  <cp:lastModifiedBy>xp</cp:lastModifiedBy>
  <dcterms:modified xsi:type="dcterms:W3CDTF">2006-02-25T20:30:10Z</dcterms:modified>
  <cp:revision>34</cp:revision>
  <dc:subject/>
  <dc:title>الشريحة 1</dc:title>
</cp:coreProperties>
</file>