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D809-DA3D-4024-BEA4-5A5C4C7E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3F9F-5ED6-475B-BFE4-D8A7325C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9017A-8554-4C19-9C34-E6713498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7A8F7-3F0D-49EC-AEE8-EAABF28D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875B6-1B7F-4DEA-80CF-4E00548D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D5F71-2D18-4996-A803-FB0242A7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F87E7-5F2C-4552-BCBA-0C06F20F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675C8-0369-4168-BEF2-E3B3B70D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410E7-B99F-44CE-AAEF-2B0A57E5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AB7F4-351E-454E-8406-475748A3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02C24-83A5-4723-AC6C-DA6FDC27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73386-F939-4E6B-9014-4D19293C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75C-562C-43E3-A691-BDE4747F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282A0-98E8-40CA-8013-848F4AD4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13453-0C6B-4DCD-A397-67CC80D4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737D9-0497-4C8D-BA13-2A54CC72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8933C-1E3D-41F4-AB4C-4C2A73B6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643C8-9BFC-4793-B778-3DDE43CC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C6308-4DC6-49DF-A171-4491F59F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B96C9-CF6D-4E67-9810-723C256D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AB30C-4B75-42CA-8E1D-FD8E4617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9DBFC-29A2-4D4F-B071-B75C66F9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07292-6113-4772-9998-4E6ECDDA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FC59-4F84-4CF0-BAF8-537FD636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02AC6-0A74-4496-B3E2-06AAE8AE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B9120-74E2-401B-9C4A-4930D83F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770E5-EAFF-4567-A0DB-01B790AE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121B2-6C92-41EF-8AF6-A2B22C7B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F4ACD-189C-4DC0-91A6-FEEDC57C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669AE-7351-47DE-9E7B-8AB3C4C2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142DF-FA74-4C64-B046-3C7C28C5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29934-0B22-4AFC-BD5E-3749037A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E48D4-6770-4510-B60E-656B7607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A5F0C-CB04-42EC-921C-BA4DE14C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9982-50C4-40C6-BE6A-E7D165A7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A7816-CE4C-4A85-B2D6-76AC009B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CC218-7F86-49DF-B04A-9F481020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ED558-3CE0-45E0-94D9-EACF1542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9EE53-BBE4-46BA-919D-0C163B7D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DC916-6D81-4126-88AC-6712258A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203D3-7C4F-4971-B5DE-38AA2707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C011D-584E-494E-B092-D9B56FC8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38190-59FD-4208-B19D-216FA0A0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65F35-B15C-42ED-A380-81AAFA29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16E4B-7337-4DD4-BDAC-26D230DC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1A48-1AE3-4F2D-BA58-38F8C516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6AD8F-03D9-429B-B03D-C0E779B9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88E70-2097-4766-8704-F4C34DCD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B610F-9B83-47CA-AD4F-14F6553E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E860C-2270-451F-9D57-7F0BD62E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A5FD6-3622-4925-A923-5CAF14E8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C735-6D13-4239-A66A-4D76DEE2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B7A0-02B8-4A14-857E-832341E6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D45D-344D-4C3B-B90E-2BA5F9B8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4A1F-875B-489C-A63F-B9AB7BEE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0E7B-D225-427F-A34B-E21648A5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4176-9ADE-4E1A-91BF-C28C0549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CD30-19EB-46BF-BA1B-C7BC37E1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6298-E368-4C1E-A944-E6B31429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12D3-936C-47D3-AB4B-FD7F82BE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E14A-5FF5-418A-8073-48819A5D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7CE8-E319-465C-9E39-1BCA546F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79A8D-932C-4F6B-9F29-DCB756D1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899A2-2B2E-4DAF-8CFF-EA6FE321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30D7D-91CE-47A8-AC9B-D438590D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63ED5-5780-4B1A-BB82-C5E756B4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AF4B1-B250-4148-B626-AEA229F2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68A-49C1-47F8-91AC-D0F72FB3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4EBC1-1094-4C7F-A3F5-6B3EEA6C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D1515-FA73-4998-BDFD-65C6DA66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34A52-FEB1-4084-A620-2BEA0501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28C13-D265-483E-AEFA-B71A5039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824BE-8258-41A5-83D2-237739D8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53B4A-68EC-401E-B22A-12FB94ED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F804C-82E8-46DA-A6DA-BF8614DE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62A86-1BC4-40DC-A25D-64ADD0A7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B60E0-A316-41CD-982A-577EFF24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218D1-2E60-476C-AEA1-3D9AC533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21F6-4AAC-42C6-BC3F-9428303A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D1EAD-F8F0-4226-BA9A-F257D71C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A081B-5CD0-462B-AC7E-D5B5EB8D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1D4C7-A70D-4A38-A4CA-EEDBFF2B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7E43D-C09C-449A-9F01-8B1A38E1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AAA27-28C4-4767-BB25-E8C10F49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071DE-7BAB-4508-A951-F0B4D2E1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A93C6-64E5-49AA-A073-CC9527AA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A4750-0D93-498D-9481-543D5FDC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7FDC9-350B-48A4-93D2-1FBC516F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6F4B6-CDC5-438A-AB83-6108303F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A7A-62ED-4632-97EF-D4569C4A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E9850-C7E6-4891-BD04-73826D42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ECEBE-E431-478F-818B-A3565261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4082A-6258-410D-A662-9D120D4E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C4C17-BBA2-4789-A5FD-DA9634B7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AD2BF-96DB-4F1A-8180-FA63FBCE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AEFF2-2D31-463F-8196-4DCCCDC5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00FCF-934B-4E17-BEDF-5531905B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1A4D1-7EDF-4126-B21F-A6887779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3734E-3A17-4092-B637-8B63D10B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9D27E-8D9F-434F-8B49-E7701B55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D8D-48BE-4360-A949-74D6D0B3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C1CD0-5E57-46C1-931D-299A0EDA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17EA6-A10D-4F71-96F8-257A20C1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05BCF-F9D3-4714-8357-E957BB0C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C6C11-CDE0-4E4E-B334-9E10A524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C8154-033E-4252-9B77-E760B7EB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6A053-A23E-485F-93CB-B3DD9BE8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CE843-4393-4A53-AAF2-342877FF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2D362-590D-4D18-AAD0-E2A46152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D8352-2E97-4CEC-8B18-D5BFB0AC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F4E97-C47C-4C3D-B6A5-A6922D43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085-921D-435B-BFC4-CE7DF2AE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6C84E-98EE-425A-9972-D3345233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61AA6-66F6-4591-869A-7B15F1E3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B0319-5D73-4CC1-8CD6-BCC7DE9B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CEEC1-D182-45E8-9282-46060806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677D3-E740-4431-B6A0-8CA85FD2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AB986-1801-4A25-8062-EEF471B0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B793C-3EB4-416B-8599-76918B85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2F08F-643D-4B9B-9310-9FEBCB51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2B5D9-3C81-405C-9D19-442AB2BE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DE4AE-9A47-4A17-A50B-CADA6E06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0A4-6AE4-49F5-8038-9A52324E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1013A-F63E-4673-9D56-5FCAE6DD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4873D-9991-4FED-B9E2-EDE66BEE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8950D-110C-4524-82EF-5DA6A38F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CE1C8-2E06-41AA-84EF-8F351530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0E974-6713-4B9C-8D04-D13B2E89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953B5-DAAF-4AC1-9234-77E293EA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A244A-9A08-42D8-ADAD-73A7A64F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6BFCA-8CCA-48AD-B473-2BF0C2A4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51C65-8895-4253-B18E-E378C3EA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F379F-4D46-4F78-8A77-0C3CD51C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E874-093C-43CF-AD2C-785A00DA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A8C2B-9F77-4123-A918-2D9A7168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3BC01-00D0-4065-B933-B16CC429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3D0B9-9167-4486-944B-73F7A003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7CEF1-E8B4-4910-9012-3FE9819C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92C0F-52B7-4F0B-8041-A0DC72AD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7343F-7EFC-42D8-BDF6-FDE8A33C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9B538-5777-4E24-ABD1-E555A847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56956-EAA0-413D-B608-E41841A5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412C3-71A4-4C1D-9994-A4920585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6736D-8041-4C73-9A95-913301D5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426B-E029-445C-B0E3-410FDBA2FC49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5A59-5023-448B-A82A-CEE9FEAC0752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FB49-2017-4BAD-B3D0-E59343026BB4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DB5A-F84B-484F-BE79-AA84198F22F7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prstGeom prst="pie">
              <a:avLst/>
            </a:pr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2403-2FEA-426F-AA29-AA2A9F9C7C0C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519A-5A1C-4A9E-B246-74697DE8FBB7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C143-4499-48FE-B7C5-DC6CC98BA531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10C4-2F44-442D-8C5B-8BD113C26A33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A0A3-064A-4119-9977-9ED185092FF9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3ECB-BA40-4390-BB8E-874FA2C4FDD1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E91C-BCFB-4D5F-B291-9D30529251FD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2570-06AD-45C8-AC0C-EDAE4E0F5F7A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Oval 4"/>
          <p:cNvSpPr/>
          <p:nvPr/>
        </p:nvSpPr>
        <p:spPr>
          <a:xfrm>
            <a:off x="3649680" y="260280"/>
            <a:ext cx="2290680" cy="679680"/>
          </a:xfrm>
          <a:prstGeom prst="ellipse">
            <a:avLst/>
          </a:prstGeom>
          <a:solidFill>
            <a:srgbClr val="ffcc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البحث العلمي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8"/>
          <p:cNvSpPr/>
          <p:nvPr/>
        </p:nvSpPr>
        <p:spPr>
          <a:xfrm rot="19320000">
            <a:off x="472680" y="479160"/>
            <a:ext cx="1219320" cy="4572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cc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الاو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Rectangle 9"/>
          <p:cNvSpPr/>
          <p:nvPr/>
        </p:nvSpPr>
        <p:spPr>
          <a:xfrm rot="1702200">
            <a:off x="7592760" y="522360"/>
            <a:ext cx="1226880" cy="4572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cc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الدرس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Rectangle 10"/>
          <p:cNvSpPr/>
          <p:nvPr/>
        </p:nvSpPr>
        <p:spPr>
          <a:xfrm>
            <a:off x="514080" y="126828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433/10/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Rectangle 49"/>
          <p:cNvSpPr/>
          <p:nvPr/>
        </p:nvSpPr>
        <p:spPr>
          <a:xfrm>
            <a:off x="5929200" y="1568520"/>
            <a:ext cx="2981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-ان بعض البحوث العلمية تؤدي الى تطوير تقنيات يمكن ان تحسن حياتنا 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AutoShape 2"/>
          <p:cNvSpPr/>
          <p:nvPr/>
        </p:nvSpPr>
        <p:spPr>
          <a:xfrm>
            <a:off x="8072280" y="2143080"/>
            <a:ext cx="857520" cy="500040"/>
          </a:xfrm>
          <a:prstGeom prst="cloudCallout">
            <a:avLst>
              <a:gd name="adj1" fmla="val -255277"/>
              <a:gd name="adj2" fmla="val 122879"/>
            </a:avLst>
          </a:prstGeom>
          <a:solidFill>
            <a:srgbClr val="ffcc66"/>
          </a:solidFill>
          <a:ln w="3168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سؤال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3929040" y="2281320"/>
            <a:ext cx="3989520" cy="576360"/>
          </a:xfrm>
          <a:prstGeom prst="flowChartPunchedTape">
            <a:avLst/>
          </a:prstGeom>
          <a:gradFill rotWithShape="0">
            <a:gsLst>
              <a:gs pos="0">
                <a:srgbClr val="78fcff"/>
              </a:gs>
              <a:gs pos="100000">
                <a:srgbClr val="d7fdff"/>
              </a:gs>
            </a:gsLst>
            <a:lin ang="16200000"/>
          </a:gradFill>
          <a:ln w="9360">
            <a:solidFill>
              <a:srgbClr val="00cb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ل تتوقع ان البحث العلمي له ربط مع واقع الحياة  ؟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49"/>
          <p:cNvSpPr/>
          <p:nvPr/>
        </p:nvSpPr>
        <p:spPr>
          <a:xfrm>
            <a:off x="4929120" y="2925720"/>
            <a:ext cx="3981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ن كثير من  المعلومات  التي حصل عليها  العلماء  من خلال  البحث النظري  تستعمل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Rectangle 49"/>
          <p:cNvSpPr/>
          <p:nvPr/>
        </p:nvSpPr>
        <p:spPr>
          <a:xfrm>
            <a:off x="500040" y="2928960"/>
            <a:ext cx="2857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cc66"/>
                </a:solidFill>
                <a:latin typeface="Times New Roman"/>
              </a:rPr>
              <a:t>لحل  المشكلات  او تلبي حاجة محدده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Rectangle 49"/>
          <p:cNvSpPr/>
          <p:nvPr/>
        </p:nvSpPr>
        <p:spPr>
          <a:xfrm>
            <a:off x="6643800" y="3639960"/>
            <a:ext cx="2195280" cy="432000"/>
          </a:xfrm>
          <a:prstGeom prst="rect">
            <a:avLst/>
          </a:prstGeom>
          <a:solidFill>
            <a:srgbClr val="00cc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واع الدراسات العلمية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Rectangle 49"/>
          <p:cNvSpPr/>
          <p:nvPr/>
        </p:nvSpPr>
        <p:spPr>
          <a:xfrm>
            <a:off x="5091120" y="4071960"/>
            <a:ext cx="398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يواجه الناس كل يوم بنتائج الأبحاث العلمية  التي تتعلق كثر منها  بالبيئة  او  الدواء او الصحة من خلال وسائل الإعلام وغيرها . ومنها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قوس كبير أيسر 21"/>
          <p:cNvSpPr/>
          <p:nvPr/>
        </p:nvSpPr>
        <p:spPr>
          <a:xfrm rot="5400000">
            <a:off x="4571640" y="2571480"/>
            <a:ext cx="142920" cy="442908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4429080"/>
              <a:gd name="textAreaBottom" fmla="*/ 4425480 h 44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"/>
                  <a:pt x="10800" y="59"/>
                </a:cubicBezTo>
                <a:lnTo>
                  <a:pt x="10800" y="10741"/>
                </a:lnTo>
                <a:cubicBezTo>
                  <a:pt x="10800" y="10771"/>
                  <a:pt x="5400" y="10800"/>
                  <a:pt x="0" y="10800"/>
                </a:cubicBezTo>
                <a:cubicBezTo>
                  <a:pt x="5400" y="10800"/>
                  <a:pt x="10800" y="10830"/>
                  <a:pt x="10800" y="10859"/>
                </a:cubicBezTo>
                <a:lnTo>
                  <a:pt x="10800" y="21541"/>
                </a:lnTo>
                <a:cubicBezTo>
                  <a:pt x="10800" y="2157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وسيلة شرح مع سهم إلى الأسفل 22"/>
          <p:cNvSpPr/>
          <p:nvPr/>
        </p:nvSpPr>
        <p:spPr>
          <a:xfrm>
            <a:off x="6072120" y="4857840"/>
            <a:ext cx="1571760" cy="642960"/>
          </a:xfrm>
          <a:prstGeom prst="downArrowCallout">
            <a:avLst>
              <a:gd name="adj1" fmla="val 25014"/>
              <a:gd name="adj2" fmla="val 25000"/>
              <a:gd name="adj3" fmla="val 25000"/>
              <a:gd name="adj4" fmla="val 64977"/>
            </a:avLst>
          </a:prstGeom>
          <a:solidFill>
            <a:srgbClr val="00cc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بحوث نظرية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وسيلة شرح مع سهم إلى الأسفل 27"/>
          <p:cNvSpPr/>
          <p:nvPr/>
        </p:nvSpPr>
        <p:spPr>
          <a:xfrm>
            <a:off x="1643040" y="4929120"/>
            <a:ext cx="1571760" cy="642960"/>
          </a:xfrm>
          <a:prstGeom prst="downArrowCallout">
            <a:avLst>
              <a:gd name="adj1" fmla="val 25014"/>
              <a:gd name="adj2" fmla="val 25000"/>
              <a:gd name="adj3" fmla="val 25000"/>
              <a:gd name="adj4" fmla="val 64977"/>
            </a:avLst>
          </a:prstGeom>
          <a:solidFill>
            <a:srgbClr val="00cc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بحوث التطبيقي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مستطيل 33"/>
          <p:cNvSpPr/>
          <p:nvPr/>
        </p:nvSpPr>
        <p:spPr>
          <a:xfrm>
            <a:off x="4714920" y="5500800"/>
            <a:ext cx="4214880" cy="114300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bf"/>
                </a:solidFill>
                <a:latin typeface="Times New Roman"/>
              </a:rPr>
              <a:t>فقد بين العالمان مولينا  ورولاند من خلال حبهم للاستطلاع</a:t>
            </a:r>
            <a:r>
              <a:rPr b="1" lang="en-US" sz="1600" spc="-1" strike="noStrike">
                <a:solidFill>
                  <a:srgbClr val="0000bf"/>
                </a:solidFill>
                <a:latin typeface="Times New Roman"/>
              </a:rPr>
              <a:t> </a:t>
            </a:r>
            <a:r>
              <a:rPr b="1" lang="ar-SA" sz="1600" spc="-1" strike="noStrike">
                <a:solidFill>
                  <a:srgbClr val="0000bf"/>
                </a:solidFill>
                <a:latin typeface="Times New Roman"/>
              </a:rPr>
              <a:t>فقد اجريا بحوثا نظرية على </a:t>
            </a:r>
            <a:r>
              <a:rPr b="1" lang="en-US" sz="1600" spc="-1" strike="noStrike">
                <a:solidFill>
                  <a:srgbClr val="0000bf"/>
                </a:solidFill>
                <a:latin typeface="Times New Roman"/>
              </a:rPr>
              <a:t>CFC</a:t>
            </a:r>
            <a:r>
              <a:rPr b="1" lang="ar-SA" sz="1600" spc="-1" strike="noStrike">
                <a:solidFill>
                  <a:srgbClr val="0000bf"/>
                </a:solidFill>
                <a:latin typeface="Times New Roman"/>
              </a:rPr>
              <a:t> وتفاعلها مع الاوزون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bf"/>
                </a:solidFill>
                <a:latin typeface="Times New Roman"/>
              </a:rPr>
              <a:t>وقد بين بحثهما ان </a:t>
            </a:r>
            <a:r>
              <a:rPr b="1" lang="en-US" sz="1600" spc="-1" strike="noStrike">
                <a:solidFill>
                  <a:srgbClr val="0000bf"/>
                </a:solidFill>
                <a:latin typeface="Times New Roman"/>
              </a:rPr>
              <a:t>CFC</a:t>
            </a:r>
            <a:r>
              <a:rPr b="1" lang="ar-SA" sz="1600" spc="-1" strike="noStrike">
                <a:solidFill>
                  <a:srgbClr val="0000bf"/>
                </a:solidFill>
                <a:latin typeface="Times New Roman"/>
              </a:rPr>
              <a:t> يمكن ان يسرع  على تفك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bf"/>
                </a:solidFill>
                <a:latin typeface="Times New Roman"/>
              </a:rPr>
              <a:t> الاوزون . وبمرور الوقت تبين وجود ثقب في الاوزون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مستطيل 34"/>
          <p:cNvSpPr/>
          <p:nvPr/>
        </p:nvSpPr>
        <p:spPr>
          <a:xfrm>
            <a:off x="285840" y="5500800"/>
            <a:ext cx="4214880" cy="114300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bf"/>
                </a:solidFill>
                <a:latin typeface="Times New Roman"/>
              </a:rPr>
              <a:t>لذالك مازال العلماء يراقبون كمية </a:t>
            </a:r>
            <a:r>
              <a:rPr b="1" lang="en-US" sz="1600" spc="-1" strike="noStrike">
                <a:solidFill>
                  <a:srgbClr val="0000bf"/>
                </a:solidFill>
                <a:latin typeface="Times New Roman"/>
              </a:rPr>
              <a:t>CFC</a:t>
            </a:r>
            <a:r>
              <a:rPr b="1" lang="ar-SA" sz="1600" spc="-1" strike="noStrike">
                <a:solidFill>
                  <a:srgbClr val="0000bf"/>
                </a:solidFill>
                <a:latin typeface="Times New Roman"/>
              </a:rPr>
              <a:t> في الجو و التغيرات السنوية للاوزون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bf"/>
                </a:solidFill>
                <a:latin typeface="Times New Roman"/>
              </a:rPr>
              <a:t>حيث تجري أبحاث تطبيقية من اجل الحصول على بدائل  لمركبات </a:t>
            </a:r>
            <a:r>
              <a:rPr b="1" lang="en-US" sz="1600" spc="-1" strike="noStrike">
                <a:solidFill>
                  <a:srgbClr val="0000bf"/>
                </a:solidFill>
                <a:latin typeface="Times New Roman"/>
              </a:rPr>
              <a:t>CFC</a:t>
            </a:r>
            <a:r>
              <a:rPr b="1" lang="ar-SA" sz="1600" spc="-1" strike="noStrike">
                <a:solidFill>
                  <a:srgbClr val="0000bf"/>
                </a:solidFill>
                <a:latin typeface="Times New Roman"/>
              </a:rPr>
              <a:t> التي اصبحت ممنوعة 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7" descr="Petroleum Inst 7"/>
          <p:cNvPicPr/>
          <p:nvPr/>
        </p:nvPicPr>
        <p:blipFill>
          <a:blip r:embed="rId1"/>
          <a:stretch/>
        </p:blipFill>
        <p:spPr>
          <a:xfrm>
            <a:off x="142920" y="3789360"/>
            <a:ext cx="9001080" cy="296064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2"/>
          <p:cNvSpPr/>
          <p:nvPr/>
        </p:nvSpPr>
        <p:spPr>
          <a:xfrm>
            <a:off x="7816680" y="214200"/>
            <a:ext cx="892440" cy="590760"/>
          </a:xfrm>
          <a:prstGeom prst="cloudCallout">
            <a:avLst>
              <a:gd name="adj1" fmla="val -255277"/>
              <a:gd name="adj2" fmla="val 122879"/>
            </a:avLst>
          </a:prstGeom>
          <a:solidFill>
            <a:srgbClr val="ffcc66"/>
          </a:solidFill>
          <a:ln w="3168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سؤال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4643280" y="447840"/>
            <a:ext cx="3137040" cy="576000"/>
          </a:xfrm>
          <a:prstGeom prst="flowChartPunchedTape">
            <a:avLst/>
          </a:prstGeom>
          <a:gradFill rotWithShape="0">
            <a:gsLst>
              <a:gs pos="0">
                <a:srgbClr val="78fcff"/>
              </a:gs>
              <a:gs pos="100000">
                <a:srgbClr val="d7fdff"/>
              </a:gs>
            </a:gsLst>
            <a:lin ang="16200000"/>
          </a:gradFill>
          <a:ln w="9360">
            <a:solidFill>
              <a:srgbClr val="00cb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هل  سمعت عن الاكتشافات الغير مقصودة  ؟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12"/>
          <p:cNvSpPr/>
          <p:nvPr/>
        </p:nvSpPr>
        <p:spPr>
          <a:xfrm>
            <a:off x="3786120" y="1058760"/>
            <a:ext cx="51022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هي نتائج بعيدة عما كان يتوقع العالم  عند  أجرا  تجربة  ما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7286760" y="1701720"/>
            <a:ext cx="16729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- مثل  مادة البنسلين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12"/>
          <p:cNvSpPr/>
          <p:nvPr/>
        </p:nvSpPr>
        <p:spPr>
          <a:xfrm>
            <a:off x="5756400" y="1571760"/>
            <a:ext cx="16016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cc66"/>
                </a:solidFill>
                <a:latin typeface="Times New Roman"/>
              </a:rPr>
              <a:t>التي  اكتشفها العالم فلمنج  بالصدف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12"/>
          <p:cNvSpPr/>
          <p:nvPr/>
        </p:nvSpPr>
        <p:spPr>
          <a:xfrm>
            <a:off x="8001000" y="2071800"/>
            <a:ext cx="9586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- النايلون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Rectangle 12"/>
          <p:cNvSpPr/>
          <p:nvPr/>
        </p:nvSpPr>
        <p:spPr>
          <a:xfrm>
            <a:off x="6541920" y="2058840"/>
            <a:ext cx="160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cc66"/>
                </a:solidFill>
                <a:latin typeface="Times New Roman"/>
              </a:rPr>
              <a:t>التي اكتشفها موظف عام </a:t>
            </a:r>
            <a:r>
              <a:rPr b="1" lang="ar-SA" sz="1600" spc="-1" strike="noStrike">
                <a:solidFill>
                  <a:srgbClr val="ffcc66"/>
                </a:solidFill>
                <a:latin typeface="Times New Roman"/>
              </a:rPr>
              <a:t>1931</a:t>
            </a:r>
            <a:r>
              <a:rPr b="1" lang="ar-SA" sz="1600" spc="-1" strike="noStrike">
                <a:solidFill>
                  <a:srgbClr val="ffcc66"/>
                </a:solidFill>
                <a:latin typeface="Times New Roman"/>
              </a:rPr>
              <a:t>م . ثم تم تطوير هذه الألياف الى  حرير صناعي يتحمل درجات حرارة عالية . ونجد ان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12"/>
          <p:cNvSpPr/>
          <p:nvPr/>
        </p:nvSpPr>
        <p:spPr>
          <a:xfrm>
            <a:off x="7399440" y="2487600"/>
            <a:ext cx="1601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cc66"/>
                </a:solidFill>
                <a:latin typeface="Times New Roman"/>
              </a:rPr>
              <a:t>النايلون تم استخدامه بديلا للحرير في المظلات ثم أصبح  يستعمل بكثرة في صناعة الأنسجة و البلاستيك 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49"/>
          <p:cNvSpPr/>
          <p:nvPr/>
        </p:nvSpPr>
        <p:spPr>
          <a:xfrm>
            <a:off x="7143840" y="3214800"/>
            <a:ext cx="1766880" cy="4316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تبر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12"/>
          <p:cNvSpPr/>
          <p:nvPr/>
        </p:nvSpPr>
        <p:spPr>
          <a:xfrm>
            <a:off x="3938760" y="3844800"/>
            <a:ext cx="51019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في المختبر سوف تتعلم حقائق كثيرة عن المواد في اثناء دراستك للكيمياء . كما ستقوم  بإجراء بحوث وتجارب تستطيع من خلالها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وضع  فرضيات و اختبارها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Rectangle 12"/>
          <p:cNvSpPr/>
          <p:nvPr/>
        </p:nvSpPr>
        <p:spPr>
          <a:xfrm>
            <a:off x="3970440" y="4416480"/>
            <a:ext cx="51022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عندما تعمل في المختبر تكون مسؤولا عن سلامتك وسلامة من يعمل معك  . لذا يكون من المهم ان يمارس كل منهم أساليب عمل أمنه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Rectangle 49"/>
          <p:cNvSpPr/>
          <p:nvPr/>
        </p:nvSpPr>
        <p:spPr>
          <a:xfrm>
            <a:off x="1214280" y="5500800"/>
            <a:ext cx="7624800" cy="43164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جدول ( 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)  ص ( 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5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 يبين تعليمات  السلامة التي يجب إتباعها في كل مرة تدخل فيها المختبر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انفجار 2 3"/>
          <p:cNvSpPr/>
          <p:nvPr/>
        </p:nvSpPr>
        <p:spPr>
          <a:xfrm>
            <a:off x="285840" y="5429160"/>
            <a:ext cx="3357360" cy="1214640"/>
          </a:xfrm>
          <a:prstGeom prst="irregularSeal2">
            <a:avLst/>
          </a:prstGeom>
          <a:solidFill>
            <a:srgbClr val="00cc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لا تنسى الواجب المنزلي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Rectangle 49"/>
          <p:cNvSpPr/>
          <p:nvPr/>
        </p:nvSpPr>
        <p:spPr>
          <a:xfrm>
            <a:off x="6643800" y="214200"/>
            <a:ext cx="2195280" cy="432000"/>
          </a:xfrm>
          <a:prstGeom prst="rect">
            <a:avLst/>
          </a:prstGeom>
          <a:solidFill>
            <a:srgbClr val="00cc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وائد  الكيمياء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49"/>
          <p:cNvSpPr/>
          <p:nvPr/>
        </p:nvSpPr>
        <p:spPr>
          <a:xfrm>
            <a:off x="1428840" y="857160"/>
            <a:ext cx="7410240" cy="4320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يعتبر الكيميائيون من العلماء الذين يحلون الكثير من المشكلات  التي تواجهنا   في حياتنا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Rectangle 49"/>
          <p:cNvSpPr/>
          <p:nvPr/>
        </p:nvSpPr>
        <p:spPr>
          <a:xfrm>
            <a:off x="6500880" y="1639800"/>
            <a:ext cx="2266920" cy="432000"/>
          </a:xfrm>
          <a:prstGeom prst="rect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حل مشكلات الاوزون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Rectangle 49"/>
          <p:cNvSpPr/>
          <p:nvPr/>
        </p:nvSpPr>
        <p:spPr>
          <a:xfrm>
            <a:off x="3286080" y="2214720"/>
            <a:ext cx="5572080" cy="431640"/>
          </a:xfrm>
          <a:prstGeom prst="rect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 اكتشاف الأدوية و القاحات  للإمراض  مثل  الايدز   او  الأنفلونزا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49"/>
          <p:cNvSpPr/>
          <p:nvPr/>
        </p:nvSpPr>
        <p:spPr>
          <a:xfrm>
            <a:off x="1305000" y="2854440"/>
            <a:ext cx="7624800" cy="43164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ar-S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 سبب في بعض التطورات  التقنية مثل السيارات التي تعمل بالهواء المضغوط  أي يقلل  من التلوث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L</dc:creator>
  <dc:description/>
  <dc:language>en-US</dc:language>
  <cp:lastModifiedBy>Welcome</cp:lastModifiedBy>
  <dcterms:modified xsi:type="dcterms:W3CDTF">2010-01-02T02:56:57Z</dcterms:modified>
  <cp:revision>278</cp:revision>
  <dc:subject/>
  <dc:title>عرض تقديمي من PowerPoint</dc:title>
</cp:coreProperties>
</file>