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852-4184-4B5A-BA5D-47D74844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AC2-79B0-4BEA-935C-7367D8F7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60EBB-7951-43DD-8A71-EB5CE7F3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AA813-2B07-4B04-A78A-07575195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7A41B-FE03-46C9-8A21-FBAFD952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C1AD2-4CCD-451E-B7B5-F2038EC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55CA3-1072-48CF-97B4-B42494D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BD312-FE65-4310-A6B9-44500E8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0FD1B-9C59-48D7-BAFF-4545A2DE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0790B-762D-48B4-AF04-65CE64C4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DF05F-7999-4A06-84B5-4C26229A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34200-0376-4858-8C2F-21D57307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0D4-0F87-4523-82A3-E3FCC4A8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8491C-BB43-437A-8EAB-9D23C049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E8BB3-7E0A-412F-BF1B-306631BF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E4718-687F-4DC7-8519-1B719329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1FF28-9539-4987-9B7E-F428B805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F6085-6E24-4416-94BD-7F88372A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E38E8-C7B5-48FD-AED7-05AFE196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07843-15AF-4BAE-9FE9-9409E4B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F3CB9-BB28-45B3-9CDA-E691057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BA3BA-7D30-49E6-8CF0-473E9131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8EEBE-CB0F-4F15-AD0A-063C7430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D17-3D07-4A54-8B4A-A5ED2E1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2CAB8-E8CF-4D1F-B928-9651BBAC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2C28F-9E2B-439D-B491-DA2A5345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D68FF-D237-4354-A2C6-DA0D5723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B11EA-09BF-45DE-B37D-59D9631E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FA3CA-A91A-4A9F-A24A-0F50A14F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02A34-2186-434F-845E-46CBE368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97620-815E-4A19-8506-FE7F66C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4AA99-0FDF-460D-96C5-8936BF2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66DC9-554B-453C-95B1-67396D9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B3F9-3F90-4597-BF60-8E5820F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1BD1-2B4E-411C-AE28-DA659AA5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BEE99-2B6F-4DFD-BD6F-C92A779C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75CA8-C15D-4C1B-A6C1-A878FF47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9A35-22AE-4764-ADDA-E352A2A6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92C98-F6BC-48A6-9FC9-6E7E0160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04499-4A5E-494B-BEED-1D045F82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A6AAC-939A-4D79-A97E-37D4DB75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13114-3514-4AAC-933A-3F0A8CCA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F716-7AD4-4F40-BF97-B99FF9BA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C8B9B-70DA-4273-8480-5C78D1E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2219F-D55E-4E01-A9BD-7665774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0B2-4769-46B3-A178-4478C9A9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333E0-C590-407E-B2AF-8CBB2164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935FC-B39C-4607-8625-3C3732D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3F04B-1699-4B6B-B7B1-A0D833C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C2599-D16E-4CE5-9250-53534D9A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A17F1-9A58-4C5E-B8DD-94C8F566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EEA-B298-4E8C-9ED8-9E31CD80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DBB-31E1-4876-9B8A-C57E490E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2EA9-A9DF-4091-B7DF-D2731449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31EC-A1B6-45B1-A517-E12CEB5B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067-8B62-4617-83EE-88BB635F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F78-7AFD-4DEA-90CC-80E555F4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7B98-0A09-4179-B0CC-6922D2C0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E440-5466-4AEE-8184-4BCF8EF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ADA6-DE3E-4C0C-9A03-C5F28032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B479-6506-43CD-BE5C-BE4AAB02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F6C2-C0CD-452A-B363-0C3D7365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0BEC-D9C1-4D02-8B76-D646E7F4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CF02-AEDB-48A2-B20C-96D56985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DC7F-44E7-4A84-B306-E14DF7C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AEA5-098B-4BCE-95BA-6C23DED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22FB-1B8A-40C8-80F4-8E8C27B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8AF-6FB4-445C-9306-B017FFAB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4ED5-4F32-44E7-91CF-0B1603C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3529-7717-434A-8FD2-C8AF8633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BEAD-4C8C-4DFD-8A74-DD30DED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C3C8-D642-4E45-8063-EC1554E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B8C4-FFA9-4E33-8D8F-51A5548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6436-03A7-49AD-8513-80B249E1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2C28-3186-48A0-866D-198D4778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DCE39-048E-4492-8198-6EC6C4BC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5ECC-96C1-4364-9A6C-73C77AC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5FAA-3BA9-4A6A-A0AB-6FC6B79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E70-D8FF-4E1A-A151-891EABDC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E950-0A14-4AF4-8AB7-C0069E4A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AB8C-08F6-400A-A1D3-B53F7B51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8157-92B4-4D4A-A473-9BFBF95E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8A46C-D721-4748-AC34-57E9502A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6C44-347F-4E6F-BAF2-FC8714E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EBF6-5573-4DCC-B3A7-004BA85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CB21-AF9A-4836-B9C7-2F2C8B11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030E2-0F64-4799-B888-4DCB6308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50D5-C9AE-4854-8FC3-36D91943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9E853-3777-4DB6-A6D6-A1C4D59C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75E-4CBC-4012-BABD-86D628BA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59A6-FDC2-4662-AA54-3DE0DF6C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7587-DFF5-4411-AD64-843F4993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1D8C3-C697-4473-B1A0-22650654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C8E25-E0A1-422B-94E1-7309D72F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9FA3-42F9-4B0D-916F-1C44CDF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6E8A-C30D-4D0B-AC3C-B36E4AE0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9A1A-1885-4578-88FA-3C56A08B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C7114-7277-4E04-814D-CEC524E7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64399-6A11-408D-8E29-8EDCFC5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48F9-6568-4F1F-9994-8FD6CF75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05A-93FB-41BE-AD36-028056C5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E628B-D90E-44AA-911B-3F9DDE38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3F8E7-760A-48EB-9EEB-459DDE57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9E18-0EB9-4C39-BE0F-0EA79C99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CD8BC-89FE-4483-B7FD-08E0FE0D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ADE7-1474-4724-BB8F-4E70BB73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1FAA-AE35-4F91-B8B6-1C0F6B73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EE95-DCDD-43B8-84EA-513EC59A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52BFB-417A-4469-A868-7FA2EFA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4F18-E612-46AD-8600-81D64FF0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87A9-A43F-4F31-80DB-5EF95BBE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A6A-C137-4A28-8E59-DC3A707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D36CC-60AC-4A53-B74C-90F9C920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ECE8-650C-4163-A74C-6589723C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F9C7-7141-40FD-8AE8-0751D3D8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D26B-2488-4D07-BC9B-BA24FC3F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CF2E1-DD41-460E-AC30-6396349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34AE5-A762-4F81-AC7C-3EE43599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9FA10-C27D-44FD-8D1E-C90BC9B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D4208-D6C9-4FA8-AE01-ED6E74FC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46E0F-AA9D-4CA9-91B5-DB680DC8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05E2-BADC-4B9C-AC6F-CF5A258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6DB-A942-47F7-9D82-B5E0796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EC2C-66C9-4F25-A3FE-5232D25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B19C-6D50-46CE-A4B1-294EEC1C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C8621-5157-43D4-86E0-A47F87D1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E8E4-BDBB-4552-8C53-0C92D337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216B4-ECAA-4AB9-973E-41AEEFC5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17F3-E628-4724-8918-D7CF3BD4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3FB72-A904-42A3-BE60-BD24D5A3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E4FF-CE64-4E0A-86C5-D3CF71EE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B8F45-C961-404E-B4F9-944AC8B3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5687-1A54-435C-9904-8D56533B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B48-4FC0-4988-8C42-0B737CB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EFA6-3B0E-4D1D-AC96-DE5910D1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8037-5ECF-46DD-BE5A-BC16FB4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013A-CDB6-4667-AEDE-6F82545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AEA6-9A77-4C09-8FAD-46C393E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00624-B31B-4EA7-84D6-0E454F0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D4A70-FF67-4163-BB33-9A011CFB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0ADD-DDFA-47A6-8D8F-1C062F86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CBAC5-A85F-442A-AB95-A1538DD4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7FCC3-37ED-4F69-82C4-2A38338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DEA9F-0B04-495D-835A-C78E4CC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5425-4115-4C7F-AFB7-7954193E86B8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B0AB-28AE-4701-9B82-A55DB01BB49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DF38-99A0-4981-94D5-8A80B01F7E1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A3D8-67EF-4328-AE4F-17E9F65607E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F548-EFBF-41C5-9A0C-7F522FCD72C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4AC-A6BB-4A7C-A76F-717151ACC00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3020-D051-473C-B29E-D2693FA0D533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FE47-FD97-4BF9-9496-67AD3E311CB4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4BDA-A75C-4985-97D4-35A9FF9314F8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885-BAFB-4191-908D-F7EBADBB81D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10C-BA7D-4956-8F12-F5A9FAE6EFF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E8C-FAA3-4735-88E0-05EACEADBDAD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Oval 4"/>
          <p:cNvSpPr/>
          <p:nvPr/>
        </p:nvSpPr>
        <p:spPr>
          <a:xfrm>
            <a:off x="3649680" y="260280"/>
            <a:ext cx="2290680" cy="679680"/>
          </a:xfrm>
          <a:prstGeom prst="ellipse">
            <a:avLst/>
          </a:prstGeom>
          <a:solidFill>
            <a:srgbClr val="ffcc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طرائق العلمي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8"/>
          <p:cNvSpPr/>
          <p:nvPr/>
        </p:nvSpPr>
        <p:spPr>
          <a:xfrm rot="19320000">
            <a:off x="472680" y="479160"/>
            <a:ext cx="1219320" cy="4572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او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 rot="1702200">
            <a:off x="7600680" y="523800"/>
            <a:ext cx="1218960" cy="4572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ر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514080" y="12682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33/10/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49"/>
          <p:cNvSpPr/>
          <p:nvPr/>
        </p:nvSpPr>
        <p:spPr>
          <a:xfrm>
            <a:off x="6000840" y="1785960"/>
            <a:ext cx="2981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تبع العلماء طرائق علمية لطرح الأسئلة 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2"/>
          <p:cNvSpPr/>
          <p:nvPr/>
        </p:nvSpPr>
        <p:spPr>
          <a:xfrm>
            <a:off x="8001000" y="2428920"/>
            <a:ext cx="857160" cy="50004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928800" y="2714760"/>
            <a:ext cx="6989760" cy="57600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اذا تفعل اذا أردت ان تقوم  برحلة طويلة   ؟ هل تأخذ  معك جميع ملابسك في حقيبة  او ماذا  تخطط 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4929120" y="3357720"/>
            <a:ext cx="398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افضل هو اعداد خطة لسفر ومن ثم معرفة  ما هو الأفضل هل اخذ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جميع ملابسك في حقيبة او بعض الملابس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49"/>
          <p:cNvSpPr/>
          <p:nvPr/>
        </p:nvSpPr>
        <p:spPr>
          <a:xfrm>
            <a:off x="1643040" y="3857760"/>
            <a:ext cx="7215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كذالك العلماء يطور العلماء خططا تساعدهم على استقصاء العلم . وتطوير العلوم للاستفادة منها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2"/>
          <p:cNvSpPr/>
          <p:nvPr/>
        </p:nvSpPr>
        <p:spPr>
          <a:xfrm>
            <a:off x="7969320" y="4495680"/>
            <a:ext cx="888840" cy="50004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3714840" y="4781520"/>
            <a:ext cx="4203720" cy="57636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هل الاختلاف في الآراء يعد فائدة للعمل الجماعي . او لا   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49"/>
          <p:cNvSpPr/>
          <p:nvPr/>
        </p:nvSpPr>
        <p:spPr>
          <a:xfrm>
            <a:off x="8501040" y="5500800"/>
            <a:ext cx="480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49"/>
          <p:cNvSpPr/>
          <p:nvPr/>
        </p:nvSpPr>
        <p:spPr>
          <a:xfrm>
            <a:off x="3429000" y="1782720"/>
            <a:ext cx="2786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 من ثم اقتراح إجابات لها . واختبارها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49"/>
          <p:cNvSpPr/>
          <p:nvPr/>
        </p:nvSpPr>
        <p:spPr>
          <a:xfrm>
            <a:off x="1214280" y="1785960"/>
            <a:ext cx="235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من ثم تقويم نتائج الاختبارات 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49"/>
          <p:cNvSpPr/>
          <p:nvPr/>
        </p:nvSpPr>
        <p:spPr>
          <a:xfrm>
            <a:off x="2795760" y="5500800"/>
            <a:ext cx="584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يث نجد  ان كل فرد يكون لدية فكرة مختلفة عن الأخر في طريقة إجراء التجربة  وهذا لاختلاف يعد من فوائد العمل الجماعي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49"/>
          <p:cNvSpPr/>
          <p:nvPr/>
        </p:nvSpPr>
        <p:spPr>
          <a:xfrm>
            <a:off x="3009960" y="5997600"/>
            <a:ext cx="584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ن تبادل الأفكار بفاعلية بين أفراد المجموعة ورابط المشاركات الفردية معا لايجاد حل يتطلب بذل جهد في العمل الجماعي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/>
          <p:cNvSpPr/>
          <p:nvPr/>
        </p:nvSpPr>
        <p:spPr>
          <a:xfrm>
            <a:off x="7959600" y="3143160"/>
            <a:ext cx="892440" cy="59076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4286160" y="3376440"/>
            <a:ext cx="3637080" cy="57636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ماذا  يستخدم العلماء  الطريقة العلمية  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6715080" y="1571760"/>
            <a:ext cx="2195640" cy="431640"/>
          </a:xfrm>
          <a:prstGeom prst="rect">
            <a:avLst/>
          </a:prstGeom>
          <a:solidFill>
            <a:srgbClr val="00cc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طريقة النظامية في البحث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571680" y="214200"/>
            <a:ext cx="8459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ذالك يقوم العلماء بعملهم بطرائق متشابهة . فكل عالم يحاول فهم عالمه بناء على رؤية فردية و إبداع ذاتي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571680" y="844560"/>
            <a:ext cx="8459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لهذا غالبا ما يستخلص أعمال عدة علماء للوصول الى فهم  جديد  للموضوع . ولهذا من  المفيد ان يستعمل العلماء خطوات موحد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تنفيذ تجاربهم 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500040" y="2286000"/>
            <a:ext cx="8459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يستخدم  العلماء الطريقة العلمية في البحث  وهي طريقة منظمة تستعمل في الدراسات العلمية سواء أكانت  كيميائية او حيوي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او فيزيائية او غير ذالك من العلوم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571680" y="3987720"/>
            <a:ext cx="8459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يتبع العلماء الطريقة العلمية  لحل المشكلات وكذالك التحقق من من عمل العلماء الآخرين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AutoShape 2"/>
          <p:cNvSpPr/>
          <p:nvPr/>
        </p:nvSpPr>
        <p:spPr>
          <a:xfrm>
            <a:off x="7959600" y="4548240"/>
            <a:ext cx="892440" cy="59040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AutoShape 3"/>
          <p:cNvSpPr/>
          <p:nvPr/>
        </p:nvSpPr>
        <p:spPr>
          <a:xfrm>
            <a:off x="4286160" y="4781520"/>
            <a:ext cx="3637080" cy="57636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هي خطوات الطريقة العلمية  في البحث  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2786040" y="5487840"/>
            <a:ext cx="6245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اي بحث خطوات علمية في البحوث  وهذه  الخطوات ليس من الضروري ان تنفذ بالترتيب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214880" y="5916600"/>
            <a:ext cx="4816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هذا يجب على العلماء ان يصفوا طرائقهم  عند عرض نتائج أبحاثهم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357120" y="5916600"/>
            <a:ext cx="40719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لهذا فا العلماء الذين لا يستطيعون ان  تأكيد نتائج أبحاثه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2857680" y="6273720"/>
            <a:ext cx="6244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بأتباع خطوات البحث العلمي  فان هناك شك في صدق النتائج 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Rectangle 49" descr=""/>
          <p:cNvPicPr/>
          <p:nvPr/>
        </p:nvPicPr>
        <p:blipFill>
          <a:blip r:embed="rId1"/>
          <a:stretch/>
        </p:blipFill>
        <p:spPr>
          <a:xfrm>
            <a:off x="3554280" y="-12600"/>
            <a:ext cx="2657520" cy="1280880"/>
          </a:xfrm>
          <a:prstGeom prst="rect">
            <a:avLst/>
          </a:prstGeom>
          <a:ln w="0">
            <a:noFill/>
          </a:ln>
        </p:spPr>
      </p:pic>
      <p:cxnSp>
        <p:nvCxnSpPr>
          <p:cNvPr id="558" name="رابط كسهم مستقيم 30"/>
          <p:cNvCxnSpPr/>
          <p:nvPr/>
        </p:nvCxnSpPr>
        <p:spPr>
          <a:xfrm flipH="1">
            <a:off x="4857480" y="642600"/>
            <a:ext cx="2160" cy="429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559" name="Rectangle 49" descr=""/>
          <p:cNvPicPr/>
          <p:nvPr/>
        </p:nvPicPr>
        <p:blipFill>
          <a:blip r:embed="rId2"/>
          <a:stretch/>
        </p:blipFill>
        <p:spPr>
          <a:xfrm>
            <a:off x="4054320" y="920880"/>
            <a:ext cx="1603440" cy="126828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12"/>
          <p:cNvSpPr/>
          <p:nvPr/>
        </p:nvSpPr>
        <p:spPr>
          <a:xfrm>
            <a:off x="214200" y="1000080"/>
            <a:ext cx="403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هي عملية جمع   معلومات  وهي غالبا ما تكون 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قوس كبير أيسر 5"/>
          <p:cNvSpPr/>
          <p:nvPr/>
        </p:nvSpPr>
        <p:spPr>
          <a:xfrm rot="5400000">
            <a:off x="4785840" y="-714240"/>
            <a:ext cx="142920" cy="4714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4714920"/>
              <a:gd name="textAreaBottom" fmla="*/ 47113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"/>
                  <a:pt x="10800" y="55"/>
                </a:cubicBezTo>
                <a:lnTo>
                  <a:pt x="10800" y="10745"/>
                </a:lnTo>
                <a:cubicBezTo>
                  <a:pt x="10800" y="10773"/>
                  <a:pt x="5400" y="10800"/>
                  <a:pt x="0" y="10800"/>
                </a:cubicBezTo>
                <a:cubicBezTo>
                  <a:pt x="5400" y="10800"/>
                  <a:pt x="10800" y="10828"/>
                  <a:pt x="10800" y="10855"/>
                </a:cubicBezTo>
                <a:lnTo>
                  <a:pt x="10800" y="21545"/>
                </a:lnTo>
                <a:cubicBezTo>
                  <a:pt x="10800" y="215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وسيلة شرح مع سهم إلى الأسفل 9"/>
          <p:cNvSpPr/>
          <p:nvPr/>
        </p:nvSpPr>
        <p:spPr>
          <a:xfrm>
            <a:off x="6429240" y="1714680"/>
            <a:ext cx="1571760" cy="642600"/>
          </a:xfrm>
          <a:prstGeom prst="downArrowCallout">
            <a:avLst>
              <a:gd name="adj1" fmla="val 25028"/>
              <a:gd name="adj2" fmla="val 25014"/>
              <a:gd name="adj3" fmla="val 25000"/>
              <a:gd name="adj4" fmla="val 64977"/>
            </a:avLst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بيانات نوعي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وسيلة شرح مع سهم إلى الأسفل 10"/>
          <p:cNvSpPr/>
          <p:nvPr/>
        </p:nvSpPr>
        <p:spPr>
          <a:xfrm>
            <a:off x="1714680" y="1714680"/>
            <a:ext cx="1571400" cy="642600"/>
          </a:xfrm>
          <a:prstGeom prst="downArrowCallout">
            <a:avLst>
              <a:gd name="adj1" fmla="val 25022"/>
              <a:gd name="adj2" fmla="val 25008"/>
              <a:gd name="adj3" fmla="val 25000"/>
              <a:gd name="adj4" fmla="val 64977"/>
            </a:avLst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بيانات كمي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مستطيل 12"/>
          <p:cNvSpPr/>
          <p:nvPr/>
        </p:nvSpPr>
        <p:spPr>
          <a:xfrm>
            <a:off x="6143760" y="2428920"/>
            <a:ext cx="2214360" cy="857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Times New Roman"/>
              </a:rPr>
              <a:t>وهي معلومات تصف اللون او الرائحة او الشكل او كل شيء تصل بالحواس  الخم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مستطيل 13"/>
          <p:cNvSpPr/>
          <p:nvPr/>
        </p:nvSpPr>
        <p:spPr>
          <a:xfrm>
            <a:off x="1357200" y="2428920"/>
            <a:ext cx="2214720" cy="857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Times New Roman"/>
              </a:rPr>
              <a:t>وهي معلومات عن قياس درجة الحرارة او الضغط او الحجم  وتسمى معلومات رقمي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66" name="رابط كسهم مستقيم 17"/>
          <p:cNvCxnSpPr/>
          <p:nvPr/>
        </p:nvCxnSpPr>
        <p:spPr>
          <a:xfrm>
            <a:off x="5500800" y="1285920"/>
            <a:ext cx="30009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67" name="رابط كسهم مستقيم 18"/>
          <p:cNvCxnSpPr/>
          <p:nvPr/>
        </p:nvCxnSpPr>
        <p:spPr>
          <a:xfrm>
            <a:off x="8499960" y="1285560"/>
            <a:ext cx="72360" cy="2500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568" name="Rectangle 49" descr=""/>
          <p:cNvPicPr/>
          <p:nvPr/>
        </p:nvPicPr>
        <p:blipFill>
          <a:blip r:embed="rId3"/>
          <a:stretch/>
        </p:blipFill>
        <p:spPr>
          <a:xfrm>
            <a:off x="7626240" y="3633840"/>
            <a:ext cx="1603440" cy="126684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2"/>
          <p:cNvSpPr/>
          <p:nvPr/>
        </p:nvSpPr>
        <p:spPr>
          <a:xfrm>
            <a:off x="3684600" y="3773520"/>
            <a:ext cx="4030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هي  عبارة   او  توقع  قابل  للاختبا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12"/>
          <p:cNvSpPr/>
          <p:nvPr/>
        </p:nvSpPr>
        <p:spPr>
          <a:xfrm>
            <a:off x="3929040" y="4344840"/>
            <a:ext cx="4030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</a:rPr>
              <a:t>لابد و ان تعرف انه لا معنى للفرضية ما لم يكن هناك بيانات تدعمها لذالك نجد ان الفرضية تساعد العلماء على التركيز على 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71" name="رابط كسهم مستقيم 28"/>
          <p:cNvCxnSpPr/>
          <p:nvPr/>
        </p:nvCxnSpPr>
        <p:spPr>
          <a:xfrm flipH="1">
            <a:off x="8500680" y="4359240"/>
            <a:ext cx="2160" cy="64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572" name="Rectangle 49" descr=""/>
          <p:cNvPicPr/>
          <p:nvPr/>
        </p:nvPicPr>
        <p:blipFill>
          <a:blip r:embed="rId4"/>
          <a:stretch/>
        </p:blipFill>
        <p:spPr>
          <a:xfrm>
            <a:off x="7626240" y="4846680"/>
            <a:ext cx="1603440" cy="12794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2"/>
          <p:cNvSpPr/>
          <p:nvPr/>
        </p:nvSpPr>
        <p:spPr>
          <a:xfrm>
            <a:off x="3714840" y="4929120"/>
            <a:ext cx="4030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هي عبارة عن مجموعة من المشاهدات المضبوطة  التي تختبر عن طريق الفرضي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255920" y="5487840"/>
            <a:ext cx="4030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لهذا نجد العلماء يصمموا تجربة او اكثر بعناية وينفذونها من اجل اختبار المتغيرات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4286160" y="5845320"/>
            <a:ext cx="403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كما نعلم ان الملح يذوب أسرع في الماء الساخن عن الماء البارد فهذا يعني ان درجة الحرارة  تؤثر على عملية الإذاب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Rectangle 49" descr=""/>
          <p:cNvPicPr/>
          <p:nvPr/>
        </p:nvPicPr>
        <p:blipFill>
          <a:blip r:embed="rId1"/>
          <a:stretch/>
        </p:blipFill>
        <p:spPr>
          <a:xfrm>
            <a:off x="4054320" y="60480"/>
            <a:ext cx="1603440" cy="1268280"/>
          </a:xfrm>
          <a:prstGeom prst="rect">
            <a:avLst/>
          </a:prstGeom>
          <a:ln w="0">
            <a:noFill/>
          </a:ln>
        </p:spPr>
      </p:pic>
      <p:sp>
        <p:nvSpPr>
          <p:cNvPr id="577" name="قوس كبير أيسر 4"/>
          <p:cNvSpPr/>
          <p:nvPr/>
        </p:nvSpPr>
        <p:spPr>
          <a:xfrm rot="5400000">
            <a:off x="4785840" y="-1571760"/>
            <a:ext cx="142920" cy="4714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4714920"/>
              <a:gd name="textAreaBottom" fmla="*/ 47113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"/>
                  <a:pt x="10800" y="55"/>
                </a:cubicBezTo>
                <a:lnTo>
                  <a:pt x="10800" y="10745"/>
                </a:lnTo>
                <a:cubicBezTo>
                  <a:pt x="10800" y="10773"/>
                  <a:pt x="5400" y="10800"/>
                  <a:pt x="0" y="10800"/>
                </a:cubicBezTo>
                <a:cubicBezTo>
                  <a:pt x="5400" y="10800"/>
                  <a:pt x="10800" y="10828"/>
                  <a:pt x="10800" y="10855"/>
                </a:cubicBezTo>
                <a:lnTo>
                  <a:pt x="10800" y="21545"/>
                </a:lnTo>
                <a:cubicBezTo>
                  <a:pt x="10800" y="215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وسيلة شرح مع سهم إلى الأسفل 5"/>
          <p:cNvSpPr/>
          <p:nvPr/>
        </p:nvSpPr>
        <p:spPr>
          <a:xfrm>
            <a:off x="6429240" y="857160"/>
            <a:ext cx="1571760" cy="642960"/>
          </a:xfrm>
          <a:prstGeom prst="downArrowCallout">
            <a:avLst>
              <a:gd name="adj1" fmla="val 25014"/>
              <a:gd name="adj2" fmla="val 25000"/>
              <a:gd name="adj3" fmla="val 25000"/>
              <a:gd name="adj4" fmla="val 64977"/>
            </a:avLst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متغيرالمستق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وسيلة شرح مع سهم إلى الأسفل 6"/>
          <p:cNvSpPr/>
          <p:nvPr/>
        </p:nvSpPr>
        <p:spPr>
          <a:xfrm>
            <a:off x="1714680" y="857160"/>
            <a:ext cx="1571400" cy="642960"/>
          </a:xfrm>
          <a:prstGeom prst="downArrowCallout">
            <a:avLst>
              <a:gd name="adj1" fmla="val 25008"/>
              <a:gd name="adj2" fmla="val 24994"/>
              <a:gd name="adj3" fmla="val 25000"/>
              <a:gd name="adj4" fmla="val 64977"/>
            </a:avLst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</a:rPr>
              <a:t>متغيرتابع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مستطيل 7"/>
          <p:cNvSpPr/>
          <p:nvPr/>
        </p:nvSpPr>
        <p:spPr>
          <a:xfrm>
            <a:off x="6000840" y="1571760"/>
            <a:ext cx="2357280" cy="42840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Times New Roman"/>
              </a:rPr>
              <a:t>هو  المتغير الذي تخطط ان تغير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مستطيل 8"/>
          <p:cNvSpPr/>
          <p:nvPr/>
        </p:nvSpPr>
        <p:spPr>
          <a:xfrm>
            <a:off x="1357200" y="1571760"/>
            <a:ext cx="2214720" cy="5713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Times New Roman"/>
              </a:rPr>
              <a:t>وهي المتغير الذي قيمته تتغير تبعا لتغير المتغير المستقل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2" name="رابط كسهم مستقيم 9"/>
          <p:cNvCxnSpPr/>
          <p:nvPr/>
        </p:nvCxnSpPr>
        <p:spPr>
          <a:xfrm>
            <a:off x="5500800" y="428760"/>
            <a:ext cx="30009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83" name="رابط كسهم مستقيم 10"/>
          <p:cNvCxnSpPr/>
          <p:nvPr/>
        </p:nvCxnSpPr>
        <p:spPr>
          <a:xfrm>
            <a:off x="8499960" y="428400"/>
            <a:ext cx="72360" cy="2500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84" name="Rectangle 12"/>
          <p:cNvSpPr/>
          <p:nvPr/>
        </p:nvSpPr>
        <p:spPr>
          <a:xfrm>
            <a:off x="3786120" y="2214720"/>
            <a:ext cx="4030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لذالك نجد انه يمكن التحكم في كيفية تغير المتغير المستفل ولا يمكن التحكم في كيفية تغير المتغير التاب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Rectangle 49" descr=""/>
          <p:cNvPicPr/>
          <p:nvPr/>
        </p:nvPicPr>
        <p:blipFill>
          <a:blip r:embed="rId2"/>
          <a:stretch/>
        </p:blipFill>
        <p:spPr>
          <a:xfrm>
            <a:off x="7626240" y="2773440"/>
            <a:ext cx="1603440" cy="128088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12"/>
          <p:cNvSpPr/>
          <p:nvPr/>
        </p:nvSpPr>
        <p:spPr>
          <a:xfrm>
            <a:off x="3714840" y="3000240"/>
            <a:ext cx="4030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حكم قائم على  المعلومات  التي يتم الحصول عليها  من الخطوات العلمية  في البحث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5000760" y="3559320"/>
            <a:ext cx="4030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cc66"/>
                </a:solidFill>
                <a:latin typeface="Times New Roman"/>
              </a:rPr>
              <a:t>يمكن ان تظهر التجربة قدرا  كبيرا من البيانات وهذه البيانات يأخذها  العلماء عادة  ويحللونها ويقارنونها بالفرضية  للتواصل الى استنتج  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سهم إلى اليسار 15"/>
          <p:cNvSpPr/>
          <p:nvPr/>
        </p:nvSpPr>
        <p:spPr>
          <a:xfrm>
            <a:off x="7643880" y="4071960"/>
            <a:ext cx="1357200" cy="64296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ملاحظ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4898880" y="4702320"/>
            <a:ext cx="403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نحن لا نستطيع  أثبات فرضية ما ولهذا عندما تؤيد البيانات الفرضية فان ذالك يشير فقط الى ان الفرضية  قد تكون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2"/>
          <p:cNvSpPr/>
          <p:nvPr/>
        </p:nvSpPr>
        <p:spPr>
          <a:xfrm>
            <a:off x="4857840" y="5130720"/>
            <a:ext cx="40305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صحيحة .اما اذا جاءت بعد ذالك بيانات لا تدعم الفرضية فعلينا رفض الفرضية او تعديلها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انفجار 2 8"/>
          <p:cNvSpPr/>
          <p:nvPr/>
        </p:nvSpPr>
        <p:spPr>
          <a:xfrm>
            <a:off x="285840" y="5500800"/>
            <a:ext cx="3357360" cy="1214280"/>
          </a:xfrm>
          <a:prstGeom prst="irregularSeal2">
            <a:avLst/>
          </a:prstGeom>
          <a:solidFill>
            <a:srgbClr val="00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لا تنسى الواجب المنزلي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46"/>
          <p:cNvSpPr/>
          <p:nvPr/>
        </p:nvSpPr>
        <p:spPr>
          <a:xfrm>
            <a:off x="6500880" y="285840"/>
            <a:ext cx="2403360" cy="4284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ظرية و القانون العلمي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AutoShape 2"/>
          <p:cNvSpPr/>
          <p:nvPr/>
        </p:nvSpPr>
        <p:spPr>
          <a:xfrm>
            <a:off x="7816680" y="857160"/>
            <a:ext cx="892440" cy="59076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5500800" y="1090440"/>
            <a:ext cx="2279520" cy="57636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اذا يقصد النظرية    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12"/>
          <p:cNvSpPr/>
          <p:nvPr/>
        </p:nvSpPr>
        <p:spPr>
          <a:xfrm>
            <a:off x="3786120" y="1701720"/>
            <a:ext cx="5102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تفسير لطاهرة طبيعة بناء على مشاهدات واستقصاءات مع مرور الزمن 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3857760" y="2344680"/>
            <a:ext cx="5101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ذالك نجد ان النظرية تصف مبدأ عريضا عن ابداع الله تعالى في الكون و الطبيعة ثم دعمه مع الزمن . ولكن تكون النظرية عرضة للبحث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لهذا يمكن تعديلها وتعد النظرية ناجحة اذا أمكن استعمالها للقيام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2857680" y="2500200"/>
            <a:ext cx="1601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بتوقعات  صحيح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2"/>
          <p:cNvSpPr/>
          <p:nvPr/>
        </p:nvSpPr>
        <p:spPr>
          <a:xfrm>
            <a:off x="7816680" y="3119400"/>
            <a:ext cx="892440" cy="590760"/>
          </a:xfrm>
          <a:prstGeom prst="cloudCallout">
            <a:avLst>
              <a:gd name="adj1" fmla="val -255277"/>
              <a:gd name="adj2" fmla="val 122879"/>
            </a:avLst>
          </a:prstGeom>
          <a:solidFill>
            <a:srgbClr val="ffcc66"/>
          </a:solidFill>
          <a:ln w="316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سؤا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5072040" y="3352680"/>
            <a:ext cx="2708280" cy="576360"/>
          </a:xfrm>
          <a:prstGeom prst="flowChartPunchedTape">
            <a:avLst/>
          </a:prstGeom>
          <a:gradFill rotWithShape="0">
            <a:gsLst>
              <a:gs pos="0">
                <a:srgbClr val="78fcff"/>
              </a:gs>
              <a:gs pos="100000">
                <a:srgbClr val="d7fdff"/>
              </a:gs>
            </a:gsLst>
            <a:lin ang="16200000"/>
          </a:gradFill>
          <a:ln w="9360">
            <a:solidFill>
              <a:srgbClr val="00c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ذا يقصد بالقانون العلمي     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3755880" y="4000680"/>
            <a:ext cx="5102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cc66"/>
                </a:solidFill>
                <a:latin typeface="Times New Roman"/>
              </a:rPr>
              <a:t>يصف علاقة  أوجدها  الله في الطبيعة تدعمها عدة تجارب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3898800" y="4487760"/>
            <a:ext cx="5102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قد يتوصل بعض العلماء الى استنتاجات عن بعض العلاقات  في الطبيعة وهذا ومنها استنتاج عودة المظليين  الى الارض دائما وهذا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ما أثبته العالم نيوتن  الذي اقترح القانون العام للجاذبي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3929040" y="5214960"/>
            <a:ext cx="5102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لهذا يجب على العلماء ان يطوروا فرضيات وتجارب أخرى لتفسير وجود هذه العلاقات 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Welcome</cp:lastModifiedBy>
  <dcterms:modified xsi:type="dcterms:W3CDTF">2010-01-02T09:11:06Z</dcterms:modified>
  <cp:revision>258</cp:revision>
  <dc:subject/>
  <dc:title>عرض تقديمي من PowerPoint</dc:title>
</cp:coreProperties>
</file>