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A2F-27A0-4F5D-B438-F3CBEB5F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1B4-ACF7-459B-90E1-20C85E5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845-EF48-40CA-96D8-DA0F1935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CC8-7494-4769-9BB6-5481E1C0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454-37EF-4CB5-97BD-4AB74514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991-76B4-446D-AB56-E4803FE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9EB-DA4C-412A-AA4A-F3631B8C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0F6-17E1-4F3A-AFF8-E83B28F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E5F-5324-4603-887E-CFE3694F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EE0-4587-4F57-93D9-A5CBC60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06A-7B65-49EB-88DC-8D89231E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3C9-4B11-47CE-A404-0D57AF7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4409-38DC-4464-8551-0CFB048D1450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33720" y="2514600"/>
          <a:ext cx="4572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572000" cy="38862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تفـكـيـ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ن أكون حسنا بما يكف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ربما غيري أفض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عـــــر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قد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لتعا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ببـــــــســــــاطـــــ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لا استطيع تقرير ماذا أ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هــــذ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ــع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BD9-5436-44C3-B2FD-97D830BFDC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شعــو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ـــــو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أو المواقف الجدي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غضب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نـــفـــس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احــــبا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فتقاد التشج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و الشعور بالهبوط المعنو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قلق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صاع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3CB-C328-4397-883E-F8F3B0E857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ســلو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ســلـبـ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66688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تجـــــن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غـــيـ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ســــوي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ــــــــرد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2670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صعوب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قـتر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34340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ل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مساع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تخاذ المقع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خلف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ـــلــ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طمـــئنا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41D-3A05-40EB-944F-E501B3A1BB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دلائ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جسدي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3372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يل الى الانحن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57200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توتر و العصب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35268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همهمة و الزمج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عدم النظر في عيونه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72428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كسل و الخم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9EE-D2B8-4C79-B987-9EFB4F808E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انسان لابد وأن يكون كامل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آخرون دائما على صوا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مستواى غير لائق بما يكف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لا ينبغي للرجال أن يبكوا أبد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 لم أكن مثاليا فلا نفع ل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D95-6A38-4A13-AF91-102649577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ذا أخطأت فلن اسامح نفسي أب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سيلومني الآخرون حين أخط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ا لا استطيع مساعدة نفس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ذا أخطأت سينبذني النا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66"/>
                </a:solidFill>
                <a:latin typeface="Times New Roman"/>
              </a:rPr>
              <a:t>لا يمكن ان انجز الا بمساعدة الآخر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241-F311-48CD-81E4-8DB7B699D3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705720" y="2209680"/>
            <a:ext cx="175248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فـطـريـة أم مكـتـسـبـة ؟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A89-C71A-430F-B21A-4E0C4BF689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10280" y="304920"/>
            <a:ext cx="175284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4572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25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32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 فـطـريـة أم مكـتـسـبـة؟</a:t>
            </a:r>
            <a:endParaRPr b="0" lang="en-US" sz="2400" spc="1" strike="noStrike">
              <a:ln cap="sq" w="32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سـلـوك فــطــر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42900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ـمـمـارس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47242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تـدريـ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6A5-59B0-4C6A-B297-81B358C81F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589-4D4E-4F71-84E4-A24B7F88D1F6}" type="slidenum"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80808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قة بالنفس هي :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124080"/>
            <a:ext cx="1676160" cy="8384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حرك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2767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قوم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4229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قناع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5600" y="4300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ؤمن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5372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كلم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5443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نطق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3300"/>
                </a:solidFill>
                <a:latin typeface="Times New Roman"/>
              </a:rPr>
              <a:t>ح     ق     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82880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66"/>
                </a:solidFill>
                <a:latin typeface="Times New Roman"/>
              </a:rPr>
              <a:t>حــقـــــك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3280" y="2743200"/>
            <a:ext cx="61722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44a00"/>
                </a:solidFill>
                <a:latin typeface="Times New Roman"/>
              </a:rPr>
              <a:t>أن تعر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قنا ع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523880"/>
            <a:ext cx="1371600" cy="37339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53400 h 3733920"/>
              <a:gd name="textAreaBottom" fmla="*/ 2707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D8A-F1BD-4F07-BC08-A6C7D2BDDE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410080" cy="1371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66"/>
                </a:solidFill>
                <a:latin typeface="Times New Roman"/>
              </a:rPr>
              <a:t>مفاتيح النجاح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057400"/>
            <a:ext cx="73152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جمع الحكماء مفاتيح النجاح في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اختصرها بعضهم الى ع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مهما قلت أو أكثر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فان الثقة بالنفس هى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لمفتاح الأول ل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00000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أيــــــمــان عــميـــ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و قــناعة بما ت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191120"/>
            <a:ext cx="350496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كــتـساب صــفـا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واثـق من نـفـسـ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114800"/>
            <a:ext cx="350532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عـــمــل بمـا تـــ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مام و عــــل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ـمـا تـعـتـقـ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ED3-915E-4E48-B8C2-3E958B6B51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553080" y="762120"/>
            <a:ext cx="2286000" cy="518148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صفات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الواث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مـــ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نـفـس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3657600"/>
            <a:ext cx="2590920" cy="2209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عتقد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295280"/>
            <a:ext cx="2590920" cy="221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كلم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514600"/>
            <a:ext cx="2590560" cy="220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حرك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7B5-A867-4DE8-9F65-0BCBC2B60B9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بـتـس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دائــــمـــــ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981080"/>
            <a:ext cx="2286000" cy="178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هـت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مظهر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ار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سن القام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صـاف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ـثـقـــــ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ختار م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يحمله بيد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هـــاد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لا يغـصـ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7DA-E1B6-41D9-A9FD-11F2BA75A2F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شـ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نشــــــــا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981080"/>
            <a:ext cx="2286000" cy="29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يطالع النا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في عيون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981080"/>
            <a:ext cx="2286000" cy="272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تصرف جيد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عندما يخط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4191120"/>
            <a:ext cx="2286000" cy="22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191120"/>
            <a:ext cx="2286000" cy="218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حـــــركـــــ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ـــــيــــــديـــ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191120"/>
            <a:ext cx="2286000" cy="261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تـــعــبــيـــــر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وجـــــــــــهــــــ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916-1AFA-4BB2-91D1-BAD63CCFB2C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ســــــتــعـيـن بـالـــلـــ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على اتقان أدائه و حركات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4C0-076B-49DF-A68D-722D97EA38F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19051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7432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5812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419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257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9051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بـتــســم ودع الجرح يلتئ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7432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بـــادر في الــــحـــــرك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5812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ـقـدم الى الصفـوف الأو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419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ارع الخـطى أثناء المش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5257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ــارس حـــسـن الـقـا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3B2-8E9C-4E47-930B-5621263A90B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791320" y="1981080"/>
            <a:ext cx="2286000" cy="309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- صوت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Times New Roman"/>
              </a:rPr>
              <a:t>واضح مسمو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بــــــ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ـــــــــ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2286000" cy="263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حروف ذ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0000ff"/>
                </a:solidFill>
                <a:latin typeface="Times New Roman"/>
              </a:rPr>
              <a:t>مخارج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واض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ـغـمـا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ختـلـــف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191120"/>
            <a:ext cx="2286000" cy="23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- لغه مفعم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بالنشا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267080"/>
            <a:ext cx="2286000" cy="26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التركيز عل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الكلمات الهامة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09C-526D-41F8-A45A-495B431A73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791320" y="1981080"/>
            <a:ext cx="2286000" cy="27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لغــ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سـلـيـم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كلم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ســـهــل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مقـد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خات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191120"/>
            <a:ext cx="2286000" cy="326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رف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نـــفــســـ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267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الــقـا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ـعـــتــد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10E-544A-456E-962A-E998774C29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3048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أفكا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ـرتــب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38480"/>
            <a:ext cx="2286000" cy="28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ردد و يكت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700" spc="-1" strike="noStrike">
                <a:solidFill>
                  <a:srgbClr val="0000ff"/>
                </a:solidFill>
                <a:latin typeface="Times New Roman"/>
              </a:rPr>
              <a:t>كلمات الثقة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2057400"/>
            <a:ext cx="2286000" cy="236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40B-7361-4436-AD9B-59236B00B3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05120"/>
            <a:ext cx="2438280" cy="696420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  <a:effectLst>
            <a:outerShdw dist="378705" dir="237368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ست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قـــــواع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حـديـــ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ـســـــ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1523880"/>
            <a:ext cx="259056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بداء الرأ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971800"/>
            <a:ext cx="272736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نف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2971800"/>
            <a:ext cx="2590920" cy="1371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توجيه سؤا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523880"/>
            <a:ext cx="25909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فصاح عن الحقيق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590560" cy="1371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غ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419720"/>
            <a:ext cx="259092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وصف الوضع العا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439-1A2E-4759-BC9A-D8CB5C3753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720" y="304920"/>
            <a:ext cx="2210040" cy="1295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ـقة</a:t>
            </a:r>
            <a:br>
              <a:rPr sz="4000"/>
            </a:b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بالنفس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920"/>
            <a:ext cx="6934320" cy="75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لثقة بالنفس شيئ نتمنى جميعا أن نستزيد م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ولكن القضية تكمن في وجودها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كيف تصبح أكثر قوة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علماء النفس و الأطباء يجمعون على أ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ذا تم اختراع حبة الثقة بالنفس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ن العالم سيصبح أكثر سعادة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وسيصبحون هم سريعا بلا ع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لكن ذلك لم يحدث بعد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لى أين نذهب لندعم ثقتنا بأنفسنا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ى أنفسنا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نقوي ونطور مجالات تحتاج الى الاهتمام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دعـــــــــو الـــلـــ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أن يحـلل عـقـدة من لسان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3F2-3E6A-4E1E-97ED-E900E30116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1828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2666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505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343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1814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828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قــــد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666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خــــاتــــ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505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لقاء معـتدل و لغـة سلي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343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صـــــــوت واضــــــــ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51814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مارسة قواعد الحديث الس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C33-FEC7-4D5E-BF0C-A76D5B1050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91320" y="1981080"/>
            <a:ext cx="2286000" cy="18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-ايمان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500" spc="-1" strike="noStrike">
                <a:solidFill>
                  <a:srgbClr val="0000ff"/>
                </a:solidFill>
                <a:latin typeface="Times New Roman"/>
              </a:rPr>
              <a:t>بالمبادئ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981080"/>
            <a:ext cx="2362320" cy="291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تناغم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ب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القول و العم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هدا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واضـح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حـــل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كــبــــــي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4191120"/>
            <a:ext cx="243864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- متمكن م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معلومـاتــ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14800"/>
            <a:ext cx="2286000" cy="24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ترك انطباع مبدئ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حسن في الأذه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343-D2FD-44F1-8C7D-4BBC0FB1AD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791320" y="1981080"/>
            <a:ext cx="2286000" cy="346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تحك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وقــــتـــه 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981080"/>
            <a:ext cx="2286000" cy="32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- يستع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للأنشطة جي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981080"/>
            <a:ext cx="228600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مهار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والتد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ب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نـــق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نق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بلبــــاقـــ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267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قو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“لا” للخط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9E1-BF94-4985-A8FD-19C441F7D8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91320" y="1981080"/>
            <a:ext cx="2286000" cy="319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- يشيد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بجهد الآخرين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057400"/>
            <a:ext cx="2590560" cy="271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عند الحاجة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900" spc="-1" strike="noStrike">
                <a:solidFill>
                  <a:srgbClr val="0000ff"/>
                </a:solidFill>
                <a:latin typeface="Times New Roman"/>
              </a:rPr>
              <a:t>يطلب المساعدة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مستمع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ـ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عــــر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7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لا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يـحــــســ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4267080"/>
            <a:ext cx="2286000" cy="30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يجعل ل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ثلا أع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119-A73D-4738-AC87-52C59C92E2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867280" y="1905120"/>
            <a:ext cx="2286000" cy="197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الأخلا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057400"/>
            <a:ext cx="2590560" cy="304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يحب بعض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0000ff"/>
                </a:solidFill>
                <a:latin typeface="Times New Roman"/>
              </a:rPr>
              <a:t>المخاطرة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419112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باد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عـــمــ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411480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ح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تجــدي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FE4-CCB2-48E8-9EF8-C1E67BCF4B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905120"/>
            <a:ext cx="7924680" cy="16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- يتعرف على نقاط ضعفه و قوته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27672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 الثقة بالنفس مهارة مكتسب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72428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ه مهيأ دائما لزيادة ثقته بنفس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33C-D607-4373-9F22-54EE42F3A6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828800"/>
            <a:ext cx="7543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هـــتــم بالــصــــــلاة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كـوسـيــلة فـعـالـة لحل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مشاكـله و اتقان عـمل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12C-E7DD-4A86-B632-253312993C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ــــلــــم ثـم صــــــاف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ســــــــــــتــــــعــــــــ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ــالــعــه في عـيــنــــــــ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عــــــرف نـــــفــــســـــــ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عــــــرف عـلى الـنــــــا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أيم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A82-E584-4329-BBC9-FF6E4B301A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“لا”  لمن يصفك بما لا يلي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قــبـول الــنــقـد الــبــنــــاء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لب المساعدة عند الحاج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شـــادة بجــهــود الآخـــ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توجيه النصيحة بطريقة صحيح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سلوك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904-9267-4E0C-8908-2E504E316A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4"/>
            </a:gs>
            <a:gs pos="50000">
              <a:srgbClr val="000094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3F3C-267E-42A6-B436-B596487F4612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الثقة بالنفس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لماذا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متى تهتز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آثار انخفاض الثقة بالنفس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كيف تكتسب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4000" spc="-1" strike="noStrike">
                <a:solidFill>
                  <a:srgbClr val="ffffff"/>
                </a:solidFill>
                <a:latin typeface="Times New Roman"/>
              </a:rPr>
              <a:t>صفات الواثق مـــن نـفـسه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553080" y="2209680"/>
            <a:ext cx="221004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ث الثـق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88D-65D9-447A-ADD3-12D66A4BA9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705720" y="304920"/>
            <a:ext cx="213336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457200"/>
            <a:ext cx="556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39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 بث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17524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23623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29718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35812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1911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7524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بـــــــادر و أنــــــــــــت قــــــــــــــاد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3623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ق بـنـفــــســـك و لــو لـــوحـــــــد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9718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ابـــتـــــســـــــــم ودع الجرح يــلــتــئـ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5812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لا تـــأس على ما فاتك و خـطـط لحـياتـ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41911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ــــــابـــــــــر و أنـــــــت شـــــــاطــ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48006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8006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قـــدم العـطـاء و احـرص عـلى الـثـنــ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4100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4100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تـحــدث بـراحــة و بـكــل صـــراحـــــ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887-234F-4CB1-90D5-79AEA045672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9051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ائ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2767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مـ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قيم الانسان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7CF-5656-41D0-952F-E8F98E51E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 على اقناع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3300"/>
                </a:solidFill>
                <a:latin typeface="Times New Roman"/>
              </a:rPr>
              <a:t>تمكنك من التأثيرب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الثبات على موقف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ك لعرض أفكار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عطيك شعورا بالقوة والسع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4B2-ED43-4B33-8EDE-585D405A71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في مهامك الوظيفية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مواجهة الجمهو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كسبك احترام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على حسن التصر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نقذك من المواقف المحرج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B6E-00A7-4695-97A3-6BED2ED882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0880" y="990720"/>
            <a:ext cx="8382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الواثقون في العالم لا يتجاوزون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2% </a:t>
            </a: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من البشرية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1A8-B68F-4F6A-8B8A-AC001B5303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0000ff"/>
                </a:solidFill>
                <a:latin typeface="Times New Roman"/>
              </a:rPr>
              <a:t>متى تهتز الثقة بالنفس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نق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لاذ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ق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سؤول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133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واق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حرج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276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خــــ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352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ـوحـــــ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كث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شا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57200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مواجه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خالف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فشــــــ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F5C-3B3D-411E-911A-0A9711B67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6:10:01Z</dcterms:created>
  <dc:creator>***</dc:creator>
  <dc:description/>
  <dc:language>en-US</dc:language>
  <cp:lastModifiedBy>Compaq</cp:lastModifiedBy>
  <dcterms:modified xsi:type="dcterms:W3CDTF">2000-07-24T14:25:33Z</dcterms:modified>
  <cp:revision>87</cp:revision>
  <dc:subject/>
  <dc:title>التواصل الفردي</dc:title>
</cp:coreProperties>
</file>