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arrow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41C-CFBD-4C0D-96EC-C8C912AA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016-0331-4135-AF85-2114E193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38F-6AC6-4D35-A952-44474242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A34-3CF2-43C2-9E3E-4B1C4436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A5D0-3BD1-423B-8F8F-25395781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6D16-D90A-4FA6-8F6E-D7432527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AB30-022A-4844-9A59-2026E92D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E59A-4FBD-48C2-B9E0-5D5F64A6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F2D6-13F7-44BB-AE4A-5B86DE08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3D51-D5CC-4BB9-93AD-BCCBC807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FA61-4A44-4B04-9074-9918036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B55-D160-4D02-BE8D-5DDB256D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DABF-3A5A-4057-B13C-D4AF26FA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91D0-A12F-4CFF-8881-A951F6B8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98BD-6EB4-488F-8F0E-54473D85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374F-1832-41F8-84DD-A2BE7DF9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AD30-E5EA-4521-968B-0B7DBC95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C974B-C02F-4468-9C9C-29D09731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28F0D-13F1-4F40-AF67-AEC089F9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3F2A-784C-4E4F-885B-320195FF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88E4-CC97-4FC4-A00C-3DC68A25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BF0F-D7B0-488B-86FD-94F717A6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713-3A6B-46DA-AEFF-3FBB30A6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0296B-0B5E-4ACC-8C9B-5CDBF3BD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F6461-AA3D-4B2F-97B9-A977C714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CAE04-40EF-4DD4-AF70-CC11CC67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86FE5-5BDE-4325-A557-B640547A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5981-37DA-4ADD-B669-996F26B5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992EC-6CE4-4170-A1E4-BA928704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4029F-E4BB-4B80-AA57-C232D7FC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83D68-9F16-43E8-9E70-0E961EB2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F0F75-BBA1-4438-B4EF-DB179F09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48E6D-4CB4-4407-B537-96CEF248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B9C-8267-4D9A-8421-EE594E55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D8841-6725-4E71-985A-4E104BE8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34F96-67E9-4AEB-9485-5BF0E753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F3241-195A-42CF-AC00-A38DAC68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FF4EB-CC5F-4EA0-9F40-F45AD657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3128-D28A-41A9-AA72-9556116C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D367D-2860-4519-8078-2C04CB9C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D6DC0-5240-45ED-884D-E97439A2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9F2A8-5D4B-4043-BCA0-672A6E58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B178D-B84E-4DB2-9558-3D298519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A5F-7886-475F-B960-36070869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67C-8E03-4ECD-B3CB-75FC2150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C41-B96E-4A4D-8225-248B003F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B31-4712-4012-86CB-40C972EA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5E8-A4CC-4E42-8C0A-07637368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7869-4F3A-4559-9DA0-AF676B0A3C2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CBB9-27F6-420F-9AEA-57235E421F5E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1314-0DFC-4BBB-8B1C-5C7968DF14C5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663F-2651-4D7C-8590-B076DADD429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33240" y="146160"/>
            <a:ext cx="9846000" cy="2500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nstantia"/>
              </a:rPr>
              <a:t>Money</a:t>
            </a:r>
            <a:r>
              <a:rPr b="1" lang="en-US" sz="6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2520" y="1213920"/>
            <a:ext cx="822312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to Sudan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yes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dollars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a bank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2857680" y="214200"/>
            <a:ext cx="350028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51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d"/>
    <p:sndAc>
      <p:stSnd>
        <p:snd r:embed="rId1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642680"/>
            <a:ext cx="822312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You had better wash your face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y had better hurry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We had better jump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It had better land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2857680" y="214200"/>
            <a:ext cx="350028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54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slow">
    <p:comb dir="horz"/>
    <p:sndAc>
      <p:stSnd>
        <p:snd r:embed="rId1" name="arrow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2520" y="1125360"/>
            <a:ext cx="82231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se are the engineer’s sho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se are the engineers’ sho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se are the boys’ sho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se are the boy’s sho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se are the reporters’ sho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comb dir="horz"/>
    <p:sndAc>
      <p:stSnd>
        <p:snd r:embed="rId1" name="arrow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2520" y="1142640"/>
            <a:ext cx="822312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ilgrim’s certificate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5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in 1961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5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brown, red and green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5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it is easier to carry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2857680" y="214200"/>
            <a:ext cx="350028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55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47960" y="1628280"/>
            <a:ext cx="4043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ppea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ntroduc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hang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e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had bett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43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valu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metal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anknot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urrency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erial numb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2857680" y="214200"/>
            <a:ext cx="350028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. 57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48320" y="1595520"/>
            <a:ext cx="39700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COULD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PU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ED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5520"/>
            <a:ext cx="3970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CASE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MACHINE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KILLED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JAPANESE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107640" y="115560"/>
            <a:ext cx="101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0:57:27Z</dcterms:created>
  <dc:creator>Abu Anas</dc:creator>
  <dc:description/>
  <dc:language>en-US</dc:language>
  <cp:lastModifiedBy>v.ocarroll</cp:lastModifiedBy>
  <dcterms:modified xsi:type="dcterms:W3CDTF">2013-06-30T08:06:41Z</dcterms:modified>
  <cp:revision>9</cp:revision>
  <dc:subject/>
  <dc:title>الشريحة 1</dc:title>
</cp:coreProperties>
</file>