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arrow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087-612B-49B0-936B-FC5D84C5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927-6F4A-4E39-918C-56360F9C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C7C-CEB5-434D-90AB-B7841219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72E-8224-40FE-8CB5-04CA5187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8E2F-1F0F-40FA-9957-558A62FC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D6EB-87EA-4666-9DF1-B2D89FB8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D198-60B9-4058-A381-4B1FCBD1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046C-9440-4FB1-B4ED-2374410E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6583-E446-4706-9679-80AAE912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113F-518D-42A2-B7DB-3320CA5F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B64C-2F2B-4720-8E3A-9862ECF1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96B-496D-433E-82FC-69E9C52F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7E3E-8E62-43F3-9BC2-C286AC60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EE37-2CB1-4C0B-8E70-38F32691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7260-91D2-45FF-AA67-3D175633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32B9-99C2-4006-B1C1-D61E810D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EEE1-6FB3-4B5F-8122-45DE8C02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D1F20-A500-488C-97D4-F5656352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B12E5-CFB0-4E39-8E93-7C9F267D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71B38-3246-4052-9F07-F3F3F4F0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BF01B-602A-4D8F-BD64-52F9D520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7E3D-F660-4146-9008-44A171D3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83F-3BB7-4C7A-9299-1B0D8ECF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EA5BA-4D71-475C-8FD9-8271481B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4F45E-6BCD-4EAB-8532-A5C6BEC8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6B72-0DF2-47B0-8BAB-FD1D9A5F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6956-20F0-440B-818B-DEEC4DC5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34B2D-8E57-4BAC-A645-81E48C1F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BA715-1BB1-497D-BF70-CFB52FF2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B3E0-1485-4C96-BE17-75DFA4F1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24A5-4B62-4389-9F2F-C9A57CA8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47F42-5995-4DF9-94D2-1B36C9D0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88D1-5D0F-4486-A41E-BE765C06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090C-50EE-4CBE-AA4B-C1FF200B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5DAE8-F228-4CBB-8A11-A3934CD3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7497-E747-4E67-B0E7-B4AFD001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9BE4F-FA9C-4275-89F0-63299A1E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D925F-52FA-44C5-99DF-EA2F93BD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D44CB-6F60-48E9-AFC4-7148FB51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43E7D-B155-4EAB-A311-DE7201D7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7A98-AFA7-4A11-8D47-1E7786B4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A6C9-E63F-4A4F-B294-A6C2F872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DDCFC-6908-438E-9A2B-9C5A2279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882-7175-4441-8BBE-399B8249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DAE-CAF4-465D-BCB1-A1275002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879-618A-4692-8498-6EFEE34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DE1-4D76-45C7-8B9D-A264EB3E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64A-732F-4EE4-B93A-4D46F3CC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0FDB-B91F-4032-BAC3-5DC83144ADC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B988-06AA-4DFF-9500-A24C469C5276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5A5F-8490-4722-A6DA-2388C8AA400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915F-7C52-4273-9284-13752881FB7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33240" y="146160"/>
            <a:ext cx="9491760" cy="2500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nstantia"/>
              </a:rPr>
              <a:t>Houses</a:t>
            </a:r>
            <a:r>
              <a:rPr b="1" lang="en-US" sz="60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476360" y="475920"/>
            <a:ext cx="72928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.  a. This tool is Y-shape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. It is a Y-shape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2.  a. This building is U-shape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. It is a U-shape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3.  a. This pipe is S-shape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. It is an S-shape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.  a. This goal is H-shape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. It is an  S-shape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5.  a. This room is L-shape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. It is an L-shape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08000" y="115920"/>
            <a:ext cx="101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2520" y="1285920"/>
            <a:ext cx="822312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Where did you build the house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7320" indent="-51732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How long did it take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7320" indent="-51732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What kind of house was it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7320" indent="-51732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What shape was it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7320" indent="-51732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id it have a lot of furniture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7320" indent="-51732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Was there a gard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857680" y="214200"/>
            <a:ext cx="357156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49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. hous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2. caves are natural, houses are man-made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3. uncomfortable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4. in caves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5. furnitur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2857680" y="214200"/>
            <a:ext cx="29858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4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r. Al Nasser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is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interested in people’s houses,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isn’t he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?  Yes,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he is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2. Mr. Al Ali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has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asked him about the past ,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hasn’t he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?  Yes ,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he has 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3. In cold climates , they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could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light fires ,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couldn’t they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? Yes ,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they could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4. The first homes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were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natural places ,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weren’t they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? Yes ,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they were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5. That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’s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another subject ,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isn’t it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? Yes ,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it is 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57680" y="214200"/>
            <a:ext cx="29858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41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54764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8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14240" y="1213920"/>
            <a:ext cx="6346800" cy="523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. protect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. cover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fel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could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did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no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2857680" y="214200"/>
            <a:ext cx="29858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43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d"/>
    <p:sndAc>
      <p:stSnd>
        <p:snd r:embed="rId1" name="arrow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835280" y="1523520"/>
            <a:ext cx="68515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. Cavemen did not live ..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2. They did not feel ..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3. They did not draw ..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1547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  <p:sndAc>
      <p:stSnd>
        <p:snd r:embed="rId1" name="arrow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16398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. Where did cavemen live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. What did they cover the floor with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. Why did they have fires in the caves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1547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  <p:sndAc>
      <p:stSnd>
        <p:snd r:embed="rId1" name="arrow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80438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in winter seas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box-shape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It is hot and humi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It rains a lo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ir legs keep them dray above wate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2857680" y="214200"/>
            <a:ext cx="29858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44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2160" y="856800"/>
            <a:ext cx="404316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rotec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raw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ecorat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v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gras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teria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urnitur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eil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3280" y="999720"/>
            <a:ext cx="40435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1. wil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2. Woode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3. box-shap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4. slop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5. man-mad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6. low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7. nowaday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8. cav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9. Asi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0. especiall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786040" y="0"/>
            <a:ext cx="400068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46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Constantia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nstantia"/>
              </a:rPr>
              <a:t>e   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nstantia"/>
              </a:rPr>
              <a:t>s   I   y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Constantia"/>
              </a:rPr>
              <a:t>e  o</a:t>
            </a: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nstantia"/>
              </a:rPr>
              <a:t>h c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038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0" lang="en-US" sz="5400" spc="-1" strike="noStrike">
                <a:solidFill>
                  <a:srgbClr val="ff0000"/>
                </a:solidFill>
                <a:latin typeface="Constantia"/>
              </a:rPr>
              <a:t>u   a</a:t>
            </a: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7.   </a:t>
            </a:r>
            <a:r>
              <a:rPr b="0" lang="en-US" sz="5400" spc="-1" strike="noStrike">
                <a:solidFill>
                  <a:srgbClr val="ff0000"/>
                </a:solidFill>
                <a:latin typeface="Constantia"/>
              </a:rPr>
              <a:t>e l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8.   </a:t>
            </a:r>
            <a:r>
              <a:rPr b="0" lang="en-US" sz="5400" spc="-1" strike="noStrike">
                <a:solidFill>
                  <a:srgbClr val="ff0000"/>
                </a:solidFill>
                <a:latin typeface="Constantia"/>
              </a:rPr>
              <a:t>t r  l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9.  </a:t>
            </a:r>
            <a:r>
              <a:rPr b="0" lang="en-US" sz="5400" spc="-1" strike="noStrike">
                <a:solidFill>
                  <a:srgbClr val="ff0000"/>
                </a:solidFill>
                <a:latin typeface="Constantia"/>
              </a:rPr>
              <a:t>r  m</a:t>
            </a: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10.  </a:t>
            </a:r>
            <a:r>
              <a:rPr b="0" lang="en-US" sz="5400" spc="-1" strike="noStrike">
                <a:solidFill>
                  <a:srgbClr val="ff0000"/>
                </a:solidFill>
                <a:latin typeface="Constantia"/>
              </a:rPr>
              <a:t>o  d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2857680" y="214200"/>
            <a:ext cx="357156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48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5:02:55Z</dcterms:created>
  <dc:creator>Abu Anas</dc:creator>
  <dc:description/>
  <dc:language>en-US</dc:language>
  <cp:lastModifiedBy>v.ocarroll</cp:lastModifiedBy>
  <dcterms:modified xsi:type="dcterms:W3CDTF">2013-06-30T08:01:31Z</dcterms:modified>
  <cp:revision>6</cp:revision>
  <dc:subject/>
  <dc:title>الشريحة 1</dc:title>
</cp:coreProperties>
</file>