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arrow.wav" ContentType="audio/x-wav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3672-82FA-47D9-A7CB-A6FB8FA97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39D6-D9FD-47AB-886D-966B8860B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0565-70F4-4F8E-8554-3991E56E1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5E84-1DA9-4BAB-AC60-0AEA7C3B9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C4EBD-4F4B-4844-8D1B-3714D80AA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8A24E-9A6D-4BAB-8D54-F8A4BFD67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B22ED-D5B1-47BC-8A5B-6EC97A7E6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8F4D5-7301-4787-AEA0-2A5362BF3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A8736-6E3C-4288-88E3-33593A16D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E7CFC-F144-4C73-BCA8-5930799F0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8C29E-3005-40AD-85B4-0F78D01EB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8FEA-DA4F-4CFE-A6E7-5F9B2C990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3E630-523F-4CFA-AB7F-777B73F1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4EDF6-B01A-4A6B-846E-3ABEF6CF9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39C3E-4F27-4993-852E-EF570F419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072D0-8D56-46B2-BA61-A93268B81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8FDD9-0D80-4EBD-8980-2A6A028B2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006C8-281D-46A4-B067-74934B545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81E3B-6142-44D5-B3DD-F965346A3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E17BE-3813-41FE-B81E-2268516D1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AC2E5-E03C-43C0-A072-3C9777465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E3420-719C-4721-8930-AD263847D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E48D-4DC5-4D7D-9B92-BEEF709B4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39D7C-9909-44B1-A188-BF3888CE3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9B011-F316-4704-909E-7457ACEEE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98BC5-131A-4A30-8769-EC9128972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F154A-1C3F-49D8-8070-B16F58303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92110-9D3C-413C-8A87-BF15A5F9D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55837-43D9-4F19-90B5-8985983EF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49582-2B8E-471D-901C-821CB8FF6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E04CA-623B-46DE-BD1D-9F957E61C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8DC8E-C28B-40C7-925A-49B26C8D6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CC198-1DC5-464A-ADB6-69228CF29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3654-DBAF-4794-BBAF-DBC59193C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B5D83-C3E1-4402-900C-F312E0553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15F32-4BA8-4785-8C44-1C02A841A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3CD2B-0912-4DB7-9D19-7AE45A552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F6980-87E0-4D00-A200-1D537A2E3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889E1-887C-4ADB-9FB5-585873122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7788E-07E4-4D25-AAFF-6F2649DCC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9C331-129B-440D-937A-39165F46B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6DCAF-32C0-41BD-A18E-99E718652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AACBF-2778-4008-AE30-6D51192AA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9D7B-2D5B-48D9-993C-3778F3532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CFB0-705E-4DF9-B27F-8CFF79BDD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07F2-690B-4FEE-BCA7-B811DF5B6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9DB0-F388-431A-89E3-DEDE2E73F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871C-CAE7-4D1E-B61E-0C0C648AC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2132A-E0A3-46BB-9A75-DC02642CCA1F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C531A-00F8-42AD-B0F1-4B54A215D200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C6413-1C51-45C0-8F81-26EE96C8997A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0F403-C0A7-49C8-B618-2649C78E46BC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633240" y="146160"/>
            <a:ext cx="8772840" cy="25002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nstantia"/>
              </a:rPr>
              <a:t>The  First Programme  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250920" y="1599840"/>
            <a:ext cx="86421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1. The programme will be about people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727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2. It will take place every two weeks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727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3. Mr. Al-Ali will be the host on the programme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727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4. You will talk to foreigners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727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5. We will do the exercise below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WordArt 4"/>
          <p:cNvSpPr txBox="1"/>
          <p:nvPr/>
        </p:nvSpPr>
        <p:spPr>
          <a:xfrm>
            <a:off x="2857680" y="214200"/>
            <a:ext cx="2985840" cy="79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age . 1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285840" y="428400"/>
            <a:ext cx="74592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11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250920" y="1267920"/>
            <a:ext cx="84470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1. I am going to be your host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2. He is going to talk about people's health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3. They are going to discuss everything in English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4. We are going to take a look at training in a technical school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5. You are going to see me again soon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285840" y="428400"/>
            <a:ext cx="74592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0000"/>
                </a:solidFill>
                <a:latin typeface="Calibri"/>
              </a:rPr>
              <a:t>B</a:t>
            </a:r>
            <a:endParaRPr b="0" lang="en-US" sz="11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1. 4 weeks.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2. 9 programmers.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3. SR50,000.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4. 20 minutes.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5. Mr. Al-Khaled.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WordArt 4"/>
          <p:cNvSpPr txBox="1"/>
          <p:nvPr/>
        </p:nvSpPr>
        <p:spPr>
          <a:xfrm>
            <a:off x="2857680" y="214200"/>
            <a:ext cx="3571560" cy="79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age . 1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179280" y="928800"/>
            <a:ext cx="4098960" cy="55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1. technical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2.about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3. health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4. studio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5. go ahead with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42920" y="928440"/>
            <a:ext cx="424980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6. negative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7. Hajj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8. memo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9. below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10. permission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6" name="WordArt 4" descr=""/>
          <p:cNvPicPr/>
          <p:nvPr/>
        </p:nvPicPr>
        <p:blipFill>
          <a:blip r:embed="rId1"/>
          <a:stretch/>
        </p:blipFill>
        <p:spPr>
          <a:xfrm>
            <a:off x="2560680" y="-6480"/>
            <a:ext cx="3591000" cy="80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329760" y="694800"/>
            <a:ext cx="403236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11. foreigner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12.intend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13. nice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14. take place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15. discuss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716000" y="620280"/>
            <a:ext cx="40323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16. total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17.screen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18. guests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19.in order to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20. host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250560" y="1600200"/>
            <a:ext cx="424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1. fo</a:t>
            </a:r>
            <a:r>
              <a:rPr b="0" lang="en-US" sz="4800" spc="-1" strike="noStrike">
                <a:solidFill>
                  <a:srgbClr val="ff0066"/>
                </a:solidFill>
                <a:latin typeface="Constantia"/>
              </a:rPr>
              <a:t>r</a:t>
            </a: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e</a:t>
            </a:r>
            <a:r>
              <a:rPr b="0" lang="en-US" sz="4800" spc="-1" strike="noStrike">
                <a:solidFill>
                  <a:srgbClr val="ff0066"/>
                </a:solidFill>
                <a:latin typeface="Constantia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gn</a:t>
            </a:r>
            <a:r>
              <a:rPr b="0" lang="en-US" sz="4800" spc="-1" strike="noStrike">
                <a:solidFill>
                  <a:srgbClr val="ff0066"/>
                </a:solidFill>
                <a:latin typeface="Constantia"/>
              </a:rPr>
              <a:t>e</a:t>
            </a: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2. p</a:t>
            </a:r>
            <a:r>
              <a:rPr b="0" lang="en-US" sz="4800" spc="-1" strike="noStrike">
                <a:solidFill>
                  <a:srgbClr val="ff0066"/>
                </a:solidFill>
                <a:latin typeface="Constantia"/>
              </a:rPr>
              <a:t>r</a:t>
            </a: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og</a:t>
            </a:r>
            <a:r>
              <a:rPr b="0" lang="en-US" sz="4800" spc="-1" strike="noStrike">
                <a:solidFill>
                  <a:srgbClr val="ff0066"/>
                </a:solidFill>
                <a:latin typeface="Constantia"/>
              </a:rPr>
              <a:t>r</a:t>
            </a: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amme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3. cam</a:t>
            </a:r>
            <a:r>
              <a:rPr b="0" lang="en-US" sz="4800" spc="-1" strike="noStrike">
                <a:solidFill>
                  <a:srgbClr val="ff0066"/>
                </a:solidFill>
                <a:latin typeface="Constantia"/>
              </a:rPr>
              <a:t>e</a:t>
            </a: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r</a:t>
            </a:r>
            <a:r>
              <a:rPr b="0" lang="en-US" sz="4800" spc="-1" strike="noStrike">
                <a:solidFill>
                  <a:srgbClr val="ff0066"/>
                </a:solidFill>
                <a:latin typeface="Constantia"/>
              </a:rPr>
              <a:t>a</a:t>
            </a: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ma</a:t>
            </a:r>
            <a:r>
              <a:rPr b="0" lang="en-US" sz="4800" spc="-1" strike="noStrike">
                <a:solidFill>
                  <a:srgbClr val="ff0066"/>
                </a:solidFill>
                <a:latin typeface="Constantia"/>
              </a:rPr>
              <a:t>n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4. i</a:t>
            </a:r>
            <a:r>
              <a:rPr b="0" lang="en-US" sz="4800" spc="-1" strike="noStrike">
                <a:solidFill>
                  <a:srgbClr val="ff0066"/>
                </a:solidFill>
                <a:latin typeface="Constantia"/>
              </a:rPr>
              <a:t>n</a:t>
            </a: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tro</a:t>
            </a:r>
            <a:r>
              <a:rPr b="0" lang="en-US" sz="4800" spc="-1" strike="noStrike">
                <a:solidFill>
                  <a:srgbClr val="ff0066"/>
                </a:solidFill>
                <a:latin typeface="Constantia"/>
              </a:rPr>
              <a:t>d</a:t>
            </a: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uce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5. dis</a:t>
            </a:r>
            <a:r>
              <a:rPr b="0" lang="en-US" sz="4800" spc="-1" strike="noStrike">
                <a:solidFill>
                  <a:srgbClr val="ff0066"/>
                </a:solidFill>
                <a:latin typeface="Constantia"/>
              </a:rPr>
              <a:t>c</a:t>
            </a: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u</a:t>
            </a:r>
            <a:r>
              <a:rPr b="0" lang="en-US" sz="4800" spc="-1" strike="noStrike">
                <a:solidFill>
                  <a:srgbClr val="ff0066"/>
                </a:solidFill>
                <a:latin typeface="Constantia"/>
              </a:rPr>
              <a:t>s</a:t>
            </a: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s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788000" y="1600200"/>
            <a:ext cx="417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6. t</a:t>
            </a:r>
            <a:r>
              <a:rPr b="0" lang="en-US" sz="4800" spc="-1" strike="noStrike">
                <a:solidFill>
                  <a:srgbClr val="ff0066"/>
                </a:solidFill>
                <a:latin typeface="Constantia"/>
              </a:rPr>
              <a:t>e</a:t>
            </a: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am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7. h</a:t>
            </a:r>
            <a:r>
              <a:rPr b="0" lang="en-US" sz="4800" spc="-1" strike="noStrike">
                <a:solidFill>
                  <a:srgbClr val="ff0066"/>
                </a:solidFill>
                <a:latin typeface="Constantia"/>
              </a:rPr>
              <a:t>o</a:t>
            </a: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st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8. g</a:t>
            </a:r>
            <a:r>
              <a:rPr b="0" lang="en-US" sz="4800" spc="-1" strike="noStrike">
                <a:solidFill>
                  <a:srgbClr val="ff0066"/>
                </a:solidFill>
                <a:latin typeface="Constantia"/>
              </a:rPr>
              <a:t>u</a:t>
            </a: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e</a:t>
            </a:r>
            <a:r>
              <a:rPr b="0" lang="en-US" sz="4800" spc="-1" strike="noStrike">
                <a:solidFill>
                  <a:srgbClr val="ff0066"/>
                </a:solidFill>
                <a:latin typeface="Constantia"/>
              </a:rPr>
              <a:t>s</a:t>
            </a: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t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9. t</a:t>
            </a:r>
            <a:r>
              <a:rPr b="0" lang="en-US" sz="4800" spc="-1" strike="noStrike">
                <a:solidFill>
                  <a:srgbClr val="ff0066"/>
                </a:solidFill>
                <a:latin typeface="Constantia"/>
              </a:rPr>
              <a:t>e</a:t>
            </a: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ch</a:t>
            </a:r>
            <a:r>
              <a:rPr b="0" lang="en-US" sz="4800" spc="-1" strike="noStrike">
                <a:solidFill>
                  <a:srgbClr val="ff0066"/>
                </a:solidFill>
                <a:latin typeface="Constantia"/>
              </a:rPr>
              <a:t>n</a:t>
            </a: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ical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10. in</a:t>
            </a:r>
            <a:r>
              <a:rPr b="0" lang="en-US" sz="4800" spc="-1" strike="noStrike">
                <a:solidFill>
                  <a:srgbClr val="ff0066"/>
                </a:solidFill>
                <a:latin typeface="Constantia"/>
              </a:rPr>
              <a:t>t</a:t>
            </a: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erv</a:t>
            </a:r>
            <a:r>
              <a:rPr b="0" lang="en-US" sz="4800" spc="-1" strike="noStrike">
                <a:solidFill>
                  <a:srgbClr val="ff0066"/>
                </a:solidFill>
                <a:latin typeface="Constantia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ewe</a:t>
            </a:r>
            <a:r>
              <a:rPr b="0" lang="en-US" sz="4800" spc="-1" strike="noStrike">
                <a:solidFill>
                  <a:srgbClr val="ff0066"/>
                </a:solidFill>
                <a:latin typeface="Constantia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title"/>
          </p:nvPr>
        </p:nvSpPr>
        <p:spPr>
          <a:xfrm>
            <a:off x="285840" y="428400"/>
            <a:ext cx="74592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0000"/>
                </a:solidFill>
                <a:latin typeface="Calibri"/>
              </a:rPr>
              <a:t>B</a:t>
            </a:r>
            <a:endParaRPr b="0" lang="en-US" sz="11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142560" y="1500120"/>
            <a:ext cx="8893080" cy="44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1. You have got </a:t>
            </a:r>
            <a:r>
              <a:rPr b="0" lang="en-US" sz="4000" spc="-1" strike="noStrike">
                <a:solidFill>
                  <a:srgbClr val="ff3300"/>
                </a:solidFill>
                <a:latin typeface="Constantia"/>
              </a:rPr>
              <a:t>many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 programmes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48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2. Your </a:t>
            </a:r>
            <a:r>
              <a:rPr b="0" lang="en-US" sz="4000" spc="-1" strike="noStrike">
                <a:solidFill>
                  <a:srgbClr val="ff3300"/>
                </a:solidFill>
                <a:latin typeface="Constantia"/>
              </a:rPr>
              <a:t>programmes should be longer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48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3. Your </a:t>
            </a:r>
            <a:r>
              <a:rPr b="0" lang="en-US" sz="4000" spc="-1" strike="noStrike">
                <a:solidFill>
                  <a:srgbClr val="ff3300"/>
                </a:solidFill>
                <a:latin typeface="Constantia"/>
              </a:rPr>
              <a:t>programmes should be  earlier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48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4. </a:t>
            </a:r>
            <a:r>
              <a:rPr b="0" lang="en-US" sz="4000" spc="-1" strike="noStrike">
                <a:solidFill>
                  <a:srgbClr val="ff3300"/>
                </a:solidFill>
                <a:latin typeface="Constantia"/>
              </a:rPr>
              <a:t>Your journey is too long and too expensive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48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5</a:t>
            </a:r>
            <a:r>
              <a:rPr b="0" lang="en-US" sz="4000" spc="-1" strike="noStrike">
                <a:solidFill>
                  <a:srgbClr val="ff3300"/>
                </a:solidFill>
                <a:latin typeface="Constantia"/>
              </a:rPr>
              <a:t>. The total cost is too much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WordArt 4"/>
          <p:cNvSpPr txBox="1"/>
          <p:nvPr/>
        </p:nvSpPr>
        <p:spPr>
          <a:xfrm>
            <a:off x="2500200" y="214200"/>
            <a:ext cx="3571920" cy="79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age . 1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07:26:42Z</dcterms:created>
  <dc:creator>Abu Anas</dc:creator>
  <dc:description/>
  <dc:language>en-US</dc:language>
  <cp:lastModifiedBy>v.ocarroll</cp:lastModifiedBy>
  <dcterms:modified xsi:type="dcterms:W3CDTF">2013-06-30T07:40:37Z</dcterms:modified>
  <cp:revision>13</cp:revision>
  <dc:subject/>
  <dc:title>الشريحة 1</dc:title>
</cp:coreProperties>
</file>