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camera.wav" ContentType="audio/x-wav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967-ADF6-4A7F-A469-F591C26A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D60-7DBA-4C4A-892D-B79521E9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0A0-339E-454C-ABB2-17B2A3D1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EBF-0EF4-4DEC-AF11-1334D4B4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C2A-5CF3-4037-B769-3BDCD48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A64-1C7E-4649-8D69-691F7F0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3AC0-5E46-4C40-B006-C567AB54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7369-389D-4F89-A2C3-BCDC95D1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900D-3D8E-46F2-BB2C-F88EB55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C928-14ED-4C53-8EAA-F3CED75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A722-A952-4DEA-A6AE-115C706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E87-B6F7-4A1A-90C8-7F004A6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11A6-2C37-4905-B112-BD8BB5B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2D6B-498B-43FC-B241-0551A15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ED35-7129-41BB-9883-327B0D2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0C87-B3E9-4A18-8B4E-52596F4A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D4D7-460A-481D-8D17-C48B6F28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BA47-0A33-428B-AD40-B0EA720D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73CD-BC21-44D2-9975-2D6FB6AC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7205-B629-439E-A472-FE8EA8C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F997-AEA5-4DE9-8744-E3AFDD9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DD8E-98CE-46F7-9A9E-4EB9AAEF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C94-2649-48BA-863E-2D206504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9F92-B8EE-4CC0-8EDF-D3A4272C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8F71-67D1-4C1E-A708-7F5FF4D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4C15-BC68-4EB8-8C6B-BDC8388F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E435-1133-4DB3-82A6-ED63922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E28D-C2CB-424E-9EF8-CFD00087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262C-369E-4E2E-BC38-4200D946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FAA5-20B8-47BC-A2CF-4344487A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4BA3-E70C-40D0-A469-EE1B4B17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01D9-603D-48A1-A81D-0F029975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8947F-0471-4FC4-8FD6-026B7E3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5C5-CE1A-4945-8C4D-EC0099C9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D75D-DE50-485D-9406-69070F6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5FC7-F68C-40DE-AD53-66C5983C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764F-6792-4D6A-85E4-67A85FF3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FFC5-6288-4F8E-B3B1-E812F6E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B468-15E9-4669-BA91-6A373E23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93FD-452C-4F1A-BEE4-C4269D1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859B-9ABF-4658-8B85-0B293D95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948C-393D-44CE-859E-B7B8AF36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C62B-EB0B-4B3A-BF70-BC81B7FC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EAD-D910-420B-A4B1-D5AC6AB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34A-3257-4647-AC52-CA0A87D9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135-C2AD-4D33-85F3-31D4D3F1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1CB-83F7-4830-85EE-558AE6F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11B-1D96-48AB-82B9-D6930BA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39B6-F312-41A5-ABA0-A902E52CEA2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29CE-88DE-4FCF-A0C9-115344565EC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8CA1-CE17-4707-B12C-0B342F3366C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18B-B539-46AA-A14A-4052872BDA6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680" y="30002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Calibri"/>
              </a:rPr>
              <a:t>Let’s meet the Team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71680" y="85716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70c0"/>
                </a:solidFill>
                <a:latin typeface="Calibri"/>
              </a:rPr>
              <a:t>Unit  One</a:t>
            </a:r>
            <a:r>
              <a:rPr b="1" i="1" lang="en-US" sz="8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3300" spc="-1" strike="noStrike">
                <a:solidFill>
                  <a:srgbClr val="ff0066"/>
                </a:solidFill>
                <a:latin typeface="Constantia"/>
              </a:rPr>
              <a:t>A shop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s a place where you can buy things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3300" spc="-1" strike="noStrike">
                <a:solidFill>
                  <a:srgbClr val="ff0066"/>
                </a:solidFill>
                <a:latin typeface="Constantia"/>
              </a:rPr>
              <a:t>A satellite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s a thing which orbits the earth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n-US" sz="3300" spc="-1" strike="noStrike">
                <a:solidFill>
                  <a:srgbClr val="ff0066"/>
                </a:solidFill>
                <a:latin typeface="Constantia"/>
              </a:rPr>
              <a:t>A farmer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s a person who grows food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3300" spc="-1" strike="noStrike">
                <a:solidFill>
                  <a:srgbClr val="ff0066"/>
                </a:solidFill>
                <a:latin typeface="Constantia"/>
              </a:rPr>
              <a:t>A porter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s a person who carries suitcases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3300" spc="-1" strike="noStrike">
                <a:solidFill>
                  <a:srgbClr val="ff0066"/>
                </a:solidFill>
                <a:latin typeface="Constantia"/>
              </a:rPr>
              <a:t>A thermometer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s a thing which measures temperature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643120" y="214200"/>
            <a:ext cx="298620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A donkey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 an animal which you pulls cart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A camer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 a thing which takes photograph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An envelop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 a thing which holds a lette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9.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A camel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 an person who carries people in the deser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0.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A post offic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 a place where you can buy stamp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9760" y="1595520"/>
            <a:ext cx="403236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n focu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nterviewing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88000" y="1595520"/>
            <a:ext cx="40320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amerama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00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ammam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85768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9760" y="1285920"/>
            <a:ext cx="40323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3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I am .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He is .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You are .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I am .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She is .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4788000" y="836640"/>
            <a:ext cx="4032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y are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4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not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57184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nterview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ennis and swimming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edda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57184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(F) Saud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(F) at Amer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(F) interest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50920" y="1000080"/>
            <a:ext cx="39700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custo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tea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play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 interview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universit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mm Al-Qur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Khae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em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849920" y="928440"/>
            <a:ext cx="39700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. Palestin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0. “In Focus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1. cameram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. calle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3. ke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4. variou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5. ow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57184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This is Yasser Al-Oma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He is twenty-tw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He is from S 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It is Ha’i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Al- Jazirah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camerama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reading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: businessma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2571840" y="214200"/>
            <a:ext cx="29858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45920" y="2171880"/>
            <a:ext cx="8002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. Let me see it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3. Let me mend it for you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4. Let me ask him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5. Let me cut it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WordArt 4" descr=""/>
          <p:cNvPicPr/>
          <p:nvPr/>
        </p:nvPicPr>
        <p:blipFill>
          <a:blip r:embed="rId1"/>
          <a:stretch/>
        </p:blipFill>
        <p:spPr>
          <a:xfrm>
            <a:off x="2846520" y="208080"/>
            <a:ext cx="3004920" cy="809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904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. Let’s walk into town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3. Let’s go to a restaurant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4. Let’s phone him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5. Let’s have some juice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45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11:32Z</dcterms:created>
  <dc:creator>Abu Anas</dc:creator>
  <dc:description/>
  <dc:language>en-US</dc:language>
  <cp:lastModifiedBy>v.ocarroll</cp:lastModifiedBy>
  <dcterms:modified xsi:type="dcterms:W3CDTF">2013-06-30T07:21:20Z</dcterms:modified>
  <cp:revision>5</cp:revision>
  <dc:subject/>
  <dc:title>1</dc:title>
</cp:coreProperties>
</file>