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arrow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1AF-0B9C-4ED6-A198-6B198933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D05-25F2-4480-9BDB-26C86A2C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9FD-B31C-4340-8368-D96E13FD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D5C-4238-496C-9B9C-6B7D3986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5CE7-9BD7-4E59-B38B-C64AA068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67C5-C895-4084-B7F7-90C8EBF4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4AB8-A4CB-4669-90A5-CC92885F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B507-49C2-4DB2-8866-80EB3F0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E7A7-38DB-423C-8A9D-FEDF0D17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AFAC-B4D7-4CF5-823A-8E4785DE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D227-75ED-4196-A0AD-F6B0E9E4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98F-30BA-45E0-A9FD-157A066E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70EB-363A-4302-BAAD-DE56530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B730-705F-444A-8237-3C1F3BCB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7C02-1519-4DF2-BBC5-4E22DA23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D2B9-4FB9-4B15-ABA2-1B1BC944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D3D7-5D18-4D36-A13C-DE816707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22EB-DDE1-4565-B5B7-22C5F1A1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E8E8-9AD9-4591-8C1D-0B6EDCAE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5C41-E7A2-4EA4-B9AE-A63873C6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EA1B-5BBD-431D-BC40-B1873372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03B5-9243-4399-BE92-6D718D61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029-E9FE-4ABB-8473-02730F85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19BB-B017-4C98-AC51-3CDDE249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37AD-77C6-4109-8B26-EF475126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687DF-3752-417E-B677-5CD154E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FCAC-5993-4F3C-9A79-5F0CBEB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7DEE-E688-4297-A4BC-C15A77CF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0ABE-DF5E-42A2-9A59-9767F181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39FC-47C9-4F7C-9576-E8988D34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D714-EE3B-4281-B594-7DBBA8D7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7A93-D7AA-451D-B646-7C8711DD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6BDDC-A99A-43EB-B703-1980D508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D3B-3423-407C-B737-F04D1B63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53C6-0D97-47A3-A3F9-B554BC0E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2931-E08D-4D4E-B8C7-B48DB4FE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534B5-176A-471C-ADE6-FF79FD57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55995-21CB-40B9-A594-0897473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701C-BE58-49A7-BF16-AFF0958B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B1D07-D164-44D8-90AE-80D8E6DC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4C7C-B8A1-48CA-9DC7-F68909F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E804-C653-4BFF-BB95-C9E1588E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1E10-A905-410C-96DC-DA2BB862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3A6-9E34-4FEE-A004-2F07FF7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539-B44A-4E4C-97E1-5E370641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A88-4DB8-4CE7-8F36-D131DB8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926-CCD8-45E5-B043-16E0C0F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9D2-C2BB-4DF1-B7EC-9DCE6FD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F490-F5FC-472F-8358-755C0872EE1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D1AF-E677-408E-A243-4DD8B43C8E0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67D6-7BA2-4188-A8C7-EB41D0A33B0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F26E-407F-432D-885D-C5FC476FDF2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23800" y="146160"/>
            <a:ext cx="9236160" cy="2500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nstantia"/>
              </a:rPr>
              <a:t>School in Britain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-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It finishes at 4 p.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- </a:t>
            </a: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-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between the ages of five and sixte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-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 La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-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 English and math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285768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42960" y="1643040"/>
            <a:ext cx="26431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nstantia"/>
              </a:rPr>
              <a:t>1. more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nstantia"/>
              </a:rPr>
              <a:t>2. more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nstantia"/>
              </a:rPr>
              <a:t>3. less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nstantia"/>
              </a:rPr>
              <a:t>4. less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nstantia"/>
              </a:rPr>
              <a:t>5. more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0" y="1428480"/>
            <a:ext cx="4038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6. mor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7. mor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8. fewer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9. les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10. fewer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2857680" y="214200"/>
            <a:ext cx="35002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1285920"/>
            <a:ext cx="856908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1. elementary, junior, high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2. No, they don’t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3. 120 credits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4. junior high school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5. every child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857680" y="214200"/>
            <a:ext cx="35002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56760" y="1143000"/>
            <a:ext cx="44658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an elementary schoo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a primary schoo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a high schoo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a secondary schoo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a junior high schoo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compa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35640" y="928440"/>
            <a:ext cx="3457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7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take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8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specialize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9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graduate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10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percen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11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compulsory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12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Spanish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13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biology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14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viewer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15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course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2857680" y="214200"/>
            <a:ext cx="35002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3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54:42Z</dcterms:created>
  <dc:creator>Abu Anas</dc:creator>
  <dc:description/>
  <dc:language>en-US</dc:language>
  <cp:lastModifiedBy>v.ocarroll</cp:lastModifiedBy>
  <dcterms:modified xsi:type="dcterms:W3CDTF">2013-06-30T07:42:16Z</dcterms:modified>
  <cp:revision>4</cp:revision>
  <dc:subject/>
  <dc:title>الشريحة 1</dc:title>
</cp:coreProperties>
</file>