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suction.wav" ContentType="audio/x-wav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F14-EF54-4379-9375-4C0E4DC0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B75F-FC03-4572-A9F1-D40B53E8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EC1-D35B-4C6D-9867-6D20153A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50C-7E8D-45FC-8D82-424D896F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1164-CE0A-4411-B082-7C9B4327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7DFD-F7C7-4AD9-9180-81392F85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DC84-9C7B-4BAB-82DD-3141F630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B661-2C01-40EF-A1F2-19C551D7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BCE1-73DF-41B9-9790-9F3777CD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A919-1EA1-4323-A14F-FDDF7579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E052-4BA0-4E8D-8D15-591A80DC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8046-0ED8-42B7-AED6-9D75CBA5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2390-E399-4FDB-8F27-505115D3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3335-ED1D-4EED-8502-7B40311B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D6AD-9975-4834-9F85-9E35E2BC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8E17-6445-4234-B3E9-7AB2AC1C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20C8-ADD3-48CA-9724-3BB75F2F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E81E9-C9F9-4D58-B68C-8034DBBB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3BC02-61E2-46C5-8498-E04D7CED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2FE11-8DCA-4D2F-9292-C542DDE9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CEF03-41C9-4F80-B2DB-EBC866D8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A99B5-53DF-4776-ABBF-322673B3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25E-7EBF-485C-B4DF-EAF11D93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8D0B5-89A3-44C1-ACFA-41B48FD8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F5564-9AE0-41CE-8281-4CB146D1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330A7-1F69-42F5-AA4F-2AB29C84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DBB49-89C6-45AF-A672-F6A96AD1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D8FF7-5A58-4213-A2AC-C885F6C4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E4E9D-FF94-4643-9038-BF7A71C8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E83D9-06E6-4227-A663-A2C991C5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5F8D1-5CDC-47B2-B2BF-22499B9D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5603A-49BC-4108-A0C1-0733A912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82EEE-9643-4989-94FE-B878D061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7863-12DB-42AA-828F-2651F9CC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7DE7C-5A38-40CB-87DC-A3BF694C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595D0-7B34-4C4F-AFD6-B3C8E4B9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CE878-B8A5-4054-A762-67DEFD41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DD27E-6C68-444E-8DFB-8EE9DDFF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F1A10-C975-4775-B15A-E4451300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20B0C-D55B-4451-B1BD-08AC49B5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BAEC6-908C-4042-ACEE-5877471F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6221D-FCB0-4CAF-B5C4-B76F980A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A7C3E-1B1A-49FB-9AD8-FDD0921F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B600-5CF2-469A-989F-65FFD1A5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CD82-9512-47EE-9877-34DDF5EC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D76-C6AE-4EBD-8B74-3DDB848A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91F4-1B10-4773-A21B-FE5FD1EF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8036-B1C5-48B5-A4F0-6BEB7BBB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E0D8-4745-4FC0-9816-9D20FFFC0F8E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6890-6ACD-4AA8-9B1A-A3F651B45630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C3AB-91A4-4C3E-B71B-2A9386C0E542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76CB-E36E-4B5C-821A-20F983FC7B9A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33240" y="360360"/>
            <a:ext cx="8815680" cy="2498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900" spc="-1" strike="noStrike">
                <a:solidFill>
                  <a:srgbClr val="ffffff"/>
                </a:solidFill>
                <a:latin typeface="Constantia"/>
              </a:rPr>
              <a:t>Before Al Hajj</a:t>
            </a:r>
            <a:r>
              <a:rPr b="1" lang="en-US" sz="47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47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2160" y="1356840"/>
            <a:ext cx="40431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interviewed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sked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has be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have paid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go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3280" y="1214280"/>
            <a:ext cx="404352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has ma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started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did not hav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has not done has go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2857680" y="214200"/>
            <a:ext cx="350028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64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00" name="Rectangle 6" descr=""/>
          <p:cNvPicPr/>
          <p:nvPr/>
        </p:nvPicPr>
        <p:blipFill>
          <a:blip r:embed="rId1"/>
          <a:stretch/>
        </p:blipFill>
        <p:spPr>
          <a:xfrm>
            <a:off x="-109440" y="79200"/>
            <a:ext cx="1798560" cy="15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618920" y="1499760"/>
            <a:ext cx="54529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-464040">
              <a:lnSpc>
                <a:spcPct val="70000"/>
              </a:lnSpc>
              <a:spcBef>
                <a:spcPts val="1026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464040" indent="0">
              <a:lnSpc>
                <a:spcPct val="70000"/>
              </a:lnSpc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464040" indent="-464040">
              <a:lnSpc>
                <a:spcPct val="70000"/>
              </a:lnSpc>
              <a:spcBef>
                <a:spcPts val="1026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464040" indent="0">
              <a:lnSpc>
                <a:spcPct val="70000"/>
              </a:lnSpc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464040" indent="-464040">
              <a:lnSpc>
                <a:spcPct val="70000"/>
              </a:lnSpc>
              <a:spcBef>
                <a:spcPts val="1026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464040" indent="0">
              <a:lnSpc>
                <a:spcPct val="7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464040" indent="0">
              <a:lnSpc>
                <a:spcPct val="7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4. 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464040" indent="0">
              <a:lnSpc>
                <a:spcPct val="70000"/>
              </a:lnSpc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464040" indent="0">
              <a:lnSpc>
                <a:spcPct val="7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5. 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2500200" y="1357200"/>
            <a:ext cx="79056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2500200" y="2571840"/>
            <a:ext cx="79056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2500200" y="3643200"/>
            <a:ext cx="79056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2500200" y="4714920"/>
            <a:ext cx="79056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2500200" y="5786280"/>
            <a:ext cx="79056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3500280" y="0"/>
            <a:ext cx="350064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64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640" y="115560"/>
            <a:ext cx="101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5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5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5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5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48320" y="1595520"/>
            <a:ext cx="39700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595520"/>
            <a:ext cx="3970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h   o 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l    a 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   e  n 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a   c   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 e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title"/>
          </p:nvPr>
        </p:nvSpPr>
        <p:spPr>
          <a:xfrm>
            <a:off x="107640" y="115560"/>
            <a:ext cx="101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859280" y="1773360"/>
            <a:ext cx="397044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 o r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  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   u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50560" y="1214280"/>
            <a:ext cx="40431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counter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air fare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boarding pass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agent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departure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just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at the moment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at least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ever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once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76480" y="1000080"/>
            <a:ext cx="404316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11. look forward to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12. save up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13. join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14. board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15. try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16. life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17. lounge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18. visa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19. everything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20. chance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WordArt 4"/>
          <p:cNvSpPr txBox="1"/>
          <p:nvPr/>
        </p:nvSpPr>
        <p:spPr>
          <a:xfrm>
            <a:off x="2857680" y="0"/>
            <a:ext cx="350028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68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441320" y="1557000"/>
            <a:ext cx="44960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nstantia"/>
              </a:rPr>
              <a:t>7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 the most expensiv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nstantia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 the bes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nstantia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 the dirtie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nstantia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 the wors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043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. the safest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. the most beautiful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. the nicest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. the most important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2857680" y="0"/>
            <a:ext cx="350028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73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title"/>
          </p:nvPr>
        </p:nvSpPr>
        <p:spPr>
          <a:xfrm>
            <a:off x="107640" y="115560"/>
            <a:ext cx="101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pull dir="rd"/>
    <p:sndAc>
      <p:stSnd>
        <p:snd r:embed="rId1" name="suction.wav"/>
      </p:stSnd>
    </p:sndAc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835280" y="1484280"/>
            <a:ext cx="6121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onstantia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. star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onstantia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. arrives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onstantia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. does…take off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onstantia"/>
              </a:rPr>
              <a:t>5</a:t>
            </a: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. do…leave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07640" y="115560"/>
            <a:ext cx="101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I hope so, too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I think so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I think so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I hope so, too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I hope so, too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WordArt 4"/>
          <p:cNvSpPr txBox="1"/>
          <p:nvPr/>
        </p:nvSpPr>
        <p:spPr>
          <a:xfrm>
            <a:off x="2857680" y="0"/>
            <a:ext cx="350028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73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16:49:05Z</dcterms:created>
  <dc:creator>Abu Anas</dc:creator>
  <dc:description/>
  <dc:language>en-US</dc:language>
  <cp:lastModifiedBy>v.ocarroll</cp:lastModifiedBy>
  <dcterms:modified xsi:type="dcterms:W3CDTF">2013-06-30T08:17:50Z</dcterms:modified>
  <cp:revision>6</cp:revision>
  <dc:subject/>
  <dc:title>الشريحة 1</dc:title>
</cp:coreProperties>
</file>