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wind.wav" ContentType="audio/x-wav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336-91F1-49B3-8117-C7D57B39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EC5-C545-4761-B8BF-2C00B24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A06-93EC-4DF1-885A-23A2899C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7CA-ECD0-41F5-9B84-2C530B17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B6B9-3319-483B-A5EF-2A400A19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1062-A94A-4E4B-9861-43B7DF5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7FE4-827A-4A76-B2F1-6704D03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F57A-ABF6-4798-B97A-AEDC9EF2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79B1-D8FF-434A-BFE7-CCC65243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66AF-78D8-4E57-B258-FD00133C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FB94-3E06-4D86-AAE5-141EE9C5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44C-D1E5-42C4-9B3A-CCA607EB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2A68-D867-429E-B729-7E12A9A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FB8E-BF82-4E0C-A4CE-FA3EF4FF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2AD-F48C-4BB3-B995-E6AD122A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9737-BF4B-45E5-84AF-77510756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4D76-668B-474C-9EB2-E8705ED2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5292-3AA4-4457-9527-87E49ABE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7435-3E4D-4669-9B09-4755E480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8B17-BC38-4DA9-9967-07611D61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9F37-00EA-46AA-B88D-80046CA1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C609-1485-4724-ABE4-BE7FB09B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BDD-D7A5-47B4-9BF3-9288E12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2873-32D5-4E45-81B7-44F5B798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0B39-23FE-4AA3-BB00-CFFC02B5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A5A1-88AF-4B0A-BD41-5C17614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DD98-EA9D-4F64-BEAC-9C79CBEE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D455-C578-477A-8253-0F9AAC08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710F-CBB6-4B16-9150-545EB42B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99DB-48D6-4468-BB97-F8C3D4E0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8650-8B18-41B4-8AFE-DE8D568B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465E-1443-4578-B704-7E36C551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2BDF-9AAA-400E-9035-281351D1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5F2-1491-47CB-80F0-D260E1F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BA9C-2C29-48D6-8E0A-59C092B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83C7-F536-4B3B-9D03-A5F51412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04A3-47E7-4C37-ADE6-CA11569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387F-F759-44BC-9102-732E0F8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9396-C839-4515-8DDD-D223B01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F054-D3D4-4401-B686-D088AEA1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687E3-4585-4A27-AE9C-0A2DABE7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19B6-DA93-471C-9C78-4868AE8C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0118-CDF0-4861-A77E-22796BF6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330-CD22-4341-BD35-97CBA13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2B0-B391-40AD-9D96-0F33A97E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BD6-746F-467C-A5AD-F27FE821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936-EF5C-40D5-A626-1640EF4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516-E8AF-4CC3-8832-A67DE4E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F6BF-5045-4659-A6B1-042E791B1D1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CF9A-FDD8-4955-BFCC-5FD446CFF54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E159-5A97-4437-8C2B-C5866E9A8C0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98F-F56E-44FA-89C0-5E4F1418DE0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139680" y="-457200"/>
            <a:ext cx="10831320" cy="33228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3"/>
          <p:cNvSpPr txBox="1"/>
          <p:nvPr/>
        </p:nvSpPr>
        <p:spPr>
          <a:xfrm>
            <a:off x="533520" y="3048120"/>
            <a:ext cx="8076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Arial Black"/>
              </a:rPr>
              <a:t>Arab Aid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…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ut 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…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 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…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r without 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…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nd visit 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…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r basketball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…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ut 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…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s 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8288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Page : 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57400" y="16761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23880" y="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Page : 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80880" y="83808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s calle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ve packe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s grown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s produce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s com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8288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Page : 69 </a:t>
            </a:r>
            <a:r>
              <a:rPr b="1" lang="en-US" sz="6600" spc="-1" strike="noStrike">
                <a:solidFill>
                  <a:srgbClr val="404040"/>
                </a:solidFill>
                <a:latin typeface="Constantia"/>
              </a:rPr>
              <a:t>,</a:t>
            </a: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 70</a:t>
            </a:r>
            <a:r>
              <a:rPr b="1" lang="en-US" sz="6600" spc="-1" strike="noStrike">
                <a:solidFill>
                  <a:srgbClr val="404040"/>
                </a:solidFill>
                <a:latin typeface="Constantia"/>
              </a:rPr>
              <a:t>&amp;</a:t>
            </a: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 7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152280" y="38088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ve been building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s been teaching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ve been listening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ve been sleeping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has been ringing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380880" y="22860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…..has he been studying English?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e has been studying for 6 months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825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……has he been reading the Arab News?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e has been reading it since 1984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825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4…….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have they been waiting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y have been waiting since 6 o’clock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228600" y="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3716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5………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ave we been driving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e have been driving for 3 hour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ff3300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6. ……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as it been drinking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been drinking for 20 m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43_"/>
          <p:cNvPicPr/>
          <p:nvPr/>
        </p:nvPicPr>
        <p:blipFill>
          <a:blip r:embed="rId1"/>
          <a:stretch/>
        </p:blipFill>
        <p:spPr>
          <a:xfrm>
            <a:off x="1447920" y="2209680"/>
            <a:ext cx="2408040" cy="29718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3"/>
          <p:cNvSpPr txBox="1"/>
          <p:nvPr/>
        </p:nvSpPr>
        <p:spPr>
          <a:xfrm>
            <a:off x="4572000" y="24382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7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819160" y="1828440"/>
            <a:ext cx="3733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F - 25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T – 7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F – 55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F – 34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T - 9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066680" y="228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Constantia"/>
              </a:rPr>
              <a:t>Page : 7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240" y="685800"/>
            <a:ext cx="205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057400" y="685800"/>
            <a:ext cx="21337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267080" y="685800"/>
            <a:ext cx="22100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858000" y="685800"/>
            <a:ext cx="2057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-15228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onstantia"/>
              </a:rPr>
              <a:t>Page : 7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7:50:55Z</dcterms:created>
  <dc:creator>Bafayad</dc:creator>
  <dc:description/>
  <dc:language>en-US</dc:language>
  <cp:lastModifiedBy>MAAS</cp:lastModifiedBy>
  <dcterms:modified xsi:type="dcterms:W3CDTF">2013-06-29T23:40:54Z</dcterms:modified>
  <cp:revision>31</cp:revision>
  <dc:subject/>
  <dc:title>عرض تقديمي من PowerPoint</dc:title>
</cp:coreProperties>
</file>