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arrow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D01-3D38-4918-BE92-52FF85BD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79F-B325-4287-A1F7-BC2553B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661-00B0-4157-A32C-7364BF7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592-23C3-4F31-9B3C-8303E565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602C-118D-4C51-B21D-1BD08576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E70F-AD30-4863-9013-58826FEB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69FF-8EEE-4A57-A825-DF24730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C843-84D4-4FD3-AFF8-CA63BDB8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B46D-453B-4726-A5BF-52D25D5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6223-F3E5-4073-81EB-0619B5E5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975-78EB-4DAC-AF2F-2325184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C7D-9A6A-44C9-871E-EA011922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15E2-B502-4852-90F6-417D325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76A-1FD2-4D3B-9018-828412B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A10-BDC7-4603-965A-F5916FD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23FD-7DAB-496F-87CF-D779AD3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BD8-4F14-47B1-A13A-A1FA88AC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B0E7-E210-492F-A3A1-79568C39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7599-4207-4438-B6B1-28AF22D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1CE2-D0B0-4161-BF8A-CFDADAE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6575-C337-45D5-9FA4-90E833B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2A83-B0D8-42BC-B671-DF573C0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343-DF66-4AC8-ADED-D6E0754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4BDD-ED1C-44B1-BE99-EE4A679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F73C-DD09-4597-B2E8-AF491E0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7A8D-3338-4D21-A1CF-7104FFD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DD2D-B87B-4E97-A57B-9AFFBCD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41CF-1C2E-41C8-B148-14BA6A4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80D1-A81F-417E-AF6E-207CC438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6C52-D740-4835-85F4-50BA8A6C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B2CC-FDD7-4182-9304-6A4081AA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7052-FEA2-4899-925E-2EA06A2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E7EB-5FF8-4A8A-A176-D8E70CE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209-225A-4D3B-BD3C-1C978A2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A9902-6234-4C4D-BABC-FD2FB05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66F8-4B39-465B-BEBE-C5B8D843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F25C-DF26-473B-AD25-DDE0B23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B2DD-9D10-45A8-B26E-8A007C6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7548-5D48-4976-9899-9F34458F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16A3-2631-4C72-9B8B-1693BFAF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CC82-27CE-40A5-8D83-0ACAE47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FD7E-239F-4E71-96FB-91A9FCF7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523D-ADFE-4F9C-8787-B88D3F10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67D-FCE9-4586-B6E1-4E8903D8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439-1CAA-40FE-B4B0-83D8B75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7F2-D188-443D-8783-B1379D6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DA7-C1EA-440F-96B9-B824C15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885-F5D7-41F9-9232-93C6D3D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5D6-7CCB-462E-AD84-02360488E15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98D7-9150-4F33-938B-DA9C10F7715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D01D-4B62-4E54-823B-CEF9D3B802C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A33B-80AE-43D0-8342-54EB8244AF0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231840" y="1444680"/>
            <a:ext cx="98456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3"/>
          <p:cNvSpPr txBox="1"/>
          <p:nvPr/>
        </p:nvSpPr>
        <p:spPr>
          <a:xfrm>
            <a:off x="1600200" y="1371600"/>
            <a:ext cx="6400800" cy="30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nnector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= = = and = = =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= = = and = = = but = = =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= = =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143000" y="304920"/>
            <a:ext cx="6400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47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have a blue book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 red book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bu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annot have bo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= = and = =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= = but = =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= = and He built =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= = but He still =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Line 5"/>
          <p:cNvSpPr/>
          <p:nvPr/>
        </p:nvSpPr>
        <p:spPr>
          <a:xfrm flipH="1">
            <a:off x="2819160" y="571500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H="1">
            <a:off x="2971440" y="457200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1143000" y="152280"/>
            <a:ext cx="6400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48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r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stablish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l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ojects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h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rab </a:t>
            </a:r>
            <a:r>
              <a:rPr b="0" lang="en-US" sz="40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ntr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ay 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ars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6520" indent="-506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ntries 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1143000" y="228600"/>
            <a:ext cx="6400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50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9:08:21Z</dcterms:created>
  <dc:creator>Bafayad</dc:creator>
  <dc:description/>
  <dc:language>en-US</dc:language>
  <cp:lastModifiedBy>MAAS</cp:lastModifiedBy>
  <dcterms:modified xsi:type="dcterms:W3CDTF">2013-06-29T21:49:56Z</dcterms:modified>
  <cp:revision>5</cp:revision>
  <dc:subject/>
  <dc:title>عرض تقديمي من PowerPoint</dc:title>
</cp:coreProperties>
</file>