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38C-2553-4259-AC68-48632331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F18-EE10-442C-AD76-1DC82DD2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0C3-C969-4349-89E9-F872F0CD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571-D555-4255-87FB-23B04220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6552-10BB-4D6D-A6F0-AD19DF21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70AD-C024-423C-AC46-882B8613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0812-EAC4-4BB2-BF36-EB8E799B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0796-A7DD-42C6-AA10-403C9AFB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686A-0FF5-4A6E-AB80-9BE7B0CB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4404-B2E5-4DF9-B7EB-5B15426E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CAA2-0FEB-4D3F-BC60-E905CAA8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536-DF39-4150-90D9-5D655C42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742B-62FB-450D-BD93-A657BC6B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D688-792A-4813-8E5A-F835C426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AA7B-F429-40B4-A387-D5232712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67D1-9758-4DD7-A1D6-BBF9ADF0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D299-9389-402D-B15C-FD1D4F2E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47F1-8083-4005-AC6A-0EB7F621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C4BB-28F9-416B-B79D-08148532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4E7A-76F5-4236-BE59-04C7CC14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1620-AB02-4093-BD80-E91F729C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8A8A-631A-4FDE-9510-CE20AA51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AC0-6C26-42A3-8268-8230C214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1B05-7640-41A7-B9D8-A0B0EBE3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EEAC-6DC5-4832-A81C-05D14CF4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91FA3-276D-452B-AA1F-7818770C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F8A1-7BFB-4797-A0AF-32CB83D8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5BD9-624E-4A63-B60B-65C19568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73C6A-AA05-4518-A832-33E01055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6EE3-8015-4F9B-BBD9-C56D7837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0854C-1315-446A-8E3B-FC9ACC6A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DBC0-EEF5-46AE-8FE7-5C5ACC7A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636EA-1314-42C8-A1B4-E0A7D348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E63-FF9A-4C47-916B-F3B2EEE4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6247-9B63-4721-9EEC-B4BF9F6B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43B0E-8A0A-4BF1-9C35-F4A4E134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3222D-F235-49B9-BF1D-4A203CE2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1C63C-E933-409E-B18C-BAE68300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77908-E084-40BF-8984-9A983548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53A9-7925-4A89-AD8F-F51E61CE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6E0D-68C5-4507-B481-D225F246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B388C-8BDA-4511-B8F1-D81C27CE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F96E-F63E-4BF3-B87C-AD8C734F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43A-8E6B-467A-9FEB-C822B79A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BF6-E400-4620-8517-ADB20860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F5B-D217-4FD4-B133-F61FD651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62D-E5E1-4126-ACD2-080223E8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27B-71AC-4B24-80A2-B30A10CF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58EF-CDCC-468D-AD72-AFDE23A9069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6C41-0ECE-4A6B-BDB2-155E8E86007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D3FF-6321-4E66-BE64-7D289ED0DBEE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7CCA-CA72-4E7A-9EEC-7E0EE71A747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-23760" y="1352520"/>
            <a:ext cx="9631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1" descr=""/>
          <p:cNvPicPr/>
          <p:nvPr/>
        </p:nvPicPr>
        <p:blipFill>
          <a:blip r:embed="rId1"/>
          <a:stretch/>
        </p:blipFill>
        <p:spPr>
          <a:xfrm>
            <a:off x="450720" y="987480"/>
            <a:ext cx="83217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3352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……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Earth</a:t>
            </a:r>
            <a:r>
              <a:rPr b="0" lang="en-US" sz="6600" spc="-1" strike="noStrike">
                <a:solidFill>
                  <a:srgbClr val="ff3300"/>
                </a:solidFill>
                <a:latin typeface="Constanti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ars</a:t>
            </a:r>
            <a:r>
              <a:rPr b="0" lang="en-US" sz="6600" spc="-1" strike="noStrike">
                <a:solidFill>
                  <a:srgbClr val="ff3300"/>
                </a:solidFill>
                <a:latin typeface="Constanti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 …… Venus</a:t>
            </a:r>
            <a:r>
              <a:rPr b="0" lang="en-US" sz="6600" spc="-1" strike="noStrike">
                <a:solidFill>
                  <a:srgbClr val="ff3300"/>
                </a:solidFill>
                <a:latin typeface="Constanti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 …? … it</a:t>
            </a:r>
            <a:r>
              <a:rPr b="0" lang="en-US" sz="6600" spc="-1" strike="noStrike">
                <a:solidFill>
                  <a:srgbClr val="ff3300"/>
                </a:solidFill>
                <a:latin typeface="Constanti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 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………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ses planet</a:t>
            </a:r>
            <a:r>
              <a:rPr b="0" lang="en-US" sz="7200" spc="-1" strike="noStrike">
                <a:solidFill>
                  <a:srgbClr val="ff3300"/>
                </a:solidFill>
                <a:latin typeface="Constanti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 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676520" y="38088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Times New Roman"/>
              </a:rPr>
              <a:t>Page: 3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 l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791320" y="14479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</a:rPr>
              <a:t>3. potat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971800" y="14479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</a:rPr>
              <a:t>2. wat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5715000" y="37339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</a:rPr>
              <a:t>6.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971800" y="373392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</a:rPr>
              <a:t>5. ap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57200" y="373392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</a:rPr>
              <a:t>4. p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" dur="1" fill="hold"/>
                                  <p:tgtEl>
                                    <p:spTgt spid="2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7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planets           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7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08</a:t>
            </a: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000</a:t>
            </a:r>
            <a:r>
              <a:rPr b="0" lang="en-US" sz="33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000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7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Its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7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days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7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Venus</a:t>
            </a:r>
            <a:r>
              <a:rPr b="0" lang="en-US" sz="4100" spc="-1" strike="noStrike">
                <a:solidFill>
                  <a:srgbClr val="ff3300"/>
                </a:solidFill>
                <a:latin typeface="Constantia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SzPct val="95000"/>
              <a:buFont typeface="Constant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axis </a:t>
            </a:r>
            <a:r>
              <a:rPr b="0" lang="en-US" sz="2700" spc="-1" strike="noStrike">
                <a:solidFill>
                  <a:srgbClr val="ff3300"/>
                </a:solidFill>
                <a:latin typeface="Constantia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no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-4906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SzPct val="95000"/>
              <a:buFont typeface="Constant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t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-4906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SzPct val="95000"/>
              <a:buFont typeface="Constant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onsist</a:t>
            </a:r>
            <a:r>
              <a:rPr b="0" lang="en-US" sz="2700" spc="-1" strike="noStrike">
                <a:solidFill>
                  <a:srgbClr val="ff3300"/>
                </a:solidFill>
                <a:latin typeface="Constantia"/>
              </a:rPr>
              <a:t>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-4906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SzPct val="95000"/>
              <a:buFont typeface="Constant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-4906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SzPct val="95000"/>
              <a:buFont typeface="Constant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ere </a:t>
            </a:r>
            <a:r>
              <a:rPr b="0" lang="en-US" sz="2700" spc="-1" strike="noStrike">
                <a:solidFill>
                  <a:srgbClr val="ff3300"/>
                </a:solidFill>
                <a:latin typeface="Constantia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no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0680" indent="-4906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SzPct val="95000"/>
              <a:buFont typeface="Constanti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move</a:t>
            </a:r>
            <a:r>
              <a:rPr b="0" lang="en-US" sz="3400" spc="-1" strike="noStrike">
                <a:solidFill>
                  <a:srgbClr val="ff3300"/>
                </a:solidFill>
                <a:latin typeface="Constantia"/>
              </a:rPr>
              <a:t> .</a:t>
            </a:r>
            <a:r>
              <a:rPr b="0" lang="en-US" sz="27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er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371600" y="0"/>
            <a:ext cx="350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Times New Roman"/>
              </a:rPr>
              <a:t>Page: 4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18:38:28Z</dcterms:created>
  <dc:creator>Bafayad</dc:creator>
  <dc:description/>
  <dc:language>en-US</dc:language>
  <cp:lastModifiedBy>MAAS</cp:lastModifiedBy>
  <dcterms:modified xsi:type="dcterms:W3CDTF">2013-06-29T21:43:00Z</dcterms:modified>
  <cp:revision>5</cp:revision>
  <dc:subject/>
  <dc:title>عرض تقديمي من PowerPoint</dc:title>
</cp:coreProperties>
</file>