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490-ED33-4243-BB73-88A49858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A74-06AC-46B4-971F-2EB9E7AF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A1D-C8A3-4128-ACE1-3F62E003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CB4-6CB5-45AD-AB96-09C8292B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31CC-080C-4981-9814-9D06BB3D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15AA-BE83-42CB-A9AF-EC318F1F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96BB-EEE1-42B0-BD57-734ECF67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772E-7CBA-4FA2-AC43-270756DE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58BC-9D32-4EC7-9D6E-1AA44B0B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93A0-325A-4CDF-934E-715B8320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0B65-3735-4FAF-8979-EE84A41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0BA-3550-46F7-B6AA-B6E8354C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746E-B2B6-4387-8E41-61D80D4B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4D62-1226-447E-A6EB-BBBE138C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229B-3B2F-48B8-8902-FC4ED1B4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642C-5AF3-401A-B78F-A63540A5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223A-98DA-4E8C-8DA1-CFD578C0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3AF72-FF37-4498-AA4C-103708F1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18A8-8729-4F8D-9442-B3D04E90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B5F9-B9E5-4A3E-866F-A2FB2612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0A4E4-8B74-44C5-8187-37F4F934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9A6A-4FCE-4B7C-83B6-76DEC3A4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35E-0018-4CE0-8AA0-37630102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E77E8-073E-44AD-8653-09C13522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42265-C24A-4970-BCE6-3DC05F3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7FDCC-38B8-4A59-864E-EAB7B193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C26C-ECFE-471D-9386-AB5AC541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9CE5-9880-43F5-A5B6-259E087E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E517-0130-43B4-8A76-2323603E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906F6-EF64-46DD-83A9-0564A692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ED26-376C-4CAA-A02D-F1DC2F17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D9DE8-AAF3-4860-AABE-D6317786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638E9-081E-46B7-A6D2-4EE46CE7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39C-24A3-4773-B809-721070A4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08E1E-F562-4DDF-82E7-A2E31C0A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E7F04-56B2-4702-B314-9C7556D6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39C21-15C0-40DE-B51B-96EF8E08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C4CA4-59E1-4C05-863E-2929396F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7D8D5-6A2A-43CC-BE86-1F9F08DD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89014-E3C2-4AC8-BB72-4710CB51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304DE-22C8-4AAE-9AE7-32487BD4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360C5-F67D-42DC-A6DA-3C31D585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274AC-0F10-455A-945C-7311F241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EDC-3FCD-4DD7-B635-5EB18132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8ED-633E-46B0-B449-1E053BB2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6D4-ED42-4980-9CE4-59449DC7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B66-7EA3-443C-950A-518232D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71D-05CA-4CA8-B616-283B92CC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1B67-28D4-4AB4-B610-1D8F59D3BF1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5474-9DAD-4113-95A6-44B6C29A7DBD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0EF0-5578-4E43-AA21-AE6D9F5A1A8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45A4-91A8-4DC2-B6B0-CF48D96993B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324000" y="1011240"/>
            <a:ext cx="101268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In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nstantia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Afte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runk </a:t>
            </a:r>
            <a:r>
              <a:rPr b="0" lang="en-US" sz="5400" spc="-1" strike="noStrike">
                <a:solidFill>
                  <a:srgbClr val="ff3300"/>
                </a:solidFill>
                <a:latin typeface="Constanti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5400" spc="-1" strike="noStrike">
                <a:solidFill>
                  <a:srgbClr val="ff3300"/>
                </a:solidFill>
                <a:latin typeface="Constantia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The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960" y="114264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id </a:t>
            </a:r>
            <a:r>
              <a:rPr b="0" lang="en-US" sz="5400" spc="-1" strike="noStrike">
                <a:solidFill>
                  <a:srgbClr val="ff3300"/>
                </a:solidFill>
                <a:latin typeface="Constanti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4400" spc="-1" strike="noStrike">
                <a:solidFill>
                  <a:srgbClr val="ff3300"/>
                </a:solidFill>
                <a:latin typeface="Constantia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mada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8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awn </a:t>
            </a:r>
            <a:r>
              <a:rPr b="0" lang="en-US" sz="5400" spc="-1" strike="noStrike">
                <a:solidFill>
                  <a:srgbClr val="ff3300"/>
                </a:solidFill>
                <a:latin typeface="Constanti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8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Constant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egins </a:t>
            </a:r>
            <a:r>
              <a:rPr b="0" lang="en-US" sz="5400" spc="-1" strike="noStrike">
                <a:solidFill>
                  <a:srgbClr val="ff33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1676520" y="1295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447920" y="152280"/>
            <a:ext cx="617220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ge 34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4:44:13Z</dcterms:created>
  <dc:creator>Bafayad</dc:creator>
  <dc:description/>
  <dc:language>en-US</dc:language>
  <cp:lastModifiedBy>MAAS</cp:lastModifiedBy>
  <dcterms:modified xsi:type="dcterms:W3CDTF">2013-06-29T21:40:00Z</dcterms:modified>
  <cp:revision>6</cp:revision>
  <dc:subject/>
  <dc:title>عرض تقديمي من PowerPoint</dc:title>
</cp:coreProperties>
</file>