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chimes.wav" ContentType="audio/x-wav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36F8-C84B-4B8C-B1A0-B658245A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EF7C-6EDE-4117-A8E5-6E15AF5F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B87C-AF9A-435F-B5EF-394A47266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F6E8-4CB1-40EF-AA61-057FD675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85AC-6092-4BDE-9424-3118DD473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7230-74D6-4FDE-824E-785369E7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EB76-E2FE-4C9F-BE1B-42836971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C766-8949-4976-928E-061182D4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0168-AED9-4C0C-B04A-AD4B7FD9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7E52-DA66-4B86-96FF-ADDD253D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CFD9-545F-45F0-A9C8-C61F2D9C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2450-BAC9-46E0-B536-E0BD219A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D69A-FFFC-4812-8C04-1F93C4BC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E5DF-E152-464A-97FF-22E162F1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A651-4CD1-4383-95E0-52DDA468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1194-7971-4B4D-AE61-700811B3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7F7C-7CF1-4D42-8DBC-213DA0297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CD089-DDE0-4AAD-95F7-CCDAC182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DE04A-D744-43BD-A452-0E8D1D8B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BC73A-F022-4502-A1F0-D021572F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C552E-E29E-453B-AD5D-E026FD33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2C11B-510E-40DC-88C9-2EB2E310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0148-879D-48D9-9A3D-136C06E2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6FDE2-C1B1-4A8F-A8D2-888EA1CF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F2EC5-764A-4A29-950E-B81DBC07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B5D48-345B-4195-9CF8-BE9991C0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8FF10-C796-4449-B57F-8C9D8C95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A8C8A-3856-4422-8B91-D9D53895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8373D-EB31-464B-9728-CF5536A6B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7B7E8-D5B8-4ADF-8819-59AB181F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BDCC0-D563-4042-834F-9E571355D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D9243-4FB6-46D1-A30B-F7FBD3D9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D3D09-75FE-441B-8C62-E1D03707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DF0F-CAD5-44E0-BCBC-074AC8C4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D3C72-6475-428E-9D81-9FC4934A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86028-C629-4DCB-8ADA-CAD1EAE9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5EC20-4E0F-42FA-B5E1-F0E35E2E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59052-39E5-4BB5-89A4-4EF6616B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837F6-221E-4378-87AF-774C5996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EBC62-0CD5-4638-B529-4FE729F7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B0F0A-9F2B-4475-ACBC-E48A4A3B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151E7-BE2D-4B93-8270-D6B7BB84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0256A-DF5C-4DBA-B04A-F3AAD9507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0896-D83A-4EDF-9A55-D717C23C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DDC4-8410-4D3C-BC7A-8A9D7DF2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7BA0-9981-4697-A8B8-4DD3BA5E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66B3-5B36-4807-B5A7-2DFE9419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0FCA-88C9-4EE9-9C4D-DBC6ACF9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6F64-66DB-4DD8-9F70-6C908AE8954E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C890-7F31-4196-BEA9-61A22FF86F3F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B6CF-4394-4696-9CD3-43E0D1BF2AB9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9633-9BC6-4A3C-8126-012D9C86F0FC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-695160" y="-231840"/>
            <a:ext cx="11064600" cy="3328920"/>
          </a:xfrm>
          <a:prstGeom prst="rect">
            <a:avLst/>
          </a:prstGeom>
          <a:ln w="0">
            <a:noFill/>
          </a:ln>
        </p:spPr>
      </p:pic>
      <p:pic>
        <p:nvPicPr>
          <p:cNvPr id="196" name="Rectangle 4" descr=""/>
          <p:cNvPicPr/>
          <p:nvPr/>
        </p:nvPicPr>
        <p:blipFill>
          <a:blip r:embed="rId2"/>
          <a:stretch/>
        </p:blipFill>
        <p:spPr>
          <a:xfrm>
            <a:off x="396720" y="3035160"/>
            <a:ext cx="8375760" cy="200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B) 1. I have been learning English for 5 yea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2. I have used 5 English book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) 1. He has been shooting for 5 yea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He has shot 100 elepha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D) 1. He has been driving for 4 hou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2. He has driven 440 k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) 1. She has been washing for 1 ho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She has washed 10 thob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F) 1. He has been flying for 20 yea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2. He has flown a million mi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WordArt 3" descr=""/>
          <p:cNvPicPr/>
          <p:nvPr/>
        </p:nvPicPr>
        <p:blipFill>
          <a:blip r:embed="rId1"/>
          <a:stretch/>
        </p:blipFill>
        <p:spPr>
          <a:xfrm>
            <a:off x="1206360" y="-12600"/>
            <a:ext cx="5359680" cy="110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80880" y="14475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i="1" lang="en-US" sz="4400" spc="-1" strike="noStrike" u="sng">
                <a:solidFill>
                  <a:srgbClr val="002060"/>
                </a:solidFill>
                <a:uFillTx/>
                <a:latin typeface="Constantia"/>
              </a:rPr>
              <a:t>Ex: 1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onstantia"/>
              </a:rPr>
              <a:t>A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- </a:t>
            </a:r>
            <a:r>
              <a:rPr b="0" lang="en-US" sz="4000" spc="-1" strike="noStrike">
                <a:solidFill>
                  <a:srgbClr val="002060"/>
                </a:solidFill>
                <a:latin typeface="Constantia"/>
              </a:rPr>
              <a:t>for all of them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He protects animal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Poachers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People who hunt animals illegally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WordArt 3" descr=""/>
          <p:cNvPicPr/>
          <p:nvPr/>
        </p:nvPicPr>
        <p:blipFill>
          <a:blip r:embed="rId1"/>
          <a:stretch/>
        </p:blipFill>
        <p:spPr>
          <a:xfrm>
            <a:off x="1206360" y="-12600"/>
            <a:ext cx="4761000" cy="110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5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0880" y="1447560"/>
            <a:ext cx="6400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i="1" lang="en-US" sz="4800" spc="-1" strike="noStrike" u="sng">
                <a:solidFill>
                  <a:srgbClr val="002060"/>
                </a:solidFill>
                <a:uFillTx/>
                <a:latin typeface="Constantia"/>
              </a:rPr>
              <a:t>Ex: 3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onstantia"/>
              </a:rPr>
              <a:t>A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- </a:t>
            </a:r>
            <a:r>
              <a:rPr b="0" lang="en-US" sz="4000" spc="-1" strike="noStrike">
                <a:solidFill>
                  <a:srgbClr val="002060"/>
                </a:solidFill>
                <a:latin typeface="Constantia"/>
              </a:rPr>
              <a:t>saving the environment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- Yes , it is . Because more animals  died out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pandas 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WordArt 3"/>
          <p:cNvSpPr txBox="1"/>
          <p:nvPr/>
        </p:nvSpPr>
        <p:spPr>
          <a:xfrm>
            <a:off x="1219320" y="0"/>
            <a:ext cx="473868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ge : 14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2) It </a:t>
            </a:r>
            <a:r>
              <a:rPr b="0" lang="en-US" sz="5600" spc="-1" strike="noStrike">
                <a:solidFill>
                  <a:srgbClr val="ff3300"/>
                </a:solidFill>
                <a:latin typeface="Constantia"/>
              </a:rPr>
              <a:t>had been</a:t>
            </a: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 cleaned. 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3) It </a:t>
            </a:r>
            <a:r>
              <a:rPr b="0" lang="en-US" sz="5600" spc="-1" strike="noStrike">
                <a:solidFill>
                  <a:srgbClr val="ff3300"/>
                </a:solidFill>
                <a:latin typeface="Constantia"/>
              </a:rPr>
              <a:t>had been</a:t>
            </a: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 killed.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4) It </a:t>
            </a:r>
            <a:r>
              <a:rPr b="0" lang="en-US" sz="5600" spc="-1" strike="noStrike">
                <a:solidFill>
                  <a:srgbClr val="ff3300"/>
                </a:solidFill>
                <a:latin typeface="Constantia"/>
              </a:rPr>
              <a:t>had been</a:t>
            </a: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 mended.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5) They </a:t>
            </a:r>
            <a:r>
              <a:rPr b="0" lang="en-US" sz="5600" spc="-1" strike="noStrike">
                <a:solidFill>
                  <a:srgbClr val="ff3300"/>
                </a:solidFill>
                <a:latin typeface="Constantia"/>
              </a:rPr>
              <a:t>had been</a:t>
            </a: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 switched off.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WordArt 3" descr=""/>
          <p:cNvPicPr/>
          <p:nvPr/>
        </p:nvPicPr>
        <p:blipFill>
          <a:blip r:embed="rId1"/>
          <a:stretch/>
        </p:blipFill>
        <p:spPr>
          <a:xfrm>
            <a:off x="1206360" y="-6480"/>
            <a:ext cx="6267600" cy="109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684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2) a- </a:t>
            </a:r>
            <a:r>
              <a:rPr b="0" lang="en-US" sz="3600" spc="-1" strike="noStrike">
                <a:solidFill>
                  <a:srgbClr val="ff3300"/>
                </a:solidFill>
                <a:latin typeface="Constantia"/>
              </a:rPr>
              <a:t>You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knocked at the door, didn’t you?</a:t>
            </a:r>
            <a:r>
              <a:rPr b="0" lang="ar-SA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b- Yes, I did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3) a- </a:t>
            </a:r>
            <a:r>
              <a:rPr b="0" lang="en-US" sz="3600" spc="-1" strike="noStrike">
                <a:solidFill>
                  <a:srgbClr val="ff3300"/>
                </a:solidFill>
                <a:latin typeface="Constantia"/>
              </a:rPr>
              <a:t>He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broke his wrist, didn’t he?</a:t>
            </a:r>
            <a:r>
              <a:rPr b="0" lang="ar-SA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        b-Yes,he did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4) a- </a:t>
            </a:r>
            <a:r>
              <a:rPr b="0" lang="en-US" sz="3600" spc="-1" strike="noStrike">
                <a:solidFill>
                  <a:srgbClr val="ff3300"/>
                </a:solidFill>
                <a:latin typeface="Constantia"/>
              </a:rPr>
              <a:t>They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flew on Saudia, didn’t they?   b- Yes, they did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5) a- </a:t>
            </a:r>
            <a:r>
              <a:rPr b="0" lang="en-US" sz="3600" spc="-1" strike="noStrike">
                <a:solidFill>
                  <a:srgbClr val="ff3300"/>
                </a:solidFill>
                <a:latin typeface="Constantia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rang the wrong bell, didn’t I?        b- Yes, you did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WordArt 3"/>
          <p:cNvSpPr txBox="1"/>
          <p:nvPr/>
        </p:nvSpPr>
        <p:spPr>
          <a:xfrm>
            <a:off x="533520" y="0"/>
            <a:ext cx="39621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Ex. :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5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85800" y="685800"/>
            <a:ext cx="7391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6) a- </a:t>
            </a:r>
            <a:r>
              <a:rPr b="0" lang="en-US" sz="3600" spc="-1" strike="noStrike">
                <a:solidFill>
                  <a:srgbClr val="ff3300"/>
                </a:solidFill>
                <a:latin typeface="Constantia"/>
              </a:rPr>
              <a:t>He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did his homework, didn’t he?       b- Yes, he did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7) a- </a:t>
            </a:r>
            <a:r>
              <a:rPr b="0" lang="en-US" sz="3600" spc="-1" strike="noStrike">
                <a:solidFill>
                  <a:srgbClr val="ff3300"/>
                </a:solidFill>
                <a:latin typeface="Constantia"/>
              </a:rPr>
              <a:t>They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ran very fast, didn’t they?      b- Yes, the did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8) a- </a:t>
            </a:r>
            <a:r>
              <a:rPr b="0" lang="en-US" sz="3600" spc="-1" strike="noStrike">
                <a:solidFill>
                  <a:srgbClr val="ff3300"/>
                </a:solidFill>
                <a:latin typeface="Constantia"/>
              </a:rPr>
              <a:t>You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ate the cake, didn’t you?         b- Yes, I did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9) a- </a:t>
            </a:r>
            <a:r>
              <a:rPr b="0" lang="en-US" sz="3600" spc="-1" strike="noStrike">
                <a:solidFill>
                  <a:srgbClr val="ff3300"/>
                </a:solidFill>
                <a:latin typeface="Constantia"/>
              </a:rPr>
              <a:t>He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pent all his money,didn’t he?  b- Yes, he did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10) a- </a:t>
            </a:r>
            <a:r>
              <a:rPr b="0" lang="en-US" sz="3600" spc="-1" strike="noStrike">
                <a:solidFill>
                  <a:srgbClr val="ff3300"/>
                </a:solidFill>
                <a:latin typeface="Constantia"/>
              </a:rPr>
              <a:t>She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ut her finger,didn’t she?       b- Yes, she did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6840" y="12189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1)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F – 3 : 5 million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2)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F – 10 : every year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3)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T – 15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4)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F – 26 : it is deforestation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5)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T – 32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6)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T – 58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7)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F – 62 : We cannot do that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WordArt 3"/>
          <p:cNvSpPr txBox="1"/>
          <p:nvPr/>
        </p:nvSpPr>
        <p:spPr>
          <a:xfrm>
            <a:off x="1219320" y="0"/>
            <a:ext cx="473868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ge : 22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4617b"/>
                </a:solidFill>
                <a:latin typeface="Calibri"/>
              </a:rPr>
              <a:t>A. en- and re-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33160" y="2895120"/>
            <a:ext cx="2438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94560" indent="-3945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en-US" sz="4400" spc="-1" strike="noStrike">
                <a:solidFill>
                  <a:srgbClr val="ff3300"/>
                </a:solidFill>
                <a:latin typeface="Constantia"/>
              </a:rPr>
              <a:t>	</a:t>
            </a:r>
            <a:r>
              <a:rPr b="0" lang="en-US" sz="4400" spc="-1" strike="noStrike">
                <a:solidFill>
                  <a:srgbClr val="ff3300"/>
                </a:solidFill>
                <a:latin typeface="Constantia"/>
              </a:rPr>
              <a:t>en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abl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105520" y="4419720"/>
            <a:ext cx="35049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r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trodu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04920" y="4343400"/>
            <a:ext cx="30477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r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ur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5334120" y="2819520"/>
            <a:ext cx="2971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e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irc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WordArt 3"/>
          <p:cNvSpPr txBox="1"/>
          <p:nvPr/>
        </p:nvSpPr>
        <p:spPr>
          <a:xfrm>
            <a:off x="1219320" y="0"/>
            <a:ext cx="473868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ge : 25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160" y="11430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- extinctio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- rat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- conservatio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- specie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- plane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6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- fores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800240" y="990720"/>
            <a:ext cx="3809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7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- sourc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8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- fac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9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- mea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10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- visibl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11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- tropical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12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- urgen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WordArt 3"/>
          <p:cNvSpPr txBox="1"/>
          <p:nvPr/>
        </p:nvSpPr>
        <p:spPr>
          <a:xfrm>
            <a:off x="533520" y="0"/>
            <a:ext cx="3733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Ex. : 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3" dur="5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8T19:58:28Z</dcterms:created>
  <dc:creator>Abu Anas</dc:creator>
  <dc:description/>
  <dc:language>en-US</dc:language>
  <cp:lastModifiedBy>MAAS</cp:lastModifiedBy>
  <dcterms:modified xsi:type="dcterms:W3CDTF">2013-06-29T22:26:09Z</dcterms:modified>
  <cp:revision>10</cp:revision>
  <dc:subject/>
  <dc:title>الشريحة 1</dc:title>
</cp:coreProperties>
</file>