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push.wav" ContentType="audio/x-wav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2EB-C0FB-4AF7-94EC-31DD2DE5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944-A74B-476D-B674-EBBCA456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EBF-BA5E-42E5-9D14-8C3A8C30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AAE-8003-4C1D-8903-C723472D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98F0-5B97-4501-BDFE-24017329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0399-A7D4-46FC-8EE5-CDD5AE3A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F2B7-7F59-4209-B3B9-8C239364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9A6D-38F2-41C6-B16B-7CB51E19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0A44-8AE6-4A8B-B6C8-7EF66DE7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221D-49FC-4F65-B8A6-D5CC27DF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84D7-2243-422B-86AE-666D1148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5D9-58D5-40DD-9161-6D7BC1AA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0852-D3FF-4873-9B40-40E58738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7761-8741-4CFD-98E0-C5BD60C0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938F-FDCE-4A19-9173-82D051B6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17F4-2B6E-48CA-94C5-636BFD00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D296-AC4E-4403-A44A-C43935A3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C6CA2-38C9-4B1F-A770-B6D31D5D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2F891-7498-4FF6-9487-7B54967D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FFDAC-30B9-46FA-86BF-E4627B2D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AE9AF-8639-45F5-9264-4CA952F1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87BBF-D732-4111-8735-45BBD06F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F40-02C5-4933-A839-FD5EF865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A1356-8C6D-43C6-ACCA-626B46B1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76E0-D56D-48C4-A956-F51704AE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5A585-2EE2-4658-A5A5-DD5553FD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19F4-444F-4D0F-92D8-1ABC3BAA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57210-DFA4-422C-BE40-63B47836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A95B6-13C2-4C52-85E8-DEEE852D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12F3C-1BD6-4B40-A75A-011C06F5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F8C64-8819-41E2-B653-8D7DF19F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DC901-230C-4B82-AC15-7A9BDE01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904E9-6E47-46A9-8F08-2B1F1FD3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E0E-8583-4C88-9AAB-FB0B5858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238CC-3554-441E-9071-6AF9C4A1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D0BF2-F736-49E8-950E-52E48B5D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DD95B-D443-4650-B317-0E32F7E3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41612-DE12-4472-ADD4-E9EF3C82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AC739-982B-428B-B310-C41CC61D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3BB70-205B-4B6A-AC3E-18F3A58E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1483E-6342-4C46-AE3E-04551E71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2CCEE-3E1F-4973-A3B1-790FECEC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64FD4-70B6-4FC1-A74A-481A500C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5BA-F6E9-4547-A6F6-A960B00B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C79-449B-4627-8E22-AD423BC2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331F-4789-4830-B8BA-FADE2EDF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593-D15F-44FE-8144-985EAF29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F0F-BCA6-404A-97FB-CF4302A3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CE49-CFAF-46CA-9BAF-C2FFED8E9F3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3E20-2A3C-4911-805A-852D2FE74FBB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4B80-D0C2-4E87-B316-328871B65787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DBA6-FD00-4F4B-9AA1-E2BEA2E8330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-79200" y="1116000"/>
            <a:ext cx="9667800" cy="251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3"/>
          <p:cNvSpPr txBox="1"/>
          <p:nvPr/>
        </p:nvSpPr>
        <p:spPr>
          <a:xfrm>
            <a:off x="1371600" y="0"/>
            <a:ext cx="61722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nnector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97" name="Diagram 5" descr=""/>
          <p:cNvPicPr/>
          <p:nvPr/>
        </p:nvPicPr>
        <p:blipFill>
          <a:blip r:embed="rId1"/>
          <a:stretch/>
        </p:blipFill>
        <p:spPr>
          <a:xfrm>
            <a:off x="517680" y="2103480"/>
            <a:ext cx="8188200" cy="432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=   =   and   =   =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=   =   =    but   =   =   =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onstantia"/>
              </a:rPr>
              <a:t>=   =   =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=   =   =   and   =   =   =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=   =   =   but    =   =   =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143000" y="0"/>
            <a:ext cx="61722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23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- wa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3- 1947 </a:t>
            </a:r>
            <a:r>
              <a:rPr b="0" lang="en-US" sz="6000" spc="-1" strike="noStrike">
                <a:solidFill>
                  <a:srgbClr val="ff3300"/>
                </a:solidFill>
                <a:latin typeface="Constanti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- wingspan wa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- long and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10516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- flew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7- speed wa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8- to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- minutes </a:t>
            </a:r>
            <a:r>
              <a:rPr b="0" lang="en-US" sz="6000" spc="-1" strike="noStrike">
                <a:solidFill>
                  <a:srgbClr val="ff3300"/>
                </a:solidFill>
                <a:latin typeface="Constanti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WordArt 3"/>
          <p:cNvSpPr txBox="1"/>
          <p:nvPr/>
        </p:nvSpPr>
        <p:spPr>
          <a:xfrm>
            <a:off x="1143000" y="0"/>
            <a:ext cx="61722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25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1- Riyadh </a:t>
            </a:r>
            <a:r>
              <a:rPr b="0" lang="en-US" sz="56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Hofuf and Dhahran were on the route in 1954. However </a:t>
            </a:r>
            <a:r>
              <a:rPr b="0" lang="en-US" sz="56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other towns were added in 1956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2- Before 1984 </a:t>
            </a:r>
            <a:r>
              <a:rPr b="0" lang="en-US" sz="56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Riyadh airport was handling 5 </a:t>
            </a:r>
            <a:r>
              <a:rPr b="0" lang="en-US" sz="56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000 </a:t>
            </a:r>
            <a:r>
              <a:rPr b="0" lang="en-US" sz="56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000 domestic passengers a year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WordArt 3"/>
          <p:cNvSpPr txBox="1"/>
          <p:nvPr/>
        </p:nvSpPr>
        <p:spPr>
          <a:xfrm>
            <a:off x="1219320" y="762120"/>
            <a:ext cx="61722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31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7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4:25:36Z</dcterms:created>
  <dc:creator>Bafayad</dc:creator>
  <dc:description/>
  <dc:language>en-US</dc:language>
  <cp:lastModifiedBy>MAAS</cp:lastModifiedBy>
  <dcterms:modified xsi:type="dcterms:W3CDTF">2013-06-29T21:38:38Z</dcterms:modified>
  <cp:revision>6</cp:revision>
  <dc:subject/>
  <dc:title>عرض تقديمي من PowerPoint</dc:title>
</cp:coreProperties>
</file>