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push.wav" ContentType="audio/x-wav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BCE2-6E19-4778-9A3F-994B09F64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058A-15D6-409C-8BEF-FC7F63B0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B51B-DAD9-4551-98DC-EECB813D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88AE-8A1E-4203-A59D-3264D4207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27BB-03DF-4597-A682-57932764A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9F4A-1789-4B7C-81EC-FA69D2C6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6B2A-ADF0-4C0B-B7DC-5683AF81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83C7-6D95-45C3-8FDD-5AEBB554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64D8-115F-4E97-B933-67D47425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ABA0-FCDB-4910-B35A-70D2B2A9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2CA6-E4AC-4C3E-844E-03290B05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E8A2-7062-4337-9636-5D9CE978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15ED-A6CE-4F51-9A87-95A84418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BC35-3948-4CC4-B07B-3283C713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2B2A-D093-418F-91EC-85AEA35D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AB71-62BF-4DF8-9839-DCB97133A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CD7C-B559-486E-ACD2-34DBABCA3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A9FB9-1D77-4679-8425-9AA88F928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1C7DC-6D75-4F5F-A80C-2D8FBDDA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00F89-2DB8-495A-8EFF-80E8A844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1187F-66E2-4E00-A7C8-3C2DE9E3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A654A-8EB9-4FA1-A24A-BC06DEED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0FF2-58B2-427C-8893-1F9E3833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9C3F4-6F44-454E-8BE3-22309F31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51A0E-2F0A-4F4C-97A7-8AF6BE1C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41D4A-1F2B-40C0-90D5-72332CB0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9659C-8BFE-450B-8994-89EB744C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A5B6D-0703-4FB5-8FA3-06DEF8F9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5CBBC-51CD-4646-8FF3-04F5B1A0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8A660-2DE4-4E84-AA61-00F9F4B1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63153-7E97-43DD-9752-819F78809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06943-719D-4F71-AC3B-033FFD1A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4280F-ABD5-4131-A680-530F372A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25CD-1A99-4BCF-B28B-AF6E5193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6BAB1-4295-4D5E-B7F1-E98085E5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BD1F9-6ABE-4521-9B3B-7D2521F5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78523-0CE5-40D9-B68F-90C4F27E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AED48-52A5-4471-952F-2348B1F2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7A87D-731D-4CA5-A6DE-1F791204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2D577-050D-4A32-B423-A7564A93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617A1-B106-4B1B-BDF8-C507B0E1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C712D-667F-4AF2-B270-6544AC7D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11CC6-E491-4AA2-8532-02BF909C2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C3E3-AC59-48AB-9AD0-2AD57E9D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82AD-4820-45BC-9D02-007F8E5C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33BF-4477-444D-9E2F-62FAC38B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9070-A822-4367-A1B8-7033B6F4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5872-A744-47FE-B97D-1ACD6DD6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38CF-CCE0-4D8C-A496-FE1FC4793138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E977-F8EA-4061-AD6F-756F21E82840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13C0-9190-459C-8CB2-4E0AC5EE80F2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5589-4F69-4045-8618-0620B200071C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-182520" y="1517760"/>
            <a:ext cx="9497880" cy="277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ff0000"/>
                </a:solidFill>
                <a:uFillTx/>
                <a:latin typeface="Calibri"/>
              </a:rPr>
              <a:t>Capital Letters</a:t>
            </a:r>
            <a:r>
              <a:rPr b="1" i="1" lang="en-US" sz="6600" spc="-1" strike="noStrike" u="sng">
                <a:solidFill>
                  <a:srgbClr val="ff0000"/>
                </a:solidFill>
                <a:uFillTx/>
                <a:latin typeface="Calibri"/>
              </a:rPr>
              <a:t>	</a:t>
            </a:r>
            <a:r>
              <a:rPr b="1" i="1" lang="en-US" sz="6600" spc="-1" strike="noStrike" u="sng">
                <a:solidFill>
                  <a:srgbClr val="ff0000"/>
                </a:solidFill>
                <a:uFillTx/>
                <a:latin typeface="Calibri"/>
              </a:rPr>
              <a:t>P. 3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533520" y="1371600"/>
            <a:ext cx="7467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w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.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-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 on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ed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t on the last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rsday in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85800" y="2514600"/>
            <a:ext cx="80773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uary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or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-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r at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g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d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versity of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roleum and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r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33520" y="4191120"/>
            <a:ext cx="7924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was carrying an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glish book with the nam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 to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n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glish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ick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5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 u="sng">
                <a:solidFill>
                  <a:srgbClr val="ff0000"/>
                </a:solidFill>
                <a:uFillTx/>
                <a:latin typeface="Calibri"/>
              </a:rPr>
              <a:t>Full Stops</a:t>
            </a:r>
            <a:r>
              <a:rPr b="1" i="1" lang="en-US" sz="7200" spc="-1" strike="noStrike" u="sng">
                <a:solidFill>
                  <a:srgbClr val="ff0000"/>
                </a:solidFill>
                <a:uFillTx/>
                <a:latin typeface="Calibri"/>
              </a:rPr>
              <a:t>	</a:t>
            </a:r>
            <a:r>
              <a:rPr b="1" i="1" lang="en-US" sz="7200" spc="-1" strike="noStrike" u="sng">
                <a:solidFill>
                  <a:srgbClr val="ff0000"/>
                </a:solidFill>
                <a:uFillTx/>
                <a:latin typeface="Calibri"/>
              </a:rPr>
              <a:t>P. 5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304920" y="1371600"/>
            <a:ext cx="83055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They saw Mr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-Ali at 6 p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y asked him to visit them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y also spoke to his father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380880" y="2971800"/>
            <a:ext cx="8077320" cy="12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2- We use the past tense to show things which are finished, e</a:t>
            </a:r>
            <a:r>
              <a:rPr b="1" lang="en-US" sz="5400" spc="-1" strike="noStrike">
                <a:solidFill>
                  <a:srgbClr val="ff3300"/>
                </a:solidFill>
                <a:latin typeface="Constanti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</a:t>
            </a:r>
            <a:r>
              <a:rPr b="1" lang="en-US" sz="5400" spc="-1" strike="noStrike">
                <a:solidFill>
                  <a:srgbClr val="ff3300"/>
                </a:solidFill>
                <a:latin typeface="Constanti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I saw him yesterday</a:t>
            </a:r>
            <a:r>
              <a:rPr b="1" lang="en-US" sz="5400" spc="-1" strike="noStrike">
                <a:solidFill>
                  <a:srgbClr val="ff3300"/>
                </a:solidFill>
                <a:latin typeface="Constant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304920" y="4419720"/>
            <a:ext cx="8229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 At 10 a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rs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Zaidi went to look at a new house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e returned at 11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ff0000"/>
                </a:solidFill>
                <a:uFillTx/>
                <a:latin typeface="Calibri"/>
              </a:rPr>
              <a:t>Writing Lists</a:t>
            </a:r>
            <a:r>
              <a:rPr b="1" i="1" lang="en-US" sz="8000" spc="-1" strike="noStrike" u="sng">
                <a:solidFill>
                  <a:srgbClr val="ff0000"/>
                </a:solidFill>
                <a:uFillTx/>
                <a:latin typeface="Calibri"/>
              </a:rPr>
              <a:t>	</a:t>
            </a:r>
            <a:r>
              <a:rPr b="1" i="1" lang="en-US" sz="8000" spc="-1" strike="noStrike" u="sng">
                <a:solidFill>
                  <a:srgbClr val="ff0000"/>
                </a:solidFill>
                <a:uFillTx/>
                <a:latin typeface="Calibri"/>
              </a:rPr>
              <a:t>P. 6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685800" y="1676520"/>
            <a:ext cx="7924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Saudi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merican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man and British managers all work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609480" y="3048120"/>
            <a:ext cx="7925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 Some of the most common diseases were malaria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mallpox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prosy and glauco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685800" y="4648320"/>
            <a:ext cx="8001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 Clothes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lastic toys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rs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ads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rniture and buildings all contain hydrocarb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09120" y="13716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2- </a:t>
            </a:r>
            <a:r>
              <a:rPr b="0" lang="en-US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The                             3- it </a:t>
            </a:r>
            <a:r>
              <a:rPr b="0" lang="en-US" sz="5400" spc="-1" strike="noStrike">
                <a:solidFill>
                  <a:srgbClr val="ff3300"/>
                </a:solidFill>
                <a:latin typeface="Constanti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The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4- clouds </a:t>
            </a:r>
            <a:r>
              <a:rPr b="0" lang="en-US" sz="5400" spc="-1" strike="noStrike">
                <a:solidFill>
                  <a:srgbClr val="ff3300"/>
                </a:solidFill>
                <a:latin typeface="Constanti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These               5- heavy</a:t>
            </a:r>
            <a:r>
              <a:rPr b="0" lang="en-US" sz="3600" spc="-1" strike="noStrike">
                <a:solidFill>
                  <a:srgbClr val="ff3300"/>
                </a:solidFill>
                <a:latin typeface="Constantia"/>
              </a:rPr>
              <a:t> </a:t>
            </a:r>
            <a:r>
              <a:rPr b="0" lang="en-US" sz="5400" spc="-1" strike="noStrike">
                <a:solidFill>
                  <a:srgbClr val="ff3300"/>
                </a:solidFill>
                <a:latin typeface="Constantia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6- drain</a:t>
            </a:r>
            <a:r>
              <a:rPr b="0" lang="en-US" sz="3600" spc="-1" strike="noStrike">
                <a:solidFill>
                  <a:srgbClr val="ff3300"/>
                </a:solidFill>
                <a:latin typeface="Constantia"/>
              </a:rPr>
              <a:t>s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7- water move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8- is                                   9- drinking </a:t>
            </a:r>
            <a:r>
              <a:rPr b="0" lang="en-US" sz="5400" spc="-1" strike="noStrike">
                <a:solidFill>
                  <a:srgbClr val="ff3300"/>
                </a:solidFill>
                <a:latin typeface="Constantia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ff0000"/>
                </a:solidFill>
                <a:uFillTx/>
                <a:latin typeface="Calibri"/>
              </a:rPr>
              <a:t>Writing Lists</a:t>
            </a:r>
            <a:r>
              <a:rPr b="1" i="1" lang="en-US" sz="8000" spc="-1" strike="noStrike" u="sng">
                <a:solidFill>
                  <a:srgbClr val="ff0000"/>
                </a:solidFill>
                <a:uFillTx/>
                <a:latin typeface="Calibri"/>
              </a:rPr>
              <a:t>	</a:t>
            </a:r>
            <a:r>
              <a:rPr b="1" i="1" lang="en-US" sz="8000" spc="-1" strike="noStrike" u="sng">
                <a:solidFill>
                  <a:srgbClr val="ff0000"/>
                </a:solidFill>
                <a:uFillTx/>
                <a:latin typeface="Calibri"/>
              </a:rPr>
              <a:t>P. 9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0T16:25:19Z</dcterms:created>
  <dc:creator>Bafayad</dc:creator>
  <dc:description/>
  <dc:language>en-US</dc:language>
  <cp:lastModifiedBy>MAAS</cp:lastModifiedBy>
  <dcterms:modified xsi:type="dcterms:W3CDTF">2013-06-29T20:29:51Z</dcterms:modified>
  <cp:revision>13</cp:revision>
  <dc:subject/>
  <dc:title>Capital Letters P. 2</dc:title>
</cp:coreProperties>
</file>