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chimes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CB8-8981-45B3-A1E9-72E032B7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395-2F1F-4C70-B29C-4D840FC6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8B3-3B63-4A9E-ABE0-A7079AB2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E5A-2C0F-4D87-82EC-182AC616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5E9F-E105-4B2B-B604-D46D5EA1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9C2A-AAE7-4AFE-BC81-B4484615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B5C7-8538-4819-A736-45831917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7DDA-3CBA-42CE-AF59-A738BEBF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E38-9DA3-43E4-9D49-D818C789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DB42-9393-4338-8D62-F2FEC186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9360-43EE-49F2-B9AE-39E7BCB2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ED3-9819-4575-92F7-942E63F5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8284-252E-4892-82BD-6AEFE1C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CDA0-66E9-4064-8E3A-F2FCBE0F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5E63-20AB-4F91-93FD-49DC5B1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A5D5-8FC2-4514-8683-53E47F26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DCB4-48FB-4BD3-9BB8-1741E8A0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02445-76AA-4A73-9D50-D8C061A7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B163-DBD2-4408-8AAF-BDAAEC3E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2656-0217-4DDB-B399-D5648AC8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B801-92E3-4F48-93F4-9CD06DEA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2EDC-EB1F-4DDA-851D-7C44F401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DE1-66AD-403A-B78D-167C4831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D5D3-9C25-4C0F-A5CB-24A37360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173B-BEFE-4A8B-9E4E-3C4CE3A8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A0FF-BAE1-4C0F-8137-E603E95E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43A0-E7C4-4C4F-BB5B-48AAAACE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77F2-9CF4-4753-89B1-BF9306FD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C0D8-A3DF-4864-AB81-4EEFDB6B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0261-C8A1-43AC-903C-D40B57BB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4021B-CEF9-4D90-A5E9-0E58C995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FB4E-9DB8-4DC9-B1A5-CD0EFEC0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969B6-9005-4714-B737-B7C2FDB6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413-3902-47E8-A16B-74281402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3DC0-1A4B-439F-AA0E-52CF332E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B6390-86C1-4F38-9A03-F3606150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5C5A-53C1-4A38-B46E-09F1B34C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7F36-44CE-4392-A7E2-50226AB1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69B3-C15E-4A8C-9364-A747598F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C114-2049-4BF8-9B14-27F488A6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4DCD6-3419-4622-A1CD-804D34A8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4ABB-C007-49E6-9ECB-3CBB20CF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E098D-F050-43BC-B5DE-1A623FCC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9EE-2DA6-42D6-BCF4-CA518FF9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A2C-6B05-4538-9897-153EFA8A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CB6-06E8-4136-AB93-040B09A7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F0F-7FEA-497B-90C4-7D7F99E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585-C5CA-446B-AFC3-F8F2AFEA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12A4-7248-45AE-9614-3F105AF7E7F7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5379-EE29-49C8-ADAB-3CBEBD11B60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1582-7A93-4186-94F0-D44D819199B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F1B3-C8AA-4770-8827-8BA00A4730F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665280" y="-457200"/>
            <a:ext cx="11400120" cy="3322800"/>
          </a:xfrm>
          <a:prstGeom prst="rect">
            <a:avLst/>
          </a:prstGeom>
          <a:ln w="0">
            <a:noFill/>
          </a:ln>
        </p:spPr>
      </p:pic>
      <p:pic>
        <p:nvPicPr>
          <p:cNvPr id="196" name="WordArt 3" descr=""/>
          <p:cNvPicPr/>
          <p:nvPr/>
        </p:nvPicPr>
        <p:blipFill>
          <a:blip r:embed="rId2"/>
          <a:stretch/>
        </p:blipFill>
        <p:spPr>
          <a:xfrm>
            <a:off x="523800" y="3041640"/>
            <a:ext cx="8096400" cy="184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525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T - 7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525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F - 24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525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F - 27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525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T - 40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525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F - 47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676520" y="0"/>
            <a:ext cx="533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0000"/>
                </a:solidFill>
                <a:uFillTx/>
                <a:latin typeface="Constantia"/>
              </a:rPr>
              <a:t>Page : 6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melts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outer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unique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complete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reflects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676520" y="0"/>
            <a:ext cx="533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0000"/>
                </a:solidFill>
                <a:uFillTx/>
                <a:latin typeface="Constantia"/>
              </a:rPr>
              <a:t>Page : 6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cares for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exists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angle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nitroge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hemisphere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Solar System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oxyge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lack of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stationary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millio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3352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Do you think that life</a:t>
            </a:r>
            <a:r>
              <a:rPr b="0" lang="ar-SA" sz="41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 exist</a:t>
            </a:r>
            <a:r>
              <a:rPr b="0" lang="en-US" sz="4100" spc="-1" strike="noStrike">
                <a:solidFill>
                  <a:srgbClr val="ff3300"/>
                </a:solidFill>
                <a:latin typeface="Constantia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..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80000"/>
              </a:lnSpc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Do you know what the date is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80000"/>
              </a:lnSpc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Can you explain what the difference is between..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80000"/>
              </a:lnSpc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Can you tell me what junk food mean</a:t>
            </a:r>
            <a:r>
              <a:rPr b="0" lang="en-US" sz="4100" spc="-1" strike="noStrike">
                <a:solidFill>
                  <a:srgbClr val="ff3300"/>
                </a:solidFill>
                <a:latin typeface="Constantia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80000"/>
              </a:lnSpc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Tell me what modern .. are ..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676520" y="0"/>
            <a:ext cx="533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0000"/>
                </a:solidFill>
                <a:uFillTx/>
                <a:latin typeface="Constantia"/>
              </a:rPr>
              <a:t>Page :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Do you understand how CFC’s ..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The map.. Where crude.. come</a:t>
            </a:r>
            <a:r>
              <a:rPr b="0" lang="en-US" sz="4100" spc="-1" strike="noStrike">
                <a:solidFill>
                  <a:srgbClr val="ff3300"/>
                </a:solidFill>
                <a:latin typeface="Constantia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.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Do you know if water is still..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I cannot remember if dates are .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0520" y="3429000"/>
            <a:ext cx="81536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924"/>
              </a:spcBef>
              <a:buClr>
                <a:srgbClr val="ff0000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Yes…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924"/>
              </a:spcBef>
              <a:buClr>
                <a:srgbClr val="ff0000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reflects ligh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924"/>
              </a:spcBef>
              <a:buClr>
                <a:srgbClr val="ff0000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Yes…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523880" y="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nstantia"/>
              </a:rPr>
              <a:t>Page : 5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28600" y="914400"/>
            <a:ext cx="579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x.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 No, it’s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 group of stars.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240" y="31240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d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 radiates…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 far …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 Yes …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g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 million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 No …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752480" y="23623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Ex.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924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Yes, it doe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924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t orbits a planet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924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Yes, it i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924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t radiates light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924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Because they are far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924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Yes, there are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924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re are million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924"/>
              </a:spcBef>
              <a:buClr>
                <a:srgbClr val="ff33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No, we can’t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3880" y="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0000"/>
                </a:solidFill>
                <a:uFillTx/>
                <a:latin typeface="Constantia"/>
              </a:rPr>
              <a:t>Page : 5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0" y="533520"/>
            <a:ext cx="137160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56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No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, they don’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Yes, it doe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800600" y="19810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Yes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, there are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No, there aren’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WordArt 3"/>
          <p:cNvSpPr txBox="1"/>
          <p:nvPr/>
        </p:nvSpPr>
        <p:spPr>
          <a:xfrm>
            <a:off x="457200" y="0"/>
            <a:ext cx="18288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Planets reflect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...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Stars radiate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…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Satellites do not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…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There are planets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…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Do planets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…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676520" y="0"/>
            <a:ext cx="533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0000"/>
                </a:solidFill>
                <a:uFillTx/>
                <a:latin typeface="Constantia"/>
              </a:rPr>
              <a:t>Page : 5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0" y="304920"/>
            <a:ext cx="137160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599840" y="990360"/>
            <a:ext cx="4800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am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is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are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WordArt 3"/>
          <p:cNvSpPr txBox="1"/>
          <p:nvPr/>
        </p:nvSpPr>
        <p:spPr>
          <a:xfrm>
            <a:off x="228600" y="0"/>
            <a:ext cx="13716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1525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A planet is not a star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1525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A planet does not </a:t>
            </a:r>
            <a:r>
              <a:rPr b="0" lang="en-US" sz="6100" spc="-1" strike="noStrike">
                <a:solidFill>
                  <a:srgbClr val="ff3300"/>
                </a:solidFill>
                <a:latin typeface="Constantia"/>
              </a:rPr>
              <a:t>…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1525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Stars do not </a:t>
            </a:r>
            <a:r>
              <a:rPr b="0" lang="en-US" sz="6100" spc="-1" strike="noStrike">
                <a:solidFill>
                  <a:srgbClr val="ff3300"/>
                </a:solidFill>
                <a:latin typeface="Constantia"/>
              </a:rPr>
              <a:t>…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1525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Venus does not </a:t>
            </a:r>
            <a:r>
              <a:rPr b="0" lang="en-US" sz="6100" spc="-1" strike="noStrike">
                <a:solidFill>
                  <a:srgbClr val="ff3300"/>
                </a:solidFill>
                <a:latin typeface="Constantia"/>
              </a:rPr>
              <a:t>…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1525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onstantia"/>
              </a:rPr>
              <a:t>There is not </a:t>
            </a:r>
            <a:r>
              <a:rPr b="0" lang="en-US" sz="6100" spc="-1" strike="noStrike">
                <a:solidFill>
                  <a:srgbClr val="ff3300"/>
                </a:solidFill>
                <a:latin typeface="Constantia"/>
              </a:rPr>
              <a:t>…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WordArt 3"/>
          <p:cNvSpPr txBox="1"/>
          <p:nvPr/>
        </p:nvSpPr>
        <p:spPr>
          <a:xfrm>
            <a:off x="0" y="0"/>
            <a:ext cx="121932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684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Light is reflected by planet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lanets are orbited by satellite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Light is not reflected by star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universe is studied by scientist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s light radiated by stars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WordArt 3"/>
          <p:cNvSpPr txBox="1"/>
          <p:nvPr/>
        </p:nvSpPr>
        <p:spPr>
          <a:xfrm>
            <a:off x="0" y="533520"/>
            <a:ext cx="137160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ars don’t 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…,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do they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ars 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…,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don’t they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Planets don’t 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…,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do they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There is 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…,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isn’t there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spcBef>
                <a:spcPts val="1199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There aren’t 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…,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are there</a:t>
            </a: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380880" y="0"/>
            <a:ext cx="13716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20:35:36Z</dcterms:created>
  <dc:creator>Bafayad</dc:creator>
  <dc:description/>
  <dc:language>en-US</dc:language>
  <cp:lastModifiedBy>MAAS</cp:lastModifiedBy>
  <dcterms:modified xsi:type="dcterms:W3CDTF">2013-06-29T23:29:07Z</dcterms:modified>
  <cp:revision>11</cp:revision>
  <dc:subject/>
  <dc:title>عرض تقديمي من PowerPoint</dc:title>
</cp:coreProperties>
</file>