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himes.wav" ContentType="audio/x-wav"/>
  <Override PartName="/ppt/media/image8.png" ContentType="image/png"/>
  <Override PartName="/ppt/media/image7.png" ContentType="image/png"/>
  <Override PartName="/ppt/media/type.wav" ContentType="audio/x-wav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4B9-850E-40C9-90D9-04BBF1AA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151-DBAC-46C5-AE5D-460BE1C1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F07-7AF4-4FF1-AADF-231D2F79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9E2-26B5-41B6-A047-CE760D2F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3DF-9374-4209-BD05-65F8B65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0C2C-0B9D-40A9-BF6B-B13A981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7FF-50A8-4A17-968B-4B7011F8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3165-7ADC-4869-8FE9-94D4F31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ECA-F4C8-4F56-929E-B995391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8B1A-B4EB-43EE-9C62-6DD527DA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90F-1546-42EE-AF97-94A883A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B4F-A82B-4B5B-A9A9-61A3EB5D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EEB0-F5DE-4DA3-95B2-A61CA14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61EC-B5DD-432F-AE15-262A3604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C33-E67F-4CC0-9BC6-38043452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7355-4CCB-46CA-937B-5D002A40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0D12-0F09-478A-9537-82AB9568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E85F-1547-4601-888C-1DD89370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867D-DF41-4581-BD90-DD70F170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04E8-4107-4A52-BF2B-BA0B1DE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78D0-4B83-46EA-96CD-FBC437D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8F82-1A56-46E4-AE07-EA925CC1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988-F589-4D21-9B25-A134D7C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2E24-D0F8-48CA-B007-855E771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CA68-8CC1-40E2-8DF6-941D26A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3D6A-23A6-4C45-9498-7FADFFE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481C-43BC-47B7-A88C-5540D4E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DF0D-9DE1-4222-9F93-754681F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8093-70B6-43B9-BB95-ABE3D4FF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7AAA-E793-4D00-86AD-48320EAB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5C10-EFE0-463C-A222-14C6A65B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0B80-B44E-40E1-BD54-3CD8EA3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EF72-4740-47F7-87DE-7F16940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581-FBFF-4122-BBE0-A1B0E0E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B7D1-35F4-4E1C-8A06-ED444AF8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C5DA-9B1B-4787-A039-7C3C1AF3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702D-5758-430C-B0DC-4E3F1C4B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3F19-F92C-4A7D-9B9E-CC1A0B9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B267-8A9F-4175-A6E2-70D9050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2901-5080-4FA4-B65E-279E3466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9153-9670-4673-A4F1-284C0FF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C374-0345-4385-BE72-BAD6FBA6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EE43-8238-4407-A924-3B1CABC0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2B4-93C7-42C9-BE3A-45C288C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665-3C01-4B30-B373-137C8FC8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A4D-070F-4F37-99C8-7AB044B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8DE-B0E2-4A2C-84C4-7E358A1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BBB-D287-48C8-B697-0000616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505-E30B-4965-973A-6461CEB0511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E25-CCDB-46F1-9642-DCD32DD0D4E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D73A-0761-4579-A596-2EC88363A4D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907-172E-4FCE-B3B1-D0BE8669BEF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840" y="1292400"/>
            <a:ext cx="9193320" cy="27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19560" y="11430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g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7600" y="12193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14400" y="25909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914400" y="14479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62120" y="4419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d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733920" y="4419720"/>
            <a:ext cx="1904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f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6019920" y="2666880"/>
            <a:ext cx="1904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581280" y="2666880"/>
            <a:ext cx="2133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e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905120" y="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ge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378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- South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- I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- kilos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I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- one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- </a:t>
            </a:r>
            <a:r>
              <a:rPr b="0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- wild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Thi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78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- skins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 ,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hor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- ha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0- result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h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1- rhinoceros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- hav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2514600" y="152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ge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WordArt 3" descr=""/>
          <p:cNvPicPr/>
          <p:nvPr/>
        </p:nvPicPr>
        <p:blipFill>
          <a:blip r:embed="rId1"/>
          <a:stretch/>
        </p:blipFill>
        <p:spPr>
          <a:xfrm>
            <a:off x="1285920" y="2425680"/>
            <a:ext cx="7261200" cy="20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279360"/>
          <a:ext cx="9144000" cy="6343560"/>
        </p:xfrm>
        <a:graphic>
          <a:graphicData uri="http://schemas.openxmlformats.org/drawingml/2006/table">
            <a:tbl>
              <a:tblPr/>
              <a:tblGrid>
                <a:gridCol w="2832120"/>
                <a:gridCol w="3263760"/>
                <a:gridCol w="3048120"/>
              </a:tblGrid>
              <a:tr h="467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5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most verbs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o </a:t>
                      </a:r>
                      <a:r>
                        <a:rPr b="1" i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en it is preceded with a conson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4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es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the Verbs end wit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s-sh-ch o- x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y is proceeded with a vowel (</a:t>
                      </a:r>
                      <a:r>
                        <a:rPr b="0" lang="en-US" sz="4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-e-i-o-u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WordArt 45"/>
          <p:cNvSpPr txBox="1"/>
          <p:nvPr/>
        </p:nvSpPr>
        <p:spPr>
          <a:xfrm>
            <a:off x="76212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9" name="WordArt 46"/>
          <p:cNvSpPr txBox="1"/>
          <p:nvPr/>
        </p:nvSpPr>
        <p:spPr>
          <a:xfrm>
            <a:off x="342900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0" name="WordArt 47"/>
          <p:cNvSpPr txBox="1"/>
          <p:nvPr/>
        </p:nvSpPr>
        <p:spPr>
          <a:xfrm>
            <a:off x="617220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1" name="WordArt 45"/>
          <p:cNvSpPr txBox="1"/>
          <p:nvPr/>
        </p:nvSpPr>
        <p:spPr>
          <a:xfrm>
            <a:off x="0" y="533412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562360" y="1294920"/>
            <a:ext cx="2514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express</a:t>
            </a:r>
            <a:r>
              <a:rPr b="0" lang="en-US" sz="3200" spc="-1" strike="noStrike">
                <a:solidFill>
                  <a:srgbClr val="ff3300"/>
                </a:solidFill>
                <a:latin typeface="Constantia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76720" y="1371600"/>
            <a:ext cx="1904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all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33520" y="2971800"/>
            <a:ext cx="1904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worr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3520" y="1523880"/>
            <a:ext cx="1904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09480" y="46483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d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352680" y="47242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ris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943600" y="44956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say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867280" y="297180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hin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2971800" y="29718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ubtract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1905120" y="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ge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WordArt 3" descr=""/>
          <p:cNvPicPr/>
          <p:nvPr/>
        </p:nvPicPr>
        <p:blipFill>
          <a:blip r:embed="rId1"/>
          <a:stretch/>
        </p:blipFill>
        <p:spPr>
          <a:xfrm>
            <a:off x="1279440" y="2425680"/>
            <a:ext cx="7267680" cy="20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0" y="304920"/>
          <a:ext cx="9144000" cy="6553080"/>
        </p:xfrm>
        <a:graphic>
          <a:graphicData uri="http://schemas.openxmlformats.org/drawingml/2006/table">
            <a:tbl>
              <a:tblPr/>
              <a:tblGrid>
                <a:gridCol w="2832120"/>
                <a:gridCol w="3263760"/>
                <a:gridCol w="3048120"/>
              </a:tblGrid>
              <a:tr h="48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5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ed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most verbs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4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d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the Verbs end with </a:t>
                      </a:r>
                      <a:r>
                        <a:rPr b="1" i="1" lang="en-US" sz="54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e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o </a:t>
                      </a:r>
                      <a:r>
                        <a:rPr b="1" i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ed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en it is preceded with a conson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y is proceeded with a vowel (</a:t>
                      </a:r>
                      <a:r>
                        <a:rPr b="0" lang="en-US" sz="4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-e-i-o-u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WordArt 45"/>
          <p:cNvSpPr txBox="1"/>
          <p:nvPr/>
        </p:nvSpPr>
        <p:spPr>
          <a:xfrm>
            <a:off x="76212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WordArt 46"/>
          <p:cNvSpPr txBox="1"/>
          <p:nvPr/>
        </p:nvSpPr>
        <p:spPr>
          <a:xfrm>
            <a:off x="342900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WordArt 47"/>
          <p:cNvSpPr txBox="1"/>
          <p:nvPr/>
        </p:nvSpPr>
        <p:spPr>
          <a:xfrm>
            <a:off x="617220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7" name="WordArt 45"/>
          <p:cNvSpPr txBox="1"/>
          <p:nvPr/>
        </p:nvSpPr>
        <p:spPr>
          <a:xfrm>
            <a:off x="0" y="54864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8669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describ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352680" y="15238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62120" y="3048120"/>
            <a:ext cx="1904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762120" y="1523880"/>
            <a:ext cx="1904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838080" y="47242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li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276720" y="4648320"/>
            <a:ext cx="1904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pract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5880" y="4495680"/>
            <a:ext cx="228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172200" y="274320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581280" y="28195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o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19051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ge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WordArt 3" descr=""/>
          <p:cNvPicPr/>
          <p:nvPr/>
        </p:nvPicPr>
        <p:blipFill>
          <a:blip r:embed="rId1"/>
          <a:stretch/>
        </p:blipFill>
        <p:spPr>
          <a:xfrm>
            <a:off x="1279440" y="2425680"/>
            <a:ext cx="726768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04920" y="228600"/>
          <a:ext cx="8839080" cy="6232680"/>
        </p:xfrm>
        <a:graphic>
          <a:graphicData uri="http://schemas.openxmlformats.org/drawingml/2006/table">
            <a:tbl>
              <a:tblPr/>
              <a:tblGrid>
                <a:gridCol w="2736720"/>
                <a:gridCol w="3156120"/>
                <a:gridCol w="2946240"/>
              </a:tblGrid>
              <a:tr h="540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</a:t>
                      </a:r>
                      <a:r>
                        <a:rPr b="1" i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most verb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out  </a:t>
                      </a:r>
                      <a:r>
                        <a:rPr b="1" i="1" lang="en-US" sz="28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the end of  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add </a:t>
                      </a:r>
                      <a:r>
                        <a:rPr b="1" i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 end wi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nsonant –vowel – consona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the last consonant then ad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WordArt 45"/>
          <p:cNvSpPr txBox="1"/>
          <p:nvPr/>
        </p:nvSpPr>
        <p:spPr>
          <a:xfrm>
            <a:off x="1371600" y="609480"/>
            <a:ext cx="2286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1" name="WordArt 46"/>
          <p:cNvSpPr txBox="1"/>
          <p:nvPr/>
        </p:nvSpPr>
        <p:spPr>
          <a:xfrm>
            <a:off x="4191120" y="685800"/>
            <a:ext cx="2286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2" name="WordArt 47"/>
          <p:cNvSpPr txBox="1"/>
          <p:nvPr/>
        </p:nvSpPr>
        <p:spPr>
          <a:xfrm>
            <a:off x="7391520" y="609480"/>
            <a:ext cx="2286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7:37:21Z</dcterms:created>
  <dc:creator>Abu Anas</dc:creator>
  <dc:description/>
  <dc:language>en-US</dc:language>
  <cp:lastModifiedBy>MAAS</cp:lastModifiedBy>
  <dcterms:modified xsi:type="dcterms:W3CDTF">2013-06-29T21:08:44Z</dcterms:modified>
  <cp:revision>17</cp:revision>
  <dc:subject/>
  <dc:title>الشريحة 1</dc:title>
</cp:coreProperties>
</file>