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type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0CB-D108-458F-991F-87F51E3F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AFE-EFEB-4A89-8D4C-FB1182FD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D86-931A-408B-B8C2-D0367C1D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024-E64D-4D78-B76F-7A8BD8B0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7A3A-8C76-4C20-9DCC-7714ED70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6EA0-D39D-42FA-A841-4C132C44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557D-AF06-40E2-A95F-797D0AAC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8E23-5906-46DE-8848-7774A1C8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DD7E-7E05-426E-BD38-74BC5FDF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9B5B-1DAC-4F64-8631-18D46C72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7F5F-437F-4660-B4DD-5591A51E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788-D683-49BF-9EA6-2C27C30F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01F7-B4A2-4983-8795-EC6FC5E0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64A2-7C67-446F-A542-24DC1C20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7A67-B728-44B6-AA41-6F2A323E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2C5A-84DD-45F2-A5B6-2349274D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8DBA-C797-4C92-8EA7-F721884E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A133-523A-481E-8FAA-ACB17FA9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6E8B-350B-4B6E-9C06-A9E9E465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F7FA-BB28-49EE-92A8-5F870AD4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CB680-FADF-4E9B-807B-4A799943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4FB19-B95F-44BC-94F1-DDF7FAB0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8D1-AB68-4F9D-BDE6-1C3274F1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067E-BA22-4784-BBEE-608EB99E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691F7-BC4B-4C62-9EA3-B0A8E300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F3463-24D1-4E28-B916-354B0271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3F384-601D-4C31-B64C-432DFE9F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563A-35FB-422B-95ED-70FFACD0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693F3-1641-428B-A42B-5BD27E98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0A84-90D3-44F5-9B74-245B668B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C5EDA-6BE9-45D8-B9DD-05427065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BFFDD-E8BB-4938-99EB-11705203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E7C4D-6E64-4B4E-AC85-A4A35F1C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A01-4FAE-459D-B68B-3D1CFE47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1CFEC-8467-4551-94AE-535D54E6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7D754-EF65-446F-A515-A18CD7AC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09A65-FF25-47E1-9E0C-1A083FE9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E5B4E-0F42-4F10-92AB-EEFB983A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A02A0-AC2B-4D8D-923E-522EAF61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6C3AD-2C02-42CB-82F1-26A2530E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FA74F-7B64-4D70-98E7-59AC3059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1B8F0-FDC4-40FF-9E0E-5FF6E4DC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A911-5F3F-43DB-9911-B190443B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B72-1672-4D20-9717-A59B2855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8E8-0756-4C20-9D91-2093AAF6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3BF-7AFB-487A-A1A7-9629B551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102-3E42-49E2-B8F2-16387F16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8D7-D250-4774-B06F-0F8BC7A5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F46F-E225-4E60-B4ED-FD6F6E4F497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2539-69FE-4AF9-BF5D-519B1D957ECB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B6C1-6D6F-4B99-9D77-581E14FA29B2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6410-0391-44E5-A2E2-CF20E777219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-1030320" y="-304920"/>
            <a:ext cx="11831760" cy="33228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685800" y="37339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ffff00"/>
                </a:solidFill>
                <a:latin typeface="Times New Roman"/>
              </a:rPr>
              <a:t>Ramadan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33160" y="1676160"/>
            <a:ext cx="80010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300"/>
                </a:solidFill>
                <a:latin typeface="Constantia"/>
              </a:rPr>
              <a:t>The five Pillars of Islam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dd9"/>
                </a:solidFill>
                <a:latin typeface="Constantia"/>
              </a:rPr>
              <a:t>What is Ramadan?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33"/>
                </a:solidFill>
                <a:latin typeface="Constantia"/>
              </a:rPr>
              <a:t>Reasons for Not Fasting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Constantia"/>
              </a:rPr>
              <a:t>Ramadan Customs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99"/>
                </a:solidFill>
                <a:latin typeface="Constantia"/>
              </a:rPr>
              <a:t>Lailatul Qadr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00ff"/>
                </a:solidFill>
                <a:latin typeface="Constantia"/>
              </a:rPr>
              <a:t>Eid Al-Fitr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523880" y="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0000"/>
                </a:solidFill>
                <a:uFillTx/>
                <a:latin typeface="Constantia"/>
              </a:rPr>
              <a:t>Page :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04920" y="990720"/>
            <a:ext cx="16761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404040"/>
                </a:solidFill>
                <a:uFillTx/>
                <a:latin typeface="Times New Roman"/>
              </a:rPr>
              <a:t>Ex. A</a:t>
            </a: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en-US" sz="3700" spc="-1" strike="noStrike">
                <a:solidFill>
                  <a:srgbClr val="ff0066"/>
                </a:solidFill>
                <a:latin typeface="Constantia"/>
              </a:rPr>
              <a:t>F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 1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The Five Pillars of Islam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566640" indent="-56664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en-US" sz="3700" spc="-1" strike="noStrike">
                <a:solidFill>
                  <a:srgbClr val="ff0066"/>
                </a:solidFill>
                <a:latin typeface="Constantia"/>
              </a:rPr>
              <a:t>T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 10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566640" indent="-56664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en-US" sz="3700" spc="-1" strike="noStrike">
                <a:solidFill>
                  <a:srgbClr val="ff0066"/>
                </a:solidFill>
                <a:latin typeface="Constantia"/>
              </a:rPr>
              <a:t>F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 15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people in journeys are excused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566640" indent="-56664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en-US" sz="3700" spc="-1" strike="noStrike">
                <a:solidFill>
                  <a:srgbClr val="ff0066"/>
                </a:solidFill>
                <a:latin typeface="Constantia"/>
              </a:rPr>
              <a:t>F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20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people break their fast at sunset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566640" indent="-56664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en-US" sz="3700" spc="-1" strike="noStrike">
                <a:solidFill>
                  <a:srgbClr val="ff0066"/>
                </a:solidFill>
                <a:latin typeface="Constantia"/>
              </a:rPr>
              <a:t>T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 23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600200" y="380880"/>
            <a:ext cx="2133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Ex. 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8080" y="1371240"/>
            <a:ext cx="3810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1100"/>
              </a:spcBef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elebration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06520" indent="-506520">
              <a:spcBef>
                <a:spcPts val="1100"/>
              </a:spcBef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read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06520" indent="-506520">
              <a:spcBef>
                <a:spcPts val="1100"/>
              </a:spcBef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annon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06520" indent="-506520">
              <a:spcBef>
                <a:spcPts val="1100"/>
              </a:spcBef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Nurse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06520" indent="-506520">
              <a:spcBef>
                <a:spcPts val="1100"/>
              </a:spcBef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Equal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33760" y="13712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Sleepy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7. Income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8. Reveal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9. Set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0. Fast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523880" y="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0000"/>
                </a:solidFill>
                <a:uFillTx/>
                <a:latin typeface="Constantia"/>
              </a:rPr>
              <a:t>Page :  5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761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523880" y="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0000"/>
                </a:solidFill>
                <a:uFillTx/>
                <a:latin typeface="Constantia"/>
              </a:rPr>
              <a:t>Page : 5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70c0"/>
                </a:solidFill>
                <a:uFillTx/>
                <a:latin typeface="Constantia"/>
              </a:rPr>
              <a:t>Ex. A)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Muslims eat and drink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.Poor people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3-Eid Al-Fitr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676520" y="0"/>
            <a:ext cx="5333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nstantia"/>
              </a:rPr>
              <a:t>Page : 4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 They attend this school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don’t they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Yes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they d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 He wants an ice cream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doesn’t he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Yes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he do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 You have a bicycle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don’t you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Yes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I d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1523880" y="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0000"/>
                </a:solidFill>
                <a:uFillTx/>
                <a:latin typeface="Constantia"/>
              </a:rPr>
              <a:t>Page : 45 &amp; 46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80880" y="990720"/>
            <a:ext cx="15242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70c0"/>
                </a:solidFill>
                <a:uFillTx/>
                <a:latin typeface="Times New Roman"/>
              </a:rPr>
              <a:t>1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y don’t eat fish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do they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o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they don’t 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 He doesn’t come from Saudi Arabia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doesn’t he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o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he doesn’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 You don’t have a bicycle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do you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o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I don’t 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523880" y="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0000"/>
                </a:solidFill>
                <a:uFillTx/>
                <a:latin typeface="Constantia"/>
              </a:rPr>
              <a:t>Page : 45 &amp; 46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80880" y="990720"/>
            <a:ext cx="15242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70c0"/>
                </a:solidFill>
                <a:uFillTx/>
                <a:latin typeface="Times New Roman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90840" indent="-69084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y bought a house , didn’t they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Yes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they did 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 He wanted an ice cream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didn’t he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Yes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he di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 You went to England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didn’t  you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Yes 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I did  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523880" y="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0000"/>
                </a:solidFill>
                <a:uFillTx/>
                <a:latin typeface="Constantia"/>
              </a:rPr>
              <a:t>Page : 45 &amp; 46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80880" y="990720"/>
            <a:ext cx="15242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70c0"/>
                </a:solidFill>
                <a:uFillTx/>
                <a:latin typeface="Times New Roman"/>
              </a:rPr>
              <a:t>3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1-They didn’t do their homework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did they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o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they didn’t 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 He didn’t come here on Friday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did he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o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he didn’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 You didn’t fly to school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did you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o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I didn’t 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523880" y="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0000"/>
                </a:solidFill>
                <a:uFillTx/>
                <a:latin typeface="Constantia"/>
              </a:rPr>
              <a:t>Page : 45 &amp; 46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80880" y="990720"/>
            <a:ext cx="15242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70c0"/>
                </a:solidFill>
                <a:uFillTx/>
                <a:latin typeface="Times New Roman"/>
              </a:rPr>
              <a:t>4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85800" y="914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 They didn’t go to the United States last year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did they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No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they didn’t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 Youssef wrote to his pen-friend last week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didn’t he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Yes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he did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 Ali and his brother don’t speak English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do they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No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they don’t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523880" y="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0000"/>
                </a:solidFill>
                <a:uFillTx/>
                <a:latin typeface="Constantia"/>
              </a:rPr>
              <a:t>Page : 4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5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. You helped your father last night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didn’t you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Yes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I did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6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 You didn’t do your homework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did you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No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I didn’t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7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. We don’t have an English lesson on Thursday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do we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No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we don’t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8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. He lives in Saudi Arabia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doesn’t he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Yes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he does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9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. She didn’t make that cake herself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did she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No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she didn’t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10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. I passed that test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didn’t I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?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Yes</a:t>
            </a:r>
            <a:r>
              <a:rPr b="0" lang="en-US" sz="37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you did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12:06:12Z</dcterms:created>
  <dc:creator>Bafayad</dc:creator>
  <dc:description/>
  <dc:language>en-US</dc:language>
  <cp:lastModifiedBy>MAAS</cp:lastModifiedBy>
  <dcterms:modified xsi:type="dcterms:W3CDTF">2013-06-29T23:11:06Z</dcterms:modified>
  <cp:revision>7</cp:revision>
  <dc:subject/>
  <dc:title>عرض تقديمي من PowerPoint</dc:title>
</cp:coreProperties>
</file>