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wind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959-F7C5-4BBE-A2CF-9F42BE01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E76-794C-461D-8CDD-303AB327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87B-0C7B-49DB-B70D-B057A04F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270-178E-4158-873E-773038C7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77F8-1158-4E07-875C-EB649BF1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3B6-6FED-4305-865B-B8CF8297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94AD-DB1E-4CE7-B86C-3F741EF2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13D0-38D5-4F09-8456-12D7DBF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5E54-E082-4A0D-994A-7D4C0B5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BDC-4AB6-4C81-B84F-3A2D4C8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B561-BDC9-4FC8-B8B2-B42FE74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490-BD80-4D11-9455-534B627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6B0A-C32F-4C8F-9B80-9A788921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D628-3556-4A86-8FCA-69958B6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2ECB-0678-42DD-8ABE-DDE8E3A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F93E-1F56-40A6-87BC-CFBF4847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1499-1529-4121-90D7-83764A7E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65CAF-54AB-4B82-96AD-4DF44DA0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503F-37F2-4743-BB9F-A824A18D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3467-475A-459D-BDC0-4C6B645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E0C0-D752-47A7-9E44-77F6F446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A62A-F36D-4242-9EAA-4F8E4A50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E44-8768-4638-8AAE-C6C3AC5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EC21-8F26-43E6-B250-20DD6FEE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C6DC-5330-4237-9677-B3ED4BF9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65F4-7334-408C-9F01-8037C67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AD09-EDD9-4F8B-9F6D-A6B1398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D78C-B73D-46B3-9A99-EA32B750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985D-6132-4572-8AE0-9AA996A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1E8E-4F1C-4D85-8758-CB823A94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3C2F-47F5-4D9C-ADF7-5D0D34EC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351C-9DD7-489F-BC01-6045D487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5E0F-C132-46D1-B06C-7B0E1F9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56D-1331-4742-855B-5B9422AA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7DBF-DB48-4DA9-BBF0-E5391C3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B4CC-9A71-430F-81E0-DA8F851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C10E-FA18-409F-9ED8-82E393C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561C-E345-4E3E-B447-EECFA8A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679D-4333-4859-A7DF-10DF6CE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1C11-FF0E-4FBE-BFC8-11CD2DC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B815-EF8C-4AAA-9266-B847961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0EF1-D9F6-4E04-82AE-1FA3A9AE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1321F-EFCB-4631-AEB2-F091C827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873-0590-4C00-95E3-B1AD7500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434-3FA1-4DFA-870C-E269E9D0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752-C292-4FA0-BDFC-B3AC7A5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F2E-EB6B-463A-894E-55FABFF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100-CFCA-4FB3-819C-7D89EC7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667-3A30-4735-8415-98D5FF6B5E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EDD-443D-41E6-979A-35175702242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C735-475A-45AC-B9A6-94F9B5FAFAE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E36-9E32-436C-9626-E1CB00E42B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554040" y="1523880"/>
            <a:ext cx="1101420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5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a)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rainy day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b)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sunny day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c)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ecaues of different place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752480" y="4572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</a:rPr>
              <a:t>Page :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5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b)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a fifth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our-fifth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c)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we can drink fresh wa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d)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drinking-washing-indust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nstantia"/>
              </a:rPr>
              <a:t>e)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pollutio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88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have-affected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does-move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Did-bow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was-robbed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are-prescribed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1026"/>
              </a:spcBef>
              <a:buClr>
                <a:srgbClr val="ff33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were-held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419720" y="1295280"/>
            <a:ext cx="441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s-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-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-discove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295280" y="304920"/>
            <a:ext cx="48769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52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1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– 5 : It is too salt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2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– 10 : About one fifth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3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– 25 : Water moves over hard ro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4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– 36 : only a small percentag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5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– 43 : It takes 1 kil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6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– 48 : world – wid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7)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Constantia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– 52 : Water is more preciou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914400" y="0"/>
            <a:ext cx="48769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21896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deman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li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remot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Nearl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undergroun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87692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unusab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sk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power sta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evaporat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 purpos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295280" y="304920"/>
            <a:ext cx="48769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06632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) Yes, there w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) Yes, it i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) Yes, they ar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6) Yes, they have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7) No, they have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8) Yes, there hav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9) No, there are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7960" y="12952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0) Yes, he di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1) No, he did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2) Yes, it w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3) No, they were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4) No, he hadn’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5) Yes, he h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6) Yes, we shoul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1295280" y="304920"/>
            <a:ext cx="5257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560" y="7617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does smoking affect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do some westerners suffer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have researchers conclude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are tests done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did the patient feel all the pain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7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What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s he able to choose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8)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was he expected to arrive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1219320" y="0"/>
            <a:ext cx="4876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: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4:17:48Z</dcterms:created>
  <dc:creator>Bafayad</dc:creator>
  <dc:description/>
  <dc:language>en-US</dc:language>
  <cp:lastModifiedBy>MAAS</cp:lastModifiedBy>
  <dcterms:modified xsi:type="dcterms:W3CDTF">2013-06-29T23:26:55Z</dcterms:modified>
  <cp:revision>14</cp:revision>
  <dc:subject/>
  <dc:title>Unit 1     Lesson 4</dc:title>
</cp:coreProperties>
</file>