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70C-25B2-4109-9540-5FCAFD36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D74-1876-43E0-95AC-58BFF2EC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4E5B-786D-4B87-9E29-54E42EA4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CB3-C981-4821-9491-6D3F8F46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0F1-D4D8-4F1F-95DD-17DD12E6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6C0A-A29A-4DB8-8393-971474D4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3F6-C1EF-4131-A929-3C00E923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E0AF-8523-4BFF-9EE4-C84B3313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FA6-2150-4A32-A631-E9E55AA4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5B4-320F-4648-A705-B42FE605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10D6-E65E-41BE-A087-A27868EC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F85-7E8D-4477-90B1-B0F2BC3D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86AD-308D-400A-87D2-10110BF04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8.png"/><Relationship Id="rId35" Type="http://schemas.openxmlformats.org/officeDocument/2006/relationships/image" Target="../media/image8.png"/><Relationship Id="rId36" Type="http://schemas.openxmlformats.org/officeDocument/2006/relationships/image" Target="../media/image8.png"/><Relationship Id="rId37" Type="http://schemas.openxmlformats.org/officeDocument/2006/relationships/image" Target="../media/image8.png"/><Relationship Id="rId38" Type="http://schemas.openxmlformats.org/officeDocument/2006/relationships/image" Target="../media/image8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image" Target="../media/image8.png"/><Relationship Id="rId42" Type="http://schemas.openxmlformats.org/officeDocument/2006/relationships/image" Target="../media/image7.png"/><Relationship Id="rId43" Type="http://schemas.openxmlformats.org/officeDocument/2006/relationships/image" Target="../media/image8.png"/><Relationship Id="rId44" Type="http://schemas.openxmlformats.org/officeDocument/2006/relationships/image" Target="../media/image8.png"/><Relationship Id="rId45" Type="http://schemas.openxmlformats.org/officeDocument/2006/relationships/image" Target="../media/image8.png"/><Relationship Id="rId46" Type="http://schemas.openxmlformats.org/officeDocument/2006/relationships/image" Target="../media/image8.png"/><Relationship Id="rId47" Type="http://schemas.openxmlformats.org/officeDocument/2006/relationships/image" Target="../media/image8.png"/><Relationship Id="rId48" Type="http://schemas.openxmlformats.org/officeDocument/2006/relationships/image" Target="../media/image8.png"/><Relationship Id="rId49" Type="http://schemas.openxmlformats.org/officeDocument/2006/relationships/image" Target="../media/image8.png"/><Relationship Id="rId50" Type="http://schemas.openxmlformats.org/officeDocument/2006/relationships/image" Target="../media/image8.png"/><Relationship Id="rId51" Type="http://schemas.openxmlformats.org/officeDocument/2006/relationships/image" Target="../media/image8.png"/><Relationship Id="rId52" Type="http://schemas.openxmlformats.org/officeDocument/2006/relationships/image" Target="../media/image8.png"/><Relationship Id="rId53" Type="http://schemas.openxmlformats.org/officeDocument/2006/relationships/image" Target="../media/image8.png"/><Relationship Id="rId54" Type="http://schemas.openxmlformats.org/officeDocument/2006/relationships/image" Target="../media/image8.png"/><Relationship Id="rId55" Type="http://schemas.openxmlformats.org/officeDocument/2006/relationships/image" Target="../media/image8.png"/><Relationship Id="rId56" Type="http://schemas.openxmlformats.org/officeDocument/2006/relationships/image" Target="../media/image7.png"/><Relationship Id="rId57" Type="http://schemas.openxmlformats.org/officeDocument/2006/relationships/image" Target="../media/image8.png"/><Relationship Id="rId58" Type="http://schemas.openxmlformats.org/officeDocument/2006/relationships/image" Target="../media/image8.png"/><Relationship Id="rId59" Type="http://schemas.openxmlformats.org/officeDocument/2006/relationships/image" Target="../media/image8.png"/><Relationship Id="rId60" Type="http://schemas.openxmlformats.org/officeDocument/2006/relationships/image" Target="../media/image8.png"/><Relationship Id="rId61" Type="http://schemas.openxmlformats.org/officeDocument/2006/relationships/image" Target="../media/image8.png"/><Relationship Id="rId62" Type="http://schemas.openxmlformats.org/officeDocument/2006/relationships/image" Target="../media/image8.png"/><Relationship Id="rId63" Type="http://schemas.openxmlformats.org/officeDocument/2006/relationships/image" Target="../media/image8.png"/><Relationship Id="rId64" Type="http://schemas.openxmlformats.org/officeDocument/2006/relationships/image" Target="../media/image8.png"/><Relationship Id="rId65" Type="http://schemas.openxmlformats.org/officeDocument/2006/relationships/image" Target="../media/image8.png"/><Relationship Id="rId66" Type="http://schemas.openxmlformats.org/officeDocument/2006/relationships/image" Target="../media/image8.png"/><Relationship Id="rId67" Type="http://schemas.openxmlformats.org/officeDocument/2006/relationships/image" Target="../media/image8.png"/><Relationship Id="rId68" Type="http://schemas.openxmlformats.org/officeDocument/2006/relationships/image" Target="../media/image8.png"/><Relationship Id="rId69" Type="http://schemas.openxmlformats.org/officeDocument/2006/relationships/image" Target="../media/image8.png"/><Relationship Id="rId70" Type="http://schemas.openxmlformats.org/officeDocument/2006/relationships/image" Target="../media/image8.png"/><Relationship Id="rId71" Type="http://schemas.openxmlformats.org/officeDocument/2006/relationships/image" Target="../media/image8.png"/><Relationship Id="rId72" Type="http://schemas.openxmlformats.org/officeDocument/2006/relationships/image" Target="../media/image9.png"/><Relationship Id="rId73" Type="http://schemas.openxmlformats.org/officeDocument/2006/relationships/image" Target="../media/image10.png"/><Relationship Id="rId74" Type="http://schemas.openxmlformats.org/officeDocument/2006/relationships/image" Target="../media/image11.png"/><Relationship Id="rId75" Type="http://schemas.openxmlformats.org/officeDocument/2006/relationships/image" Target="../media/image12.png"/><Relationship Id="rId76" Type="http://schemas.openxmlformats.org/officeDocument/2006/relationships/image" Target="../media/image13.png"/><Relationship Id="rId77" Type="http://schemas.openxmlformats.org/officeDocument/2006/relationships/image" Target="../media/image14.png"/><Relationship Id="rId78" Type="http://schemas.openxmlformats.org/officeDocument/2006/relationships/image" Target="../media/image15.png"/><Relationship Id="rId79" Type="http://schemas.openxmlformats.org/officeDocument/2006/relationships/image" Target="../media/image16.png"/><Relationship Id="rId8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2560" y="1628640"/>
            <a:ext cx="7921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487760" y="1197000"/>
            <a:ext cx="3971880" cy="5983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2556000" y="115920"/>
            <a:ext cx="4176720" cy="779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2771640" y="1916280"/>
            <a:ext cx="4537080" cy="16938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2124000" y="4365720"/>
            <a:ext cx="2305080" cy="1919520"/>
            <a:chOff x="2124000" y="4365720"/>
            <a:chExt cx="2305080" cy="1919520"/>
          </a:xfrm>
        </p:grpSpPr>
        <p:pic>
          <p:nvPicPr>
            <p:cNvPr id="364" name="" descr=""/>
            <p:cNvPicPr/>
            <p:nvPr/>
          </p:nvPicPr>
          <p:blipFill>
            <a:blip r:embed="rId4"/>
            <a:stretch/>
          </p:blipFill>
          <p:spPr>
            <a:xfrm>
              <a:off x="2124000" y="4365720"/>
              <a:ext cx="230508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3059280" y="58863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435640" y="4092480"/>
            <a:ext cx="2449440" cy="2192760"/>
            <a:chOff x="5435640" y="4092480"/>
            <a:chExt cx="2449440" cy="2192760"/>
          </a:xfrm>
        </p:grpSpPr>
        <p:pic>
          <p:nvPicPr>
            <p:cNvPr id="367" name="" descr=""/>
            <p:cNvPicPr/>
            <p:nvPr/>
          </p:nvPicPr>
          <p:blipFill>
            <a:blip r:embed="rId5"/>
            <a:stretch/>
          </p:blipFill>
          <p:spPr>
            <a:xfrm>
              <a:off x="5435640" y="4092480"/>
              <a:ext cx="2449440" cy="17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6367320" y="58863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9" dur="indefinite" restart="never" nodeType="tmRoot">
          <p:childTnLst>
            <p:seq>
              <p:cTn id="2510" dur="indefinite" nodeType="mainSeq">
                <p:childTnLst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fill="hold">
                      <p:stCondLst>
                        <p:cond delay="indefinite"/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4176720" cy="779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311560" y="1143000"/>
            <a:ext cx="6292800" cy="1341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17360" y="539640"/>
            <a:ext cx="1933560" cy="20955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3203640" y="2421000"/>
            <a:ext cx="5328720" cy="431280"/>
            <a:chOff x="3203640" y="2421000"/>
            <a:chExt cx="5328720" cy="431280"/>
          </a:xfrm>
        </p:grpSpPr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7526520" y="2421000"/>
              <a:ext cx="10058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3203640" y="2421000"/>
              <a:ext cx="4341240" cy="4312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8" name=""/>
          <p:cNvGraphicFramePr/>
          <p:nvPr/>
        </p:nvGraphicFramePr>
        <p:xfrm>
          <a:off x="969840" y="3919680"/>
          <a:ext cx="7489800" cy="1309680"/>
        </p:xfrm>
        <a:graphic>
          <a:graphicData uri="http://schemas.openxmlformats.org/drawingml/2006/table">
            <a:tbl>
              <a:tblPr/>
              <a:tblGrid>
                <a:gridCol w="1069920"/>
                <a:gridCol w="1070280"/>
                <a:gridCol w="1071360"/>
                <a:gridCol w="1067040"/>
                <a:gridCol w="1069920"/>
                <a:gridCol w="976320"/>
                <a:gridCol w="1164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هدا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كل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6516720" y="40273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51640" y="4649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79920" y="40356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65880" y="46497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89480" y="40356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465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89320" y="4076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6497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0734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464976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400536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70000" y="46497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671080" y="3966480"/>
            <a:ext cx="1281240" cy="1951200"/>
            <a:chOff x="5671080" y="3966480"/>
            <a:chExt cx="1281240" cy="1951200"/>
          </a:xfrm>
        </p:grpSpPr>
        <p:sp>
          <p:nvSpPr>
            <p:cNvPr id="62" name=""/>
            <p:cNvSpPr/>
            <p:nvPr/>
          </p:nvSpPr>
          <p:spPr>
            <a:xfrm flipH="1" rot="16150200">
              <a:off x="5519160" y="4138200"/>
              <a:ext cx="1584360" cy="12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20" y="2426"/>
                  </a:moveTo>
                  <a:arcTo wR="10800" hR="10800" stAng="-3050387" swAng="60306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20" y="2426"/>
                  </a:moveTo>
                  <a:arcTo wR="10800" hR="10800" stAng="-3050387" swAng="6030678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07240" y="545796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655960" y="3225960"/>
            <a:ext cx="1354680" cy="1958400"/>
            <a:chOff x="5655960" y="3225960"/>
            <a:chExt cx="1354680" cy="1958400"/>
          </a:xfrm>
        </p:grpSpPr>
        <p:sp>
          <p:nvSpPr>
            <p:cNvPr id="65" name=""/>
            <p:cNvSpPr/>
            <p:nvPr/>
          </p:nvSpPr>
          <p:spPr>
            <a:xfrm flipH="1" rot="5185800">
              <a:off x="5541120" y="3725280"/>
              <a:ext cx="1583640" cy="125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20" y="2426"/>
                  </a:moveTo>
                  <a:arcTo wR="10800" hR="10800" stAng="-3050387" swAng="60306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20" y="2426"/>
                  </a:moveTo>
                  <a:arcTo wR="10800" hR="10800" stAng="-3050387" swAng="6030678"/>
                </a:path>
              </a:pathLst>
            </a:custGeom>
            <a:noFill/>
            <a:ln w="507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3360" y="322596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509720" y="3235320"/>
            <a:ext cx="1354680" cy="1958400"/>
            <a:chOff x="4509720" y="3235320"/>
            <a:chExt cx="1354680" cy="1958400"/>
          </a:xfrm>
        </p:grpSpPr>
        <p:sp>
          <p:nvSpPr>
            <p:cNvPr id="68" name=""/>
            <p:cNvSpPr/>
            <p:nvPr/>
          </p:nvSpPr>
          <p:spPr>
            <a:xfrm flipH="1" rot="5185800">
              <a:off x="4394880" y="3734640"/>
              <a:ext cx="1583640" cy="125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20" y="2426"/>
                  </a:moveTo>
                  <a:arcTo wR="10800" hR="10800" stAng="-3050387" swAng="60306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20" y="2426"/>
                  </a:moveTo>
                  <a:arcTo wR="10800" hR="10800" stAng="-3050387" swAng="6030678"/>
                </a:path>
              </a:pathLst>
            </a:custGeom>
            <a:noFill/>
            <a:ln w="507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767120" y="32353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453200" y="3997440"/>
            <a:ext cx="1281240" cy="1950120"/>
            <a:chOff x="4453200" y="3997440"/>
            <a:chExt cx="1281240" cy="1950120"/>
          </a:xfrm>
        </p:grpSpPr>
        <p:sp>
          <p:nvSpPr>
            <p:cNvPr id="71" name=""/>
            <p:cNvSpPr/>
            <p:nvPr/>
          </p:nvSpPr>
          <p:spPr>
            <a:xfrm flipH="1" rot="16150200">
              <a:off x="4301640" y="4168800"/>
              <a:ext cx="1583640" cy="12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20" y="2426"/>
                  </a:moveTo>
                  <a:arcTo wR="10800" hR="10800" stAng="-3050387" swAng="60306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20" y="2426"/>
                  </a:moveTo>
                  <a:arcTo wR="10800" hR="10800" stAng="-3050387" swAng="6030678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89360" y="548784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430080" y="3235320"/>
            <a:ext cx="1354680" cy="1958400"/>
            <a:chOff x="3430080" y="3235320"/>
            <a:chExt cx="1354680" cy="1958400"/>
          </a:xfrm>
        </p:grpSpPr>
        <p:sp>
          <p:nvSpPr>
            <p:cNvPr id="74" name=""/>
            <p:cNvSpPr/>
            <p:nvPr/>
          </p:nvSpPr>
          <p:spPr>
            <a:xfrm flipH="1" rot="5185800">
              <a:off x="3315240" y="3734640"/>
              <a:ext cx="1583640" cy="125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20" y="2426"/>
                  </a:moveTo>
                  <a:arcTo wR="10800" hR="10800" stAng="-3050387" swAng="60306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20" y="2426"/>
                  </a:moveTo>
                  <a:arcTo wR="10800" hR="10800" stAng="-3050387" swAng="6030678"/>
                </a:path>
              </a:pathLst>
            </a:custGeom>
            <a:noFill/>
            <a:ln w="507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87480" y="32353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373920" y="3980160"/>
            <a:ext cx="1281240" cy="1950120"/>
            <a:chOff x="3373920" y="3980160"/>
            <a:chExt cx="1281240" cy="1950120"/>
          </a:xfrm>
        </p:grpSpPr>
        <p:sp>
          <p:nvSpPr>
            <p:cNvPr id="77" name=""/>
            <p:cNvSpPr/>
            <p:nvPr/>
          </p:nvSpPr>
          <p:spPr>
            <a:xfrm flipH="1" rot="16150200">
              <a:off x="3222360" y="4151520"/>
              <a:ext cx="1583640" cy="12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20" y="2426"/>
                  </a:moveTo>
                  <a:arcTo wR="10800" hR="10800" stAng="-3050387" swAng="60306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20" y="2426"/>
                  </a:moveTo>
                  <a:arcTo wR="10800" hR="10800" stAng="-3050387" swAng="6030678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547056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331720" y="3251160"/>
            <a:ext cx="1354680" cy="1958400"/>
            <a:chOff x="2331720" y="3251160"/>
            <a:chExt cx="1354680" cy="1958400"/>
          </a:xfrm>
        </p:grpSpPr>
        <p:sp>
          <p:nvSpPr>
            <p:cNvPr id="80" name=""/>
            <p:cNvSpPr/>
            <p:nvPr/>
          </p:nvSpPr>
          <p:spPr>
            <a:xfrm flipH="1" rot="5185800">
              <a:off x="2216880" y="3750480"/>
              <a:ext cx="1583640" cy="125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20" y="2426"/>
                  </a:moveTo>
                  <a:arcTo wR="10800" hR="10800" stAng="-3050387" swAng="60306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20" y="2426"/>
                  </a:moveTo>
                  <a:arcTo wR="10800" hR="10800" stAng="-3050387" swAng="6030678"/>
                </a:path>
              </a:pathLst>
            </a:custGeom>
            <a:noFill/>
            <a:ln w="507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89120" y="325116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325960" y="4001400"/>
            <a:ext cx="1281240" cy="1951200"/>
            <a:chOff x="2325960" y="4001400"/>
            <a:chExt cx="1281240" cy="1951200"/>
          </a:xfrm>
        </p:grpSpPr>
        <p:sp>
          <p:nvSpPr>
            <p:cNvPr id="83" name=""/>
            <p:cNvSpPr/>
            <p:nvPr/>
          </p:nvSpPr>
          <p:spPr>
            <a:xfrm flipH="1" rot="16150200">
              <a:off x="2174040" y="4173120"/>
              <a:ext cx="1584360" cy="12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20" y="2426"/>
                  </a:moveTo>
                  <a:arcTo wR="10800" hR="10800" stAng="-3050387" swAng="60306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20" y="2426"/>
                  </a:moveTo>
                  <a:arcTo wR="10800" hR="10800" stAng="-3050387" swAng="6030678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62120" y="549288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269360" y="3243240"/>
            <a:ext cx="1354680" cy="1958400"/>
            <a:chOff x="1269360" y="3243240"/>
            <a:chExt cx="1354680" cy="1958400"/>
          </a:xfrm>
        </p:grpSpPr>
        <p:sp>
          <p:nvSpPr>
            <p:cNvPr id="86" name=""/>
            <p:cNvSpPr/>
            <p:nvPr/>
          </p:nvSpPr>
          <p:spPr>
            <a:xfrm flipH="1" rot="5185800">
              <a:off x="1154520" y="3742560"/>
              <a:ext cx="1583640" cy="125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20" y="2426"/>
                  </a:moveTo>
                  <a:arcTo wR="10800" hR="10800" stAng="-3050387" swAng="60306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20" y="2426"/>
                  </a:moveTo>
                  <a:arcTo wR="10800" hR="10800" stAng="-3050387" swAng="6030678"/>
                </a:path>
              </a:pathLst>
            </a:custGeom>
            <a:noFill/>
            <a:ln w="507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26760" y="32432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232280" y="4009320"/>
            <a:ext cx="1281240" cy="1951200"/>
            <a:chOff x="1232280" y="4009320"/>
            <a:chExt cx="1281240" cy="1951200"/>
          </a:xfrm>
        </p:grpSpPr>
        <p:sp>
          <p:nvSpPr>
            <p:cNvPr id="89" name=""/>
            <p:cNvSpPr/>
            <p:nvPr/>
          </p:nvSpPr>
          <p:spPr>
            <a:xfrm flipH="1" rot="16150200">
              <a:off x="1080360" y="4181040"/>
              <a:ext cx="1584360" cy="12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20" y="2426"/>
                  </a:moveTo>
                  <a:arcTo wR="10800" hR="10800" stAng="-3050387" swAng="60306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20" y="2426"/>
                  </a:moveTo>
                  <a:arcTo wR="10800" hR="10800" stAng="-3050387" swAng="6030678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68440" y="550080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835280" y="595008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99"/>
                </a:solidFill>
                <a:latin typeface="Arial"/>
                <a:cs typeface="DecoType Naskh"/>
              </a:rPr>
              <a:t>عدد الركلات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DecoType Naskh"/>
              </a:rPr>
              <a:t>30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DecoType Naskh"/>
              </a:rPr>
              <a:t> فإن عدد الأهداف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DecoType Naskh"/>
              </a:rPr>
              <a:t>1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DecoType Naskh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6880" y="5945040"/>
            <a:ext cx="23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99"/>
                </a:solidFill>
                <a:latin typeface="Arial"/>
                <a:cs typeface="DecoType Naskh"/>
              </a:rPr>
              <a:t>من الجدول نجد أن 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DecoType Naskh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0920" y="1122480"/>
            <a:ext cx="6913800" cy="1801800"/>
          </a:xfrm>
          <a:prstGeom prst="octagon">
            <a:avLst>
              <a:gd name="adj" fmla="val 2928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4176720" cy="779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122640" y="1270080"/>
            <a:ext cx="336600" cy="272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833560" y="1274760"/>
            <a:ext cx="316080" cy="268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530440" y="1281240"/>
            <a:ext cx="314280" cy="268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220840" y="1285920"/>
            <a:ext cx="316080" cy="270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3419640" y="1523880"/>
            <a:ext cx="336240" cy="273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3129120" y="152892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2825640" y="1535040"/>
            <a:ext cx="316080" cy="268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2517840" y="1539720"/>
            <a:ext cx="314280" cy="270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2211480" y="1539720"/>
            <a:ext cx="315720" cy="270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1903320" y="1542960"/>
            <a:ext cx="316080" cy="268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3714840" y="1778040"/>
            <a:ext cx="338040" cy="272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3425760" y="1782720"/>
            <a:ext cx="316080" cy="268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4"/>
          <a:stretch/>
        </p:blipFill>
        <p:spPr>
          <a:xfrm>
            <a:off x="3122640" y="1789200"/>
            <a:ext cx="314280" cy="268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5"/>
          <a:stretch/>
        </p:blipFill>
        <p:spPr>
          <a:xfrm>
            <a:off x="2813040" y="1793880"/>
            <a:ext cx="316080" cy="268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6"/>
          <a:stretch/>
        </p:blipFill>
        <p:spPr>
          <a:xfrm>
            <a:off x="2508120" y="1793880"/>
            <a:ext cx="314280" cy="268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7"/>
          <a:stretch/>
        </p:blipFill>
        <p:spPr>
          <a:xfrm>
            <a:off x="2211480" y="179712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8"/>
          <a:stretch/>
        </p:blipFill>
        <p:spPr>
          <a:xfrm>
            <a:off x="1897200" y="1800360"/>
            <a:ext cx="314280" cy="268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9"/>
          <a:stretch/>
        </p:blipFill>
        <p:spPr>
          <a:xfrm>
            <a:off x="1589040" y="1803240"/>
            <a:ext cx="314280" cy="268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0"/>
          <a:stretch/>
        </p:blipFill>
        <p:spPr>
          <a:xfrm>
            <a:off x="4024440" y="2038320"/>
            <a:ext cx="336600" cy="273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1"/>
          <a:stretch/>
        </p:blipFill>
        <p:spPr>
          <a:xfrm>
            <a:off x="3735360" y="2043000"/>
            <a:ext cx="314280" cy="268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2"/>
          <a:stretch/>
        </p:blipFill>
        <p:spPr>
          <a:xfrm>
            <a:off x="3430440" y="2049480"/>
            <a:ext cx="316080" cy="268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3"/>
          <a:stretch/>
        </p:blipFill>
        <p:spPr>
          <a:xfrm>
            <a:off x="3122640" y="2054160"/>
            <a:ext cx="314280" cy="268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4"/>
          <a:stretch/>
        </p:blipFill>
        <p:spPr>
          <a:xfrm>
            <a:off x="2816280" y="205416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5"/>
          <a:stretch/>
        </p:blipFill>
        <p:spPr>
          <a:xfrm>
            <a:off x="2495520" y="2057400"/>
            <a:ext cx="316080" cy="268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6"/>
          <a:stretch/>
        </p:blipFill>
        <p:spPr>
          <a:xfrm>
            <a:off x="2189160" y="2060640"/>
            <a:ext cx="316080" cy="268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7"/>
          <a:stretch/>
        </p:blipFill>
        <p:spPr>
          <a:xfrm>
            <a:off x="1871640" y="2062080"/>
            <a:ext cx="316080" cy="270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8"/>
          <a:stretch/>
        </p:blipFill>
        <p:spPr>
          <a:xfrm>
            <a:off x="1566720" y="2062080"/>
            <a:ext cx="316080" cy="268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9"/>
          <a:stretch/>
        </p:blipFill>
        <p:spPr>
          <a:xfrm>
            <a:off x="1251000" y="206532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0"/>
          <a:stretch/>
        </p:blipFill>
        <p:spPr>
          <a:xfrm>
            <a:off x="4340160" y="2289240"/>
            <a:ext cx="336600" cy="272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1"/>
          <a:stretch/>
        </p:blipFill>
        <p:spPr>
          <a:xfrm>
            <a:off x="4051440" y="2293920"/>
            <a:ext cx="315720" cy="270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2"/>
          <a:stretch/>
        </p:blipFill>
        <p:spPr>
          <a:xfrm>
            <a:off x="3747960" y="2300400"/>
            <a:ext cx="314280" cy="268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3"/>
          <a:stretch/>
        </p:blipFill>
        <p:spPr>
          <a:xfrm>
            <a:off x="3438360" y="2305080"/>
            <a:ext cx="316080" cy="270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4"/>
          <a:stretch/>
        </p:blipFill>
        <p:spPr>
          <a:xfrm>
            <a:off x="3132000" y="2305080"/>
            <a:ext cx="316080" cy="270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5"/>
          <a:stretch/>
        </p:blipFill>
        <p:spPr>
          <a:xfrm>
            <a:off x="2811600" y="230832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6"/>
          <a:stretch/>
        </p:blipFill>
        <p:spPr>
          <a:xfrm>
            <a:off x="2496960" y="2311560"/>
            <a:ext cx="314640" cy="268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7"/>
          <a:stretch/>
        </p:blipFill>
        <p:spPr>
          <a:xfrm>
            <a:off x="2189160" y="2314440"/>
            <a:ext cx="314280" cy="268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8"/>
          <a:stretch/>
        </p:blipFill>
        <p:spPr>
          <a:xfrm>
            <a:off x="1874880" y="2313000"/>
            <a:ext cx="315720" cy="27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9"/>
          <a:stretch/>
        </p:blipFill>
        <p:spPr>
          <a:xfrm>
            <a:off x="1566720" y="2316240"/>
            <a:ext cx="316080" cy="268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0"/>
          <a:stretch/>
        </p:blipFill>
        <p:spPr>
          <a:xfrm>
            <a:off x="1266840" y="2324160"/>
            <a:ext cx="315720" cy="269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1"/>
          <a:stretch/>
        </p:blipFill>
        <p:spPr>
          <a:xfrm>
            <a:off x="958680" y="2327400"/>
            <a:ext cx="316080" cy="268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2"/>
          <a:stretch/>
        </p:blipFill>
        <p:spPr>
          <a:xfrm>
            <a:off x="4640400" y="2543040"/>
            <a:ext cx="336240" cy="27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3"/>
          <a:stretch/>
        </p:blipFill>
        <p:spPr>
          <a:xfrm>
            <a:off x="4349880" y="254808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4"/>
          <a:stretch/>
        </p:blipFill>
        <p:spPr>
          <a:xfrm>
            <a:off x="4046400" y="2554200"/>
            <a:ext cx="316080" cy="268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5"/>
          <a:stretch/>
        </p:blipFill>
        <p:spPr>
          <a:xfrm>
            <a:off x="3738600" y="2558880"/>
            <a:ext cx="314280" cy="270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6"/>
          <a:stretch/>
        </p:blipFill>
        <p:spPr>
          <a:xfrm>
            <a:off x="3432240" y="2558880"/>
            <a:ext cx="315720" cy="270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7"/>
          <a:stretch/>
        </p:blipFill>
        <p:spPr>
          <a:xfrm>
            <a:off x="3111480" y="2562120"/>
            <a:ext cx="316080" cy="268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8"/>
          <a:stretch/>
        </p:blipFill>
        <p:spPr>
          <a:xfrm>
            <a:off x="2808360" y="256536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9"/>
          <a:stretch/>
        </p:blipFill>
        <p:spPr>
          <a:xfrm>
            <a:off x="2500200" y="2568600"/>
            <a:ext cx="316080" cy="268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0"/>
          <a:stretch/>
        </p:blipFill>
        <p:spPr>
          <a:xfrm>
            <a:off x="2187720" y="2567160"/>
            <a:ext cx="315720" cy="269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1"/>
          <a:stretch/>
        </p:blipFill>
        <p:spPr>
          <a:xfrm>
            <a:off x="1879560" y="2570040"/>
            <a:ext cx="316080" cy="268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2"/>
          <a:stretch/>
        </p:blipFill>
        <p:spPr>
          <a:xfrm>
            <a:off x="1579680" y="2577960"/>
            <a:ext cx="314280" cy="270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3"/>
          <a:stretch/>
        </p:blipFill>
        <p:spPr>
          <a:xfrm>
            <a:off x="1258920" y="2581200"/>
            <a:ext cx="314280" cy="268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4"/>
          <a:stretch/>
        </p:blipFill>
        <p:spPr>
          <a:xfrm>
            <a:off x="952560" y="2592360"/>
            <a:ext cx="315720" cy="270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5"/>
          <a:stretch/>
        </p:blipFill>
        <p:spPr>
          <a:xfrm>
            <a:off x="644400" y="2595600"/>
            <a:ext cx="316080" cy="268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6"/>
          <a:stretch/>
        </p:blipFill>
        <p:spPr>
          <a:xfrm>
            <a:off x="4954680" y="2800440"/>
            <a:ext cx="336600" cy="272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7"/>
          <a:stretch/>
        </p:blipFill>
        <p:spPr>
          <a:xfrm>
            <a:off x="4664160" y="280512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8"/>
          <a:stretch/>
        </p:blipFill>
        <p:spPr>
          <a:xfrm>
            <a:off x="4361040" y="2809800"/>
            <a:ext cx="315720" cy="270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9"/>
          <a:stretch/>
        </p:blipFill>
        <p:spPr>
          <a:xfrm>
            <a:off x="4052880" y="2816280"/>
            <a:ext cx="314280" cy="268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0"/>
          <a:stretch/>
        </p:blipFill>
        <p:spPr>
          <a:xfrm>
            <a:off x="3746520" y="281628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1"/>
          <a:stretch/>
        </p:blipFill>
        <p:spPr>
          <a:xfrm>
            <a:off x="3438360" y="2819520"/>
            <a:ext cx="316080" cy="268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2"/>
          <a:stretch/>
        </p:blipFill>
        <p:spPr>
          <a:xfrm>
            <a:off x="3122640" y="2822400"/>
            <a:ext cx="315720" cy="268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3"/>
          <a:stretch/>
        </p:blipFill>
        <p:spPr>
          <a:xfrm>
            <a:off x="2814480" y="2824200"/>
            <a:ext cx="316080" cy="270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4"/>
          <a:stretch/>
        </p:blipFill>
        <p:spPr>
          <a:xfrm>
            <a:off x="2502000" y="282420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5"/>
          <a:stretch/>
        </p:blipFill>
        <p:spPr>
          <a:xfrm>
            <a:off x="2193840" y="2827440"/>
            <a:ext cx="316080" cy="268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6"/>
          <a:stretch/>
        </p:blipFill>
        <p:spPr>
          <a:xfrm>
            <a:off x="1881360" y="2835360"/>
            <a:ext cx="314280" cy="268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7"/>
          <a:stretch/>
        </p:blipFill>
        <p:spPr>
          <a:xfrm>
            <a:off x="1560600" y="2838600"/>
            <a:ext cx="314280" cy="268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8"/>
          <a:stretch/>
        </p:blipFill>
        <p:spPr>
          <a:xfrm>
            <a:off x="1266840" y="283680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9"/>
          <a:stretch/>
        </p:blipFill>
        <p:spPr>
          <a:xfrm>
            <a:off x="958680" y="2852640"/>
            <a:ext cx="316080" cy="268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0"/>
          <a:stretch/>
        </p:blipFill>
        <p:spPr>
          <a:xfrm>
            <a:off x="660240" y="2857680"/>
            <a:ext cx="316080" cy="268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1"/>
          <a:stretch/>
        </p:blipFill>
        <p:spPr>
          <a:xfrm>
            <a:off x="352440" y="2860560"/>
            <a:ext cx="315720" cy="2685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4444920" y="1036800"/>
            <a:ext cx="4044960" cy="504720"/>
            <a:chOff x="4444920" y="1036800"/>
            <a:chExt cx="4044960" cy="504720"/>
          </a:xfrm>
        </p:grpSpPr>
        <p:pic>
          <p:nvPicPr>
            <p:cNvPr id="166" name="" descr=""/>
            <p:cNvPicPr/>
            <p:nvPr/>
          </p:nvPicPr>
          <p:blipFill>
            <a:blip r:embed="rId72"/>
            <a:stretch/>
          </p:blipFill>
          <p:spPr>
            <a:xfrm>
              <a:off x="6607080" y="1036800"/>
              <a:ext cx="188280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73"/>
            <a:stretch/>
          </p:blipFill>
          <p:spPr>
            <a:xfrm>
              <a:off x="5048280" y="1084320"/>
              <a:ext cx="1558800" cy="4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74"/>
            <a:stretch/>
          </p:blipFill>
          <p:spPr>
            <a:xfrm>
              <a:off x="4444920" y="1085760"/>
              <a:ext cx="609840" cy="43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4457880" y="1484280"/>
            <a:ext cx="4150800" cy="604440"/>
            <a:chOff x="4457880" y="1484280"/>
            <a:chExt cx="4150800" cy="604440"/>
          </a:xfrm>
        </p:grpSpPr>
        <p:pic>
          <p:nvPicPr>
            <p:cNvPr id="170" name="" descr=""/>
            <p:cNvPicPr/>
            <p:nvPr/>
          </p:nvPicPr>
          <p:blipFill>
            <a:blip r:embed="rId75"/>
            <a:stretch/>
          </p:blipFill>
          <p:spPr>
            <a:xfrm>
              <a:off x="7369560" y="1555200"/>
              <a:ext cx="1239120" cy="47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76"/>
            <a:stretch/>
          </p:blipFill>
          <p:spPr>
            <a:xfrm>
              <a:off x="4457880" y="1484280"/>
              <a:ext cx="2900520" cy="604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" descr=""/>
          <p:cNvPicPr/>
          <p:nvPr/>
        </p:nvPicPr>
        <p:blipFill>
          <a:blip r:embed="rId77"/>
          <a:stretch/>
        </p:blipFill>
        <p:spPr>
          <a:xfrm>
            <a:off x="5865840" y="2106720"/>
            <a:ext cx="2676600" cy="463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5470560" y="2584440"/>
            <a:ext cx="3071520" cy="569520"/>
            <a:chOff x="5470560" y="2584440"/>
            <a:chExt cx="3071520" cy="569520"/>
          </a:xfrm>
        </p:grpSpPr>
        <p:pic>
          <p:nvPicPr>
            <p:cNvPr id="174" name="" descr=""/>
            <p:cNvPicPr/>
            <p:nvPr/>
          </p:nvPicPr>
          <p:blipFill>
            <a:blip r:embed="rId78"/>
            <a:stretch/>
          </p:blipFill>
          <p:spPr>
            <a:xfrm>
              <a:off x="6762240" y="2584440"/>
              <a:ext cx="1779840" cy="56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79"/>
            <a:stretch/>
          </p:blipFill>
          <p:spPr>
            <a:xfrm>
              <a:off x="5470560" y="2661480"/>
              <a:ext cx="1278720" cy="4626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76" name=""/>
          <p:cNvGraphicFramePr/>
          <p:nvPr/>
        </p:nvGraphicFramePr>
        <p:xfrm>
          <a:off x="333360" y="3335400"/>
          <a:ext cx="8559720" cy="1309680"/>
        </p:xfrm>
        <a:graphic>
          <a:graphicData uri="http://schemas.openxmlformats.org/drawingml/2006/table">
            <a:tbl>
              <a:tblPr/>
              <a:tblGrid>
                <a:gridCol w="1069920"/>
                <a:gridCol w="1069920"/>
                <a:gridCol w="1070280"/>
                <a:gridCol w="1071360"/>
                <a:gridCol w="1066680"/>
                <a:gridCol w="1070280"/>
                <a:gridCol w="976320"/>
                <a:gridCol w="1164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صنادي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6950160" y="3443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85080" y="40654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13360" y="34513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10400" y="40654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22920" y="34513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26080" y="40561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83080" y="34416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10160" y="40654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62120" y="34639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1800" y="40654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34960" y="3446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3440" y="406548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104160" y="3383280"/>
            <a:ext cx="1281240" cy="1950120"/>
            <a:chOff x="6104160" y="3383280"/>
            <a:chExt cx="1281240" cy="1950120"/>
          </a:xfrm>
        </p:grpSpPr>
        <p:sp>
          <p:nvSpPr>
            <p:cNvPr id="190" name=""/>
            <p:cNvSpPr/>
            <p:nvPr/>
          </p:nvSpPr>
          <p:spPr>
            <a:xfrm flipH="1" rot="16150200">
              <a:off x="5952600" y="3554640"/>
              <a:ext cx="1583640" cy="12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20" y="2426"/>
                  </a:moveTo>
                  <a:arcTo wR="10800" hR="10800" stAng="-3050387" swAng="60306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20" y="2426"/>
                  </a:moveTo>
                  <a:arcTo wR="10800" hR="10800" stAng="-3050387" swAng="6030678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40320" y="487368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988160" y="3412440"/>
            <a:ext cx="1281240" cy="1951200"/>
            <a:chOff x="4988160" y="3412440"/>
            <a:chExt cx="1281240" cy="1951200"/>
          </a:xfrm>
        </p:grpSpPr>
        <p:sp>
          <p:nvSpPr>
            <p:cNvPr id="193" name=""/>
            <p:cNvSpPr/>
            <p:nvPr/>
          </p:nvSpPr>
          <p:spPr>
            <a:xfrm flipH="1" rot="16150200">
              <a:off x="4836240" y="3584160"/>
              <a:ext cx="1584360" cy="12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20" y="2426"/>
                  </a:moveTo>
                  <a:arcTo wR="10800" hR="10800" stAng="-3050387" swAng="60306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20" y="2426"/>
                  </a:moveTo>
                  <a:arcTo wR="10800" hR="10800" stAng="-3050387" swAng="6030678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24320" y="49039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895920" y="3420360"/>
            <a:ext cx="1281240" cy="1951200"/>
            <a:chOff x="3895920" y="3420360"/>
            <a:chExt cx="1281240" cy="1951200"/>
          </a:xfrm>
        </p:grpSpPr>
        <p:sp>
          <p:nvSpPr>
            <p:cNvPr id="196" name=""/>
            <p:cNvSpPr/>
            <p:nvPr/>
          </p:nvSpPr>
          <p:spPr>
            <a:xfrm flipH="1" rot="16150200">
              <a:off x="3744000" y="3592080"/>
              <a:ext cx="1584360" cy="12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20" y="2426"/>
                  </a:moveTo>
                  <a:arcTo wR="10800" hR="10800" stAng="-3050387" swAng="60306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20" y="2426"/>
                  </a:moveTo>
                  <a:arcTo wR="10800" hR="10800" stAng="-3050387" swAng="6030678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32080" y="491184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822760" y="3404520"/>
            <a:ext cx="1281240" cy="1951200"/>
            <a:chOff x="2822760" y="3404520"/>
            <a:chExt cx="1281240" cy="1951200"/>
          </a:xfrm>
        </p:grpSpPr>
        <p:sp>
          <p:nvSpPr>
            <p:cNvPr id="199" name=""/>
            <p:cNvSpPr/>
            <p:nvPr/>
          </p:nvSpPr>
          <p:spPr>
            <a:xfrm flipH="1" rot="16150200">
              <a:off x="2670840" y="3576240"/>
              <a:ext cx="1584360" cy="12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20" y="2426"/>
                  </a:moveTo>
                  <a:arcTo wR="10800" hR="10800" stAng="-3050387" swAng="60306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20" y="2426"/>
                  </a:moveTo>
                  <a:arcTo wR="10800" hR="10800" stAng="-3050387" swAng="6030678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58920" y="489600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754640" y="3412440"/>
            <a:ext cx="1281240" cy="1951200"/>
            <a:chOff x="1754640" y="3412440"/>
            <a:chExt cx="1281240" cy="1951200"/>
          </a:xfrm>
        </p:grpSpPr>
        <p:sp>
          <p:nvSpPr>
            <p:cNvPr id="202" name=""/>
            <p:cNvSpPr/>
            <p:nvPr/>
          </p:nvSpPr>
          <p:spPr>
            <a:xfrm flipH="1" rot="16150200">
              <a:off x="1602720" y="3584160"/>
              <a:ext cx="1584360" cy="12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20" y="2426"/>
                  </a:moveTo>
                  <a:arcTo wR="10800" hR="10800" stAng="-3050387" swAng="60306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20" y="2426"/>
                  </a:moveTo>
                  <a:arcTo wR="10800" hR="10800" stAng="-3050387" swAng="6030678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90800" y="49039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95280" y="3446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1280" y="406872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73560" y="3418200"/>
            <a:ext cx="1281240" cy="1950120"/>
            <a:chOff x="673560" y="3418200"/>
            <a:chExt cx="1281240" cy="1950120"/>
          </a:xfrm>
        </p:grpSpPr>
        <p:sp>
          <p:nvSpPr>
            <p:cNvPr id="207" name=""/>
            <p:cNvSpPr/>
            <p:nvPr/>
          </p:nvSpPr>
          <p:spPr>
            <a:xfrm flipH="1" rot="16150200">
              <a:off x="522000" y="3589560"/>
              <a:ext cx="1583640" cy="12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20" y="2426"/>
                  </a:moveTo>
                  <a:arcTo wR="10800" hR="10800" stAng="-3050387" swAng="60306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20" y="2426"/>
                  </a:moveTo>
                  <a:arcTo wR="10800" hR="10800" stAng="-3050387" swAng="6030678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09720" y="490860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84360" y="5645160"/>
            <a:ext cx="73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DecoType Naskh"/>
              </a:rPr>
              <a:t>عدد الصنادي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88000" y="607860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DecoType Naskh"/>
              </a:rPr>
              <a:t>صندوقا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27640" y="5213520"/>
            <a:ext cx="237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  <a:cs typeface="DecoType Naskh"/>
              </a:rPr>
              <a:t>من الجدول نجد أن 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DecoType Naskh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8000"/>
                            </p:stCondLst>
                            <p:childTnLst>
                              <p:par>
                                <p:cTn id="3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9000"/>
                            </p:stCondLst>
                            <p:childTnLst>
                              <p:par>
                                <p:cTn id="3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7000"/>
                            </p:stCondLst>
                            <p:childTnLst>
                              <p:par>
                                <p:cTn id="5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9000"/>
                            </p:stCondLst>
                            <p:childTnLst>
                              <p:par>
                                <p:cTn id="6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7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8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23000"/>
                            </p:stCondLst>
                            <p:childTnLst>
                              <p:par>
                                <p:cTn id="8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4000"/>
                            </p:stCondLst>
                            <p:childTnLst>
                              <p:par>
                                <p:cTn id="8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5000"/>
                            </p:stCondLst>
                            <p:childTnLst>
                              <p:par>
                                <p:cTn id="8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26000"/>
                            </p:stCondLst>
                            <p:childTnLst>
                              <p:par>
                                <p:cTn id="8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7000"/>
                            </p:stCondLst>
                            <p:childTnLst>
                              <p:par>
                                <p:cTn id="9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8000"/>
                            </p:stCondLst>
                            <p:childTnLst>
                              <p:par>
                                <p:cTn id="9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9000"/>
                            </p:stCondLst>
                            <p:childTnLst>
                              <p:par>
                                <p:cTn id="9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0000"/>
                            </p:stCondLst>
                            <p:childTnLst>
                              <p:par>
                                <p:cTn id="9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31000"/>
                            </p:stCondLst>
                            <p:childTnLst>
                              <p:par>
                                <p:cTn id="9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32000"/>
                            </p:stCondLst>
                            <p:childTnLst>
                              <p:par>
                                <p:cTn id="9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3000"/>
                            </p:stCondLst>
                            <p:childTnLst>
                              <p:par>
                                <p:cTn id="10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37000"/>
                            </p:stCondLst>
                            <p:childTnLst>
                              <p:par>
                                <p:cTn id="10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39000"/>
                            </p:stCondLst>
                            <p:childTnLst>
                              <p:par>
                                <p:cTn id="11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41000"/>
                            </p:stCondLst>
                            <p:childTnLst>
                              <p:par>
                                <p:cTn id="11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44000"/>
                            </p:stCondLst>
                            <p:childTnLst>
                              <p:par>
                                <p:cTn id="12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450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46000"/>
                            </p:stCondLst>
                            <p:childTnLst>
                              <p:par>
                                <p:cTn id="12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47000"/>
                            </p:stCondLst>
                            <p:childTnLst>
                              <p:par>
                                <p:cTn id="12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48000"/>
                            </p:stCondLst>
                            <p:childTnLst>
                              <p:par>
                                <p:cTn id="1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9000"/>
                            </p:stCondLst>
                            <p:childTnLst>
                              <p:par>
                                <p:cTn id="12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50000"/>
                            </p:stCondLst>
                            <p:childTnLst>
                              <p:par>
                                <p:cTn id="13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1000"/>
                            </p:stCondLst>
                            <p:childTnLst>
                              <p:par>
                                <p:cTn id="13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52000"/>
                            </p:stCondLst>
                            <p:childTnLst>
                              <p:par>
                                <p:cTn id="13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53000"/>
                            </p:stCondLst>
                            <p:childTnLst>
                              <p:par>
                                <p:cTn id="13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54000"/>
                            </p:stCondLst>
                            <p:childTnLst>
                              <p:par>
                                <p:cTn id="13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5000"/>
                            </p:stCondLst>
                            <p:childTnLst>
                              <p:par>
                                <p:cTn id="13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56000"/>
                            </p:stCondLst>
                            <p:childTnLst>
                              <p:par>
                                <p:cTn id="14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57000"/>
                            </p:stCondLst>
                            <p:childTnLst>
                              <p:par>
                                <p:cTn id="14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9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4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9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9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4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4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8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9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3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4176720" cy="779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1227240" y="1052640"/>
            <a:ext cx="6944400" cy="659160"/>
            <a:chOff x="1227240" y="1052640"/>
            <a:chExt cx="6944400" cy="659160"/>
          </a:xfrm>
        </p:grpSpPr>
        <p:grpSp>
          <p:nvGrpSpPr>
            <p:cNvPr id="214" name=""/>
            <p:cNvGrpSpPr/>
            <p:nvPr/>
          </p:nvGrpSpPr>
          <p:grpSpPr>
            <a:xfrm>
              <a:off x="1648800" y="1052640"/>
              <a:ext cx="6522840" cy="659160"/>
              <a:chOff x="1648800" y="1052640"/>
              <a:chExt cx="6522840" cy="659160"/>
            </a:xfrm>
          </p:grpSpPr>
          <p:pic>
            <p:nvPicPr>
              <p:cNvPr id="2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119200" y="1052640"/>
                <a:ext cx="3052440" cy="62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48800" y="1127880"/>
                <a:ext cx="3481920" cy="583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1227240" y="1146600"/>
              <a:ext cx="428760" cy="50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"/>
          <p:cNvGrpSpPr/>
          <p:nvPr/>
        </p:nvGrpSpPr>
        <p:grpSpPr>
          <a:xfrm>
            <a:off x="1171440" y="1600200"/>
            <a:ext cx="7056360" cy="603360"/>
            <a:chOff x="1171440" y="1600200"/>
            <a:chExt cx="7056360" cy="603360"/>
          </a:xfrm>
        </p:grpSpPr>
        <p:pic>
          <p:nvPicPr>
            <p:cNvPr id="219" name="" descr=""/>
            <p:cNvPicPr/>
            <p:nvPr/>
          </p:nvPicPr>
          <p:blipFill>
            <a:blip r:embed="rId5"/>
            <a:stretch/>
          </p:blipFill>
          <p:spPr>
            <a:xfrm>
              <a:off x="5302080" y="1600200"/>
              <a:ext cx="292572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6"/>
            <a:stretch/>
          </p:blipFill>
          <p:spPr>
            <a:xfrm>
              <a:off x="1811160" y="1640160"/>
              <a:ext cx="350676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7"/>
            <a:stretch/>
          </p:blipFill>
          <p:spPr>
            <a:xfrm>
              <a:off x="1171440" y="1690920"/>
              <a:ext cx="627120" cy="50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"/>
          <p:cNvGrpSpPr/>
          <p:nvPr/>
        </p:nvGrpSpPr>
        <p:grpSpPr>
          <a:xfrm>
            <a:off x="3898800" y="2112840"/>
            <a:ext cx="4331880" cy="543960"/>
            <a:chOff x="3898800" y="2112840"/>
            <a:chExt cx="4331880" cy="543960"/>
          </a:xfrm>
        </p:grpSpPr>
        <p:pic>
          <p:nvPicPr>
            <p:cNvPr id="223" name="" descr=""/>
            <p:cNvPicPr/>
            <p:nvPr/>
          </p:nvPicPr>
          <p:blipFill>
            <a:blip r:embed="rId8"/>
            <a:stretch/>
          </p:blipFill>
          <p:spPr>
            <a:xfrm>
              <a:off x="5340240" y="2112840"/>
              <a:ext cx="2890440" cy="50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9"/>
            <a:stretch/>
          </p:blipFill>
          <p:spPr>
            <a:xfrm>
              <a:off x="3898800" y="2166120"/>
              <a:ext cx="1462680" cy="49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"/>
          <p:cNvSpPr/>
          <p:nvPr/>
        </p:nvSpPr>
        <p:spPr>
          <a:xfrm>
            <a:off x="743040" y="1008000"/>
            <a:ext cx="7920000" cy="1801800"/>
          </a:xfrm>
          <a:prstGeom prst="octagon">
            <a:avLst>
              <a:gd name="adj" fmla="val 2928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09480" y="3191040"/>
          <a:ext cx="7921440" cy="130968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792360"/>
                <a:gridCol w="792000"/>
                <a:gridCol w="865080"/>
                <a:gridCol w="792360"/>
                <a:gridCol w="790560"/>
                <a:gridCol w="1512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دد الأشه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بلغ المدخ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6299280" y="32986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24480" y="392112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06920" y="3284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73800" y="3933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43280" y="3284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0560" y="39117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78200" y="32972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35280" y="3933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01840" y="33195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13040" y="39211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38560" y="33019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79720" y="392112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6200" y="330192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47840" y="391176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719680" y="3358440"/>
            <a:ext cx="1276200" cy="1874880"/>
            <a:chOff x="5719680" y="3358440"/>
            <a:chExt cx="1276200" cy="1874880"/>
          </a:xfrm>
        </p:grpSpPr>
        <p:sp>
          <p:nvSpPr>
            <p:cNvPr id="242" name=""/>
            <p:cNvSpPr/>
            <p:nvPr/>
          </p:nvSpPr>
          <p:spPr>
            <a:xfrm flipH="1" rot="16936200">
              <a:off x="5677920" y="3624120"/>
              <a:ext cx="1358280" cy="10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939" y="3700"/>
                  </a:moveTo>
                  <a:arcTo wR="10800" hR="10800" stAng="-2465968" swAng="54746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8939" y="3700"/>
                  </a:moveTo>
                  <a:arcTo wR="10800" hR="10800" stAng="-2465968" swAng="5474607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62600" y="47736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54200" y="335592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9640" y="39290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859280" y="3353760"/>
            <a:ext cx="1276200" cy="1874880"/>
            <a:chOff x="4859280" y="3353760"/>
            <a:chExt cx="1276200" cy="1874880"/>
          </a:xfrm>
        </p:grpSpPr>
        <p:sp>
          <p:nvSpPr>
            <p:cNvPr id="247" name=""/>
            <p:cNvSpPr/>
            <p:nvPr/>
          </p:nvSpPr>
          <p:spPr>
            <a:xfrm flipH="1" rot="16936200">
              <a:off x="4817520" y="3619440"/>
              <a:ext cx="1358280" cy="10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939" y="3700"/>
                  </a:moveTo>
                  <a:arcTo wR="10800" hR="10800" stAng="-2465968" swAng="54746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8939" y="3700"/>
                  </a:moveTo>
                  <a:arcTo wR="10800" hR="10800" stAng="-2465968" swAng="5474607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02200" y="47689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995640" y="3358440"/>
            <a:ext cx="1276200" cy="1874880"/>
            <a:chOff x="3995640" y="3358440"/>
            <a:chExt cx="1276200" cy="1874880"/>
          </a:xfrm>
        </p:grpSpPr>
        <p:sp>
          <p:nvSpPr>
            <p:cNvPr id="250" name=""/>
            <p:cNvSpPr/>
            <p:nvPr/>
          </p:nvSpPr>
          <p:spPr>
            <a:xfrm flipH="1" rot="16936200">
              <a:off x="3953880" y="3624120"/>
              <a:ext cx="1358280" cy="10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939" y="3700"/>
                  </a:moveTo>
                  <a:arcTo wR="10800" hR="10800" stAng="-2465968" swAng="54746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8939" y="3700"/>
                  </a:moveTo>
                  <a:arcTo wR="10800" hR="10800" stAng="-2465968" swAng="5474607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8560" y="47736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122640" y="3358440"/>
            <a:ext cx="1276200" cy="1874880"/>
            <a:chOff x="3122640" y="3358440"/>
            <a:chExt cx="1276200" cy="1874880"/>
          </a:xfrm>
        </p:grpSpPr>
        <p:sp>
          <p:nvSpPr>
            <p:cNvPr id="253" name=""/>
            <p:cNvSpPr/>
            <p:nvPr/>
          </p:nvSpPr>
          <p:spPr>
            <a:xfrm flipH="1" rot="16936200">
              <a:off x="3080880" y="3624120"/>
              <a:ext cx="1358280" cy="10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939" y="3700"/>
                  </a:moveTo>
                  <a:arcTo wR="10800" hR="10800" stAng="-2465968" swAng="54746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8939" y="3700"/>
                  </a:moveTo>
                  <a:arcTo wR="10800" hR="10800" stAng="-2465968" swAng="5474607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65560" y="47736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340000" y="3345840"/>
            <a:ext cx="1276200" cy="1874880"/>
            <a:chOff x="2340000" y="3345840"/>
            <a:chExt cx="1276200" cy="1874880"/>
          </a:xfrm>
        </p:grpSpPr>
        <p:sp>
          <p:nvSpPr>
            <p:cNvPr id="256" name=""/>
            <p:cNvSpPr/>
            <p:nvPr/>
          </p:nvSpPr>
          <p:spPr>
            <a:xfrm flipH="1" rot="16936200">
              <a:off x="2298240" y="3611520"/>
              <a:ext cx="1358280" cy="10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939" y="3700"/>
                  </a:moveTo>
                  <a:arcTo wR="10800" hR="10800" stAng="-2465968" swAng="54746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8939" y="3700"/>
                  </a:moveTo>
                  <a:arcTo wR="10800" hR="10800" stAng="-2465968" swAng="5474607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82920" y="4761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547640" y="3358440"/>
            <a:ext cx="1276200" cy="1874880"/>
            <a:chOff x="1547640" y="3358440"/>
            <a:chExt cx="1276200" cy="1874880"/>
          </a:xfrm>
        </p:grpSpPr>
        <p:sp>
          <p:nvSpPr>
            <p:cNvPr id="259" name=""/>
            <p:cNvSpPr/>
            <p:nvPr/>
          </p:nvSpPr>
          <p:spPr>
            <a:xfrm flipH="1" rot="16936200">
              <a:off x="1505880" y="3624120"/>
              <a:ext cx="1358280" cy="10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939" y="3700"/>
                  </a:moveTo>
                  <a:arcTo wR="10800" hR="10800" stAng="-2465968" swAng="54746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8939" y="3700"/>
                  </a:moveTo>
                  <a:arcTo wR="10800" hR="10800" stAng="-2465968" swAng="5474607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90560" y="47736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755640" y="3358440"/>
            <a:ext cx="1276200" cy="1874880"/>
            <a:chOff x="755640" y="3358440"/>
            <a:chExt cx="1276200" cy="1874880"/>
          </a:xfrm>
        </p:grpSpPr>
        <p:sp>
          <p:nvSpPr>
            <p:cNvPr id="262" name=""/>
            <p:cNvSpPr/>
            <p:nvPr/>
          </p:nvSpPr>
          <p:spPr>
            <a:xfrm flipH="1" rot="16936200">
              <a:off x="713880" y="3624120"/>
              <a:ext cx="1358280" cy="10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939" y="3700"/>
                  </a:moveTo>
                  <a:arcTo wR="10800" hR="10800" stAng="-2465968" swAng="54746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8939" y="3700"/>
                  </a:moveTo>
                  <a:arcTo wR="10800" hR="10800" stAng="-2465968" swAng="5474607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98560" y="47736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619280" y="574056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  <a:cs typeface="DecoType Naskh"/>
              </a:rPr>
              <a:t>يستغرق محمد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8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 أشهر لادخار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295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 ريالا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176880" y="514656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  <a:cs typeface="DecoType Naskh"/>
              </a:rPr>
              <a:t>من الجدول نجد أن 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DecoType Naskh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8" dur="indefinite" restart="never" nodeType="tmRoot">
          <p:childTnLst>
            <p:seq>
              <p:cTn id="1639" dur="indefinite" nodeType="mainSeq">
                <p:childTnLst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8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8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7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8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8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3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2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3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7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8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3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2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3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8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7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8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3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2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3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8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4176720" cy="7794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492360" y="1228680"/>
            <a:ext cx="5077080" cy="18399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64000" y="3141720"/>
            <a:ext cx="2953080" cy="20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5415120" y="5111640"/>
          <a:ext cx="2854080" cy="395280"/>
        </p:xfrm>
        <a:graphic>
          <a:graphicData uri="http://schemas.openxmlformats.org/drawingml/2006/table">
            <a:tbl>
              <a:tblPr/>
              <a:tblGrid>
                <a:gridCol w="1662840"/>
                <a:gridCol w="1191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984240" y="1268280"/>
            <a:ext cx="1859040" cy="13525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11280" y="4005360"/>
            <a:ext cx="432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  <a:cs typeface="DecoType Naskh"/>
              </a:rPr>
              <a:t>عدد المرات التي يصفر فيها صرّار الليل عند درجة حرارة </a:t>
            </a:r>
            <a:r>
              <a:rPr b="1" lang="ar-SA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10</a:t>
            </a:r>
            <a:r>
              <a:rPr b="1" lang="ar-SA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˚ س يساوي </a:t>
            </a:r>
            <a:r>
              <a:rPr b="1" lang="ar-SA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100</a:t>
            </a:r>
            <a:r>
              <a:rPr b="1" lang="ar-SA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 مر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33600" y="329256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  <a:cs typeface="DecoType Naskh"/>
              </a:rPr>
              <a:t>من الجدول نجد أن 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DecoType Naskh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51498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18040" y="51498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4" dur="indefinite" restart="never" nodeType="tmRoot">
          <p:childTnLst>
            <p:seq>
              <p:cTn id="1875" dur="indefinite" nodeType="mainSeq">
                <p:childTnLst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9" dur="8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0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9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0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9" dur="8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0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4176720" cy="7794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946920" y="2787480"/>
            <a:ext cx="1946160" cy="943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4930920" y="2801880"/>
            <a:ext cx="1946160" cy="943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2922480" y="2787480"/>
            <a:ext cx="1962360" cy="943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923760" y="2803680"/>
            <a:ext cx="1944720" cy="950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2379600" y="1197000"/>
            <a:ext cx="5864400" cy="1042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266920" y="1125360"/>
            <a:ext cx="6337440" cy="1079640"/>
          </a:xfrm>
          <a:prstGeom prst="octagon">
            <a:avLst>
              <a:gd name="adj" fmla="val 2928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4930920" y="3795840"/>
            <a:ext cx="1946160" cy="9428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4930920" y="4791240"/>
            <a:ext cx="1946160" cy="9428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7164360" y="23749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07040" y="23749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52880" y="23749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92320" y="23954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885080" y="2455920"/>
            <a:ext cx="12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DecoType Naskh"/>
              </a:rPr>
              <a:t>عدد الفئ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8000" y="2443320"/>
            <a:ext cx="12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DecoType Naskh"/>
              </a:rPr>
              <a:t>فئ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5877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  <a:cs typeface="DecoType Naskh"/>
              </a:rPr>
              <a:t>مجموع الفئات =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50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 +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30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 +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5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 +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1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 =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86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 ريالا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DecoType Naskh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214880" y="1474920"/>
            <a:ext cx="4317840" cy="671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2556000" y="115920"/>
            <a:ext cx="4176720" cy="7794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6745320" y="2768760"/>
            <a:ext cx="923760" cy="11952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5565600" y="2768760"/>
            <a:ext cx="879480" cy="1253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4262400" y="2867040"/>
            <a:ext cx="944640" cy="12096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6"/>
          <a:stretch/>
        </p:blipFill>
        <p:spPr>
          <a:xfrm>
            <a:off x="3011400" y="2814480"/>
            <a:ext cx="912960" cy="125424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1763640" y="2824200"/>
            <a:ext cx="923760" cy="1195200"/>
            <a:chOff x="1763640" y="2824200"/>
            <a:chExt cx="923760" cy="1195200"/>
          </a:xfrm>
        </p:grpSpPr>
        <p:pic>
          <p:nvPicPr>
            <p:cNvPr id="298" name="" descr=""/>
            <p:cNvPicPr/>
            <p:nvPr/>
          </p:nvPicPr>
          <p:blipFill>
            <a:blip r:embed="rId7"/>
            <a:stretch/>
          </p:blipFill>
          <p:spPr>
            <a:xfrm>
              <a:off x="1763640" y="2824200"/>
              <a:ext cx="923760" cy="119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9" name=""/>
            <p:cNvGrpSpPr/>
            <p:nvPr/>
          </p:nvGrpSpPr>
          <p:grpSpPr>
            <a:xfrm>
              <a:off x="1775880" y="2867040"/>
              <a:ext cx="864000" cy="1092240"/>
              <a:chOff x="1775880" y="2867040"/>
              <a:chExt cx="864000" cy="1092240"/>
            </a:xfrm>
          </p:grpSpPr>
          <p:sp>
            <p:nvSpPr>
              <p:cNvPr id="300" name=""/>
              <p:cNvSpPr/>
              <p:nvPr/>
            </p:nvSpPr>
            <p:spPr>
              <a:xfrm flipH="1">
                <a:off x="2555640" y="2867040"/>
                <a:ext cx="84240" cy="10792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1920240" y="3959280"/>
                <a:ext cx="6476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76240" y="2867040"/>
                <a:ext cx="144360" cy="10792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1775880" y="2892240"/>
                <a:ext cx="8636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8" dur="indefinite" restart="never" nodeType="tmRoot">
          <p:childTnLst>
            <p:seq>
              <p:cTn id="2099" dur="indefinite" nodeType="mainSeq">
                <p:childTnLst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4" nodeType="after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4176720" cy="7794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3330720" y="1735200"/>
            <a:ext cx="4961880" cy="664920"/>
            <a:chOff x="3330720" y="1735200"/>
            <a:chExt cx="4961880" cy="66492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4965480" y="1735200"/>
              <a:ext cx="3327120" cy="66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3"/>
            <a:stretch/>
          </p:blipFill>
          <p:spPr>
            <a:xfrm>
              <a:off x="3330720" y="1771560"/>
              <a:ext cx="163800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"/>
          <p:cNvGrpSpPr/>
          <p:nvPr/>
        </p:nvGrpSpPr>
        <p:grpSpPr>
          <a:xfrm>
            <a:off x="5592600" y="2370240"/>
            <a:ext cx="2706480" cy="581040"/>
            <a:chOff x="5592600" y="2370240"/>
            <a:chExt cx="2706480" cy="581040"/>
          </a:xfrm>
        </p:grpSpPr>
        <p:pic>
          <p:nvPicPr>
            <p:cNvPr id="309" name="" descr=""/>
            <p:cNvPicPr/>
            <p:nvPr/>
          </p:nvPicPr>
          <p:blipFill>
            <a:blip r:embed="rId4"/>
            <a:stretch/>
          </p:blipFill>
          <p:spPr>
            <a:xfrm>
              <a:off x="6292800" y="2371680"/>
              <a:ext cx="2006280" cy="5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5"/>
            <a:stretch/>
          </p:blipFill>
          <p:spPr>
            <a:xfrm>
              <a:off x="5592600" y="2370240"/>
              <a:ext cx="723960" cy="51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1" name=""/>
          <p:cNvSpPr/>
          <p:nvPr/>
        </p:nvSpPr>
        <p:spPr>
          <a:xfrm>
            <a:off x="3114720" y="1700280"/>
            <a:ext cx="5489640" cy="1330200"/>
          </a:xfrm>
          <a:prstGeom prst="octagon">
            <a:avLst>
              <a:gd name="adj" fmla="val 2928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539640" y="1214280"/>
            <a:ext cx="2160720" cy="23720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755640" y="424008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3399"/>
                </a:solidFill>
                <a:latin typeface="Arial"/>
                <a:cs typeface="DecoType Naskh"/>
              </a:rPr>
              <a:t>معدل نموها في الشهر الواحد =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DecoType Naskh"/>
              </a:rPr>
              <a:t>252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DecoType Naskh"/>
              </a:rPr>
              <a:t> ÷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DecoType Naskh"/>
              </a:rPr>
              <a:t>3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DecoType Naskh"/>
              </a:rPr>
              <a:t> =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DecoType Naskh"/>
              </a:rPr>
              <a:t>84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DecoType Naskh"/>
              </a:rPr>
              <a:t> س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7" dur="indefinite" restart="never" nodeType="tmRoot">
          <p:childTnLst>
            <p:seq>
              <p:cTn id="2198" dur="indefinite" nodeType="mainSeq">
                <p:childTnLst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3932280" cy="4273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2556000" y="115920"/>
            <a:ext cx="4176720" cy="7794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4356000" y="1989000"/>
            <a:ext cx="3641760" cy="53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"/>
          <p:cNvGraphicFramePr/>
          <p:nvPr/>
        </p:nvGraphicFramePr>
        <p:xfrm>
          <a:off x="1547640" y="2830680"/>
          <a:ext cx="6408720" cy="130968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792360"/>
                <a:gridCol w="792000"/>
                <a:gridCol w="865080"/>
                <a:gridCol w="792360"/>
                <a:gridCol w="790560"/>
              </a:tblGrid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7211880" y="29383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237440" y="35607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19880" y="2924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86400" y="3573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56240" y="2924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80000" y="355140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65840" y="292428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03760" y="357336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78160" y="2933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06720" y="3560760"/>
            <a:ext cx="7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340080" y="29541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87800" y="356076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09920" y="29541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44680" y="3551400"/>
            <a:ext cx="7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6632640" y="2998080"/>
            <a:ext cx="1276200" cy="1935720"/>
            <a:chOff x="6632640" y="2998080"/>
            <a:chExt cx="1276200" cy="1935720"/>
          </a:xfrm>
        </p:grpSpPr>
        <p:sp>
          <p:nvSpPr>
            <p:cNvPr id="333" name=""/>
            <p:cNvSpPr/>
            <p:nvPr/>
          </p:nvSpPr>
          <p:spPr>
            <a:xfrm flipH="1" rot="16936200">
              <a:off x="6590880" y="3263760"/>
              <a:ext cx="1358280" cy="10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939" y="3700"/>
                  </a:moveTo>
                  <a:arcTo wR="10800" hR="10800" stAng="-2465968" swAng="54746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8939" y="3700"/>
                  </a:moveTo>
                  <a:arcTo wR="10800" hR="10800" stAng="-2465968" swAng="5474607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75560" y="441324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6600"/>
                  </a:solidFill>
                  <a:latin typeface="Arial"/>
                </a:rPr>
                <a:t>ـــ </a:t>
              </a:r>
              <a:r>
                <a:rPr b="1" lang="en-US" sz="2800" spc="-1" strike="noStrike">
                  <a:solidFill>
                    <a:srgbClr val="0066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743120" y="29448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38440" y="354348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772240" y="2993400"/>
            <a:ext cx="1276200" cy="1935720"/>
            <a:chOff x="5772240" y="2993400"/>
            <a:chExt cx="1276200" cy="1935720"/>
          </a:xfrm>
        </p:grpSpPr>
        <p:sp>
          <p:nvSpPr>
            <p:cNvPr id="338" name=""/>
            <p:cNvSpPr/>
            <p:nvPr/>
          </p:nvSpPr>
          <p:spPr>
            <a:xfrm flipH="1" rot="16936200">
              <a:off x="5730480" y="3259080"/>
              <a:ext cx="1358280" cy="10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939" y="3700"/>
                  </a:moveTo>
                  <a:arcTo wR="10800" hR="10800" stAng="-2465968" swAng="54746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8939" y="3700"/>
                  </a:moveTo>
                  <a:arcTo wR="10800" hR="10800" stAng="-2465968" swAng="5474607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15160" y="440856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6600"/>
                  </a:solidFill>
                  <a:latin typeface="Arial"/>
                </a:rPr>
                <a:t>ـــ </a:t>
              </a:r>
              <a:r>
                <a:rPr b="1" lang="en-US" sz="2800" spc="-1" strike="noStrike">
                  <a:solidFill>
                    <a:srgbClr val="0066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908600" y="2998080"/>
            <a:ext cx="1276200" cy="1935720"/>
            <a:chOff x="4908600" y="2998080"/>
            <a:chExt cx="1276200" cy="1935720"/>
          </a:xfrm>
        </p:grpSpPr>
        <p:sp>
          <p:nvSpPr>
            <p:cNvPr id="341" name=""/>
            <p:cNvSpPr/>
            <p:nvPr/>
          </p:nvSpPr>
          <p:spPr>
            <a:xfrm flipH="1" rot="16936200">
              <a:off x="4866840" y="3263760"/>
              <a:ext cx="1358280" cy="10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939" y="3700"/>
                  </a:moveTo>
                  <a:arcTo wR="10800" hR="10800" stAng="-2465968" swAng="54746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8939" y="3700"/>
                  </a:moveTo>
                  <a:arcTo wR="10800" hR="10800" stAng="-2465968" swAng="5474607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51520" y="441324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6600"/>
                  </a:solidFill>
                  <a:latin typeface="Arial"/>
                </a:rPr>
                <a:t>ـــ </a:t>
              </a:r>
              <a:r>
                <a:rPr b="1" lang="en-US" sz="2800" spc="-1" strike="noStrike">
                  <a:solidFill>
                    <a:srgbClr val="0066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035240" y="2998080"/>
            <a:ext cx="1276200" cy="1935720"/>
            <a:chOff x="4035240" y="2998080"/>
            <a:chExt cx="1276200" cy="1935720"/>
          </a:xfrm>
        </p:grpSpPr>
        <p:sp>
          <p:nvSpPr>
            <p:cNvPr id="344" name=""/>
            <p:cNvSpPr/>
            <p:nvPr/>
          </p:nvSpPr>
          <p:spPr>
            <a:xfrm flipH="1" rot="16936200">
              <a:off x="3993480" y="3263760"/>
              <a:ext cx="1358280" cy="10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939" y="3700"/>
                  </a:moveTo>
                  <a:arcTo wR="10800" hR="10800" stAng="-2465968" swAng="54746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8939" y="3700"/>
                  </a:moveTo>
                  <a:arcTo wR="10800" hR="10800" stAng="-2465968" swAng="5474607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78160" y="441324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6600"/>
                  </a:solidFill>
                  <a:latin typeface="Arial"/>
                </a:rPr>
                <a:t>ـــ </a:t>
              </a:r>
              <a:r>
                <a:rPr b="1" lang="en-US" sz="2800" spc="-1" strike="noStrike">
                  <a:solidFill>
                    <a:srgbClr val="0066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252600" y="2985480"/>
            <a:ext cx="1276200" cy="1935720"/>
            <a:chOff x="3252600" y="2985480"/>
            <a:chExt cx="1276200" cy="1935720"/>
          </a:xfrm>
        </p:grpSpPr>
        <p:sp>
          <p:nvSpPr>
            <p:cNvPr id="347" name=""/>
            <p:cNvSpPr/>
            <p:nvPr/>
          </p:nvSpPr>
          <p:spPr>
            <a:xfrm flipH="1" rot="16936200">
              <a:off x="3210840" y="3251160"/>
              <a:ext cx="1358280" cy="10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939" y="3700"/>
                  </a:moveTo>
                  <a:arcTo wR="10800" hR="10800" stAng="-2465968" swAng="54746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8939" y="3700"/>
                  </a:moveTo>
                  <a:arcTo wR="10800" hR="10800" stAng="-2465968" swAng="5474607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95520" y="440064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6600"/>
                  </a:solidFill>
                  <a:latin typeface="Arial"/>
                </a:rPr>
                <a:t>ـــ </a:t>
              </a:r>
              <a:r>
                <a:rPr b="1" lang="en-US" sz="2800" spc="-1" strike="noStrike">
                  <a:solidFill>
                    <a:srgbClr val="0066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460600" y="2998080"/>
            <a:ext cx="1276200" cy="1935720"/>
            <a:chOff x="2460600" y="2998080"/>
            <a:chExt cx="1276200" cy="1935720"/>
          </a:xfrm>
        </p:grpSpPr>
        <p:sp>
          <p:nvSpPr>
            <p:cNvPr id="350" name=""/>
            <p:cNvSpPr/>
            <p:nvPr/>
          </p:nvSpPr>
          <p:spPr>
            <a:xfrm flipH="1" rot="16936200">
              <a:off x="2418840" y="3263760"/>
              <a:ext cx="1358280" cy="10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939" y="3700"/>
                  </a:moveTo>
                  <a:arcTo wR="10800" hR="10800" stAng="-2465968" swAng="54746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8939" y="3700"/>
                  </a:moveTo>
                  <a:arcTo wR="10800" hR="10800" stAng="-2465968" swAng="5474607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03520" y="441324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6600"/>
                  </a:solidFill>
                  <a:latin typeface="Arial"/>
                </a:rPr>
                <a:t>ـــ </a:t>
              </a:r>
              <a:r>
                <a:rPr b="1" lang="en-US" sz="2800" spc="-1" strike="noStrike">
                  <a:solidFill>
                    <a:srgbClr val="0066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668240" y="2998080"/>
            <a:ext cx="1276200" cy="1935720"/>
            <a:chOff x="1668240" y="2998080"/>
            <a:chExt cx="1276200" cy="1935720"/>
          </a:xfrm>
        </p:grpSpPr>
        <p:sp>
          <p:nvSpPr>
            <p:cNvPr id="353" name=""/>
            <p:cNvSpPr/>
            <p:nvPr/>
          </p:nvSpPr>
          <p:spPr>
            <a:xfrm flipH="1" rot="16936200">
              <a:off x="1626480" y="3263760"/>
              <a:ext cx="1358280" cy="10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939" y="3700"/>
                  </a:moveTo>
                  <a:arcTo wR="10800" hR="10800" stAng="-2465968" swAng="54746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8939" y="3700"/>
                  </a:moveTo>
                  <a:arcTo wR="10800" hR="10800" stAng="-2465968" swAng="5474607"/>
                </a:path>
              </a:pathLst>
            </a:custGeom>
            <a:noFill/>
            <a:ln w="507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11160" y="441324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6600"/>
                  </a:solidFill>
                  <a:latin typeface="Arial"/>
                </a:rPr>
                <a:t>ـــ </a:t>
              </a:r>
              <a:r>
                <a:rPr b="1" lang="en-US" sz="2800" spc="-1" strike="noStrike">
                  <a:solidFill>
                    <a:srgbClr val="0066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140360" y="198612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76720" y="1989000"/>
            <a:ext cx="101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11400" y="1989000"/>
            <a:ext cx="4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5607000"/>
            <a:ext cx="56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  <a:cs typeface="DecoType Naskh"/>
              </a:rPr>
              <a:t>الأعداد الثلاثة في النمط هي :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18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 ،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1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 ،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DecoType Naskh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05600" y="501336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  <a:cs typeface="DecoType Naskh"/>
              </a:rPr>
              <a:t>من الجدول نجد أن 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DecoType Naskh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4" dur="indefinite" restart="never" nodeType="tmRoot">
          <p:childTnLst>
            <p:seq>
              <p:cTn id="2225" dur="indefinite" nodeType="mainSeq">
                <p:childTnLst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0" dur="8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1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0" dur="8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1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0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1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0" dur="8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1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5" dur="8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6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5" dur="8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6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0" dur="8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1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0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1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5" dur="8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6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5" dur="8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6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0" dur="8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1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0" dur="8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1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5" dur="8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6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8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6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0" dur="8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1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0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1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0:15:32Z</dcterms:created>
  <dc:creator>PC_Owner</dc:creator>
  <dc:description/>
  <dc:language>en-US</dc:language>
  <cp:lastModifiedBy>AM</cp:lastModifiedBy>
  <dcterms:modified xsi:type="dcterms:W3CDTF">2012-10-09T20:30:21Z</dcterms:modified>
  <cp:revision>12</cp:revision>
  <dc:subject/>
  <dc:title>الشريحة 1</dc:title>
</cp:coreProperties>
</file>