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801600" cy="9601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DA1-93E9-4134-8E98-C8357C02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D04-2515-46A3-9257-F19A0E75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D6E-A5EC-4368-9B2D-22EC8C49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280-7422-4C9F-B24D-2643958D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0E5-5136-41E0-87C9-28BA6620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F47-F235-4E6B-8019-9EC2E482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FAE-2B4F-4238-9BE6-4217E538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E1A-7DC5-4C8D-84A5-D9239D88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D86-5CB1-45B1-8DA7-B3891852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C79-CC40-46DE-B079-2EF4EB2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744-C0AF-48E9-9B39-1E29711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E66-5E48-4A28-B9D8-C7880E9B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7388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22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936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0647B870-B809-4223-9AA4-14482404700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800" y="263160"/>
            <a:ext cx="10880640" cy="2058840"/>
          </a:xfrm>
          <a:prstGeom prst="rect">
            <a:avLst/>
          </a:prstGeom>
          <a:gradFill rotWithShape="0">
            <a:gsLst>
              <a:gs pos="0">
                <a:srgbClr val="a29c48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hi-IN" sz="9800" spc="-1" strike="noStrike">
                <a:solidFill>
                  <a:srgbClr val="000000"/>
                </a:solidFill>
                <a:latin typeface="Arial"/>
                <a:cs typeface="Akhbar MT"/>
              </a:rPr>
              <a:t>الـْمُوَاصَلاتُ فِي بـِلادِنَا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47720" y="2424240"/>
            <a:ext cx="9361440" cy="71769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136240"/>
            <a:ext cx="12801600" cy="72010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800000"/>
            </a:solidFill>
            <a:miter/>
          </a:ln>
        </p:spPr>
        <p:txBody>
          <a:bodyPr lIns="128160" rIns="128160" tIns="64080" bIns="64080" anchor="ctr">
            <a:normAutofit fontScale="86000"/>
          </a:bodyPr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قـَالَ خَالِدٌ: َأبـِي ُأر ِيدُ َأنْ نَزُورَ عَمِّي فِي جَازَانَ،هَلْ هِيَ بَعِيدَة عَنْ عَرْعَرَ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قـَالَ الأبُ:إنَّ مَمْلَكَتَنَا 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ial"/>
                <a:cs typeface="Akhbar MT"/>
                <a:hlinkClick r:id="rId2" action="ppaction://hlinksldjump"/>
              </a:rPr>
              <a:t>رَحِيبَة </a:t>
            </a:r>
            <a:r>
              <a:rPr b="1" lang="ar-SA" sz="5400" spc="-1" strike="noStrike">
                <a:solidFill>
                  <a:srgbClr val="ff0000"/>
                </a:solidFill>
                <a:latin typeface="Arial"/>
                <a:cs typeface="Akhbar MT"/>
              </a:rPr>
              <a:t>ٌ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يَا خَالِدْ، وَنَحْنُ فِي الشَّمَال ِ وَجَازَانُ فِي الـْجَنُوبِ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إنَّهَا 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ial"/>
                <a:cs typeface="Akhbar MT"/>
                <a:hlinkClick r:id="rId3" action="ppaction://hlinksldjump"/>
              </a:rPr>
              <a:t>نَائِيَة</a:t>
            </a:r>
            <a:r>
              <a:rPr b="1" lang="ar-SA" sz="5400" spc="-1" strike="noStrike">
                <a:solidFill>
                  <a:srgbClr val="ff0000"/>
                </a:solidFill>
                <a:latin typeface="Arial"/>
                <a:ea typeface="Akhbar MT"/>
              </a:rPr>
              <a:t> ٌ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عَنـَّا،وَلـَكِنَّهَا قـَرِيبَة ٌ مِنـَّا. 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قـَالَ خَالِدٌ: كَيْفَ ذلِكَ يَا أبـِي 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قـَالَ اْلأبُ: إنَّ حُكُومَتَنَا يَا خَالِدُ زَفـَّتَتِ الطـُّرُقَ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وأَقـَامَتِ الـْمَطـَارَاتِ الدَّاخِلِيَّة َو الدَّوْلِيَّة َ،وَأنـْشَـَأتِ الـْمَوانِئَ الـْكَبـِيرَة،وَمَدَّتْ سِكَّة َحَدِيدٍ بَيْنَ الدَّمَّام ِ وَالرِّيَاض ِ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848800" y="479520"/>
            <a:ext cx="3952800" cy="1576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7502400"/>
            <a:ext cx="6040440" cy="209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28800" y="263520"/>
            <a:ext cx="10880640" cy="1512720"/>
          </a:xfrm>
          <a:prstGeom prst="rect">
            <a:avLst/>
          </a:prstGeom>
          <a:gradFill rotWithShape="0">
            <a:gsLst>
              <a:gs pos="0">
                <a:srgbClr val="a29c48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 rtl="1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hi-IN" sz="9800" spc="-1" strike="noStrike">
                <a:solidFill>
                  <a:srgbClr val="000000"/>
                </a:solidFill>
                <a:latin typeface="Arial"/>
                <a:cs typeface="Akhbar MT"/>
              </a:rPr>
              <a:t>الـْمُوَاصَلاتُ فِي بـِلادِنَا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31520"/>
            <a:ext cx="12801600" cy="7705800"/>
          </a:xfrm>
          <a:prstGeom prst="rect">
            <a:avLst/>
          </a:prstGeom>
          <a:solidFill>
            <a:srgbClr val="ffff99">
              <a:alpha val="63000"/>
            </a:srgbClr>
          </a:solidFill>
          <a:ln w="38160">
            <a:solidFill>
              <a:srgbClr val="800000"/>
            </a:solidFill>
            <a:miter/>
          </a:ln>
        </p:spPr>
        <p:txBody>
          <a:bodyPr lIns="128160" rIns="128160" tIns="64080" bIns="64080" anchor="ctr">
            <a:normAutofit fontScale="79000"/>
          </a:bodyPr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فـَرَبَطـَتْ بَيْنَ أنـْحَاءِ الـْمَمْلـَكَةِ، 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abic Typesetting"/>
                <a:cs typeface="Akhbar MT"/>
                <a:hlinkClick r:id="rId2" action="ppaction://hlinksldjump"/>
              </a:rPr>
              <a:t>وَ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abic Typesetting"/>
                <a:cs typeface="Akhbar MT"/>
                <a:hlinkClick r:id="rId3" action="ppaction://hlinksldjump"/>
              </a:rPr>
              <a:t>عُنِيَتْ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abic Typesetting"/>
                <a:ea typeface="Akhbar MT"/>
                <a:hlinkClick r:id="rId4" action="ppaction://hlinksldjump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بـِالْمُوَاصَلاتِ الـْخَارجـِيَّةِ  جَوًّا وَبَرًّا وَبَحْرًا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فـَأصْبَحَتِ الـْمَمْلـَكَة ُ عَلـَى صِلـَةٍ  بـِأرْجَاءِ الـْعَالـَم 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قـَالَ خَالِدٌ: وَ مَتَى  نـَذ ْهَبُ إلِى جَازَانَ  يَا أبـِي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قـَالَ الأبُ: فِي الأسُبْوُع ِ الـْقـَادِم ِ نَرْكَبُ الطـَّيَّارَة َ إلـَيْهَا إنْ شَاءَ اللهُ 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قـَالَ خَالِدٌ: أنـَا فِي دَهْشَةٍ ! كَيْفَ كَانَ النَّاسُ يَنْتَقِلـُونَ فِي الـْمَاضِي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قـَالَ الأبُ:كَانُوا  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abic Typesetting"/>
                <a:cs typeface="Akhbar MT"/>
                <a:hlinkClick r:id="rId5" action="ppaction://hlinksldjump"/>
              </a:rPr>
              <a:t>يُعَانُونَ</a:t>
            </a: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الصَّعَابَ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كَانُوا يَرْكَبُونَ الـْحَمِيرَ وَ الـْخَيْلَ وَ الـْجـِمَالَ  أمَّا الـْيَوْمُ فـَقـَدْ تَقـَدَّمَتْ وَسَائِلُ الـْمُوَاصَلاتِ عِنْدَنَا بـِفـَضْل ِ اللهِ  تَقـَدُّمَا كَبـِيرً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456080" cy="156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813720" y="0"/>
            <a:ext cx="5987880" cy="156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28800" y="47520"/>
            <a:ext cx="10880640" cy="1513080"/>
          </a:xfrm>
          <a:prstGeom prst="rect">
            <a:avLst/>
          </a:prstGeom>
          <a:gradFill rotWithShape="0">
            <a:gsLst>
              <a:gs pos="0">
                <a:srgbClr val="a29c48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 rtl="1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hi-IN" sz="9800" spc="-1" strike="noStrike">
                <a:solidFill>
                  <a:srgbClr val="000000"/>
                </a:solidFill>
                <a:latin typeface="Arial"/>
                <a:cs typeface="Akhbar MT"/>
              </a:rPr>
              <a:t>الـْمُوَاصَلاتُ فِي بـِلادِنَا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12801600" cy="960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14480" y="1271520"/>
          <a:ext cx="10715400" cy="40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4480" y="1271520"/>
                    <a:ext cx="10715400" cy="4076640"/>
                  </a:xfrm>
                  <a:prstGeom prst="rect">
                    <a:avLst/>
                  </a:prstGeom>
                  <a:ln w="5724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11945880" y="8977320"/>
            <a:ext cx="855720" cy="623880"/>
          </a:xfrm>
          <a:custGeom>
            <a:avLst/>
            <a:gdLst>
              <a:gd name="textAreaLeft" fmla="*/ 40320 w 855720"/>
              <a:gd name="textAreaRight" fmla="*/ 815400 w 85572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9622" h="21600">
                <a:moveTo>
                  <a:pt x="0" y="0"/>
                </a:moveTo>
                <a:lnTo>
                  <a:pt x="29622" y="0"/>
                </a:lnTo>
                <a:lnTo>
                  <a:pt x="29622" y="21600"/>
                </a:lnTo>
                <a:lnTo>
                  <a:pt x="0" y="21600"/>
                </a:lnTo>
                <a:close/>
              </a:path>
              <a:path fill="lightenLess" w="29622" h="21600">
                <a:moveTo>
                  <a:pt x="0" y="0"/>
                </a:moveTo>
                <a:lnTo>
                  <a:pt x="29622" y="0"/>
                </a:lnTo>
                <a:lnTo>
                  <a:pt x="28222" y="1400"/>
                </a:lnTo>
                <a:lnTo>
                  <a:pt x="1400" y="1400"/>
                </a:lnTo>
                <a:close/>
              </a:path>
              <a:path fill="darken" w="29622" h="21600">
                <a:moveTo>
                  <a:pt x="29622" y="0"/>
                </a:moveTo>
                <a:lnTo>
                  <a:pt x="29622" y="21600"/>
                </a:lnTo>
                <a:lnTo>
                  <a:pt x="28222" y="20200"/>
                </a:lnTo>
                <a:lnTo>
                  <a:pt x="28222" y="1400"/>
                </a:lnTo>
                <a:close/>
              </a:path>
              <a:path fill="darkenLess" w="29622" h="21600">
                <a:moveTo>
                  <a:pt x="29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22" y="20200"/>
                </a:lnTo>
                <a:close/>
              </a:path>
              <a:path fill="lighten" w="29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22" h="21600">
                <a:moveTo>
                  <a:pt x="7805" y="3794"/>
                </a:moveTo>
                <a:lnTo>
                  <a:pt x="21818" y="10800"/>
                </a:lnTo>
                <a:lnTo>
                  <a:pt x="7805" y="17806"/>
                </a:lnTo>
                <a:close/>
              </a:path>
            </a:pathLst>
          </a:custGeom>
          <a:solidFill>
            <a:srgbClr val="a29c48">
              <a:alpha val="3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66240" y="9010800"/>
            <a:ext cx="2879640" cy="977400"/>
          </a:xfrm>
          <a:prstGeom prst="rect">
            <a:avLst/>
          </a:prstGeom>
          <a:solidFill>
            <a:srgbClr val="a29c48">
              <a:alpha val="43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1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hi-IN" sz="2900" spc="-1" strike="noStrike">
                <a:solidFill>
                  <a:srgbClr val="663300"/>
                </a:solidFill>
                <a:latin typeface="Arial"/>
              </a:rPr>
              <a:t>انتقل للشريحة السابق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7:03:06Z</dcterms:created>
  <dc:creator>xp</dc:creator>
  <dc:description/>
  <dc:language>en-US</dc:language>
  <cp:lastModifiedBy>xp</cp:lastModifiedBy>
  <dcterms:modified xsi:type="dcterms:W3CDTF">2006-05-05T20:43:08Z</dcterms:modified>
  <cp:revision>7</cp:revision>
  <dc:subject/>
  <dc:title>الشريحة 1</dc:title>
</cp:coreProperties>
</file>