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801600" cy="96012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FDE8-B2EC-4331-963B-E1D918E9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41720"/>
            <a:ext cx="1152216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120"/>
            <a:ext cx="1152216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F947-C0BA-4DD5-8744-90A25AF8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417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417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1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1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ECBF-47BD-4827-9E4E-D6891D425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41720"/>
            <a:ext cx="370980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41720"/>
            <a:ext cx="370980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41720"/>
            <a:ext cx="370980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120"/>
            <a:ext cx="370980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120"/>
            <a:ext cx="370980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120"/>
            <a:ext cx="370980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EC27-E14A-40C3-ABA0-943E66849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41720"/>
            <a:ext cx="11522160" cy="63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0458-581C-4BF8-ABB2-945F019C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41720"/>
            <a:ext cx="11522160" cy="6333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84C4-AC5F-4D35-8409-423BA3B1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41720"/>
            <a:ext cx="5622480" cy="6333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41720"/>
            <a:ext cx="5622480" cy="6333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4E85-9163-4757-9B56-559B0FEC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7AEA-EB59-4382-BC2B-50886F10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682A-D6B3-4F04-BF82-5BAB22EB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417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41720"/>
            <a:ext cx="5622480" cy="6333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1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87A8-5881-4259-A9DE-D4A298D1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41720"/>
            <a:ext cx="5622480" cy="6333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417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1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80F3-5670-4C1C-AB63-3179974E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417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417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120"/>
            <a:ext cx="1152216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C1DB-708B-458F-8EEB-BAFF2A05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41720"/>
            <a:ext cx="11522160" cy="6333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 algn="r" rtl="1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 algn="r" rtl="1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 algn="r" rtl="1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 algn="r" rtl="1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 algn="r" rtl="1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 algn="r" rtl="1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 algn="r" rtl="1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73880" y="87422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22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9360" y="87422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A94FE1BA-522E-4639-A27F-CA4FE030819F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01600" cy="9601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8800" y="263160"/>
            <a:ext cx="10880640" cy="2058840"/>
          </a:xfrm>
          <a:prstGeom prst="rect">
            <a:avLst/>
          </a:prstGeom>
          <a:gradFill rotWithShape="0">
            <a:gsLst>
              <a:gs pos="0">
                <a:srgbClr val="a29c48">
                  <a:alpha val="40000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hi-IN" sz="9800" spc="-1" strike="noStrike">
                <a:solidFill>
                  <a:srgbClr val="000000"/>
                </a:solidFill>
                <a:latin typeface="Arial"/>
                <a:cs typeface="Akhbar MT"/>
              </a:rPr>
              <a:t>الـْمُوَاصَلاتُ فِي بـِلادِنَا</a:t>
            </a: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47720" y="2424240"/>
            <a:ext cx="9361440" cy="71769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01600" cy="9601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2136240"/>
            <a:ext cx="12801600" cy="720108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800000"/>
            </a:solidFill>
            <a:miter/>
          </a:ln>
        </p:spPr>
        <p:txBody>
          <a:bodyPr lIns="128160" rIns="128160" tIns="64080" bIns="64080" anchor="ctr">
            <a:normAutofit fontScale="86000"/>
          </a:bodyPr>
          <a:p>
            <a:pPr marL="412200" indent="0" algn="r" rtl="1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Akhbar MT"/>
              </a:rPr>
              <a:t>قـَالَ خَالِدٌ: َأبـِي ُأر ِيدُ َأنْ نَزُورَ عَمِّي فِي جَازَانَ،هَلْ هِيَ بَعِيدَة عَنْ عَرْعَرَ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12200" indent="0" algn="r" rtl="1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Akhbar MT"/>
              </a:rPr>
              <a:t>قـَالَ الأبُ:إنَّ مَمْلَكَتَنَا </a:t>
            </a:r>
            <a:r>
              <a:rPr b="0" lang="ar-SA" sz="5400" spc="-1" strike="noStrike" u="sng">
                <a:solidFill>
                  <a:srgbClr val="ff3300"/>
                </a:solidFill>
                <a:uFillTx/>
                <a:latin typeface="Arial"/>
                <a:cs typeface="Akhbar MT"/>
                <a:hlinkClick r:id="rId2" action="ppaction://hlinksldjump"/>
              </a:rPr>
              <a:t>رَحِيبَة </a:t>
            </a:r>
            <a:r>
              <a:rPr b="1" lang="ar-SA" sz="5400" spc="-1" strike="noStrike">
                <a:solidFill>
                  <a:srgbClr val="ff0000"/>
                </a:solidFill>
                <a:latin typeface="Arial"/>
                <a:cs typeface="Akhbar MT"/>
              </a:rPr>
              <a:t>ٌ</a:t>
            </a: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Akhbar MT"/>
              </a:rPr>
              <a:t>يَا خَالِدْ، وَنَحْنُ فِي الشَّمَال ِ وَجَازَانُ فِي الـْجَنُوبِ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12200" indent="0" algn="r" rtl="1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Akhbar MT"/>
              </a:rPr>
              <a:t>إنَّهَا </a:t>
            </a:r>
            <a:r>
              <a:rPr b="0" lang="ar-SA" sz="5400" spc="-1" strike="noStrike" u="sng">
                <a:solidFill>
                  <a:srgbClr val="ff3300"/>
                </a:solidFill>
                <a:uFillTx/>
                <a:latin typeface="Arial"/>
                <a:cs typeface="Akhbar MT"/>
                <a:hlinkClick r:id="rId3" action="ppaction://hlinksldjump"/>
              </a:rPr>
              <a:t>نَائِيَة</a:t>
            </a:r>
            <a:r>
              <a:rPr b="1" lang="ar-SA" sz="5400" spc="-1" strike="noStrike">
                <a:solidFill>
                  <a:srgbClr val="ff0000"/>
                </a:solidFill>
                <a:latin typeface="Arial"/>
                <a:ea typeface="Akhbar MT"/>
              </a:rPr>
              <a:t> ٌ</a:t>
            </a: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Akhbar MT"/>
              </a:rPr>
              <a:t>عَنـَّا،وَلـَكِنَّهَا قـَرِيبَة ٌ مِنـَّا. </a:t>
            </a:r>
            <a:r>
              <a:rPr b="0" lang="ar-SA" sz="54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12200" indent="0" algn="r" rtl="1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Akhbar MT"/>
              </a:rPr>
              <a:t>قـَالَ خَالِدٌ: كَيْفَ ذلِكَ يَا أبـِي 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12200" indent="0" algn="r" rtl="1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Akhbar MT"/>
              </a:rPr>
              <a:t>قـَالَ اْلأبُ: إنَّ حُكُومَتَنَا يَا خَالِدُ زَفـَّتَتِ الطـُّرُقَ</a:t>
            </a:r>
            <a:r>
              <a:rPr b="0" lang="ar-SA" sz="54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12200" indent="0" algn="r" rtl="1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Akhbar MT"/>
              </a:rPr>
              <a:t>وأَقـَامَتِ الـْمَطـَارَاتِ الدَّاخِلِيَّة َو الدَّوْلِيَّة َ،وَأنـْشَـَأتِ الـْمَوانِئَ الـْكَبـِيرَة،وَمَدَّتْ سِكَّة َحَدِيدٍ بَيْنَ الدَّمَّام ِ وَالرِّيَاض ِ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8848800" y="479520"/>
            <a:ext cx="3952800" cy="1576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0" y="7502400"/>
            <a:ext cx="6040440" cy="2098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28800" y="263520"/>
            <a:ext cx="10880640" cy="1512720"/>
          </a:xfrm>
          <a:prstGeom prst="rect">
            <a:avLst/>
          </a:prstGeom>
          <a:gradFill rotWithShape="0">
            <a:gsLst>
              <a:gs pos="0">
                <a:srgbClr val="a29c48">
                  <a:alpha val="40000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 rtl="1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hi-IN" sz="9800" spc="-1" strike="noStrike">
                <a:solidFill>
                  <a:srgbClr val="000000"/>
                </a:solidFill>
                <a:latin typeface="Arial"/>
                <a:cs typeface="Akhbar MT"/>
              </a:rPr>
              <a:t>الـْمُوَاصَلاتُ فِي بـِلادِنَا</a:t>
            </a: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2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01600" cy="9601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631520"/>
            <a:ext cx="12801600" cy="7705800"/>
          </a:xfrm>
          <a:prstGeom prst="rect">
            <a:avLst/>
          </a:prstGeom>
          <a:solidFill>
            <a:srgbClr val="ffff99">
              <a:alpha val="63000"/>
            </a:srgbClr>
          </a:solidFill>
          <a:ln w="38160">
            <a:solidFill>
              <a:srgbClr val="800000"/>
            </a:solidFill>
            <a:miter/>
          </a:ln>
        </p:spPr>
        <p:txBody>
          <a:bodyPr lIns="128160" rIns="128160" tIns="64080" bIns="64080" anchor="ctr">
            <a:normAutofit fontScale="79000"/>
          </a:bodyPr>
          <a:p>
            <a:pPr marL="378720" indent="0" algn="r" rtl="1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abic Typesetting"/>
                <a:cs typeface="Akhbar MT"/>
              </a:rPr>
              <a:t>فـَرَبَطـَتْ بَيْنَ أنـْحَاءِ الـْمَمْلـَكَةِ، </a:t>
            </a:r>
            <a:r>
              <a:rPr b="0" lang="ar-SA" sz="5400" spc="-1" strike="noStrike" u="sng">
                <a:solidFill>
                  <a:srgbClr val="ff3300"/>
                </a:solidFill>
                <a:uFillTx/>
                <a:latin typeface="Arabic Typesetting"/>
                <a:cs typeface="Akhbar MT"/>
                <a:hlinkClick r:id="rId2" action="ppaction://hlinksldjump"/>
              </a:rPr>
              <a:t>وَ</a:t>
            </a:r>
            <a:r>
              <a:rPr b="0" lang="ar-SA" sz="5400" spc="-1" strike="noStrike" u="sng">
                <a:solidFill>
                  <a:srgbClr val="ff3300"/>
                </a:solidFill>
                <a:uFillTx/>
                <a:latin typeface="Arabic Typesetting"/>
                <a:cs typeface="Akhbar MT"/>
                <a:hlinkClick r:id="rId3" action="ppaction://hlinksldjump"/>
              </a:rPr>
              <a:t>عُنِيَتْ</a:t>
            </a:r>
            <a:r>
              <a:rPr b="0" lang="ar-SA" sz="5400" spc="-1" strike="noStrike" u="sng">
                <a:solidFill>
                  <a:srgbClr val="ff3300"/>
                </a:solidFill>
                <a:uFillTx/>
                <a:latin typeface="Arabic Typesetting"/>
                <a:ea typeface="Akhbar MT"/>
                <a:hlinkClick r:id="rId4" action="ppaction://hlinksldjump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Arabic Typesetting"/>
                <a:cs typeface="Akhbar MT"/>
              </a:rPr>
              <a:t>بـِالْمُوَاصَلاتِ الـْخَارجـِيَّةِ  جَوًّا وَبَرًّا وَبَحْرًا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r" rtl="1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abic Typesetting"/>
                <a:cs typeface="Akhbar MT"/>
              </a:rPr>
              <a:t>فـَأصْبَحَتِ الـْمَمْلـَكَة ُ عَلـَى صِلـَةٍ  بـِأرْجَاءِ الـْعَالـَم 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r" rtl="1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abic Typesetting"/>
                <a:cs typeface="Akhbar MT"/>
              </a:rPr>
              <a:t>قـَالَ خَالِدٌ: وَ مَتَى  نـَذ ْهَبُ إلِى جَازَانَ  يَا أبـِي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r" rtl="1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abic Typesetting"/>
                <a:cs typeface="Akhbar MT"/>
              </a:rPr>
              <a:t>قـَالَ الأبُ: فِي الأسُبْوُع ِ الـْقـَادِم ِ نَرْكَبُ الطـَّيَّارَة َ إلـَيْهَا إنْ شَاءَ اللهُ 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r" rtl="1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abic Typesetting"/>
                <a:cs typeface="Akhbar MT"/>
              </a:rPr>
              <a:t>قـَالَ خَالِدٌ: أنـَا فِي دَهْشَةٍ ! كَيْفَ كَانَ النَّاسُ يَنْتَقِلـُونَ فِي الـْمَاضِي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r" rtl="1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abic Typesetting"/>
                <a:cs typeface="Akhbar MT"/>
              </a:rPr>
              <a:t>قـَالَ الأبُ:كَانُوا  </a:t>
            </a:r>
            <a:r>
              <a:rPr b="0" lang="ar-SA" sz="5400" spc="-1" strike="noStrike" u="sng">
                <a:solidFill>
                  <a:srgbClr val="ff3300"/>
                </a:solidFill>
                <a:uFillTx/>
                <a:latin typeface="Arabic Typesetting"/>
                <a:cs typeface="Akhbar MT"/>
                <a:hlinkClick r:id="rId5" action="ppaction://hlinksldjump"/>
              </a:rPr>
              <a:t>يُعَانُونَ</a:t>
            </a:r>
            <a:r>
              <a:rPr b="1" lang="ar-SA" sz="5400" spc="-1" strike="noStrike">
                <a:solidFill>
                  <a:srgbClr val="000000"/>
                </a:solidFill>
                <a:latin typeface="Arabic Typesetting"/>
                <a:ea typeface="Akhbar MT"/>
              </a:rPr>
              <a:t> الصَّعَابَ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r" rtl="1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abic Typesetting"/>
                <a:cs typeface="Akhbar MT"/>
              </a:rPr>
              <a:t>كَانُوا يَرْكَبُونَ الـْحَمِيرَ وَ الـْخَيْلَ وَ الـْجـِمَالَ  أمَّا الـْيَوْمُ فـَقـَدْ تَقـَدَّمَتْ وَسَائِلُ الـْمُوَاصَلاتِ عِنْدَنَا بـِفـَضْل ِ اللهِ  تَقـَدُّمَا كَبـِيرً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0" y="0"/>
            <a:ext cx="4456080" cy="1560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6813720" y="0"/>
            <a:ext cx="5987880" cy="1566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28800" y="47520"/>
            <a:ext cx="10880640" cy="1513080"/>
          </a:xfrm>
          <a:prstGeom prst="rect">
            <a:avLst/>
          </a:prstGeom>
          <a:gradFill rotWithShape="0">
            <a:gsLst>
              <a:gs pos="0">
                <a:srgbClr val="a29c48">
                  <a:alpha val="40000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 rtl="1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hi-IN" sz="9800" spc="-1" strike="noStrike">
                <a:solidFill>
                  <a:srgbClr val="000000"/>
                </a:solidFill>
                <a:latin typeface="Arial"/>
                <a:cs typeface="Akhbar MT"/>
              </a:rPr>
              <a:t>الـْمُوَاصَلاتُ فِي بـِلادِنَا</a:t>
            </a: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12801600" cy="960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1014480" y="1271520"/>
          <a:ext cx="10715400" cy="407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14480" y="1271520"/>
                    <a:ext cx="10715400" cy="4076640"/>
                  </a:xfrm>
                  <a:prstGeom prst="rect">
                    <a:avLst/>
                  </a:prstGeom>
                  <a:ln w="57240">
                    <a:solidFill>
                      <a:srgbClr val="8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8" name="">
            <a:hlinkClick r:id="" action="ppaction://hlinkshowjump?jump=previousslide"/>
          </p:cNvPr>
          <p:cNvSpPr/>
          <p:nvPr/>
        </p:nvSpPr>
        <p:spPr>
          <a:xfrm>
            <a:off x="11945880" y="8977320"/>
            <a:ext cx="855720" cy="623880"/>
          </a:xfrm>
          <a:custGeom>
            <a:avLst/>
            <a:gdLst>
              <a:gd name="textAreaLeft" fmla="*/ 40320 w 855720"/>
              <a:gd name="textAreaRight" fmla="*/ 815400 w 855720"/>
              <a:gd name="textAreaTop" fmla="*/ 40320 h 623880"/>
              <a:gd name="textAreaBottom" fmla="*/ 583560 h 623880"/>
            </a:gdLst>
            <a:ahLst/>
            <a:rect l="textAreaLeft" t="textAreaTop" r="textAreaRight" b="textAreaBottom"/>
            <a:pathLst>
              <a:path w="29622" h="21600">
                <a:moveTo>
                  <a:pt x="0" y="0"/>
                </a:moveTo>
                <a:lnTo>
                  <a:pt x="29622" y="0"/>
                </a:lnTo>
                <a:lnTo>
                  <a:pt x="29622" y="21600"/>
                </a:lnTo>
                <a:lnTo>
                  <a:pt x="0" y="21600"/>
                </a:lnTo>
                <a:close/>
              </a:path>
              <a:path fill="lightenLess" w="29622" h="21600">
                <a:moveTo>
                  <a:pt x="0" y="0"/>
                </a:moveTo>
                <a:lnTo>
                  <a:pt x="29622" y="0"/>
                </a:lnTo>
                <a:lnTo>
                  <a:pt x="28222" y="1400"/>
                </a:lnTo>
                <a:lnTo>
                  <a:pt x="1400" y="1400"/>
                </a:lnTo>
                <a:close/>
              </a:path>
              <a:path fill="darken" w="29622" h="21600">
                <a:moveTo>
                  <a:pt x="29622" y="0"/>
                </a:moveTo>
                <a:lnTo>
                  <a:pt x="29622" y="21600"/>
                </a:lnTo>
                <a:lnTo>
                  <a:pt x="28222" y="20200"/>
                </a:lnTo>
                <a:lnTo>
                  <a:pt x="28222" y="1400"/>
                </a:lnTo>
                <a:close/>
              </a:path>
              <a:path fill="darkenLess" w="29622" h="21600">
                <a:moveTo>
                  <a:pt x="29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22" y="20200"/>
                </a:lnTo>
                <a:close/>
              </a:path>
              <a:path fill="lighten" w="29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22" h="21600">
                <a:moveTo>
                  <a:pt x="7805" y="3794"/>
                </a:moveTo>
                <a:lnTo>
                  <a:pt x="21818" y="10800"/>
                </a:lnTo>
                <a:lnTo>
                  <a:pt x="7805" y="17806"/>
                </a:lnTo>
                <a:close/>
              </a:path>
            </a:pathLst>
          </a:custGeom>
          <a:solidFill>
            <a:srgbClr val="a29c48">
              <a:alpha val="30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66240" y="9010800"/>
            <a:ext cx="2879640" cy="977400"/>
          </a:xfrm>
          <a:prstGeom prst="rect">
            <a:avLst/>
          </a:prstGeom>
          <a:solidFill>
            <a:srgbClr val="a29c48">
              <a:alpha val="43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81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hi-IN" sz="2900" spc="-1" strike="noStrike">
                <a:solidFill>
                  <a:srgbClr val="663300"/>
                </a:solidFill>
                <a:latin typeface="Arial"/>
              </a:rPr>
              <a:t>انتقل للشريحة السابقة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5T17:03:06Z</dcterms:created>
  <dc:creator>xp</dc:creator>
  <dc:description/>
  <dc:language>en-US</dc:language>
  <cp:lastModifiedBy>xp</cp:lastModifiedBy>
  <dcterms:modified xsi:type="dcterms:W3CDTF">2006-05-05T20:43:08Z</dcterms:modified>
  <cp:revision>7</cp:revision>
  <dc:subject/>
  <dc:title>الشريحة 1</dc:title>
</cp:coreProperties>
</file>