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DF7-9941-4DCF-910D-63A79587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43F-1FE0-4F22-AEE3-0A8761E3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354-6BB5-48BA-A0C5-EE4E63BC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6D2-DC8E-458B-812B-B526C374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16E-59B9-4252-8723-8E5FB653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F4E-B0DA-4C5A-8B2A-C514EA59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7A2-DB33-44FB-9F79-2F2CCC4E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22A-6E1B-4A5A-9A2D-DCD8043D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ECE-DD45-45C2-90E8-25F70D40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2C5-C3CF-4C93-ACD6-13E6BD96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9CB-E220-4D3F-BC64-A41B5D22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202-87ED-4533-BE33-7A1D0E94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8FF8-E4C8-407C-BCF2-7DE21729F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0" y="1700280"/>
            <a:ext cx="9144000" cy="0"/>
          </a:xfrm>
          <a:prstGeom prst="line">
            <a:avLst/>
          </a:prstGeom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0" y="206064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1628640"/>
            <a:ext cx="0" cy="5229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700280"/>
            <a:ext cx="0" cy="5157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628640"/>
            <a:ext cx="176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0033cc"/>
                </a:solidFill>
                <a:latin typeface="Arial"/>
                <a:cs typeface="Akhbar MT"/>
              </a:rPr>
              <a:t>الأهداف السلوكية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1628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0033cc"/>
                </a:solidFill>
                <a:latin typeface="Arial"/>
              </a:rPr>
              <a:t>الأنشطة التعليمية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2360" y="170028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0033cc"/>
                </a:solidFill>
                <a:latin typeface="Arial"/>
              </a:rPr>
              <a:t>الــتــقــــــــــــوي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093000"/>
            <a:ext cx="14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ff0000"/>
                </a:solidFill>
                <a:latin typeface="Arial"/>
              </a:rPr>
              <a:t>الـــواجـــــــــ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52360" y="65530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333399"/>
                </a:solidFill>
                <a:latin typeface="Arial"/>
              </a:rPr>
              <a:t>تلاوة الآيات جيدا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76720" y="476280"/>
            <a:ext cx="406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076720" y="907920"/>
            <a:ext cx="4067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28000" y="0"/>
            <a:ext cx="0" cy="1700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0"/>
            <a:ext cx="0" cy="907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28000" y="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ص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20000" y="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الما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0"/>
            <a:ext cx="10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ال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07280" y="476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ff"/>
                </a:solidFill>
                <a:latin typeface="Arial"/>
              </a:rPr>
              <a:t>ثالث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76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ff"/>
                </a:solidFill>
                <a:latin typeface="Arial"/>
              </a:rPr>
              <a:t>قرآ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47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ff"/>
                </a:solidFill>
                <a:latin typeface="Arial"/>
              </a:rPr>
              <a:t>سورة القل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28000" y="981000"/>
            <a:ext cx="9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التهيئ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0"/>
            <a:ext cx="0" cy="1700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0"/>
            <a:ext cx="0" cy="1700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140000" y="476280"/>
            <a:ext cx="93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40000" y="907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40000" y="126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ي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476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تاري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907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ح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1268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وسائ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-360" y="476280"/>
            <a:ext cx="4140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-360" y="907920"/>
            <a:ext cx="4140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-360" y="1268280"/>
            <a:ext cx="414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0"/>
            <a:ext cx="0" cy="1268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0"/>
            <a:ext cx="0" cy="1268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0"/>
            <a:ext cx="0" cy="1268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0"/>
            <a:ext cx="0" cy="1268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سب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7280" y="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أح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اثن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ثلاث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أربع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2360" y="981000"/>
            <a:ext cx="316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336600"/>
                </a:solidFill>
                <a:latin typeface="Arial"/>
              </a:rPr>
              <a:t>عددي بعض الأشياء التي أقسم بها الله 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336600"/>
                </a:solidFill>
                <a:latin typeface="Arial"/>
              </a:rPr>
              <a:t>أقسم الله بأداة الكتابة ..ماهي 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1700280"/>
            <a:ext cx="0" cy="5157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4360" y="1628640"/>
            <a:ext cx="10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cc"/>
                </a:solidFill>
                <a:latin typeface="Arial"/>
              </a:rPr>
              <a:t>المحتو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800080"/>
                </a:solidFill>
                <a:latin typeface="Arial"/>
              </a:rPr>
              <a:t>القرآن الكريم ، جهاز التسجيل، الاقلام الملو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2133720"/>
            <a:ext cx="21956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hi-IN" sz="1600" spc="-1" strike="noStrike">
                <a:solidFill>
                  <a:srgbClr val="6600cc"/>
                </a:solidFill>
                <a:latin typeface="Arial"/>
              </a:rPr>
              <a:t>ـ أن تتلو التلميذة الآيات تلاوة صحيح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hi-IN" sz="1600" spc="-1" strike="noStrike">
                <a:solidFill>
                  <a:srgbClr val="6600cc"/>
                </a:solidFill>
                <a:latin typeface="Arial"/>
              </a:rPr>
              <a:t>ـ أن تبين  التلميذة معاني المفردات الصعب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hi-IN" sz="1600" spc="-1" strike="noStrike">
                <a:solidFill>
                  <a:srgbClr val="6600cc"/>
                </a:solidFill>
                <a:latin typeface="Arial"/>
              </a:rPr>
              <a:t>ـ أن تعلل  التلميذة قسم الله بالقلم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hi-IN" sz="1600" spc="-1" strike="noStrike">
                <a:solidFill>
                  <a:srgbClr val="6600cc"/>
                </a:solidFill>
                <a:latin typeface="Arial"/>
              </a:rPr>
              <a:t>ـ أن توضح التلميذة وصف الله لنبيه عليه الصلاة والسلا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hi-IN" sz="1600" spc="-1" strike="noStrike">
                <a:solidFill>
                  <a:srgbClr val="6600cc"/>
                </a:solidFill>
                <a:latin typeface="Arial"/>
              </a:rPr>
              <a:t>ـ أن تعدد التلميذة صفات المشركين من خلال الايات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hi-IN" sz="1600" spc="-1" strike="noStrike">
                <a:solidFill>
                  <a:srgbClr val="6600cc"/>
                </a:solidFill>
                <a:latin typeface="Arial"/>
              </a:rPr>
              <a:t>ـ أن تطبق  التلميذة الاحكام التجويدية في الايات من خلال التلاوة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- أن تحرص التلميذة على الاكثار من التسبيح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1670040"/>
            <a:ext cx="1657440" cy="62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سورة القل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9900cc"/>
                </a:solidFill>
                <a:latin typeface="Arial"/>
              </a:rPr>
              <a:t>يسطرون         يكتبو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9900cc"/>
                </a:solidFill>
                <a:latin typeface="Arial"/>
              </a:rPr>
              <a:t>تدهن              تلي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9900cc"/>
                </a:solidFill>
                <a:latin typeface="Arial"/>
              </a:rPr>
              <a:t>يصرمًنَّها        يقطعوا ثمر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9900cc"/>
                </a:solidFill>
                <a:latin typeface="Arial"/>
              </a:rPr>
              <a:t>فاجتباه           اختار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ff66cc"/>
                </a:solidFill>
                <a:latin typeface="Arial"/>
              </a:rPr>
              <a:t>للتأكيد على اهمية العل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99ff"/>
                </a:solidFill>
                <a:latin typeface="Arial"/>
              </a:rPr>
              <a:t>وصف بأنه على خلق عظيم وهذا الثناء الالهي دليل على بلوغه نهاية الكمال البشر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9999"/>
                </a:solidFill>
                <a:latin typeface="Arial"/>
              </a:rPr>
              <a:t>كثرة الذل ، اغتياب الناس النميمة ، منع الخير ، كثرة الذنوب غلظ القلب , الغرو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336600"/>
                </a:solidFill>
                <a:latin typeface="Arial"/>
              </a:rPr>
              <a:t>الاكثار من التسبيح وترطيب اللسان بذكر الله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023920"/>
            <a:ext cx="3670560" cy="61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*</a:t>
            </a:r>
            <a:r>
              <a:rPr b="1" lang="hi-IN" sz="1400" spc="-1" strike="noStrike">
                <a:solidFill>
                  <a:srgbClr val="9900cc"/>
                </a:solidFill>
                <a:latin typeface="Arial"/>
              </a:rPr>
              <a:t>الاستماع لتلاوة الآيات عبر جهاز التسجيل ثم أتلو الآيات. ثم تتلو التلميذات زمريا وتليها التلاوة الفردية للآيات من قبل بعض المجيدات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hi-IN" sz="1400" spc="-1" strike="noStrike">
                <a:solidFill>
                  <a:srgbClr val="0033cc"/>
                </a:solidFill>
                <a:latin typeface="Arial"/>
              </a:rPr>
              <a:t>ثم اناقشهن 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33cc"/>
                </a:solidFill>
                <a:latin typeface="Arial"/>
              </a:rPr>
              <a:t>بماذا أقسم الله في الآيات 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33cc"/>
                </a:solidFill>
                <a:latin typeface="Arial"/>
              </a:rPr>
              <a:t>بماذا يقسم المخلوق 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33cc"/>
                </a:solidFill>
                <a:latin typeface="Arial"/>
              </a:rPr>
              <a:t>هل يجوز القسم بغير الله 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33cc"/>
                </a:solidFill>
                <a:latin typeface="Arial"/>
              </a:rPr>
              <a:t>شرح وتوضيح قوله تعالى ” وإنك لعلى خلق عظيم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336600"/>
                </a:solidFill>
                <a:latin typeface="Arial"/>
              </a:rPr>
              <a:t>عددي اسماء بعض المشركين المتصفين بهذه الصفات 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336600"/>
                </a:solidFill>
                <a:latin typeface="Arial"/>
              </a:rPr>
              <a:t>ما الحكم التجويدي في قوله تعالى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” همَّازٍ مشَّآءٍ بنميم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336600"/>
                </a:solidFill>
                <a:latin typeface="Arial"/>
              </a:rPr>
              <a:t>احثهن على كثرة الاستغفار دائما والتسبيح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9900"/>
                </a:solidFill>
                <a:latin typeface="Arial"/>
              </a:rPr>
              <a:t>نعود للتلاوة الفردية من قبل جميع التلميذات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060640"/>
            <a:ext cx="16923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99ff"/>
                </a:solidFill>
                <a:latin typeface="Arial"/>
              </a:rPr>
              <a:t>التلاوة الفردية للآيا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996633"/>
                </a:solidFill>
                <a:latin typeface="Arial"/>
              </a:rPr>
              <a:t>وظفي الكلمات في جملة مفيدة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3366ff"/>
                </a:solidFill>
                <a:latin typeface="Arial"/>
              </a:rPr>
              <a:t>عللي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3366ff"/>
                </a:solidFill>
                <a:latin typeface="Arial"/>
              </a:rPr>
              <a:t>اقسم الله بالقلم في الآيات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66cc"/>
                </a:solidFill>
                <a:latin typeface="Arial"/>
              </a:rPr>
              <a:t>ما الواجب تجاه أخلاق النبي وصفاته 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9933ff"/>
                </a:solidFill>
                <a:latin typeface="Arial"/>
              </a:rPr>
              <a:t>بماذا توعد الله المشركين  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9933ff"/>
                </a:solidFill>
                <a:latin typeface="Arial"/>
              </a:rPr>
              <a:t>اذكري الحكم التجويدي في الايه 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9933ff"/>
                </a:solidFill>
                <a:latin typeface="Arial"/>
              </a:rPr>
              <a:t>كيف يكون لساننا رطبا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1584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4:03:01Z</dcterms:created>
  <dc:creator>sava</dc:creator>
  <dc:description/>
  <dc:language>en-US</dc:language>
  <cp:lastModifiedBy>me</cp:lastModifiedBy>
  <dcterms:modified xsi:type="dcterms:W3CDTF">2005-10-30T11:55:17Z</dcterms:modified>
  <cp:revision>16</cp:revision>
  <dc:subject/>
  <dc:title>الشريحة 1</dc:title>
</cp:coreProperties>
</file>