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AE4-9023-4E05-BEED-5D9ECECF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19F-BC45-4D95-B08B-9B7038EE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F27-2C20-46AE-B377-0FDD9925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AA4-7EDC-4246-AD0D-694C6D7D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30B-9425-4AC7-84E0-9E67047B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FBB-D79C-4E8A-A37D-919A0969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797-091F-4E81-9AE0-C4BDFB3D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467-6BE9-4B8F-9C88-3ABCBD15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90C-71BD-4692-ADCF-E48F013F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9B7-125B-4FD9-919A-118456F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F1C-652A-4A6D-89E9-189B4C39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651-3CCA-407F-AA86-271FF4EA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CAE5-02A7-4E21-8CEE-4D959B070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0" y="1700280"/>
            <a:ext cx="9144000" cy="0"/>
          </a:xfrm>
          <a:prstGeom prst="line">
            <a:avLst/>
          </a:prstGeom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0" y="2133720"/>
            <a:ext cx="9144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1628640"/>
            <a:ext cx="0" cy="5229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700280"/>
            <a:ext cx="0" cy="5157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170028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>
                <a:solidFill>
                  <a:srgbClr val="0033cc"/>
                </a:solidFill>
                <a:latin typeface="Arial"/>
                <a:cs typeface="Akhbar MT"/>
              </a:rPr>
              <a:t>الأهداف السلوكية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khbar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170028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>
                <a:solidFill>
                  <a:srgbClr val="0033cc"/>
                </a:solidFill>
                <a:latin typeface="Arial"/>
              </a:rPr>
              <a:t>الأنشطة التعليمية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52360" y="1700280"/>
            <a:ext cx="20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>
                <a:solidFill>
                  <a:srgbClr val="0033cc"/>
                </a:solidFill>
                <a:latin typeface="Arial"/>
              </a:rPr>
              <a:t>الــتــقــــــــــــوي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23736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1800" spc="-1" strike="noStrike">
                <a:solidFill>
                  <a:srgbClr val="ff0000"/>
                </a:solidFill>
                <a:latin typeface="Arial"/>
              </a:rPr>
              <a:t>الـــواجـــــــــ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324000" y="65530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333399"/>
                </a:solidFill>
                <a:latin typeface="Arial"/>
              </a:rPr>
              <a:t>تلاوة الآيات جيدا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76720" y="476280"/>
            <a:ext cx="406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076720" y="907920"/>
            <a:ext cx="4067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28000" y="0"/>
            <a:ext cx="0" cy="1700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0"/>
            <a:ext cx="0" cy="907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28000" y="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ص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20000" y="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الما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0"/>
            <a:ext cx="10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ال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07280" y="476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ff"/>
                </a:solidFill>
                <a:latin typeface="Arial"/>
              </a:rPr>
              <a:t>ثالث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76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ff"/>
                </a:solidFill>
                <a:latin typeface="Arial"/>
              </a:rPr>
              <a:t>قرآ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3640" y="476280"/>
            <a:ext cx="19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00ff"/>
                </a:solidFill>
                <a:latin typeface="Arial"/>
              </a:rPr>
              <a:t>سورة المرسلات غيب من 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38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50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01080" y="981000"/>
            <a:ext cx="10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المكتسب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44000" y="1268280"/>
            <a:ext cx="9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التهيئ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0"/>
            <a:ext cx="0" cy="1700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0"/>
            <a:ext cx="0" cy="1700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140000" y="476280"/>
            <a:ext cx="93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40000" y="9079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40000" y="126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ي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476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تاري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907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ح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1268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وسائ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-360" y="476280"/>
            <a:ext cx="4140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-360" y="907920"/>
            <a:ext cx="4140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360" y="1268280"/>
            <a:ext cx="414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8000" y="0"/>
            <a:ext cx="0" cy="1268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0"/>
            <a:ext cx="0" cy="1268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0"/>
            <a:ext cx="0" cy="1268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0"/>
            <a:ext cx="0" cy="1268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سب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أح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اثن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ثلاث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00"/>
                </a:solidFill>
                <a:latin typeface="Arial"/>
              </a:rPr>
              <a:t>الأربع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1197000"/>
            <a:ext cx="316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1700280"/>
            <a:ext cx="0" cy="51577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170028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cc"/>
                </a:solidFill>
                <a:latin typeface="Arial"/>
              </a:rPr>
              <a:t>المحت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34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800080"/>
                </a:solidFill>
                <a:latin typeface="Arial"/>
              </a:rPr>
              <a:t>القرآن الكريم ، السبورة ، الاقلام الملون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907920"/>
            <a:ext cx="30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0066"/>
                </a:solidFill>
                <a:latin typeface="Arial"/>
              </a:rPr>
              <a:t>يقسم العبد بخالقه عز وج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48360" y="2133720"/>
            <a:ext cx="21956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- أن تتلو التلميذة الآ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ff"/>
                </a:solidFill>
                <a:latin typeface="Arial"/>
              </a:rPr>
              <a:t>تلاوة صحيح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- أن تبين التلميذة معن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ff"/>
                </a:solidFill>
                <a:latin typeface="Arial"/>
              </a:rPr>
              <a:t>كلمة ” المرسلات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- أن تميز التلميذة بين المقصود بالأعذار والإنذ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- أن تستخرج التلميذة م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00ff"/>
                </a:solidFill>
                <a:latin typeface="Arial"/>
              </a:rPr>
              <a:t>الايات احدى علامات يوم القيام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- أن تستنتج التلميذة ما استفادته من خلال الآ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- أن تكون التلميذة اتجاها إيجابيا نحو الخشوع عند تلاوة القرآن الكري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349360"/>
            <a:ext cx="165744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سورة المدث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المرسلات عرفا : </a:t>
            </a:r>
            <a:r>
              <a:rPr b="1" lang="hi-IN" sz="1400" spc="-1" strike="noStrike">
                <a:solidFill>
                  <a:srgbClr val="ff9900"/>
                </a:solidFill>
                <a:latin typeface="Arial"/>
              </a:rPr>
              <a:t>الرياح الطيب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العاصفات : </a:t>
            </a:r>
            <a:r>
              <a:rPr b="1" lang="hi-IN" sz="1400" spc="-1" strike="noStrike">
                <a:solidFill>
                  <a:srgbClr val="ff9900"/>
                </a:solidFill>
                <a:latin typeface="Arial"/>
              </a:rPr>
              <a:t>الرياح الشديد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الملقيات : </a:t>
            </a:r>
            <a:r>
              <a:rPr b="1" lang="hi-IN" sz="1400" spc="-1" strike="noStrike">
                <a:solidFill>
                  <a:srgbClr val="ff9900"/>
                </a:solidFill>
                <a:latin typeface="Arial"/>
              </a:rPr>
              <a:t>الملائك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من خلال الآي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2205000"/>
            <a:ext cx="367056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9900cc"/>
                </a:solidFill>
                <a:latin typeface="Arial"/>
              </a:rPr>
              <a:t>سماع الآيات من خلال جهاز التسجيل ثم تلاوة الآيات من قبلي ثم التلاوة الزمرية ثم التلاوة الفرد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cc"/>
                </a:solidFill>
                <a:latin typeface="Arial"/>
              </a:rPr>
              <a:t>اشرح الايات شرحا موجزا وواضحا يتناسب مع مستواهن العقل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cc"/>
                </a:solidFill>
                <a:latin typeface="Arial"/>
              </a:rPr>
              <a:t>وأوضح لهن ان الله تعالى اقسم بالرياح الطيبة فالرياح الشديدة وبالرياح التي تنشر المطر وتفرقه في السماء نشرا ثم بالملائكة التي تلقي بالوحي عل الانبيا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cc"/>
                </a:solidFill>
                <a:latin typeface="Arial"/>
              </a:rPr>
              <a:t>للأعذار بالنسبة لقوم وإنذار لقوما آخرون على أن مات وعدون به أيها الناس من خير او شر لواقع لا محال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cc"/>
                </a:solidFill>
                <a:latin typeface="Arial"/>
              </a:rPr>
              <a:t>اوضح لهن ان من علامات يوم القيامة والتي ذكرها الله في كتابه الكريم ” ان النجوم تذهب وتختفي بنور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6600"/>
                </a:solidFill>
                <a:latin typeface="Arial"/>
              </a:rPr>
              <a:t>ما لذي استفد تيه من خلال تلاوتك للآيات ؟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05000"/>
            <a:ext cx="16923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00ff"/>
                </a:solidFill>
                <a:latin typeface="Arial"/>
              </a:rPr>
              <a:t>التلاوة الفردية من قبل التلميذ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6600"/>
                </a:solidFill>
                <a:latin typeface="Arial"/>
              </a:rPr>
              <a:t>أقسم الله سبحانه وتعالى بالمرسلات وهي 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#  رتبي البطاقات التالية من اليمين بما يناسبها في اليسار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660066"/>
                </a:solidFill>
                <a:latin typeface="Arial"/>
              </a:rPr>
              <a:t>الأعذار يكون         للكافري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660066"/>
                </a:solidFill>
                <a:latin typeface="Arial"/>
              </a:rPr>
              <a:t>الإنذار يكون          للمؤمني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# اذكري إحدى علامات يوم القيامة التي ذكرت في الآيات 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660033"/>
                </a:solidFill>
                <a:latin typeface="Arial"/>
              </a:rPr>
              <a:t>دوني في بطاقتك إحدى استفادتك من الايات ثم اقرئيها على زميلاتك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99cc00"/>
                </a:solidFill>
                <a:latin typeface="Arial"/>
              </a:rPr>
              <a:t>التلاوة الفردية من قبلهن مع متابعتي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112536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</a:rPr>
              <a:t>هل للرياح قوة واحدة ؟ تختلف الرياح في شدتها وضررها ونفعها . هل لله ان يقسم بمخلوقاته 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14:03:01Z</dcterms:created>
  <dc:creator>sava</dc:creator>
  <dc:description/>
  <dc:language>en-US</dc:language>
  <cp:lastModifiedBy>sava</cp:lastModifiedBy>
  <dcterms:modified xsi:type="dcterms:W3CDTF">2005-02-04T14:43:09Z</dcterms:modified>
  <cp:revision>13</cp:revision>
  <dc:subject/>
  <dc:title>الشريحة 1</dc:title>
</cp:coreProperties>
</file>