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49F-1EBB-4E58-A00D-EDD5E28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8EA-1ECA-4515-9DDC-FE90F92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576-5109-401A-AA24-25E14460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9AF-FC59-4C1F-B10D-6FB74D0D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26B-458E-4513-AFD3-DC30799C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22C-B6BB-4DD8-9E62-61F75791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4C9-EC4F-4DD1-BD17-83BE704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9AF-B07D-4151-A9DF-F3A3C5C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56A-6ABC-45B8-8FBA-3488CA3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5C2-B867-4C8E-B910-7A3DD3E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352-F0EA-4A81-AB66-57F34D5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D19-682C-4ED5-8005-6BAA17B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D00E-31C0-441B-8D27-586589D5C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68960" y="3978360"/>
            <a:ext cx="218304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000000"/>
                </a:solidFill>
                <a:latin typeface="Arial"/>
              </a:rPr>
              <a:t>مراحل تكون الجني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99280" y="333360"/>
            <a:ext cx="1081080" cy="112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00720" y="0"/>
            <a:ext cx="134928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140360" y="0"/>
            <a:ext cx="153504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340000" y="-71280"/>
            <a:ext cx="1587600" cy="220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14480" y="0"/>
            <a:ext cx="1909440" cy="24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-252360" y="4437000"/>
            <a:ext cx="2198520" cy="242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979640" y="4424400"/>
            <a:ext cx="1942920" cy="2433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708360" y="4365720"/>
            <a:ext cx="1871640" cy="24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292720" y="4309920"/>
            <a:ext cx="2044800" cy="254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7380360" y="62064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508720" y="692280"/>
            <a:ext cx="792000" cy="46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3708360" y="692280"/>
            <a:ext cx="792360" cy="46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1835280" y="692280"/>
            <a:ext cx="79200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179280" y="2565360"/>
            <a:ext cx="717480" cy="17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4932360" y="5157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3132000" y="5157720"/>
            <a:ext cx="79236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1403280" y="5229360"/>
            <a:ext cx="792360" cy="466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6732720" y="5157720"/>
            <a:ext cx="79200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3:47:53Z</dcterms:created>
  <dc:creator>win7</dc:creator>
  <dc:description/>
  <dc:language>en-US</dc:language>
  <cp:lastModifiedBy>win7</cp:lastModifiedBy>
  <dcterms:modified xsi:type="dcterms:W3CDTF">2010-10-30T16:28:22Z</dcterms:modified>
  <cp:revision>4</cp:revision>
  <dc:subject/>
  <dc:title>مراحل تكون الجنين</dc:title>
</cp:coreProperties>
</file>