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513-4351-4233-BB9C-45206CEA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754-5540-4353-920D-F28C311D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713-B194-4AF4-B4B3-2F5BD803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691-348C-480D-9B86-6AC58516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AF2-7071-449A-AF55-7B6FAB81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679-ED6F-498B-8C63-89641EC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875-BCF5-4B37-8A49-07A74D2D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7E6-C503-42E6-967A-AE926B7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F37-59C0-4A03-BCCA-383A066E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259-A1E7-41B8-AEFC-C96D414F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117-869A-4CEB-B600-32EC311D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348-E057-45D5-8A85-1E7FAF2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Unit 13 L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B12-EE1E-4824-BAEF-E88B365ABE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madaaqle@yahoo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a1600"/>
                </a:solidFill>
                <a:latin typeface="Arial"/>
              </a:rPr>
              <a:t>Unit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1905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1600"/>
                </a:solidFill>
                <a:latin typeface="Arial"/>
              </a:rPr>
              <a:t>Tips and Rules</a:t>
            </a:r>
            <a:r>
              <a:rPr b="0" lang="en-US" sz="4400" spc="-1" strike="noStrike">
                <a:solidFill>
                  <a:srgbClr val="1a1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088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1600"/>
                </a:solidFill>
                <a:latin typeface="Arial"/>
              </a:rPr>
              <a:t>Less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4648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pil’s book page 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9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est wis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ملاحظات يرجى التواصل على البريد الاليكترو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madaaqle@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is file is not allowed unless you pay 5 riyals as charity on behalf of 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سوح بالانتفاع من العرض التالي ما لم تتصدق بـ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ات فقط نيابة ع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زاكم الله خي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خيكم : حمادة عق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380880" y="2057400"/>
            <a:ext cx="304920" cy="380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0880" y="4419720"/>
            <a:ext cx="304920" cy="380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80880" y="5867280"/>
            <a:ext cx="304920" cy="38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66600" y="0"/>
            <a:ext cx="9277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762120" y="2057400"/>
            <a:ext cx="571500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know what to study exa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62120" y="2743200"/>
            <a:ext cx="518148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n’t be scared of ex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3429000"/>
            <a:ext cx="396216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laxed before ex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62120" y="4114800"/>
            <a:ext cx="556236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the corrector in the ex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295280" y="838080"/>
            <a:ext cx="152424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95280" y="1600200"/>
            <a:ext cx="152424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is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038480" y="914400"/>
            <a:ext cx="152424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038480" y="1600200"/>
            <a:ext cx="152424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858000" y="914400"/>
            <a:ext cx="19810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efu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934320" y="1523880"/>
            <a:ext cx="1523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514600" y="4648320"/>
            <a:ext cx="1523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105520" y="4648320"/>
            <a:ext cx="1523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5181480"/>
            <a:ext cx="1523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352680" y="5181480"/>
            <a:ext cx="152424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7086600" y="5181480"/>
            <a:ext cx="1523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1828800" y="5638680"/>
            <a:ext cx="1523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5029200" y="5791320"/>
            <a:ext cx="1523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990720" y="6172200"/>
            <a:ext cx="1523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52280" y="1447920"/>
            <a:ext cx="30492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438280" y="1371600"/>
            <a:ext cx="182880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228600" y="2286000"/>
            <a:ext cx="30492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2514600" y="2209680"/>
            <a:ext cx="1828800" cy="60984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3040" y="3073320"/>
            <a:ext cx="304920" cy="60984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2489040" y="2997360"/>
            <a:ext cx="182880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52280" y="3911760"/>
            <a:ext cx="30492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438280" y="3835440"/>
            <a:ext cx="182880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152280" y="4800600"/>
            <a:ext cx="30492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2438280" y="4724280"/>
            <a:ext cx="1828800" cy="60984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127080" y="5587920"/>
            <a:ext cx="304560" cy="60984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413080" y="5511960"/>
            <a:ext cx="182880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BOOK PAGE 2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371600" y="1600200"/>
            <a:ext cx="609588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become a better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09480" y="2666880"/>
            <a:ext cx="7848720" cy="60984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come a better student , I must 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09480" y="3429000"/>
            <a:ext cx="784872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y teachers carefully. I also must do 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33520" y="4191120"/>
            <a:ext cx="807696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well. I should respect my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" y="5105520"/>
            <a:ext cx="807732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ust be pol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and outsid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5724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533520" y="3048120"/>
            <a:ext cx="320040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ily/happ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57200" y="4572000"/>
            <a:ext cx="289548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/carefu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57200" y="6019920"/>
            <a:ext cx="3276720" cy="60948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ly/beautifu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505320" y="1600200"/>
            <a:ext cx="541008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write carefu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05320" y="2209680"/>
            <a:ext cx="541008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n’t come ear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05320" y="2743200"/>
            <a:ext cx="541008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work 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29000" y="3276720"/>
            <a:ext cx="541008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read f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429000" y="3809880"/>
            <a:ext cx="541008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do your H.W. regula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429000" y="4267080"/>
            <a:ext cx="541008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n’t talk lou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352680" y="4800600"/>
            <a:ext cx="541044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better speak flu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429000" y="5334120"/>
            <a:ext cx="541008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write carefu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505320" y="5943600"/>
            <a:ext cx="5410080" cy="457200"/>
          </a:xfrm>
          <a:prstGeom prst="rect">
            <a:avLst/>
          </a:prstGeom>
          <a:solidFill>
            <a:srgbClr val="bbe0e3">
              <a:alpha val="98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better sleep ear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mar</cp:lastModifiedBy>
  <dcterms:modified xsi:type="dcterms:W3CDTF">2010-05-28T18:07:42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