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arrow.wav" ContentType="audio/x-wav"/>
  <Override PartName="/ppt/media/image3.png" ContentType="image/png"/>
  <Override PartName="/ppt/media/cashreg.wav" ContentType="audio/x-wav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86E-47D3-4261-A0D5-FB8448F4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8F1D-C76F-4ACB-A30C-9CCC128E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E2E9-0AC5-4AAB-8EAC-4BFD751A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74D-6B4E-435D-9942-01677B62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A60-1446-48DE-BDB9-D434DA49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D053-028B-4B97-A157-495129BA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1437-1BBD-4BBA-BBB3-E0496A10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9AD6-71C8-405C-87F8-4789EE78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EAC-B769-4B94-94D6-0509E254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374-4DA4-4D49-8203-0604AD52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7EC-0A0C-410A-873E-5CD9C19A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EDCE-AC77-41C2-861C-38441993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13 L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E967-9DFD-4B8D-8821-3D6487B04B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audio" Target="../media/arrow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Hamadaaqle@yahoo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a1600"/>
                </a:solidFill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33520" y="1905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a1600"/>
                </a:solidFill>
                <a:latin typeface="Arial"/>
              </a:rPr>
              <a:t>Countries</a:t>
            </a:r>
            <a:r>
              <a:rPr b="0" lang="en-US" sz="4400" spc="-1" strike="noStrike">
                <a:solidFill>
                  <a:srgbClr val="1a1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80880" y="3505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a16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57200" y="46483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upil’s book p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914400" y="990720"/>
            <a:ext cx="69343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n’t raise your vo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838080" y="1828800"/>
            <a:ext cx="69343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be pol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115920" y="1886040"/>
            <a:ext cx="14479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641600" y="1866960"/>
            <a:ext cx="14475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nk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209760" y="1881360"/>
            <a:ext cx="14479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743360" y="1905120"/>
            <a:ext cx="14479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m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6246720" y="1900080"/>
            <a:ext cx="1447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e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7758000" y="1905120"/>
            <a:ext cx="14479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990720" y="3505320"/>
            <a:ext cx="4952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n’t speak 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942840" y="4067280"/>
            <a:ext cx="52149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n’t drink 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990720" y="4662360"/>
            <a:ext cx="521496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’t park your car 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957240" y="5195880"/>
            <a:ext cx="52149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’t swim 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990720" y="5791320"/>
            <a:ext cx="52149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n’t litter 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990720" y="6324480"/>
            <a:ext cx="521496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’t eat 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0492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est wish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لملاحظات يرجى التواصل على البريد الاليكترو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madaaqle@yaho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is file is not allowed unless you pay 5 riyals as charity on behalf of 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ير مسوح بالانتفاع من العرض التالي ما لم تتصدق بـ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ات فقط نيابة ع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جزاكم الله خير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خيكم : حمادة عق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4800600" y="5052960"/>
            <a:ext cx="4114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chools,streets and pa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505320" y="5486400"/>
            <a:ext cx="37335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I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657600" y="5943600"/>
            <a:ext cx="3733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467240" y="6391440"/>
            <a:ext cx="3733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Line 3"/>
          <p:cNvSpPr/>
          <p:nvPr/>
        </p:nvSpPr>
        <p:spPr>
          <a:xfrm flipV="1">
            <a:off x="2176560" y="761760"/>
            <a:ext cx="914400" cy="14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 flipV="1">
            <a:off x="1143000" y="1447560"/>
            <a:ext cx="914400" cy="14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572000" y="6019920"/>
            <a:ext cx="1905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ن غشنا فليس م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181480" y="6477120"/>
            <a:ext cx="28958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ould advise h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33480" y="0"/>
            <a:ext cx="921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066680" y="457200"/>
            <a:ext cx="1295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066680" y="990720"/>
            <a:ext cx="1295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066680" y="144792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066680" y="1981080"/>
            <a:ext cx="1447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419720" y="190512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914400" y="2514600"/>
            <a:ext cx="1447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914400" y="3048120"/>
            <a:ext cx="1447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3276720" y="3505320"/>
            <a:ext cx="14475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7162920" y="3505320"/>
            <a:ext cx="14475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286000" y="2590920"/>
            <a:ext cx="5334120" cy="144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k book p 26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2347920" y="1371600"/>
            <a:ext cx="1676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295280" y="2209680"/>
            <a:ext cx="16765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295280" y="3124080"/>
            <a:ext cx="16765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295280" y="3962520"/>
            <a:ext cx="1676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371600" y="4800600"/>
            <a:ext cx="1676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1371600" y="5715000"/>
            <a:ext cx="1676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mar</dc:creator>
  <dc:description/>
  <dc:language>en-US</dc:language>
  <cp:lastModifiedBy>Umar</cp:lastModifiedBy>
  <dcterms:modified xsi:type="dcterms:W3CDTF">2010-05-28T18:23:30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