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355-DB77-400B-A7A8-52809160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E5F-0229-45CD-81EA-182CEFB8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B7D-C074-4440-9C5F-E4571E25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821-ABF1-4C3B-8E58-EF00AFCA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77A-AE48-473B-B630-36F25BEC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5CB-7DFD-4F8D-A0D6-ED831E99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F7E-C2E0-448B-B993-273F201C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B23-713B-42B9-816C-988AA1C0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DD0-022D-49F7-93B1-81C3A8A0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082-453B-49FF-A268-89735D7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379-856E-4369-B1DE-899ED101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38C-0FF5-43CA-A3F5-76EDFFBC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9E4D-5275-47B6-9FBC-DDD09BC10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99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62064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بسم الله الرحمن الرح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1700280"/>
            <a:ext cx="460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ملكة العربية السعود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وزارة التربية والتعل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إدارة العامة للتربية و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بمنطقة عس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360" y="4149720"/>
            <a:ext cx="24768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765000"/>
            <a:ext cx="3887640" cy="2160720"/>
          </a:xfrm>
          <a:prstGeom prst="irregularSeal1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ادة القواع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لصف الأول المتوس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924280"/>
            <a:ext cx="3745080" cy="201744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2017440"/>
              <a:gd name="textAreaBottom" fmla="*/ 2017800 h 2017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5370"/>
                </a:lnTo>
                <a:lnTo>
                  <a:pt x="11784" y="5370"/>
                </a:lnTo>
                <a:lnTo>
                  <a:pt x="11784" y="9816"/>
                </a:lnTo>
                <a:lnTo>
                  <a:pt x="16230" y="9816"/>
                </a:lnTo>
                <a:lnTo>
                  <a:pt x="16230" y="6500"/>
                </a:lnTo>
                <a:lnTo>
                  <a:pt x="21600" y="10800"/>
                </a:lnTo>
                <a:lnTo>
                  <a:pt x="16230" y="15100"/>
                </a:lnTo>
                <a:lnTo>
                  <a:pt x="16230" y="11784"/>
                </a:lnTo>
                <a:lnTo>
                  <a:pt x="5370" y="11784"/>
                </a:lnTo>
                <a:lnTo>
                  <a:pt x="5370" y="15100"/>
                </a:lnTo>
                <a:lnTo>
                  <a:pt x="0" y="10800"/>
                </a:lnTo>
                <a:lnTo>
                  <a:pt x="5370" y="6500"/>
                </a:lnTo>
                <a:lnTo>
                  <a:pt x="5370" y="9816"/>
                </a:lnTo>
                <a:lnTo>
                  <a:pt x="9816" y="9816"/>
                </a:lnTo>
                <a:lnTo>
                  <a:pt x="9816" y="5370"/>
                </a:lnTo>
                <a:lnTo>
                  <a:pt x="6500" y="537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3500280"/>
            <a:ext cx="2303280" cy="1584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علامات الإعر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فر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645000"/>
            <a:ext cx="2303640" cy="1584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إعراب جم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ؤنث السا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07664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ثالث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59640" y="1052640"/>
            <a:ext cx="129204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1295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omputr1"/>
          <p:cNvSpPr/>
          <p:nvPr/>
        </p:nvSpPr>
        <p:spPr>
          <a:xfrm>
            <a:off x="2268360" y="1484280"/>
            <a:ext cx="5148360" cy="1152720"/>
          </a:xfrm>
          <a:prstGeom prst="pi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تعريف جمع المؤنث السا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205000"/>
            <a:ext cx="1584360" cy="295272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511920 h 2952720"/>
              <a:gd name="textAreaBottom" fmla="*/ 2145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91" stAng="-5400000" swAng="-5400000"/>
                <a:lnTo>
                  <a:pt x="0" y="11950"/>
                </a:lnTo>
                <a:arcTo wR="21600" hR="7491" stAng="10800000" swAng="-3332646"/>
                <a:lnTo>
                  <a:pt x="16600" y="21397"/>
                </a:lnTo>
                <a:lnTo>
                  <a:pt x="21600" y="17211"/>
                </a:lnTo>
                <a:lnTo>
                  <a:pt x="16600" y="12618"/>
                </a:lnTo>
                <a:lnTo>
                  <a:pt x="16600" y="14778"/>
                </a:lnTo>
                <a:arcTo wR="21600" hR="7491" stAng="7467354" swAng="2962402"/>
                <a:lnTo>
                  <a:pt x="979" y="9720"/>
                </a:lnTo>
                <a:arcTo wR="21600" hR="7491" stAng="-10429757" swAng="5029757"/>
                <a:close/>
              </a:path>
              <a:path fill="darkenLess" w="21600" h="21600">
                <a:moveTo>
                  <a:pt x="21600" y="0"/>
                </a:moveTo>
                <a:arcTo wR="21600" hR="7491" stAng="-5400000" swAng="-5400000"/>
                <a:lnTo>
                  <a:pt x="0" y="7491"/>
                </a:lnTo>
                <a:arcTo wR="21600" hR="7491" stAng="10800000" swAng="-370243"/>
                <a:lnTo>
                  <a:pt x="979" y="9720"/>
                </a:lnTo>
                <a:arcTo wR="21600" hR="7491" stAng="-10429757" swAng="5029757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221000"/>
            <a:ext cx="6191280" cy="792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ما دل على أكثر من اثنتين بزيادة ألف وتاء في آخ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3236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94036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04000" y="5445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843280" y="580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805360"/>
            <a:ext cx="1295280" cy="64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زه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587700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جمع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aptop"/>
          <p:cNvSpPr/>
          <p:nvPr/>
        </p:nvSpPr>
        <p:spPr>
          <a:xfrm>
            <a:off x="2771640" y="1413000"/>
            <a:ext cx="3826080" cy="936360"/>
          </a:xfrm>
          <a:prstGeom prst="pie">
            <a:avLst/>
          </a:prstGeom>
          <a:gradFill rotWithShape="0">
            <a:gsLst>
              <a:gs pos="0">
                <a:srgbClr val="339933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جمع الكلمات الآتي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2637000"/>
            <a:ext cx="1440000" cy="7189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معل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637000"/>
            <a:ext cx="1439640" cy="7189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شج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2637000"/>
            <a:ext cx="1440000" cy="7189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سي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3500280"/>
            <a:ext cx="0" cy="115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3500280"/>
            <a:ext cx="0" cy="115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3500280"/>
            <a:ext cx="0" cy="115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4724280"/>
            <a:ext cx="1366560" cy="12240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عل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4724280"/>
            <a:ext cx="1366920" cy="12240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يا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0360" y="4724280"/>
            <a:ext cx="1366560" cy="122400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شج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27280" y="0"/>
            <a:ext cx="4175280" cy="2158920"/>
          </a:xfrm>
          <a:custGeom>
            <a:avLst/>
            <a:gdLst>
              <a:gd name="textAreaLeft" fmla="*/ 1289880 w 4175280"/>
              <a:gd name="textAreaRight" fmla="*/ 2885400 w 4175280"/>
              <a:gd name="textAreaTop" fmla="*/ 667080 h 2158920"/>
              <a:gd name="textAreaBottom" fmla="*/ 1491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987" y="11309"/>
                </a:lnTo>
                <a:lnTo>
                  <a:pt x="198" y="12861"/>
                </a:lnTo>
                <a:lnTo>
                  <a:pt x="5191" y="12408"/>
                </a:lnTo>
                <a:lnTo>
                  <a:pt x="786" y="14846"/>
                </a:lnTo>
                <a:lnTo>
                  <a:pt x="5648" y="13539"/>
                </a:lnTo>
                <a:lnTo>
                  <a:pt x="1742" y="16682"/>
                </a:lnTo>
                <a:lnTo>
                  <a:pt x="6265" y="14472"/>
                </a:lnTo>
                <a:lnTo>
                  <a:pt x="3163" y="18437"/>
                </a:lnTo>
                <a:lnTo>
                  <a:pt x="7049" y="15270"/>
                </a:lnTo>
                <a:lnTo>
                  <a:pt x="4761" y="19754"/>
                </a:lnTo>
                <a:lnTo>
                  <a:pt x="7971" y="15903"/>
                </a:lnTo>
                <a:lnTo>
                  <a:pt x="6580" y="20741"/>
                </a:lnTo>
                <a:lnTo>
                  <a:pt x="9094" y="16380"/>
                </a:lnTo>
                <a:lnTo>
                  <a:pt x="8555" y="21364"/>
                </a:lnTo>
                <a:lnTo>
                  <a:pt x="10190" y="16603"/>
                </a:lnTo>
                <a:lnTo>
                  <a:pt x="10800" y="21600"/>
                </a:lnTo>
                <a:lnTo>
                  <a:pt x="11309" y="16613"/>
                </a:lnTo>
                <a:lnTo>
                  <a:pt x="12861" y="21402"/>
                </a:lnTo>
                <a:lnTo>
                  <a:pt x="12408" y="16409"/>
                </a:lnTo>
                <a:lnTo>
                  <a:pt x="14846" y="20814"/>
                </a:lnTo>
                <a:lnTo>
                  <a:pt x="13539" y="15952"/>
                </a:lnTo>
                <a:lnTo>
                  <a:pt x="16682" y="19858"/>
                </a:lnTo>
                <a:lnTo>
                  <a:pt x="14472" y="15335"/>
                </a:lnTo>
                <a:lnTo>
                  <a:pt x="18437" y="18437"/>
                </a:lnTo>
                <a:lnTo>
                  <a:pt x="15270" y="14551"/>
                </a:lnTo>
                <a:lnTo>
                  <a:pt x="19754" y="16839"/>
                </a:lnTo>
                <a:lnTo>
                  <a:pt x="15903" y="13629"/>
                </a:lnTo>
                <a:lnTo>
                  <a:pt x="20741" y="15020"/>
                </a:lnTo>
                <a:lnTo>
                  <a:pt x="16380" y="12506"/>
                </a:lnTo>
                <a:lnTo>
                  <a:pt x="21364" y="13045"/>
                </a:lnTo>
                <a:lnTo>
                  <a:pt x="16603" y="11410"/>
                </a:lnTo>
                <a:lnTo>
                  <a:pt x="21600" y="10800"/>
                </a:lnTo>
                <a:lnTo>
                  <a:pt x="16613" y="10291"/>
                </a:lnTo>
                <a:lnTo>
                  <a:pt x="21402" y="8739"/>
                </a:lnTo>
                <a:lnTo>
                  <a:pt x="16409" y="9192"/>
                </a:lnTo>
                <a:lnTo>
                  <a:pt x="20814" y="6754"/>
                </a:lnTo>
                <a:lnTo>
                  <a:pt x="15952" y="8061"/>
                </a:lnTo>
                <a:lnTo>
                  <a:pt x="19858" y="4918"/>
                </a:lnTo>
                <a:lnTo>
                  <a:pt x="15335" y="7128"/>
                </a:lnTo>
                <a:lnTo>
                  <a:pt x="18437" y="3163"/>
                </a:lnTo>
                <a:lnTo>
                  <a:pt x="14551" y="6330"/>
                </a:lnTo>
                <a:lnTo>
                  <a:pt x="16839" y="1846"/>
                </a:lnTo>
                <a:lnTo>
                  <a:pt x="13629" y="5697"/>
                </a:lnTo>
                <a:lnTo>
                  <a:pt x="15020" y="859"/>
                </a:lnTo>
                <a:lnTo>
                  <a:pt x="12506" y="5220"/>
                </a:lnTo>
                <a:lnTo>
                  <a:pt x="13045" y="236"/>
                </a:lnTo>
                <a:lnTo>
                  <a:pt x="11410" y="4997"/>
                </a:lnTo>
                <a:lnTo>
                  <a:pt x="10800" y="0"/>
                </a:lnTo>
                <a:lnTo>
                  <a:pt x="10291" y="4987"/>
                </a:lnTo>
                <a:lnTo>
                  <a:pt x="8739" y="198"/>
                </a:lnTo>
                <a:lnTo>
                  <a:pt x="9192" y="5191"/>
                </a:lnTo>
                <a:lnTo>
                  <a:pt x="6754" y="786"/>
                </a:lnTo>
                <a:lnTo>
                  <a:pt x="8061" y="5648"/>
                </a:lnTo>
                <a:lnTo>
                  <a:pt x="4918" y="1742"/>
                </a:lnTo>
                <a:lnTo>
                  <a:pt x="7128" y="6265"/>
                </a:lnTo>
                <a:lnTo>
                  <a:pt x="3163" y="3163"/>
                </a:lnTo>
                <a:lnTo>
                  <a:pt x="6330" y="7049"/>
                </a:lnTo>
                <a:lnTo>
                  <a:pt x="1846" y="4761"/>
                </a:lnTo>
                <a:lnTo>
                  <a:pt x="5697" y="7971"/>
                </a:lnTo>
                <a:lnTo>
                  <a:pt x="859" y="6580"/>
                </a:lnTo>
                <a:lnTo>
                  <a:pt x="5220" y="9094"/>
                </a:lnTo>
                <a:lnTo>
                  <a:pt x="236" y="8555"/>
                </a:lnTo>
                <a:lnTo>
                  <a:pt x="4997" y="1019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إعراب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01080" y="2349360"/>
            <a:ext cx="718920" cy="719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و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01080" y="5805360"/>
            <a:ext cx="718920" cy="719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ثالث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36000" y="4076640"/>
            <a:ext cx="718920" cy="719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ثان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2349360"/>
            <a:ext cx="936720" cy="792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رف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5734080"/>
            <a:ext cx="936360" cy="79200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ج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4076640"/>
            <a:ext cx="1008360" cy="792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نص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2276640"/>
            <a:ext cx="5472000" cy="10080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المسلمات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يؤدين الصل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cc33"/>
                </a:solidFill>
                <a:latin typeface="Arial"/>
              </a:rPr>
              <a:t>المسلمات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مبتدأ مرفوع وعلامة رفعه الضمة الظاه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005360"/>
            <a:ext cx="6156360" cy="10080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رأيت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المهندساتِ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المكت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Arial"/>
              </a:rPr>
              <a:t>المهندس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/ مفعول به منصوب وعلامة نصبه الكسرة الظاه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5589720"/>
            <a:ext cx="5472000" cy="10080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لمت على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الأمهات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cc33"/>
                </a:solidFill>
                <a:latin typeface="Arial"/>
              </a:rPr>
              <a:t>الأمه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اسم مجرور وعلامة جره الكسرة الظاه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ibbon2Sharp"/>
          <p:cNvSpPr/>
          <p:nvPr/>
        </p:nvSpPr>
        <p:spPr>
          <a:xfrm>
            <a:off x="5219640" y="0"/>
            <a:ext cx="3519720" cy="2016000"/>
          </a:xfrm>
          <a:custGeom>
            <a:avLst/>
            <a:gdLst>
              <a:gd name="textAreaLeft" fmla="*/ 439920 w 3519720"/>
              <a:gd name="textAreaRight" fmla="*/ 3079800 w 3519720"/>
              <a:gd name="textAreaTop" fmla="*/ 504000 h 2016000"/>
              <a:gd name="textAreaBottom" fmla="*/ 15120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5400"/>
                </a:lnTo>
                <a:lnTo>
                  <a:pt x="0" y="10800"/>
                </a:lnTo>
                <a:lnTo>
                  <a:pt x="2700" y="10800"/>
                </a:lnTo>
                <a:lnTo>
                  <a:pt x="2700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21600"/>
                </a:lnTo>
                <a:lnTo>
                  <a:pt x="18900" y="16200"/>
                </a:lnTo>
                <a:lnTo>
                  <a:pt x="21600" y="10800"/>
                </a:lnTo>
                <a:lnTo>
                  <a:pt x="18900" y="10800"/>
                </a:lnTo>
                <a:lnTo>
                  <a:pt x="18900" y="5400"/>
                </a:lnTo>
                <a:lnTo>
                  <a:pt x="5400" y="5400"/>
                </a:lnTo>
                <a:lnTo>
                  <a:pt x="5400" y="0"/>
                </a:lnTo>
                <a:close/>
              </a:path>
              <a:path fill="none" w="21600" h="21600">
                <a:moveTo>
                  <a:pt x="5400" y="5400"/>
                </a:moveTo>
                <a:lnTo>
                  <a:pt x="2700" y="5400"/>
                </a:lnTo>
                <a:lnTo>
                  <a:pt x="2700" y="10800"/>
                </a:lnTo>
              </a:path>
              <a:path fill="none" w="21600" h="21600">
                <a:moveTo>
                  <a:pt x="5400" y="0"/>
                </a:moveTo>
                <a:lnTo>
                  <a:pt x="2700" y="5400"/>
                </a:lnTo>
              </a:path>
              <a:path fill="none" w="21600" h="21600">
                <a:moveTo>
                  <a:pt x="16200" y="16200"/>
                </a:moveTo>
                <a:lnTo>
                  <a:pt x="18900" y="16200"/>
                </a:lnTo>
                <a:lnTo>
                  <a:pt x="18900" y="10800"/>
                </a:lnTo>
              </a:path>
              <a:path fill="none" w="21600" h="21600">
                <a:moveTo>
                  <a:pt x="16200" y="21600"/>
                </a:moveTo>
                <a:lnTo>
                  <a:pt x="18900" y="162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كلمات التي تلحق بجمع المؤنث السال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0720" y="334800"/>
            <a:ext cx="1657440" cy="1295640"/>
          </a:xfrm>
          <a:prstGeom prst="flowChartDecision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ول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2638440"/>
            <a:ext cx="1657440" cy="1295280"/>
          </a:xfrm>
          <a:prstGeom prst="flowChartDecision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برك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1271520"/>
            <a:ext cx="1657440" cy="1295640"/>
          </a:xfrm>
          <a:prstGeom prst="flowChartDecision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رف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7080" y="334800"/>
            <a:ext cx="1657440" cy="1295640"/>
          </a:xfrm>
          <a:prstGeom prst="flowChartDecision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فرح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3573360"/>
            <a:ext cx="1296720" cy="93672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3573360"/>
            <a:ext cx="3888000" cy="10796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أولاتُ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قل محتر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رأيت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عرفات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4724280"/>
            <a:ext cx="0" cy="649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4724280"/>
            <a:ext cx="0" cy="649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5373720"/>
            <a:ext cx="3095640" cy="1484280"/>
          </a:xfrm>
          <a:prstGeom prst="ellipse">
            <a:avLst/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بتدأ مرفوع وعلا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ضمة الظاهرة لأ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لحق بجمع المؤن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5373720"/>
            <a:ext cx="3238560" cy="1484280"/>
          </a:xfrm>
          <a:prstGeom prst="ellipse">
            <a:avLst/>
          </a:prstGeom>
          <a:solidFill>
            <a:srgbClr val="99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فعول به منصوب وعلا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صبه الكسرة الظاهرة لأ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لحق بجمع المؤن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24360" y="1628640"/>
            <a:ext cx="1297080" cy="1079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تطب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716280"/>
            <a:ext cx="7632720" cy="1441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جمع الكلمة الآتية جمعا مؤنثا سالما ( الكاتب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بحيث تكون مرة مرفوعة وأخرى مجرورة وثالثة منص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95640" y="3068640"/>
            <a:ext cx="4248000" cy="1224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ع تحيات معلم اللغة العربية بالمدرس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أستاذ / عبدالله القحط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20764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3:57:39Z</dcterms:created>
  <dc:creator>computernet</dc:creator>
  <dc:description/>
  <dc:language>en-US</dc:language>
  <cp:lastModifiedBy>computernet</cp:lastModifiedBy>
  <dcterms:modified xsi:type="dcterms:W3CDTF">2005-10-15T20:33:03Z</dcterms:modified>
  <cp:revision>8</cp:revision>
  <dc:subject/>
  <dc:title>الشريحة 1</dc:title>
</cp:coreProperties>
</file>