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breeze.wav" ContentType="audio/x-wav"/>
  <Override PartName="/ppt/media/camera.wav" ContentType="audio/x-wav"/>
  <Override PartName="/ppt/media/laser.wav" ContentType="audio/x-wav"/>
  <Override PartName="/ppt/media/click.wav" ContentType="audio/x-wav"/>
  <Override PartName="/ppt/media/hammer.wav" ContentType="audio/x-wav"/>
  <Override PartName="/ppt/media/pu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B8E-3F10-49FB-A31B-36F066B9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D54-F7BB-4C98-A36E-3144E033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7A6-8C63-45DF-AF97-B831F53F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329-A8FD-4878-9A5A-E816A380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397B8-3780-49F1-B227-F0B95DBB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93A00-2EF0-499B-99B2-7BE149D8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D2657-8DAF-4BE3-B0FC-FF8ACEF9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425FE-141A-4BFD-9793-A45B3C55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A23A4-D27C-494C-8727-63EF483A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76FB6-6754-4F42-8571-CEF07BA3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92FFA-C30B-46B6-8030-B147C709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F81-CB8C-4486-9610-1A13B7E0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56B09-A4E2-4FD6-842E-C45B0CFF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55016-F92A-416E-AC8A-D2E61BA0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7C693-30B8-467F-8D7A-593C173F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F37D0-228E-4F0C-8863-CCA3B95A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56922-1D3F-48E8-BA45-80B5A84A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7EA-4BC0-46CE-8DA8-574A7084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156-EB62-43B1-8875-B08A6885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A6B-4C10-4833-A6AD-0EAE2D1C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FBE-10A5-481B-B656-0E54D3B2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ABB-DE05-44E6-AA74-DBC270E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39A-2AD9-43B6-A89A-FC27230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1B1-3478-4DF9-BC8F-D29F4588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2AC-F0CB-4F2C-A5CA-4AFA0A6DA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8204-5515-4B32-AAEC-AEB6194A0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breeze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audio" Target="../media/breez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whoosh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360"/>
            <a:ext cx="8532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Monotype Koufi"/>
              </a:rPr>
              <a:t>بسم الله الرحمن الرحيم</a:t>
            </a: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6192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cs typeface="Hesham Free"/>
              </a:rPr>
              <a:t>مادة القواعد</a:t>
            </a: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Hesham Free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cs typeface="Hesham Free"/>
              </a:rPr>
              <a:t>الصف الأول موس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cs typeface="Hesham Free"/>
              </a:rPr>
              <a:t>الفصل الدراسي الأو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ahoma"/>
                <a:cs typeface="Hesham Free"/>
              </a:rPr>
              <a:t>علامات الإعراب المقدرة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ahoma"/>
                <a:cs typeface="Hesham Free"/>
              </a:rPr>
              <a:t>الاسم المنقو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5229360"/>
            <a:ext cx="2089080" cy="1628640"/>
          </a:xfrm>
          <a:prstGeom prst="downArrowCallout">
            <a:avLst>
              <a:gd name="adj1" fmla="val 32071"/>
              <a:gd name="adj2" fmla="val 32068"/>
              <a:gd name="adj3" fmla="val 16667"/>
              <a:gd name="adj4" fmla="val 6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ahoma"/>
                <a:cs typeface="Monotype Koufi"/>
              </a:rPr>
              <a:t>دخو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24764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8920" y="1628640"/>
            <a:ext cx="4033800" cy="3168720"/>
          </a:xfrm>
          <a:prstGeom prst="rect">
            <a:avLst/>
          </a:prstGeom>
          <a:noFill/>
          <a:ln w="101520">
            <a:solidFill>
              <a:srgbClr val="0101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عمل الطالب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:</a:t>
            </a:r>
            <a:br>
              <a:rPr sz="4400"/>
            </a:b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طارق عبدالله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557360"/>
            <a:ext cx="4103640" cy="3240000"/>
          </a:xfrm>
          <a:prstGeom prst="rect">
            <a:avLst/>
          </a:prstGeom>
          <a:noFill/>
          <a:ln w="10152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إشراف المعلم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:</a:t>
            </a:r>
            <a:br>
              <a:rPr sz="4400"/>
            </a:b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عبدالله محمد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5472000"/>
            <a:ext cx="5040360" cy="836640"/>
          </a:xfrm>
          <a:prstGeom prst="roundRect">
            <a:avLst>
              <a:gd name="adj" fmla="val 16667"/>
            </a:avLst>
          </a:prstGeom>
          <a:noFill/>
          <a:ln w="1047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ahoma"/>
                <a:cs typeface="Hesham Free"/>
              </a:rPr>
              <a:t>للخروج إضغط 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  <a:ea typeface="Hesham Free"/>
              </a:rPr>
              <a:t>(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  <a:ea typeface="Hesham Free"/>
              </a:rPr>
              <a:t>Esc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  <a:ea typeface="Hesham Free"/>
              </a:rPr>
              <a:t> )</a:t>
            </a:r>
            <a:r>
              <a:rPr b="1" lang="ar-SA" sz="4400" spc="-1" strike="noStrike">
                <a:solidFill>
                  <a:srgbClr val="ff0000"/>
                </a:solidFill>
                <a:latin typeface="Tahoma"/>
                <a:ea typeface="Hesham Free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765000"/>
            <a:ext cx="6408720" cy="1513080"/>
          </a:xfrm>
          <a:prstGeom prst="flowChartPunchedTap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ahoma"/>
                <a:cs typeface="Hesham Free"/>
              </a:rPr>
              <a:t>علامات الإعراب المقدر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5219640" y="2565360"/>
            <a:ext cx="3024360" cy="136836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Monotype Koufi"/>
              </a:rPr>
              <a:t>تعريف الاسم المنقو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5003640" y="4076640"/>
            <a:ext cx="3024360" cy="136836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Monotype Koufi"/>
              </a:rPr>
              <a:t>حذف ياء الاسم المنقو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684360" y="2565360"/>
            <a:ext cx="3024000" cy="136836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Monotype Koufi"/>
              </a:rPr>
              <a:t>إعراب الاسم المنقو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395280" y="4221000"/>
            <a:ext cx="3024360" cy="136872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التدري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5805360"/>
            <a:ext cx="5040360" cy="836640"/>
          </a:xfrm>
          <a:prstGeom prst="roundRect">
            <a:avLst>
              <a:gd name="adj" fmla="val 16667"/>
            </a:avLst>
          </a:prstGeom>
          <a:noFill/>
          <a:ln w="1047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Tahoma"/>
                <a:cs typeface="Hesham Free"/>
              </a:rPr>
              <a:t>خرو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0000"/>
                </a:solidFill>
                <a:latin typeface="Tahoma"/>
              </a:rPr>
              <a:t>أولا:ً</a:t>
            </a:r>
            <a:r>
              <a:rPr b="0" lang="hi-IN" sz="6000" spc="-1" strike="noStrike">
                <a:solidFill>
                  <a:srgbClr val="ffff00"/>
                </a:solidFill>
                <a:latin typeface="Tahoma"/>
              </a:rPr>
              <a:t>الاسم</a:t>
            </a: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hi-IN" sz="6000" spc="-1" strike="noStrike">
                <a:solidFill>
                  <a:srgbClr val="ffff00"/>
                </a:solidFill>
                <a:latin typeface="Tahoma"/>
              </a:rPr>
              <a:t>المنقو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48040"/>
            <a:ext cx="8229600" cy="361296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Tahoma"/>
              </a:rPr>
              <a:t>تعريف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هو الاسم المعرب الذي آخره ياء لازمة غير مشددة قبلها كسرة .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1979640" y="5950080"/>
            <a:ext cx="5040360" cy="836640"/>
          </a:xfrm>
          <a:prstGeom prst="roundRect">
            <a:avLst>
              <a:gd name="adj" fmla="val 16667"/>
            </a:avLst>
          </a:prstGeom>
          <a:noFill/>
          <a:ln w="1047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c600"/>
                </a:solidFill>
                <a:latin typeface="Tahoma"/>
                <a:cs typeface="Hesham Free"/>
              </a:rPr>
              <a:t>الصفحة الرئيسي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114480">
            <a:solidFill>
              <a:srgbClr val="0101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ثانياً: إعراب الاسم المنقو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26920" y="2133720"/>
            <a:ext cx="3313440" cy="1657080"/>
          </a:xfrm>
          <a:custGeom>
            <a:avLst/>
            <a:gdLst>
              <a:gd name="textAreaLeft" fmla="*/ 195120 w 3313440"/>
              <a:gd name="textAreaRight" fmla="*/ 3118320 w 3313440"/>
              <a:gd name="textAreaTop" fmla="*/ 195120 h 1657080"/>
              <a:gd name="textAreaBottom" fmla="*/ 1461960 h 1657080"/>
            </a:gdLst>
            <a:ahLst/>
            <a:rect l="textAreaLeft" t="textAreaTop" r="textAreaRight" b="textAreaBottom"/>
            <a:pathLst>
              <a:path w="43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586" y="21600"/>
                </a:lnTo>
                <a:arcTo wR="3600" hR="3600" stAng="10800000" swAng="5400000"/>
                <a:lnTo>
                  <a:pt x="43186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Hesham Free"/>
              </a:rPr>
              <a:t>نصب الاسم المنقو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5219640" y="2133720"/>
            <a:ext cx="3313080" cy="1657080"/>
          </a:xfrm>
          <a:custGeom>
            <a:avLst/>
            <a:gdLst>
              <a:gd name="textAreaLeft" fmla="*/ 195120 w 3313080"/>
              <a:gd name="textAreaRight" fmla="*/ 3117960 w 3313080"/>
              <a:gd name="textAreaTop" fmla="*/ 195120 h 1657080"/>
              <a:gd name="textAreaBottom" fmla="*/ 1461960 h 1657080"/>
            </a:gdLst>
            <a:ahLst/>
            <a:rect l="textAreaLeft" t="textAreaTop" r="textAreaRight" b="textAreaBottom"/>
            <a:pathLst>
              <a:path w="431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581" y="21600"/>
                </a:lnTo>
                <a:arcTo wR="3600" hR="3600" stAng="10800000" swAng="5400000"/>
                <a:lnTo>
                  <a:pt x="43181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Hesham Free"/>
              </a:rPr>
              <a:t>رفع الاسم المنقو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2411280" y="4076640"/>
            <a:ext cx="4321440" cy="1657440"/>
          </a:xfrm>
          <a:custGeom>
            <a:avLst/>
            <a:gdLst>
              <a:gd name="textAreaLeft" fmla="*/ 195120 w 4321440"/>
              <a:gd name="textAreaRight" fmla="*/ 4126320 w 4321440"/>
              <a:gd name="textAreaTop" fmla="*/ 195120 h 1657440"/>
              <a:gd name="textAreaBottom" fmla="*/ 1462320 h 1657440"/>
            </a:gdLst>
            <a:ahLst/>
            <a:rect l="textAreaLeft" t="textAreaTop" r="textAreaRight" b="textAreaBottom"/>
            <a:pathLst>
              <a:path w="5631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2710" y="21600"/>
                </a:lnTo>
                <a:arcTo wR="3600" hR="3600" stAng="10800000" swAng="5400000"/>
                <a:lnTo>
                  <a:pt x="56310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Tahoma"/>
                <a:cs typeface="Hesham Free"/>
              </a:rPr>
              <a:t>جر الاسم المنقو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1979640" y="5950080"/>
            <a:ext cx="5040360" cy="836640"/>
          </a:xfrm>
          <a:prstGeom prst="roundRect">
            <a:avLst>
              <a:gd name="adj" fmla="val 16667"/>
            </a:avLst>
          </a:prstGeom>
          <a:noFill/>
          <a:ln w="1047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ff"/>
                </a:solidFill>
                <a:latin typeface="Tahoma"/>
                <a:cs typeface="Hesham Free"/>
              </a:rPr>
              <a:t>الصفحة الرئيسي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8892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رفع الاسم المنقو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9120" y="1782360"/>
            <a:ext cx="8229600" cy="3807000"/>
          </a:xfrm>
          <a:prstGeom prst="rect">
            <a:avLst/>
          </a:prstGeom>
          <a:noFill/>
          <a:ln w="8892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ahoma"/>
              </a:rPr>
              <a:t>القاضي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في المحكم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ahoma"/>
              </a:rPr>
              <a:t>القاضي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/ مبتدأ مرفوع وعلامة رفعه الضمة المقدرة منع ظهورها الثق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6021360"/>
            <a:ext cx="5040360" cy="836640"/>
          </a:xfrm>
          <a:prstGeom prst="roundRect">
            <a:avLst>
              <a:gd name="adj" fmla="val 16667"/>
            </a:avLst>
          </a:prstGeom>
          <a:noFill/>
          <a:ln w="1047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ahoma"/>
                <a:cs typeface="Hesham Free"/>
              </a:rPr>
              <a:t>الصفحة الرئيسي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6040" y="485280"/>
            <a:ext cx="8229600" cy="1143000"/>
          </a:xfrm>
          <a:prstGeom prst="rect">
            <a:avLst/>
          </a:prstGeom>
          <a:noFill/>
          <a:ln w="101520">
            <a:solidFill>
              <a:srgbClr val="0101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نصب الاسم المنقوص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8229600" cy="3755880"/>
          </a:xfrm>
          <a:prstGeom prst="rect">
            <a:avLst/>
          </a:prstGeom>
          <a:noFill/>
          <a:ln w="101520">
            <a:solidFill>
              <a:srgbClr val="0101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رأيت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الراعي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في المزرع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الراعي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/مفعول به منصوب وعلامة نصبه الفتحة الظاهرة على آخر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950080"/>
            <a:ext cx="5040360" cy="836640"/>
          </a:xfrm>
          <a:prstGeom prst="roundRect">
            <a:avLst>
              <a:gd name="adj" fmla="val 16667"/>
            </a:avLst>
          </a:prstGeom>
          <a:noFill/>
          <a:ln w="1047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ahoma"/>
                <a:cs typeface="Hesham Free"/>
              </a:rPr>
              <a:t>الصفحة الرئيسي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11448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جر الاسم المنقو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6440" y="1855800"/>
            <a:ext cx="8229600" cy="3589200"/>
          </a:xfrm>
          <a:prstGeom prst="rect">
            <a:avLst/>
          </a:prstGeom>
          <a:noFill/>
          <a:ln w="11448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مررت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بالرا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ahoma"/>
              </a:rPr>
              <a:t>الرامي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/اسم مجرور وعلامة جره الكسرة المقدرة منع من ظهورها الثقل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734080"/>
            <a:ext cx="5040360" cy="836640"/>
          </a:xfrm>
          <a:prstGeom prst="roundRect">
            <a:avLst>
              <a:gd name="adj" fmla="val 16667"/>
            </a:avLst>
          </a:prstGeom>
          <a:noFill/>
          <a:ln w="1047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ahoma"/>
                <a:cs typeface="Hesham Free"/>
              </a:rPr>
              <a:t>الصفحة الرئيسي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0101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ثالثاً:حذف ياء الإسم المنقو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684600"/>
          </a:xfrm>
          <a:prstGeom prst="rect">
            <a:avLst/>
          </a:prstGeom>
          <a:noFill/>
          <a:ln w="57240">
            <a:solidFill>
              <a:srgbClr val="010199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تحذف ياء الاسم المنقوص في حالتي الرفع والجر إذا كان نكرة ونقدر حركة الجر والرفع على الياء المحذوفة أما في حالة النصب فتبقى الياء دون حذف وتظهر عليها علامة الإعرا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مثل /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خرج قاضٍ من المحكم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مررت بقاض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أصبح الله عنه راضيا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2484360" y="5734080"/>
            <a:ext cx="5040360" cy="836640"/>
          </a:xfrm>
          <a:prstGeom prst="roundRect">
            <a:avLst>
              <a:gd name="adj" fmla="val 16667"/>
            </a:avLst>
          </a:prstGeom>
          <a:noFill/>
          <a:ln w="1047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ahoma"/>
                <a:cs typeface="Hesham Free"/>
              </a:rPr>
              <a:t>الصفحة الرئيسي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190440">
            <a:solidFill>
              <a:srgbClr val="0101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ahoma"/>
              </a:rPr>
              <a:t>التدريب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097080"/>
          </a:xfrm>
          <a:prstGeom prst="rect">
            <a:avLst/>
          </a:prstGeom>
          <a:noFill/>
          <a:ln w="190440">
            <a:solidFill>
              <a:srgbClr val="010199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- ضع الكلمة الآتية في ثلاث جمل (الساعي) بحيث تكون مرة مرفوعة وأخرى منصوبة  وثالثة مجرورة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6021360"/>
            <a:ext cx="5040360" cy="836640"/>
          </a:xfrm>
          <a:prstGeom prst="roundRect">
            <a:avLst>
              <a:gd name="adj" fmla="val 16667"/>
            </a:avLst>
          </a:prstGeom>
          <a:noFill/>
          <a:ln w="1047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Tahoma"/>
                <a:cs typeface="Hesham Free"/>
              </a:rPr>
              <a:t>خرو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4:03:20Z</dcterms:created>
  <dc:creator>computernet</dc:creator>
  <dc:description/>
  <dc:language>en-US</dc:language>
  <cp:lastModifiedBy>computernet</cp:lastModifiedBy>
  <dcterms:modified xsi:type="dcterms:W3CDTF">2005-10-22T18:19:24Z</dcterms:modified>
  <cp:revision>2</cp:revision>
  <dc:subject/>
  <dc:title>بسم الله الرحمن الرحيم </dc:title>
</cp:coreProperties>
</file>