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53.wmf" ContentType="image/x-wmf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56.wmf" ContentType="image/x-wmf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20B-9210-47E2-8733-6E918547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7A1-5CBA-4A07-947A-F8CE97E9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F1E-F46C-4454-B520-F07B5FF8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5B3-C287-4642-9E01-7FAA8387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87B-D4B3-4FC2-9B40-507278DB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C29-97EA-447E-A12D-B65B5C40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4CC-F4F2-4649-8234-47BBC6B9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462-8DAE-4E4A-8DA6-A63F5E79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FFB-2333-41E1-B991-7695DFCB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B9B0-770E-45E0-9430-3E3C4CB1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1D8-2451-4567-976C-E80256F1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0F5-0EAA-456A-ACCE-760101CA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60DB-0081-477D-B544-7A44C76DDB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0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image" Target="../media/image55.png"/><Relationship Id="rId6" Type="http://schemas.openxmlformats.org/officeDocument/2006/relationships/image" Target="../media/image56.wmf"/><Relationship Id="rId7" Type="http://schemas.openxmlformats.org/officeDocument/2006/relationships/image" Target="../media/image55.png"/><Relationship Id="rId8" Type="http://schemas.openxmlformats.org/officeDocument/2006/relationships/image" Target="../media/image56.wmf"/><Relationship Id="rId9" Type="http://schemas.openxmlformats.org/officeDocument/2006/relationships/image" Target="../media/image55.png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7.png"/><Relationship Id="rId3" Type="http://schemas.openxmlformats.org/officeDocument/2006/relationships/image" Target="../media/image90.png"/><Relationship Id="rId4" Type="http://schemas.openxmlformats.org/officeDocument/2006/relationships/image" Target="../media/image55.png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1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7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5.png"/><Relationship Id="rId18" Type="http://schemas.openxmlformats.org/officeDocument/2006/relationships/image" Target="../media/image46.png"/><Relationship Id="rId19" Type="http://schemas.openxmlformats.org/officeDocument/2006/relationships/image" Target="../media/image47.png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image" Target="../media/image52.png"/><Relationship Id="rId2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72.png"/><Relationship Id="rId10" Type="http://schemas.openxmlformats.org/officeDocument/2006/relationships/image" Target="../media/image73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3.wmf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55.png"/><Relationship Id="rId9" Type="http://schemas.openxmlformats.org/officeDocument/2006/relationships/image" Target="../media/image56.wmf"/><Relationship Id="rId10" Type="http://schemas.openxmlformats.org/officeDocument/2006/relationships/image" Target="../media/image55.png"/><Relationship Id="rId11" Type="http://schemas.openxmlformats.org/officeDocument/2006/relationships/image" Target="../media/image56.wmf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0.png"/><Relationship Id="rId3" Type="http://schemas.openxmlformats.org/officeDocument/2006/relationships/image" Target="../media/image55.png"/><Relationship Id="rId4" Type="http://schemas.openxmlformats.org/officeDocument/2006/relationships/image" Target="../media/image5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219640" y="36360"/>
          <a:ext cx="392436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36360"/>
                    <a:ext cx="392436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908000" y="2205000"/>
            <a:ext cx="3168720" cy="439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700360" y="2852640"/>
            <a:ext cx="17287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386160" y="4221000"/>
            <a:ext cx="1330200" cy="36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98320" y="1052640"/>
            <a:ext cx="4969080" cy="95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484360" y="3357720"/>
            <a:ext cx="2160720" cy="86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870360" y="4594320"/>
            <a:ext cx="630360" cy="287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543480" y="4957920"/>
            <a:ext cx="1006200" cy="36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557520" y="5402160"/>
            <a:ext cx="943200" cy="322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3932280" y="5784840"/>
            <a:ext cx="5778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100320" y="79200"/>
            <a:ext cx="2943360" cy="6858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359400" y="260280"/>
            <a:ext cx="2533680" cy="6145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468360" y="981000"/>
            <a:ext cx="8280360" cy="1511280"/>
          </a:xfrm>
          <a:prstGeom prst="octagon">
            <a:avLst>
              <a:gd name="adj" fmla="val 29287"/>
            </a:avLst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971640" y="1123920"/>
            <a:ext cx="7272360" cy="1224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95640" y="302904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ك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36766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ك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95640" y="43974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ك =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47640" y="508464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سافة التي تقطعها السيارة ف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ساعات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3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كيلومت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45080" y="299736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عادلة 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8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1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987640" y="79200"/>
            <a:ext cx="2943360" cy="6858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12000" y="476280"/>
            <a:ext cx="2950920" cy="530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7594560" cy="2233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2556000" y="1125360"/>
            <a:ext cx="4973400" cy="503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935760" y="3213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43640" y="2925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53360" y="32259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08640" y="3564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67080" y="25686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17840" y="29034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02040" y="25812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41840" y="3543480"/>
            <a:ext cx="6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3225960"/>
            <a:ext cx="5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94040" y="2901960"/>
            <a:ext cx="5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5"/>
          <p:cNvSpPr/>
          <p:nvPr/>
        </p:nvSpPr>
        <p:spPr>
          <a:xfrm rot="5400000">
            <a:off x="7259400" y="3138480"/>
            <a:ext cx="1726920" cy="64764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26"/>
          <p:cNvSpPr/>
          <p:nvPr/>
        </p:nvSpPr>
        <p:spPr>
          <a:xfrm>
            <a:off x="7740720" y="422100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جا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8"/>
          <p:cNvSpPr/>
          <p:nvPr/>
        </p:nvSpPr>
        <p:spPr>
          <a:xfrm>
            <a:off x="6372360" y="422100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د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7956720" y="4809960"/>
            <a:ext cx="936360" cy="3477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885080" y="5425920"/>
            <a:ext cx="974880" cy="3081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87"/>
          <p:cNvSpPr/>
          <p:nvPr/>
        </p:nvSpPr>
        <p:spPr>
          <a:xfrm>
            <a:off x="6300720" y="4797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7"/>
          <p:cNvSpPr/>
          <p:nvPr/>
        </p:nvSpPr>
        <p:spPr>
          <a:xfrm>
            <a:off x="6372360" y="537372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27"/>
          <p:cNvSpPr/>
          <p:nvPr/>
        </p:nvSpPr>
        <p:spPr>
          <a:xfrm rot="5400000">
            <a:off x="5889240" y="3144960"/>
            <a:ext cx="1685880" cy="577800"/>
          </a:xfrm>
          <a:custGeom>
            <a:avLst/>
            <a:gdLst>
              <a:gd name="textAreaLeft" fmla="*/ 0 w 1685880"/>
              <a:gd name="textAreaRight" fmla="*/ 1686240 w 168588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25"/>
          <p:cNvSpPr/>
          <p:nvPr/>
        </p:nvSpPr>
        <p:spPr>
          <a:xfrm rot="5400000">
            <a:off x="4500360" y="3192480"/>
            <a:ext cx="1656000" cy="503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27"/>
          <p:cNvSpPr/>
          <p:nvPr/>
        </p:nvSpPr>
        <p:spPr>
          <a:xfrm rot="5400000">
            <a:off x="3263040" y="3153600"/>
            <a:ext cx="1727280" cy="57600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26"/>
          <p:cNvSpPr/>
          <p:nvPr/>
        </p:nvSpPr>
        <p:spPr>
          <a:xfrm>
            <a:off x="4932360" y="419112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جا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8"/>
          <p:cNvSpPr/>
          <p:nvPr/>
        </p:nvSpPr>
        <p:spPr>
          <a:xfrm>
            <a:off x="3708360" y="418464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د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935760" y="35514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3195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3525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65120" y="25812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15880" y="2916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00080" y="25938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39880" y="3556080"/>
            <a:ext cx="6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31960" y="3238560"/>
            <a:ext cx="5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92080" y="2914560"/>
            <a:ext cx="5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25"/>
          <p:cNvSpPr/>
          <p:nvPr/>
        </p:nvSpPr>
        <p:spPr>
          <a:xfrm rot="5400000">
            <a:off x="1598400" y="3205080"/>
            <a:ext cx="1655640" cy="50328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27"/>
          <p:cNvSpPr/>
          <p:nvPr/>
        </p:nvSpPr>
        <p:spPr>
          <a:xfrm rot="5400000">
            <a:off x="361080" y="3166200"/>
            <a:ext cx="1726920" cy="57600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6"/>
          <p:cNvSpPr/>
          <p:nvPr/>
        </p:nvSpPr>
        <p:spPr>
          <a:xfrm>
            <a:off x="2030400" y="420372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جا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28"/>
          <p:cNvSpPr/>
          <p:nvPr/>
        </p:nvSpPr>
        <p:spPr>
          <a:xfrm>
            <a:off x="806400" y="419724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د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1440" y="32083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1440" y="3538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7"/>
          <a:stretch/>
        </p:blipFill>
        <p:spPr>
          <a:xfrm>
            <a:off x="5211720" y="4803840"/>
            <a:ext cx="936720" cy="3477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5140440" y="5419800"/>
            <a:ext cx="974520" cy="3078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87"/>
          <p:cNvSpPr/>
          <p:nvPr/>
        </p:nvSpPr>
        <p:spPr>
          <a:xfrm>
            <a:off x="3556080" y="47912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7"/>
          <p:cNvSpPr/>
          <p:nvPr/>
        </p:nvSpPr>
        <p:spPr>
          <a:xfrm>
            <a:off x="3051000" y="536724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18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2030400" y="4737240"/>
            <a:ext cx="936720" cy="347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0"/>
          <a:stretch/>
        </p:blipFill>
        <p:spPr>
          <a:xfrm>
            <a:off x="1959120" y="5353200"/>
            <a:ext cx="974520" cy="3078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7"/>
          <p:cNvSpPr/>
          <p:nvPr/>
        </p:nvSpPr>
        <p:spPr>
          <a:xfrm>
            <a:off x="37476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7"/>
          <p:cNvSpPr/>
          <p:nvPr/>
        </p:nvSpPr>
        <p:spPr>
          <a:xfrm>
            <a:off x="0" y="5300640"/>
            <a:ext cx="20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18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27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36</a:t>
            </a:r>
            <a:r>
              <a:rPr b="1" lang="ar-SA" sz="1800" spc="-1" strike="noStrike">
                <a:solidFill>
                  <a:srgbClr val="333399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8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8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2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1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2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1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2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0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9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0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9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9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0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8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0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9" dur="8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0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9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0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8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8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7" dur="8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8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7" dur="8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8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7" dur="8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8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8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7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8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8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8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7" dur="8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8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8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7" dur="8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8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3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8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8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916360" y="79200"/>
            <a:ext cx="2943000" cy="6858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012000" y="476280"/>
            <a:ext cx="2950920" cy="530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36480" y="1125360"/>
            <a:ext cx="7993080" cy="1297080"/>
          </a:xfrm>
          <a:prstGeom prst="octagon">
            <a:avLst>
              <a:gd name="adj" fmla="val 29287"/>
            </a:avLst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042920" y="1231920"/>
            <a:ext cx="7201080" cy="10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690480" y="2708280"/>
          <a:ext cx="3952800" cy="2832120"/>
        </p:xfrm>
        <a:graphic>
          <a:graphicData uri="http://schemas.openxmlformats.org/drawingml/2006/table">
            <a:tbl>
              <a:tblPr/>
              <a:tblGrid>
                <a:gridCol w="928440"/>
                <a:gridCol w="2129040"/>
                <a:gridCol w="89532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دد الكلم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ffcc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ضرب في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ffcc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دد الدقائ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ffcc99"/>
                        </a:gs>
                      </a:gsLst>
                      <a:lin ang="13500000"/>
                    </a:gradFill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45000"/>
                      </a:srgbClr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45000"/>
                      </a:srgbClr>
                    </a:solidFill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45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45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3956040" y="3498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89440" y="40356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05280" y="4641840"/>
            <a:ext cx="5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6040" y="5106960"/>
            <a:ext cx="5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00360" y="35337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×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43120" y="4073400"/>
            <a:ext cx="16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×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63720" y="45784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×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93960" y="50817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×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8200" y="35337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40384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6148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5118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25"/>
          <p:cNvSpPr/>
          <p:nvPr/>
        </p:nvSpPr>
        <p:spPr>
          <a:xfrm rot="5400000">
            <a:off x="2770560" y="4385520"/>
            <a:ext cx="2841840" cy="852480"/>
          </a:xfrm>
          <a:custGeom>
            <a:avLst/>
            <a:gdLst>
              <a:gd name="textAreaLeft" fmla="*/ 0 w 2841840"/>
              <a:gd name="textAreaRight" fmla="*/ 2842200 w 284184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6"/>
          <p:cNvSpPr/>
          <p:nvPr/>
        </p:nvSpPr>
        <p:spPr>
          <a:xfrm>
            <a:off x="3830760" y="618480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جا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27"/>
          <p:cNvSpPr/>
          <p:nvPr/>
        </p:nvSpPr>
        <p:spPr>
          <a:xfrm rot="5400000">
            <a:off x="-248760" y="4382280"/>
            <a:ext cx="2808360" cy="90180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8"/>
          <p:cNvSpPr/>
          <p:nvPr/>
        </p:nvSpPr>
        <p:spPr>
          <a:xfrm>
            <a:off x="779400" y="619596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د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7716960" y="2957400"/>
            <a:ext cx="1242720" cy="3477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7780320" y="3600360"/>
            <a:ext cx="1192320" cy="30816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87"/>
          <p:cNvSpPr/>
          <p:nvPr/>
        </p:nvSpPr>
        <p:spPr>
          <a:xfrm>
            <a:off x="5664240" y="2924280"/>
            <a:ext cx="219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20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7"/>
          <p:cNvSpPr/>
          <p:nvPr/>
        </p:nvSpPr>
        <p:spPr>
          <a:xfrm>
            <a:off x="4775040" y="3525840"/>
            <a:ext cx="313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300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600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900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1200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1" dur="indefinite" restart="never" nodeType="tmRoot">
          <p:childTnLst>
            <p:seq>
              <p:cTn id="1902" dur="indefinite" nodeType="mainSeq">
                <p:childTnLst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0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2100"/>
                            </p:stCondLst>
                            <p:childTnLst>
                              <p:par>
                                <p:cTn id="19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3200"/>
                            </p:stCondLst>
                            <p:childTnLst>
                              <p:par>
                                <p:cTn id="19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5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6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2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3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0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6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1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2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8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7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100320" y="79200"/>
            <a:ext cx="2943360" cy="685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68360" y="1676520"/>
            <a:ext cx="8280360" cy="1511280"/>
          </a:xfrm>
          <a:prstGeom prst="octagon">
            <a:avLst>
              <a:gd name="adj" fmla="val 29287"/>
            </a:avLst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95640" y="37242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51280" y="43718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95640" y="50925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 =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6360" y="57801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مجموع الرسوم لمد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أشهر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ري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45080" y="36925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عادلة 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971640" y="1820880"/>
            <a:ext cx="7345440" cy="1224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6012000" y="765000"/>
            <a:ext cx="29509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0" dur="indefinite" restart="never" nodeType="tmRoot">
          <p:childTnLst>
            <p:seq>
              <p:cTn id="2081" dur="indefinite" nodeType="mainSeq">
                <p:childTnLst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9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100320" y="79200"/>
            <a:ext cx="2943360" cy="6858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012000" y="765000"/>
            <a:ext cx="2950920" cy="530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804000" y="2384280"/>
            <a:ext cx="1513080" cy="703800"/>
          </a:xfrm>
          <a:prstGeom prst="rect">
            <a:avLst/>
          </a:prstGeom>
          <a:solidFill>
            <a:srgbClr val="008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ص = س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3132000" y="1557360"/>
            <a:ext cx="4645080" cy="7192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900000" y="2779560"/>
            <a:ext cx="7488360" cy="2521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911760" y="2371680"/>
            <a:ext cx="1512720" cy="703800"/>
          </a:xfrm>
          <a:prstGeom prst="rect">
            <a:avLst/>
          </a:prstGeom>
          <a:solidFill>
            <a:srgbClr val="008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ص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6320" y="2362320"/>
            <a:ext cx="1596960" cy="703800"/>
          </a:xfrm>
          <a:prstGeom prst="rect">
            <a:avLst/>
          </a:prstGeom>
          <a:solidFill>
            <a:srgbClr val="008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ص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س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9" dur="8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0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8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0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9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00320" y="79200"/>
            <a:ext cx="294336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26360" y="404640"/>
            <a:ext cx="1566720" cy="64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338720" y="1197000"/>
            <a:ext cx="3112920" cy="100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50920" y="808200"/>
            <a:ext cx="3695760" cy="2333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716360" y="2276640"/>
            <a:ext cx="3246480" cy="79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859280" y="3119400"/>
            <a:ext cx="3132360" cy="93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2144880" y="4081320"/>
            <a:ext cx="6095880" cy="505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25480" y="24084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25480" y="21207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25480" y="26956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2800" y="2124000"/>
            <a:ext cx="5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2800" y="2401920"/>
            <a:ext cx="5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7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5400" y="268920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364500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يزيد ثمن المجلات بمبلغ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ريالات كلما زاد عددها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1042920" y="4152960"/>
            <a:ext cx="1101960" cy="43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3059280" y="4673520"/>
            <a:ext cx="5209920" cy="439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1119240" y="4711680"/>
            <a:ext cx="1914480" cy="358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6443640" y="5122800"/>
            <a:ext cx="1800360" cy="393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/>
          <a:stretch/>
        </p:blipFill>
        <p:spPr>
          <a:xfrm>
            <a:off x="5415120" y="5059440"/>
            <a:ext cx="1000080" cy="498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539640" y="3141720"/>
            <a:ext cx="895320" cy="285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2771640" y="3141720"/>
            <a:ext cx="857520" cy="276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1692360" y="3141720"/>
            <a:ext cx="933480" cy="358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5508720" y="5877000"/>
            <a:ext cx="1076400" cy="361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7"/>
          <a:stretch/>
        </p:blipFill>
        <p:spPr>
          <a:xfrm>
            <a:off x="3711600" y="5529240"/>
            <a:ext cx="1762200" cy="1019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8"/>
          <a:stretch/>
        </p:blipFill>
        <p:spPr>
          <a:xfrm>
            <a:off x="2560680" y="5838840"/>
            <a:ext cx="1104840" cy="380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9"/>
          <a:stretch/>
        </p:blipFill>
        <p:spPr>
          <a:xfrm>
            <a:off x="5470560" y="5877000"/>
            <a:ext cx="1076400" cy="352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435640" y="5780160"/>
            <a:ext cx="1152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6000" y="5805360"/>
            <a:ext cx="11556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5877000"/>
            <a:ext cx="64764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5805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35480" y="58183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×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48000" y="580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35640" y="5805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5480" y="58183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×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9280" y="580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2400" y="58183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2240" y="58309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×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21120" y="581832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7080" y="5792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6920" y="58053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×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0160" y="579276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0"/>
          <a:stretch/>
        </p:blipFill>
        <p:spPr>
          <a:xfrm>
            <a:off x="5504040" y="5877000"/>
            <a:ext cx="1076040" cy="361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1"/>
          <a:stretch/>
        </p:blipFill>
        <p:spPr>
          <a:xfrm>
            <a:off x="3706920" y="5529240"/>
            <a:ext cx="1761840" cy="1019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2"/>
          <a:stretch/>
        </p:blipFill>
        <p:spPr>
          <a:xfrm>
            <a:off x="2556000" y="5838840"/>
            <a:ext cx="110484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364500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4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100320" y="79200"/>
            <a:ext cx="294336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77080" y="2144880"/>
            <a:ext cx="1905120" cy="50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869000" y="2048040"/>
            <a:ext cx="1942920" cy="57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770360" y="2792520"/>
            <a:ext cx="3260880" cy="2089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71400" y="2981160"/>
            <a:ext cx="3456000" cy="525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5724360" y="1425600"/>
            <a:ext cx="2808360" cy="577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4859280" y="1465200"/>
            <a:ext cx="744480" cy="463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1692360" y="1413000"/>
            <a:ext cx="3097080" cy="58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971640" y="1468440"/>
            <a:ext cx="647640" cy="458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3181320" y="5345280"/>
            <a:ext cx="712800" cy="388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900000" y="5356080"/>
            <a:ext cx="649440" cy="390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684360" y="3502080"/>
            <a:ext cx="3456000" cy="187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2143080" y="4006800"/>
            <a:ext cx="457200" cy="247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4"/>
          <a:stretch/>
        </p:blipFill>
        <p:spPr>
          <a:xfrm>
            <a:off x="2127240" y="4357800"/>
            <a:ext cx="498600" cy="233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5"/>
          <a:stretch/>
        </p:blipFill>
        <p:spPr>
          <a:xfrm>
            <a:off x="2157480" y="4705200"/>
            <a:ext cx="446040" cy="220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6"/>
          <a:stretch/>
        </p:blipFill>
        <p:spPr>
          <a:xfrm>
            <a:off x="2157480" y="5043600"/>
            <a:ext cx="446040" cy="220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7"/>
          <a:stretch/>
        </p:blipFill>
        <p:spPr>
          <a:xfrm>
            <a:off x="1219320" y="4019400"/>
            <a:ext cx="176040" cy="206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8"/>
          <a:stretch/>
        </p:blipFill>
        <p:spPr>
          <a:xfrm>
            <a:off x="1192320" y="4332240"/>
            <a:ext cx="187200" cy="220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9"/>
          <a:stretch/>
        </p:blipFill>
        <p:spPr>
          <a:xfrm>
            <a:off x="1177920" y="4705200"/>
            <a:ext cx="208080" cy="192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0"/>
          <a:stretch/>
        </p:blipFill>
        <p:spPr>
          <a:xfrm>
            <a:off x="1177920" y="5040360"/>
            <a:ext cx="208080" cy="179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1"/>
          <a:stretch/>
        </p:blipFill>
        <p:spPr>
          <a:xfrm>
            <a:off x="5950080" y="5052960"/>
            <a:ext cx="2077920" cy="433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2"/>
          <a:stretch/>
        </p:blipFill>
        <p:spPr>
          <a:xfrm>
            <a:off x="5618160" y="5619600"/>
            <a:ext cx="241920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3"/>
          <a:stretch/>
        </p:blipFill>
        <p:spPr>
          <a:xfrm>
            <a:off x="3956040" y="849240"/>
            <a:ext cx="4533840" cy="544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4"/>
          <a:stretch/>
        </p:blipFill>
        <p:spPr>
          <a:xfrm>
            <a:off x="2809800" y="836640"/>
            <a:ext cx="112716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100320" y="79200"/>
            <a:ext cx="2943360" cy="685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486560" y="268200"/>
            <a:ext cx="1333440" cy="720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58920" y="1052640"/>
            <a:ext cx="6769080" cy="1008000"/>
          </a:xfrm>
          <a:prstGeom prst="octagon">
            <a:avLst>
              <a:gd name="adj" fmla="val 29287"/>
            </a:avLst>
          </a:prstGeom>
          <a:solidFill>
            <a:srgbClr val="ff99cc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644480" y="1136520"/>
            <a:ext cx="60487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474840" y="2674800"/>
          <a:ext cx="3952800" cy="2832120"/>
        </p:xfrm>
        <a:graphic>
          <a:graphicData uri="http://schemas.openxmlformats.org/drawingml/2006/table">
            <a:tbl>
              <a:tblPr/>
              <a:tblGrid>
                <a:gridCol w="928440"/>
                <a:gridCol w="2129040"/>
                <a:gridCol w="8953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ffcc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ضرب في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ffcc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دد الكت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ffcc99"/>
                        </a:gs>
                      </a:gsLst>
                      <a:lin ang="13500000"/>
                    </a:gradFill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45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45000"/>
                      </a:srgbClr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45000"/>
                      </a:srgbClr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45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778200" y="346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78200" y="404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78200" y="45576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78200" y="5048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84360" y="3500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×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7120" y="4040280"/>
            <a:ext cx="16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×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47720" y="4545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×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7960" y="5048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×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200" y="35002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05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3840" y="4581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3840" y="5084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9"/>
          <p:cNvSpPr/>
          <p:nvPr/>
        </p:nvSpPr>
        <p:spPr>
          <a:xfrm>
            <a:off x="3610080" y="2265480"/>
            <a:ext cx="792000" cy="642600"/>
          </a:xfrm>
          <a:prstGeom prst="rect">
            <a:avLst/>
          </a:prstGeom>
          <a:solidFill>
            <a:srgbClr val="d4cacd"/>
          </a:solidFill>
          <a:ln w="9360">
            <a:solidFill>
              <a:srgbClr val="d4ca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دخ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0"/>
          <p:cNvSpPr/>
          <p:nvPr/>
        </p:nvSpPr>
        <p:spPr>
          <a:xfrm>
            <a:off x="1843200" y="2265480"/>
            <a:ext cx="1295280" cy="642600"/>
          </a:xfrm>
          <a:prstGeom prst="rect">
            <a:avLst/>
          </a:prstGeom>
          <a:solidFill>
            <a:srgbClr val="d4cacd"/>
          </a:solidFill>
          <a:ln w="9360">
            <a:solidFill>
              <a:srgbClr val="d4ca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قاعدة الدا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1"/>
          <p:cNvSpPr/>
          <p:nvPr/>
        </p:nvSpPr>
        <p:spPr>
          <a:xfrm>
            <a:off x="479520" y="2265480"/>
            <a:ext cx="895320" cy="642600"/>
          </a:xfrm>
          <a:prstGeom prst="rect">
            <a:avLst/>
          </a:prstGeom>
          <a:solidFill>
            <a:srgbClr val="d4cacd"/>
          </a:solidFill>
          <a:ln w="9360">
            <a:solidFill>
              <a:srgbClr val="d4ca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خر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5"/>
          <p:cNvSpPr/>
          <p:nvPr/>
        </p:nvSpPr>
        <p:spPr>
          <a:xfrm rot="5400000">
            <a:off x="2554920" y="4352040"/>
            <a:ext cx="2841480" cy="852480"/>
          </a:xfrm>
          <a:custGeom>
            <a:avLst/>
            <a:gdLst>
              <a:gd name="textAreaLeft" fmla="*/ 0 w 2841480"/>
              <a:gd name="textAreaRight" fmla="*/ 2841840 w 28414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6"/>
          <p:cNvSpPr/>
          <p:nvPr/>
        </p:nvSpPr>
        <p:spPr>
          <a:xfrm>
            <a:off x="3614760" y="615168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جا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7"/>
          <p:cNvSpPr/>
          <p:nvPr/>
        </p:nvSpPr>
        <p:spPr>
          <a:xfrm rot="5400000">
            <a:off x="-471240" y="4367880"/>
            <a:ext cx="2808360" cy="86364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8"/>
          <p:cNvSpPr/>
          <p:nvPr/>
        </p:nvSpPr>
        <p:spPr>
          <a:xfrm>
            <a:off x="563400" y="616284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د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7361280" y="2924280"/>
            <a:ext cx="1243080" cy="347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7437600" y="3465360"/>
            <a:ext cx="1191960" cy="3081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7"/>
          <p:cNvSpPr/>
          <p:nvPr/>
        </p:nvSpPr>
        <p:spPr>
          <a:xfrm>
            <a:off x="5068800" y="285264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7"/>
          <p:cNvSpPr/>
          <p:nvPr/>
        </p:nvSpPr>
        <p:spPr>
          <a:xfrm>
            <a:off x="4859280" y="3352680"/>
            <a:ext cx="263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7"/>
          <p:cNvSpPr/>
          <p:nvPr/>
        </p:nvSpPr>
        <p:spPr>
          <a:xfrm rot="5400000">
            <a:off x="-466200" y="4363200"/>
            <a:ext cx="2808360" cy="86364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00320" y="79200"/>
            <a:ext cx="2943360" cy="6858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684360" y="955800"/>
            <a:ext cx="7959240" cy="601560"/>
            <a:chOff x="684360" y="955800"/>
            <a:chExt cx="7959240" cy="60156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2280960" y="955800"/>
              <a:ext cx="636264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684360" y="1098360"/>
              <a:ext cx="1618920" cy="42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258920" y="3500280"/>
            <a:ext cx="7128000" cy="3048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5148360" y="1628640"/>
            <a:ext cx="3186000" cy="479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3971880" y="2389320"/>
            <a:ext cx="1117800" cy="341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2340000" y="1773360"/>
            <a:ext cx="2028960" cy="536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4862520" y="2771640"/>
            <a:ext cx="1657440" cy="586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2490840" y="2757600"/>
            <a:ext cx="169236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5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100320" y="79200"/>
            <a:ext cx="294336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272280" y="620640"/>
            <a:ext cx="2692440" cy="503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924360" y="1413000"/>
            <a:ext cx="3889440" cy="1224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819000" y="758880"/>
            <a:ext cx="2457720" cy="1590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3419640" y="2637000"/>
            <a:ext cx="4167000" cy="2232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70560" y="2997360"/>
            <a:ext cx="3240000" cy="28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4200" y="558972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513480" y="2995560"/>
            <a:ext cx="504720" cy="2738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94560" y="498780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معادلة ه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70520" y="56358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33cc33"/>
                </a:solidFill>
                <a:latin typeface="Arial"/>
              </a:rPr>
              <a:t>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1480" y="3500280"/>
            <a:ext cx="1152360" cy="2233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154080" y="3400560"/>
            <a:ext cx="3152520" cy="371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50720" y="3903840"/>
            <a:ext cx="2562480" cy="295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2600" y="3387600"/>
            <a:ext cx="3419640" cy="366840"/>
          </a:xfrm>
          <a:prstGeom prst="rect">
            <a:avLst/>
          </a:prstGeom>
          <a:solidFill>
            <a:srgbClr val="ff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250920" y="4348080"/>
            <a:ext cx="2714400" cy="295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822240" y="4764240"/>
            <a:ext cx="2133720" cy="285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179280" y="5116680"/>
            <a:ext cx="3829320" cy="399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79280" y="5084640"/>
            <a:ext cx="3888000" cy="366840"/>
          </a:xfrm>
          <a:prstGeom prst="rect">
            <a:avLst/>
          </a:prstGeom>
          <a:solidFill>
            <a:srgbClr val="00ff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1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1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8000"/>
                            </p:stCondLst>
                            <p:childTnLst>
                              <p:par>
                                <p:cTn id="9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8000"/>
                            </p:stCondLst>
                            <p:childTnLst>
                              <p:par>
                                <p:cTn id="9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80000" y="79200"/>
            <a:ext cx="294300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486560" y="268200"/>
            <a:ext cx="1333440" cy="720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2376360" cy="25621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3203640" y="1149480"/>
            <a:ext cx="5255640" cy="965160"/>
            <a:chOff x="3203640" y="1149480"/>
            <a:chExt cx="5255640" cy="965160"/>
          </a:xfrm>
        </p:grpSpPr>
        <p:pic>
          <p:nvPicPr>
            <p:cNvPr id="182" name="" descr=""/>
            <p:cNvPicPr/>
            <p:nvPr/>
          </p:nvPicPr>
          <p:blipFill>
            <a:blip r:embed="rId4"/>
            <a:stretch/>
          </p:blipFill>
          <p:spPr>
            <a:xfrm>
              <a:off x="3203640" y="1149480"/>
              <a:ext cx="5255640" cy="5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5"/>
            <a:stretch/>
          </p:blipFill>
          <p:spPr>
            <a:xfrm>
              <a:off x="6631920" y="1631880"/>
              <a:ext cx="1792800" cy="48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"/>
          <p:cNvSpPr/>
          <p:nvPr/>
        </p:nvSpPr>
        <p:spPr>
          <a:xfrm>
            <a:off x="2789280" y="1077840"/>
            <a:ext cx="6048360" cy="1152720"/>
          </a:xfrm>
          <a:prstGeom prst="octagon">
            <a:avLst>
              <a:gd name="adj" fmla="val 29287"/>
            </a:avLst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712960" y="2852640"/>
            <a:ext cx="6151680" cy="505080"/>
            <a:chOff x="2712960" y="2852640"/>
            <a:chExt cx="6151680" cy="505080"/>
          </a:xfrm>
        </p:grpSpPr>
        <p:pic>
          <p:nvPicPr>
            <p:cNvPr id="186" name="" descr=""/>
            <p:cNvPicPr/>
            <p:nvPr/>
          </p:nvPicPr>
          <p:blipFill>
            <a:blip r:embed="rId6"/>
            <a:stretch/>
          </p:blipFill>
          <p:spPr>
            <a:xfrm>
              <a:off x="3492360" y="2852640"/>
              <a:ext cx="537228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7"/>
            <a:stretch/>
          </p:blipFill>
          <p:spPr>
            <a:xfrm>
              <a:off x="2712960" y="2916360"/>
              <a:ext cx="77148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4476600" y="3933720"/>
            <a:ext cx="4343400" cy="503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788000" y="3341520"/>
            <a:ext cx="2016000" cy="520560"/>
          </a:xfrm>
          <a:prstGeom prst="rect">
            <a:avLst/>
          </a:prstGeom>
          <a:solidFill>
            <a:srgbClr val="ffff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ن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92920" y="33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32360" y="449424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ن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499752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ن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×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92720" y="550224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ن =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5280" y="609300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0000"/>
                </a:solidFill>
                <a:latin typeface="Arial"/>
              </a:rPr>
              <a:t>نمو النبته في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ساعات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4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س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100320" y="79200"/>
            <a:ext cx="294336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359400" y="260280"/>
            <a:ext cx="2533680" cy="614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157640" y="907920"/>
            <a:ext cx="3943440" cy="64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334200" y="1700280"/>
            <a:ext cx="100800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5580000" y="2082960"/>
            <a:ext cx="244800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2068560" y="1738440"/>
            <a:ext cx="1058760" cy="360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1327320" y="2136600"/>
            <a:ext cx="2449440" cy="2376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15200" y="39560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6000" y="30909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96000" y="35701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39560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30400" y="35942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27160" y="4041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60360" y="2789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صف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01760" y="406404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5880" y="36100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90680" y="31989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25"/>
          <p:cNvSpPr/>
          <p:nvPr/>
        </p:nvSpPr>
        <p:spPr>
          <a:xfrm rot="5400000">
            <a:off x="6488640" y="3481920"/>
            <a:ext cx="2282760" cy="63648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6"/>
          <p:cNvSpPr/>
          <p:nvPr/>
        </p:nvSpPr>
        <p:spPr>
          <a:xfrm>
            <a:off x="7236000" y="486900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جا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8"/>
          <p:cNvSpPr/>
          <p:nvPr/>
        </p:nvSpPr>
        <p:spPr>
          <a:xfrm>
            <a:off x="5651640" y="486900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د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7429680" y="5643720"/>
            <a:ext cx="1242720" cy="347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7480440" y="6184800"/>
            <a:ext cx="1191960" cy="3081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87"/>
          <p:cNvSpPr/>
          <p:nvPr/>
        </p:nvSpPr>
        <p:spPr>
          <a:xfrm>
            <a:off x="5137200" y="557208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7"/>
          <p:cNvSpPr/>
          <p:nvPr/>
        </p:nvSpPr>
        <p:spPr>
          <a:xfrm>
            <a:off x="4902120" y="6072120"/>
            <a:ext cx="26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27"/>
          <p:cNvSpPr/>
          <p:nvPr/>
        </p:nvSpPr>
        <p:spPr>
          <a:xfrm rot="5400000">
            <a:off x="4870440" y="3443400"/>
            <a:ext cx="2308320" cy="720720"/>
          </a:xfrm>
          <a:custGeom>
            <a:avLst/>
            <a:gdLst>
              <a:gd name="textAreaLeft" fmla="*/ 0 w 2308320"/>
              <a:gd name="textAreaRight" fmla="*/ 2308680 w 23083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5"/>
          <p:cNvSpPr/>
          <p:nvPr/>
        </p:nvSpPr>
        <p:spPr>
          <a:xfrm rot="5400000">
            <a:off x="2202480" y="3508920"/>
            <a:ext cx="2282760" cy="71928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3067200" y="5661000"/>
            <a:ext cx="1242720" cy="347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1"/>
          <a:stretch/>
        </p:blipFill>
        <p:spPr>
          <a:xfrm>
            <a:off x="3117960" y="6202440"/>
            <a:ext cx="1191960" cy="307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7"/>
          <p:cNvSpPr/>
          <p:nvPr/>
        </p:nvSpPr>
        <p:spPr>
          <a:xfrm>
            <a:off x="774720" y="558972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7"/>
          <p:cNvSpPr/>
          <p:nvPr/>
        </p:nvSpPr>
        <p:spPr>
          <a:xfrm>
            <a:off x="539640" y="6089760"/>
            <a:ext cx="26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7"/>
          <p:cNvSpPr/>
          <p:nvPr/>
        </p:nvSpPr>
        <p:spPr>
          <a:xfrm rot="5400000">
            <a:off x="569520" y="3547800"/>
            <a:ext cx="2308320" cy="648000"/>
          </a:xfrm>
          <a:custGeom>
            <a:avLst/>
            <a:gdLst>
              <a:gd name="textAreaLeft" fmla="*/ 0 w 2308320"/>
              <a:gd name="textAreaRight" fmla="*/ 2308680 w 23083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6"/>
          <p:cNvSpPr/>
          <p:nvPr/>
        </p:nvSpPr>
        <p:spPr>
          <a:xfrm>
            <a:off x="2911320" y="494172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جا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8"/>
          <p:cNvSpPr/>
          <p:nvPr/>
        </p:nvSpPr>
        <p:spPr>
          <a:xfrm>
            <a:off x="1327320" y="494172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د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100320" y="79200"/>
            <a:ext cx="2943360" cy="685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359400" y="260280"/>
            <a:ext cx="2533680" cy="6145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33240" y="1052640"/>
            <a:ext cx="7991640" cy="1008000"/>
          </a:xfrm>
          <a:prstGeom prst="octagon">
            <a:avLst>
              <a:gd name="adj" fmla="val 29287"/>
            </a:avLst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cs typeface="Arabic Transparent"/>
              </a:rPr>
              <a:t>شع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 يحفظ محمد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بيات شعرية يومياً. أنشئ جدول دالة يبين عدد الأبي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ي يحفظها بعد يوم ويومين و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يام ، ثم عيِّن مجال الدالة ومداها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74840" y="2674800"/>
          <a:ext cx="3952800" cy="2832120"/>
        </p:xfrm>
        <a:graphic>
          <a:graphicData uri="http://schemas.openxmlformats.org/drawingml/2006/table">
            <a:tbl>
              <a:tblPr/>
              <a:tblGrid>
                <a:gridCol w="928440"/>
                <a:gridCol w="2129040"/>
                <a:gridCol w="89532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دد الأب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ffcc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ضرب في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ffcc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دد الأيا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ffcc99"/>
                        </a:gs>
                      </a:gsLst>
                      <a:lin ang="13500000"/>
                    </a:gradFill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45000"/>
                      </a:srgbClr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45000"/>
                      </a:srgbClr>
                    </a:solidFill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45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45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3778200" y="346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78200" y="404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78200" y="45576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78200" y="5048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84360" y="3500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×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7120" y="4040280"/>
            <a:ext cx="16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×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47720" y="4545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×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77960" y="5048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×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2200" y="35002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3840" y="4005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3840" y="4581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3840" y="5084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25"/>
          <p:cNvSpPr/>
          <p:nvPr/>
        </p:nvSpPr>
        <p:spPr>
          <a:xfrm rot="5400000">
            <a:off x="2554920" y="4352040"/>
            <a:ext cx="2841480" cy="852480"/>
          </a:xfrm>
          <a:custGeom>
            <a:avLst/>
            <a:gdLst>
              <a:gd name="textAreaLeft" fmla="*/ 0 w 2841480"/>
              <a:gd name="textAreaRight" fmla="*/ 2841840 w 28414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6"/>
          <p:cNvSpPr/>
          <p:nvPr/>
        </p:nvSpPr>
        <p:spPr>
          <a:xfrm>
            <a:off x="3614760" y="615168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جا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7"/>
          <p:cNvSpPr/>
          <p:nvPr/>
        </p:nvSpPr>
        <p:spPr>
          <a:xfrm rot="5400000">
            <a:off x="-464760" y="4348800"/>
            <a:ext cx="2808360" cy="90180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8"/>
          <p:cNvSpPr/>
          <p:nvPr/>
        </p:nvSpPr>
        <p:spPr>
          <a:xfrm>
            <a:off x="563400" y="616284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د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361280" y="2924280"/>
            <a:ext cx="1243080" cy="3474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437600" y="3465360"/>
            <a:ext cx="1191960" cy="3081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87"/>
          <p:cNvSpPr/>
          <p:nvPr/>
        </p:nvSpPr>
        <p:spPr>
          <a:xfrm>
            <a:off x="5068800" y="285264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7"/>
          <p:cNvSpPr/>
          <p:nvPr/>
        </p:nvSpPr>
        <p:spPr>
          <a:xfrm>
            <a:off x="4859280" y="3352680"/>
            <a:ext cx="263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05:07:38Z</dcterms:created>
  <dc:creator>PC_Owner</dc:creator>
  <dc:description/>
  <dc:language>en-US</dc:language>
  <cp:lastModifiedBy>AM</cp:lastModifiedBy>
  <dcterms:modified xsi:type="dcterms:W3CDTF">2012-09-17T20:20:00Z</dcterms:modified>
  <cp:revision>15</cp:revision>
  <dc:subject/>
  <dc:title>الشريحة 1</dc:title>
</cp:coreProperties>
</file>