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25.wmf" ContentType="image/x-wmf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79.png" ContentType="image/png"/>
  <Override PartName="/ppt/media/image89.png" ContentType="image/png"/>
  <Override PartName="/ppt/media/image77.png" ContentType="image/png"/>
  <Override PartName="/ppt/media/image90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7A2-0CE0-4768-AB2A-32F1C31B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38A-45BB-43DA-9D03-59A1271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97B-72D0-4764-9534-27E6ABE9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B61-148D-4446-900F-25F623C3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A8F-069B-498F-8F17-726B5AA2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0C5-5566-4E1F-AA98-1D2D8EE5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2A2-3903-46E9-B887-641DC747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4C0-5A88-4A84-8E50-5C157D3A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464-112B-4DAA-B6E0-1170A4FA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385-6F5D-40F7-B61D-DBA36839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791-9FB5-40FD-A8A5-126D2F3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FF1-8428-4575-87BD-7646AD3C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A1C8-61B5-4B8B-B26C-97C5B1BC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5.png"/><Relationship Id="rId3" Type="http://schemas.openxmlformats.org/officeDocument/2006/relationships/image" Target="../media/image66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wmf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4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27.png"/><Relationship Id="rId5" Type="http://schemas.openxmlformats.org/officeDocument/2006/relationships/image" Target="../media/image24.png"/><Relationship Id="rId6" Type="http://schemas.openxmlformats.org/officeDocument/2006/relationships/image" Target="../media/image2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60.png"/><Relationship Id="rId20" Type="http://schemas.openxmlformats.org/officeDocument/2006/relationships/image" Target="../media/image61.png"/><Relationship Id="rId21" Type="http://schemas.openxmlformats.org/officeDocument/2006/relationships/image" Target="../media/image62.png"/><Relationship Id="rId22" Type="http://schemas.openxmlformats.org/officeDocument/2006/relationships/image" Target="../media/image62.png"/><Relationship Id="rId23" Type="http://schemas.openxmlformats.org/officeDocument/2006/relationships/image" Target="../media/image62.png"/><Relationship Id="rId24" Type="http://schemas.openxmlformats.org/officeDocument/2006/relationships/image" Target="../media/image63.png"/><Relationship Id="rId25" Type="http://schemas.openxmlformats.org/officeDocument/2006/relationships/image" Target="../media/image64.png"/><Relationship Id="rId26" Type="http://schemas.openxmlformats.org/officeDocument/2006/relationships/image" Target="../media/image65.png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27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4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image" Target="../media/image73.png"/><Relationship Id="rId16" Type="http://schemas.openxmlformats.org/officeDocument/2006/relationships/image" Target="../media/image74.png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79.png"/><Relationship Id="rId22" Type="http://schemas.openxmlformats.org/officeDocument/2006/relationships/image" Target="../media/image80.png"/><Relationship Id="rId23" Type="http://schemas.openxmlformats.org/officeDocument/2006/relationships/image" Target="../media/image81.png"/><Relationship Id="rId2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2.png"/><Relationship Id="rId3" Type="http://schemas.openxmlformats.org/officeDocument/2006/relationships/image" Target="../media/image66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27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00600" y="23760"/>
            <a:ext cx="4330800" cy="2467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1384200"/>
            <a:ext cx="5472000" cy="60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17640" y="2852640"/>
            <a:ext cx="41594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6192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16000" y="1282680"/>
            <a:ext cx="7056360" cy="1498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051600" y="619200"/>
            <a:ext cx="2913120" cy="577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43280" y="227664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227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4640" y="2276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27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093080" y="2949480"/>
            <a:ext cx="747360" cy="360000"/>
            <a:chOff x="7093080" y="2949480"/>
            <a:chExt cx="747360" cy="360000"/>
          </a:xfrm>
        </p:grpSpPr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>
              <a:off x="7093080" y="2949480"/>
              <a:ext cx="7473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5"/>
            <a:stretch/>
          </p:blipFill>
          <p:spPr>
            <a:xfrm>
              <a:off x="7312320" y="2949480"/>
              <a:ext cx="178920" cy="36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3203640" y="2852640"/>
            <a:ext cx="1029960" cy="576000"/>
            <a:chOff x="3203640" y="2852640"/>
            <a:chExt cx="1029960" cy="576000"/>
          </a:xfrm>
        </p:grpSpPr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3203640" y="2852640"/>
              <a:ext cx="10299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3631680" y="3008520"/>
              <a:ext cx="199080" cy="25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1187280" y="3494160"/>
            <a:ext cx="7056720" cy="10872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4002120"/>
            <a:ext cx="1728720" cy="1068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عداد سال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2935440" y="4879800"/>
            <a:ext cx="5381640" cy="636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43280" y="5646600"/>
            <a:ext cx="1224000" cy="947160"/>
          </a:xfrm>
          <a:prstGeom prst="rect">
            <a:avLst/>
          </a:prstGeom>
          <a:solidFill>
            <a:srgbClr val="ff00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ن = ـ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24000" y="6192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05720" y="765000"/>
            <a:ext cx="1143000" cy="64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17840" y="1355760"/>
            <a:ext cx="5799240" cy="64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76360" y="2004840"/>
            <a:ext cx="691200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195640" y="4238640"/>
            <a:ext cx="6315120" cy="100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65640" y="4780080"/>
            <a:ext cx="2376360" cy="82548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قبل الإسراء والمعر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46400" y="5568840"/>
            <a:ext cx="626580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37040" y="6148440"/>
            <a:ext cx="2663640" cy="82548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غزوة بدر وغزوة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1573200"/>
            <a:ext cx="3135240" cy="208764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DecoType Naskh"/>
              </a:rPr>
              <a:t>هل يمكن تقد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DecoType Naskh"/>
              </a:rPr>
              <a:t>حدث على آخ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61920"/>
            <a:ext cx="5210280" cy="5763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042920" y="981000"/>
            <a:ext cx="7562160" cy="622080"/>
            <a:chOff x="1042920" y="981000"/>
            <a:chExt cx="7562160" cy="62208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4615200" y="981000"/>
              <a:ext cx="3989880" cy="62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042920" y="1034280"/>
              <a:ext cx="3572280" cy="53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042920" y="1128600"/>
            <a:ext cx="3562560" cy="366840"/>
          </a:xfrm>
          <a:prstGeom prst="rect">
            <a:avLst/>
          </a:pr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979640" y="2708280"/>
            <a:ext cx="561672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267600" y="3997440"/>
            <a:ext cx="1473120" cy="43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373640" y="3933720"/>
            <a:ext cx="1579320" cy="64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2425680" y="3933720"/>
            <a:ext cx="1631880" cy="57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6710400" y="4941720"/>
            <a:ext cx="831960" cy="432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589640" y="5014800"/>
            <a:ext cx="1303200" cy="43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2933640" y="5043600"/>
            <a:ext cx="1184400" cy="431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5292720" y="1916280"/>
            <a:ext cx="2160720" cy="720720"/>
          </a:xfrm>
          <a:prstGeom prst="wedgeRoundRectCallout">
            <a:avLst>
              <a:gd name="adj1" fmla="val 63958"/>
              <a:gd name="adj2" fmla="val -100444"/>
              <a:gd name="adj3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دد الأي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789120" y="1870200"/>
            <a:ext cx="1944720" cy="720720"/>
          </a:xfrm>
          <a:prstGeom prst="wedgeRoundRectCallout">
            <a:avLst>
              <a:gd name="adj1" fmla="val -70166"/>
              <a:gd name="adj2" fmla="val -106171"/>
              <a:gd name="adj3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دد الأيس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6192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669000" y="861840"/>
            <a:ext cx="2006640" cy="50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52800" y="811080"/>
            <a:ext cx="26560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195640" y="1535040"/>
            <a:ext cx="5689440" cy="576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780000" y="2124000"/>
            <a:ext cx="4735440" cy="54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344600" y="2689200"/>
            <a:ext cx="6337440" cy="930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4427640" y="3500280"/>
            <a:ext cx="4035240" cy="576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3394080" y="1641600"/>
            <a:ext cx="353880" cy="431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6948360" y="4148280"/>
            <a:ext cx="1692360" cy="72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1044720" y="4940280"/>
            <a:ext cx="669600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4394160" y="5699160"/>
            <a:ext cx="322200" cy="431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6697800" y="5708520"/>
            <a:ext cx="353880" cy="432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3"/>
          <a:stretch/>
        </p:blipFill>
        <p:spPr>
          <a:xfrm>
            <a:off x="1573200" y="5695920"/>
            <a:ext cx="322200" cy="43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0800000">
            <a:off x="3274920" y="4076640"/>
            <a:ext cx="2160720" cy="720720"/>
          </a:xfrm>
          <a:prstGeom prst="wedgeRoundRectCallout">
            <a:avLst>
              <a:gd name="adj1" fmla="val 54847"/>
              <a:gd name="adj2" fmla="val 185240"/>
              <a:gd name="adj3" fmla="val 1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دد الأي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79280" y="1413000"/>
            <a:ext cx="1944720" cy="720720"/>
          </a:xfrm>
          <a:prstGeom prst="wedgeRoundRectCallout">
            <a:avLst>
              <a:gd name="adj1" fmla="val -48370"/>
              <a:gd name="adj2" fmla="val -158592"/>
              <a:gd name="adj3" fmla="val 1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دد الأيس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24000" y="6192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372360" y="790560"/>
            <a:ext cx="2514600" cy="57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44640" y="1407960"/>
            <a:ext cx="5572440" cy="10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79280" y="1476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867280" y="2484360"/>
            <a:ext cx="24656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994120" y="2517840"/>
            <a:ext cx="2394000" cy="50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5862600" y="3225960"/>
            <a:ext cx="2530440" cy="50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2771640" y="3166920"/>
            <a:ext cx="2521080" cy="56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46440" y="3081240"/>
            <a:ext cx="2592360" cy="719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3995640" y="5418000"/>
            <a:ext cx="4489560" cy="6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1541520" y="5511960"/>
            <a:ext cx="2238480" cy="50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218200" y="6086520"/>
            <a:ext cx="3241440" cy="582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1852560" y="4575240"/>
            <a:ext cx="6464520" cy="93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6593040" y="4468680"/>
            <a:ext cx="301320" cy="24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6175440" y="4468680"/>
            <a:ext cx="344520" cy="230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4425840" y="4443480"/>
            <a:ext cx="208080" cy="287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6"/>
          <a:stretch/>
        </p:blipFill>
        <p:spPr>
          <a:xfrm>
            <a:off x="4025880" y="4443480"/>
            <a:ext cx="255600" cy="291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7"/>
          <p:cNvSpPr/>
          <p:nvPr/>
        </p:nvSpPr>
        <p:spPr>
          <a:xfrm>
            <a:off x="6475320" y="4587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7"/>
          <p:cNvSpPr/>
          <p:nvPr/>
        </p:nvSpPr>
        <p:spPr>
          <a:xfrm>
            <a:off x="6254640" y="45957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7"/>
          <p:cNvSpPr/>
          <p:nvPr/>
        </p:nvSpPr>
        <p:spPr>
          <a:xfrm>
            <a:off x="4390920" y="4575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7"/>
          <p:cNvSpPr/>
          <p:nvPr/>
        </p:nvSpPr>
        <p:spPr>
          <a:xfrm>
            <a:off x="3992400" y="4587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7"/>
          <a:stretch/>
        </p:blipFill>
        <p:spPr>
          <a:xfrm>
            <a:off x="4535640" y="3860640"/>
            <a:ext cx="3924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20628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20000" y="836640"/>
            <a:ext cx="169236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691380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25840"/>
            <a:ext cx="8242200" cy="658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7"/>
          <p:cNvSpPr/>
          <p:nvPr/>
        </p:nvSpPr>
        <p:spPr>
          <a:xfrm>
            <a:off x="8072280" y="436572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5848200" y="436572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4352760" y="436572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3610080" y="436572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2136600" y="436572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2709720"/>
            <a:ext cx="2592720" cy="5032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1268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38280"/>
            <a:ext cx="28843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6480360" cy="93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926400" y="190512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324320" y="1905120"/>
            <a:ext cx="33192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989000" y="187956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1042920" y="2419200"/>
            <a:ext cx="7129440" cy="93852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5386320" y="3429000"/>
            <a:ext cx="2427480" cy="457200"/>
            <a:chOff x="5386320" y="3429000"/>
            <a:chExt cx="2427480" cy="457200"/>
          </a:xfrm>
        </p:grpSpPr>
        <p:pic>
          <p:nvPicPr>
            <p:cNvPr id="122" name="" descr=""/>
            <p:cNvPicPr/>
            <p:nvPr/>
          </p:nvPicPr>
          <p:blipFill>
            <a:blip r:embed="rId8"/>
            <a:stretch/>
          </p:blipFill>
          <p:spPr>
            <a:xfrm>
              <a:off x="5992920" y="3489120"/>
              <a:ext cx="1555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9"/>
            <a:stretch/>
          </p:blipFill>
          <p:spPr>
            <a:xfrm>
              <a:off x="7705800" y="3429000"/>
              <a:ext cx="108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0"/>
            <a:stretch/>
          </p:blipFill>
          <p:spPr>
            <a:xfrm>
              <a:off x="7166160" y="3454200"/>
              <a:ext cx="52848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1"/>
            <a:stretch/>
          </p:blipFill>
          <p:spPr>
            <a:xfrm>
              <a:off x="5413320" y="3525840"/>
              <a:ext cx="3128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12"/>
            <a:stretch/>
          </p:blipFill>
          <p:spPr>
            <a:xfrm>
              <a:off x="6615000" y="3468600"/>
              <a:ext cx="44136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3"/>
            <a:stretch/>
          </p:blipFill>
          <p:spPr>
            <a:xfrm>
              <a:off x="6215040" y="3565440"/>
              <a:ext cx="2840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14"/>
            <a:stretch/>
          </p:blipFill>
          <p:spPr>
            <a:xfrm>
              <a:off x="5386320" y="3465360"/>
              <a:ext cx="147600" cy="4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5"/>
            <a:stretch/>
          </p:blipFill>
          <p:spPr>
            <a:xfrm>
              <a:off x="5751360" y="3525840"/>
              <a:ext cx="157320" cy="34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1044720" y="3473280"/>
            <a:ext cx="2812680" cy="428400"/>
            <a:chOff x="1044720" y="3473280"/>
            <a:chExt cx="2812680" cy="428400"/>
          </a:xfrm>
        </p:grpSpPr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3370680" y="3570840"/>
              <a:ext cx="386280" cy="2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7"/>
            <a:stretch/>
          </p:blipFill>
          <p:spPr>
            <a:xfrm>
              <a:off x="2771280" y="3539880"/>
              <a:ext cx="396000" cy="27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8"/>
            <a:stretch/>
          </p:blipFill>
          <p:spPr>
            <a:xfrm>
              <a:off x="2171880" y="3558960"/>
              <a:ext cx="396360" cy="2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9"/>
            <a:stretch/>
          </p:blipFill>
          <p:spPr>
            <a:xfrm>
              <a:off x="1498320" y="3506400"/>
              <a:ext cx="42588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0"/>
            <a:stretch/>
          </p:blipFill>
          <p:spPr>
            <a:xfrm>
              <a:off x="1186560" y="3506400"/>
              <a:ext cx="28692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1"/>
            <a:stretch/>
          </p:blipFill>
          <p:spPr>
            <a:xfrm>
              <a:off x="3172320" y="3597120"/>
              <a:ext cx="158040" cy="21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2"/>
            <a:stretch/>
          </p:blipFill>
          <p:spPr>
            <a:xfrm>
              <a:off x="2551680" y="3577680"/>
              <a:ext cx="1580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3"/>
            <a:stretch/>
          </p:blipFill>
          <p:spPr>
            <a:xfrm>
              <a:off x="1978560" y="3616200"/>
              <a:ext cx="15840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4"/>
            <a:stretch/>
          </p:blipFill>
          <p:spPr>
            <a:xfrm>
              <a:off x="3758400" y="3473280"/>
              <a:ext cx="9900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5"/>
            <a:stretch/>
          </p:blipFill>
          <p:spPr>
            <a:xfrm>
              <a:off x="1044720" y="3487680"/>
              <a:ext cx="13824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"/>
          <p:cNvSpPr/>
          <p:nvPr/>
        </p:nvSpPr>
        <p:spPr>
          <a:xfrm>
            <a:off x="5291280" y="3284640"/>
            <a:ext cx="2665440" cy="7855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297240"/>
            <a:ext cx="3095640" cy="7855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6"/>
          <a:stretch/>
        </p:blipFill>
        <p:spPr>
          <a:xfrm>
            <a:off x="755640" y="4078440"/>
            <a:ext cx="7632720" cy="2087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52640" y="5145120"/>
            <a:ext cx="3168360" cy="5284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1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24000" y="20952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51600" y="911160"/>
            <a:ext cx="2913120" cy="64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42920" y="1776240"/>
            <a:ext cx="7272360" cy="165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619280" y="2419200"/>
            <a:ext cx="279360" cy="373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7210440" y="2449440"/>
            <a:ext cx="331920" cy="36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3886200" y="2462040"/>
            <a:ext cx="331920" cy="36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7304040" y="298296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4221000" y="2982960"/>
            <a:ext cx="279720" cy="372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1581120" y="3003480"/>
            <a:ext cx="331920" cy="36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0"/>
          <a:stretch/>
        </p:blipFill>
        <p:spPr>
          <a:xfrm>
            <a:off x="1620720" y="3627360"/>
            <a:ext cx="6696360" cy="9954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651640" y="5046840"/>
            <a:ext cx="2228400" cy="448920"/>
            <a:chOff x="5651640" y="5046840"/>
            <a:chExt cx="2228400" cy="448920"/>
          </a:xfrm>
        </p:grpSpPr>
        <p:pic>
          <p:nvPicPr>
            <p:cNvPr id="156" name="" descr=""/>
            <p:cNvPicPr/>
            <p:nvPr/>
          </p:nvPicPr>
          <p:blipFill>
            <a:blip r:embed="rId11"/>
            <a:stretch/>
          </p:blipFill>
          <p:spPr>
            <a:xfrm>
              <a:off x="7386480" y="5046840"/>
              <a:ext cx="49356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2"/>
            <a:stretch/>
          </p:blipFill>
          <p:spPr>
            <a:xfrm>
              <a:off x="6608880" y="5159160"/>
              <a:ext cx="777240" cy="2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3"/>
            <a:stretch/>
          </p:blipFill>
          <p:spPr>
            <a:xfrm>
              <a:off x="6278400" y="5135760"/>
              <a:ext cx="328320" cy="3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4"/>
            <a:stretch/>
          </p:blipFill>
          <p:spPr>
            <a:xfrm>
              <a:off x="5811840" y="5150520"/>
              <a:ext cx="428040" cy="3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5"/>
            <a:stretch/>
          </p:blipFill>
          <p:spPr>
            <a:xfrm>
              <a:off x="5651640" y="5098680"/>
              <a:ext cx="131400" cy="39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1763640" y="4992840"/>
            <a:ext cx="2808000" cy="558360"/>
            <a:chOff x="1763640" y="4992840"/>
            <a:chExt cx="2808000" cy="558360"/>
          </a:xfrm>
        </p:grpSpPr>
        <p:pic>
          <p:nvPicPr>
            <p:cNvPr id="162" name="" descr=""/>
            <p:cNvPicPr/>
            <p:nvPr/>
          </p:nvPicPr>
          <p:blipFill>
            <a:blip r:embed="rId16"/>
            <a:stretch/>
          </p:blipFill>
          <p:spPr>
            <a:xfrm>
              <a:off x="3951360" y="5141880"/>
              <a:ext cx="53748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7"/>
            <a:stretch/>
          </p:blipFill>
          <p:spPr>
            <a:xfrm>
              <a:off x="3422520" y="5121720"/>
              <a:ext cx="496080" cy="31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18"/>
            <a:stretch/>
          </p:blipFill>
          <p:spPr>
            <a:xfrm>
              <a:off x="2909160" y="5141880"/>
              <a:ext cx="506520" cy="3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9"/>
            <a:stretch/>
          </p:blipFill>
          <p:spPr>
            <a:xfrm>
              <a:off x="2622960" y="5068440"/>
              <a:ext cx="248040" cy="4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0"/>
            <a:stretch/>
          </p:blipFill>
          <p:spPr>
            <a:xfrm>
              <a:off x="2323440" y="5184720"/>
              <a:ext cx="258120" cy="28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1"/>
            <a:stretch/>
          </p:blipFill>
          <p:spPr>
            <a:xfrm>
              <a:off x="1908000" y="5086080"/>
              <a:ext cx="402840" cy="3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2"/>
            <a:stretch/>
          </p:blipFill>
          <p:spPr>
            <a:xfrm>
              <a:off x="4458240" y="5081040"/>
              <a:ext cx="113400" cy="4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3"/>
            <a:stretch/>
          </p:blipFill>
          <p:spPr>
            <a:xfrm>
              <a:off x="1763640" y="4992840"/>
              <a:ext cx="134280" cy="51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5435640" y="4894200"/>
            <a:ext cx="2665440" cy="7855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65280" y="4903920"/>
            <a:ext cx="3121200" cy="7855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24000" y="61920"/>
            <a:ext cx="521028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19640" y="1336680"/>
            <a:ext cx="4868640" cy="1695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051600" y="619200"/>
            <a:ext cx="2913120" cy="649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971640" y="907920"/>
            <a:ext cx="2138400" cy="2340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812000" y="3357720"/>
            <a:ext cx="792360" cy="106884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97240" y="3386160"/>
            <a:ext cx="1730160" cy="1068840"/>
          </a:xfrm>
          <a:prstGeom prst="rect">
            <a:avLst/>
          </a:prstGeom>
          <a:solidFill>
            <a:srgbClr val="0033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3386160"/>
            <a:ext cx="1511640" cy="10688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86160" y="3386160"/>
            <a:ext cx="1654200" cy="106884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386160"/>
            <a:ext cx="1656000" cy="106884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4175280"/>
            <a:ext cx="1152360" cy="703800"/>
          </a:xfrm>
          <a:prstGeom prst="rect">
            <a:avLst/>
          </a:prstGeom>
          <a:solidFill>
            <a:srgbClr val="ffff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ضوء النه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4178160"/>
            <a:ext cx="719280" cy="7038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فج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44920" y="4175280"/>
            <a:ext cx="1366920" cy="70380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منتصف الل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4178160"/>
            <a:ext cx="635040" cy="825480"/>
          </a:xfrm>
          <a:prstGeom prst="rect">
            <a:avLst/>
          </a:prstGeom>
          <a:solidFill>
            <a:srgbClr val="0033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ل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4175280"/>
            <a:ext cx="792000" cy="8254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هد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187280" y="4970520"/>
            <a:ext cx="7417080" cy="1122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7413480" y="5645160"/>
            <a:ext cx="279720" cy="37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4336920" y="5665680"/>
            <a:ext cx="331920" cy="360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1731960" y="5670720"/>
            <a:ext cx="331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20:00:46Z</dcterms:created>
  <dc:creator>PC_Owner</dc:creator>
  <dc:description/>
  <dc:language>en-US</dc:language>
  <cp:lastModifiedBy>AM</cp:lastModifiedBy>
  <dcterms:modified xsi:type="dcterms:W3CDTF">2012-09-27T11:19:29Z</dcterms:modified>
  <cp:revision>9</cp:revision>
  <dc:subject/>
  <dc:title>الشريحة 1</dc:title>
</cp:coreProperties>
</file>