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422-4B93-49E4-B95A-19E585CA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0C3-B221-4659-B0C3-1845B884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BBD-8B31-4B5F-B7A3-E7F34EAB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08D-B1AC-4362-B68C-B52550FC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033-7152-4456-A4BC-02091BFB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C27-9906-468D-827A-3C6F25A7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632-3377-424C-AAAF-26C8BF82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435-0AA4-4E6C-B710-DE7F3AC2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52B-80A2-4479-A099-56AE35A4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A46-5CAD-4EAF-B09F-2E3DC40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CFB-9C17-4AF4-958B-F6B61EFC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491-4A1B-4EC0-B2BB-FAF2ECC7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4DA1-7645-452A-BF95-5692D540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درس الروابط الكيميائية</a:t>
            </a:r>
            <a:br>
              <a:rPr sz="5400"/>
            </a:b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الرابطة الأيو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213336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شيءِ في الكون يسعى لأن يكون في أقل مستوىً من الطاقة ، هذه هي سنة الكون وإرادة الله سبحانه وتعالى في خلقه ، فكل مافي الكون يسعى إلى السكون والثبات ولكن الله غالب على أمره فلا سكون ولا هدوء إلا أن يشاء الل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لاسألنا أنفسنا : لماذا يركن الكائن الحي إلى الهدوء والدعة ؟ لماذا تسقط الأجسام من الأعلى إلى الأسفل ؟ ولماذا تتحد العناصر لتكون المركبات 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rial"/>
              </a:rPr>
              <a:t>خصائص المركبات الأيوني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أيونية توجد على شكل تجمعات أيونية في أشكال معينة يطلق عليها ( الأشكال البلورية ) ونجد في هذه الأشكال ترتيب بلوري منظم للأيونات بحيث أن كل أيون ذو شحنة معينة يكون منجذباً إلى مجموعة من الأيونات ذو الشحنة المخالفة ، بمعنى أن الأيون الواحد يكون مرتبطاً بعدة روابط أيونية في نفس الوقت .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ا ما يفسر وجود المركبات الأيونية عادةً في الحالة الصلبة ( كثافة عالية ) كما يفسر هذا الوضع أيضاً درجات الانصهار والغليان المرتفعة لهذه المركبات 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من أهم صفات المركبات الأيونية عدم قدرتها على التوصيل الكهربي في الحالة الصلبة نظراً لارتباط الأيونات وعدم قدرتها على الحركة بينما تصبح موصلة للكهرباء عند صهرها أو إذابتها في الماء ( الأيونات حرة الحركة في المصهور وفي المحلول المائ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333399"/>
                </a:solidFill>
                <a:latin typeface="Arial"/>
              </a:rPr>
              <a:t>درس الروابط الكيميائي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رغبة الأجسام وسعيها لأن تكون في أقل مستوى من الطاقة . فطاقة المركب ( في الغالب ) تكون أقل من مجموع طاقات العناصر المكونة له ، لذلك نجد ذرات العناصر تميل لأن ترتبط ببعضها ( عن طريق روابط كيميائية ) لتكوين المركبات وكل عنصر يرتبط بعددٍ من الروابط مساوٍ لتكافؤ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3399"/>
                </a:solidFill>
                <a:latin typeface="Arial"/>
              </a:rPr>
              <a:t>درس الروابط الكيميائية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333399"/>
                </a:solidFill>
                <a:latin typeface="Arial"/>
              </a:rPr>
              <a:t>أنواع الرواب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رابطة الأيونية 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رابطة التساهمية 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رابطة التساهمية التناسقية 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رابطة الهيدروجينية 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rial"/>
              </a:rPr>
              <a:t>الرابطة الأيوني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رابطة الأيونية : عبارة عن تجاذب كهربي بين أيونين أيون موجب تكون نتيجة فقدان ذرة العنصر لإلكترون أو أكثر وأيون سالب تكون نتيجة اكتساب ذرة العنصر لإلكترون أو أكث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من الضروري هنا أن نركز على طبيعة الرابطة الأيونية وهي التجاذب الكهربي حتى يمكننا التمييز بدقة بين الروابط الكيميائية والتفريق بين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تحدث الرابطة الأيونية عادةً بين الفلزات (ذات طاقة التأين المنخفضة والتي تميل لفقدان الإلكترونات ) واللافلزات (ذات الألفة الالكترونية المرتفعة والتي تميل لاكتساب الالكترون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الرابطة الأيوني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رتبط أيون الصود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أيون الكلو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في مركب كلوريد الصوديوم برابطة أيو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-------&gt; Na+ + 1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 + 1e ---------&gt; Cl- v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+ Cl --------&gt; Na+ + Cl- 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فعنصر الصوديوم يفقد الكترون واحد من مستوى تكافؤه ليصبح أيون موجب أحادي ذو توزيع الالكتروني مشابه للتوزيع الالكتروني للغاز الخامل الذي قبله وهو النيو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/ 1S2 2S2 2P6 3S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+ / 1S2 2S2 2P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عنصر الكلور يكتسب الكترون واحد في مستوى تكافؤه ليصبح أيون سالب ذو تركيب الكتروني مشابه لتركيب الغاز الخامل الذي بعده وهو الارجو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 / 1S2 2S2 2P6 3S2 3P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- / 1S2 2S2 2P6 3S2 3P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912000" cy="4496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333399"/>
                </a:solidFill>
                <a:latin typeface="Arial"/>
              </a:rPr>
              <a:t>الرابطة الأيون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333399"/>
                </a:solidFill>
                <a:latin typeface="Arial"/>
              </a:rPr>
              <a:t>طاقة الرابطة الأيوني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هي طاقة وضع ناتجة ( سالبة ) تعتمد قيمتها على كمية الشحنة المتوفرة بالأيونين وعلى نصف قطر ( الحجم الذري ) كلِ من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طاقة الرابطة الأيونية = - 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/ 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حيث ي : كمية الشحنة . ر : مجموع نصفي قطر الأيونين 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يتضح من العلاقة السابقة أنه كلما زادت كمية الشحنة كلما نقصت طاقة الرابطة الأيونية ( زيادة قيمة البسط تزيد من قيمة الكسر وبأن الكسر سالب الشحنة فإن الناتج يقل ) ويصبح المركب الأيوني أكثر استقراراً 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أما بالنسبة لنصف القطر فيلاحظ من العلاقة أنه كلما كبر نصف القطر الذري لأحد الأيونين أو كليهما زادت طاقة الرابطة الأيونية ( زيادة قيمة المقام تقلل من قيمة الكسر وبما أن الكسر سالب فالقيمة تزداد ) ويصبح المركب أقل استقراراً 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طاقة الترتيب البلوري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بأنها الطاقة التي نحتاجها لنحول مركباً بلورياً ( أيونياً ) في الحالة الصلبة إلى أيونات منفصلة في الحالة الغاز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 .</a:t>
            </a: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ذاً فطاقة الترتيب البلوري طاقة مساوية لطاقة الرابطة الأيونية ( كحد أدنى ) مع اختلاف الإشا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طاقة الترتيب البلوري = 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/ 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على هذا فإن ارتفاع قيمة طاقة الترتيب البلوري لمركب ما يعني أن هذا المركب أكثر استقراراً وتزداد طاقة الترتيب البلوري بزيادة قيمة كمية الشحنة أو نقصان نصف القطر الذري ( لأحد الأيونين أو كليهما ) كما يتضح من العلاقة السابقة 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: أيهما أعلى طاقة ترتيب بلور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أ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l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لماذا ؟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: رتب المركبات التالية تصاعدياً حسب طاقة ترتيبها البلوري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l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I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مبدياً تبريراً للترتيب المقتر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1:06:01Z</dcterms:created>
  <dc:creator>مصادر التعلم</dc:creator>
  <dc:description/>
  <dc:language>en-US</dc:language>
  <cp:lastModifiedBy>مصادر التعلم</cp:lastModifiedBy>
  <dcterms:modified xsi:type="dcterms:W3CDTF">2004-10-11T12:13:07Z</dcterms:modified>
  <cp:revision>11</cp:revision>
  <dc:subject/>
  <dc:title>درس الروابط الكيميائية الرابطة الأيونية </dc:title>
</cp:coreProperties>
</file>