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9912-7604-4AB0-A988-0F6E17C42F1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زر غبا</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118E-0FD3-49C2-BA53-D73E4D487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E45C-6324-4651-8445-E246E3F8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5BD16-3F81-4C4B-AB9B-BF42ECAC9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1B1BB-0BD9-4E35-9354-A41BBDD6E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2646E-C8D2-457A-92B0-C144C1044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335B2-80E3-4872-B6C3-CB2877926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087E8-6388-4413-9857-28BEA0477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CE6FE-15D5-4CE1-9FA7-C808E5883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CD22C-9944-4AAD-873C-9EA7CC322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5BFBD-6212-49CE-AC87-8F50EBACC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33DCD-F0C0-4EB6-8E6C-5B1D55D4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6167-D981-4EB2-B405-1DF479FCC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2898-9B44-4336-94AC-73129A3FF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FE8C-DB08-4DA8-A36A-68FFE1A5A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7BE4B-F8DB-42B4-AD58-27146F94A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8B17E-C5A6-4669-8750-DBACB2954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79ED1-E4E9-4923-822D-385A99B3D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ED9F9-B569-442D-AEB8-B3EC3DEC1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D924-6F69-4E07-9A88-22137E51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87A6-0E40-41D8-BBD4-DC83D79D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DDAE-C8DF-42F8-9B8C-1663C903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ADED-9D6E-44F4-BBD2-8D22A362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8ED98-A0E1-4EAD-BEC1-D139474D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BB0C-1DA2-42FF-B349-29E8E0435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4287-93BC-43F9-82D1-D517570C7CC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5A8D-ECAD-4FB1-AB77-D1B042990DF2}"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صناعة النجاح</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eaeaea"/>
                </a:solidFill>
                <a:latin typeface="Verdana"/>
              </a:rPr>
              <a:t>مهارات لتطوير الذات</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23" name="" descr=""/>
          <p:cNvPicPr/>
          <p:nvPr/>
        </p:nvPicPr>
        <p:blipFill>
          <a:blip r:embed="rId1"/>
          <a:stretch/>
        </p:blipFill>
        <p:spPr>
          <a:xfrm>
            <a:off x="4500720" y="3357720"/>
            <a:ext cx="142560" cy="14256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عادة السادسة : التعاضد ( التعاون الإبداعي ) </a:t>
            </a:r>
            <a:br>
              <a:rPr sz="4000"/>
            </a:br>
            <a:endParaRPr b="0" lang="en-US" sz="4000" spc="-1" strike="noStrike">
              <a:solidFill>
                <a:srgbClr val="ffffcc"/>
              </a:solidFill>
              <a:latin typeface="Arial"/>
            </a:endParaRPr>
          </a:p>
        </p:txBody>
      </p:sp>
      <p:pic>
        <p:nvPicPr>
          <p:cNvPr id="141" name="" descr=""/>
          <p:cNvPicPr/>
          <p:nvPr/>
        </p:nvPicPr>
        <p:blipFill>
          <a:blip r:embed="rId1"/>
          <a:stretch/>
        </p:blipFill>
        <p:spPr>
          <a:xfrm>
            <a:off x="457200" y="1599840"/>
            <a:ext cx="4038480" cy="4530600"/>
          </a:xfrm>
          <a:prstGeom prst="rect">
            <a:avLst/>
          </a:prstGeom>
          <a:ln w="0">
            <a:noFill/>
          </a:ln>
        </p:spPr>
      </p:pic>
      <p:pic>
        <p:nvPicPr>
          <p:cNvPr id="142" name="" descr=""/>
          <p:cNvPicPr/>
          <p:nvPr/>
        </p:nvPicPr>
        <p:blipFill>
          <a:blip r:embed="rId2"/>
          <a:stretch/>
        </p:blipFill>
        <p:spPr>
          <a:xfrm>
            <a:off x="4648320" y="1599840"/>
            <a:ext cx="4038480" cy="4530600"/>
          </a:xfrm>
          <a:prstGeom prst="rect">
            <a:avLst/>
          </a:prstGeom>
          <a:ln w="0">
            <a:noFill/>
          </a:ln>
        </p:spPr>
      </p:pic>
      <p:sp>
        <p:nvSpPr>
          <p:cNvPr id="143"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fontScale="91000"/>
          </a:bodyPr>
          <a:p>
            <a:pPr marL="312120" indent="-31212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خشب الأحمر تتشابك جذوره بنظام يجعله ينبت متقارب مما يساعد الأشجار على عدم السقوط في الرياح الشديدة . ويستطيع اثنان أن يضاعفوا النتائج عن مالوكانوا كل على حده بالتعاون الخلاق وفي التفاعل الخارجي ،ويحققون الكثير مما لا يستطيعون تحقيقة على انفراد وذلك إذا ما كانوا ، يقيمون الاختلافات ،يفتحون أنفسهم لإمكانيات جديده ،يمارسون نمط التفكير " ربح / ربح " ويبنون الثقة في ما بينهم ، عندها سوف يجنون ويتمتعون بفوائد تلاحمهم </a:t>
            </a:r>
            <a:endParaRPr b="0" lang="en-US" sz="2800" spc="-1" strike="noStrike">
              <a:solidFill>
                <a:srgbClr val="eaeaea"/>
              </a:solidFill>
              <a:latin typeface="Verdana"/>
            </a:endParaRPr>
          </a:p>
          <a:p>
            <a:pPr marL="312120" indent="-31212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وتعاونوا على البر والتقوى). </a:t>
            </a:r>
            <a:br>
              <a:rPr sz="2800"/>
            </a:br>
            <a:r>
              <a:rPr b="0" lang="ar-SA" sz="2800" spc="-1" strike="noStrike">
                <a:solidFill>
                  <a:srgbClr val="eaeaea"/>
                </a:solidFill>
                <a:latin typeface="Verdana"/>
              </a:rPr>
              <a:t>هل أقيم اختلاف وجهات النظر والآراء في الآخرين في محاولة الوصول إلى حلول ؟ </a:t>
            </a:r>
            <a:endParaRPr b="0" lang="en-US" sz="2800" spc="-1" strike="noStrike">
              <a:solidFill>
                <a:srgbClr val="eaeaea"/>
              </a:solidFill>
              <a:latin typeface="Verdan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تعاون الابداعي يحتاج الى:</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باني</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فريق العمل (البنيان المرصوص)</a:t>
            </a:r>
            <a:endParaRPr b="0" lang="en-US" sz="3200" spc="-1" strike="noStrike">
              <a:solidFill>
                <a:srgbClr val="eaeaea"/>
              </a:solidFill>
              <a:latin typeface="Verdan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قولة</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جيش من الأرانب يقوده أسد أفضل من جيش من الأسود يقوده أرن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فرق بين الادارة والقيادة</a:t>
            </a:r>
            <a:endParaRPr b="0" lang="en-US" sz="3200" spc="-1" strike="noStrike">
              <a:solidFill>
                <a:srgbClr val="eaeaea"/>
              </a:solidFill>
              <a:latin typeface="Verdan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صفات القائد الباني</a:t>
            </a: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وجداني</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رحيم</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متفقد</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خدوم</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محاط بقادة</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عملاق</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محفز</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نشيط</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القائد المفوض</a:t>
            </a:r>
            <a:endParaRPr b="0" lang="en-US" sz="2800" spc="-1" strike="noStrike">
              <a:solidFill>
                <a:srgbClr val="eaeaea"/>
              </a:solidFill>
              <a:latin typeface="Verdana"/>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وظف</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ملك</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مكن</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نجز</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حترم</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شارح</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فكر</a:t>
            </a:r>
            <a:endParaRPr b="0" lang="en-US" sz="32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حرك</a:t>
            </a:r>
            <a:endParaRPr b="0" lang="en-US" sz="3200" spc="-1" strike="noStrike">
              <a:solidFill>
                <a:srgbClr val="eaeaea"/>
              </a:solidFill>
              <a:latin typeface="Verdan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ؤثر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واضح</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شجاع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ائد المتفائل</a:t>
            </a:r>
            <a:endParaRPr b="0" lang="en-US" sz="3200" spc="-1" strike="noStrike">
              <a:solidFill>
                <a:srgbClr val="eaeaea"/>
              </a:solidFill>
              <a:latin typeface="Verdan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صفات فريق العمل</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عمل لهدف</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عدم وجود أنانية</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كل عضو يكمل الأخر ولا يكرر الأخر</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دافع الرئيسي هو الانجاز</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استمتاع بتماسك الجماعة</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كل عضو من أعضائه له نفس الحقوق مع اختلاف الادوار</a:t>
            </a:r>
            <a:endParaRPr b="0" lang="en-US" sz="3200" spc="-1" strike="noStrike">
              <a:solidFill>
                <a:srgbClr val="eaeaea"/>
              </a:solidFill>
              <a:latin typeface="Verdana"/>
            </a:endParaRPr>
          </a:p>
          <a:p>
            <a:pPr marL="597240" indent="-5972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انسياب الحر للمعلومات داخل الفريق</a:t>
            </a:r>
            <a:endParaRPr b="0" lang="en-US" sz="3200" spc="-1" strike="noStrike">
              <a:solidFill>
                <a:srgbClr val="eaeaea"/>
              </a:solidFill>
              <a:latin typeface="Verdan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العادة السابعة : شحذ المنشار ( التجديد ) </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د المنشار قد لا يستطيع القطع خلال الأخشاب مع كثرة الاستعمال، ويكون الحد في حالة لاتسمح باستخدامه بفعالية . ولكي نعمل بفعالية نحتاج إلى شحذ المنشار . بمعنى آخر نحتاج إلى صيانة وتطوير أنفسنا . ومفتاح النجاح لشحذ المنشار يكمن في العمل بصفة دوريه على الأبعاد الأربعة للتجديد : البدنية / العقلية / الاجتماعية / الروحانية (نحتاج للعمل لمدة </a:t>
            </a:r>
            <a:r>
              <a:rPr b="0" lang="ar-SA" sz="2800" spc="-1" strike="noStrike">
                <a:solidFill>
                  <a:srgbClr val="eaeaea"/>
                </a:solidFill>
                <a:latin typeface="Verdana"/>
              </a:rPr>
              <a:t>3</a:t>
            </a:r>
            <a:r>
              <a:rPr b="0" lang="ar-SA" sz="2800" spc="-1" strike="noStrike">
                <a:solidFill>
                  <a:srgbClr val="eaeaea"/>
                </a:solidFill>
                <a:latin typeface="Verdana"/>
              </a:rPr>
              <a:t> ساعات تقريباً اسبوعياً على الاربع مناطق والصلوات مثلاً تستغرق مايقارب ساعتين على اقل تقدير اسبوعياً). </a:t>
            </a:r>
            <a:br>
              <a:rPr sz="2800"/>
            </a:br>
            <a:r>
              <a:rPr b="0" lang="ar-SA" sz="2800" spc="-1" strike="noStrike">
                <a:solidFill>
                  <a:srgbClr val="eaeaea"/>
                </a:solidFill>
                <a:latin typeface="Verdana"/>
              </a:rPr>
              <a:t>هل أمارس تطوير مستمر في الأبعاد الأربعة في حياتي : البدنية ، العقلية ، الاجتماعية ، الروحانية ؟ </a:t>
            </a:r>
            <a:endParaRPr b="0" lang="en-US" sz="2800" spc="-1" strike="noStrike">
              <a:solidFill>
                <a:srgbClr val="eaeaea"/>
              </a:solidFill>
              <a:latin typeface="Verdan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عادة الخامسة : حاول أن تفهم أولا ليسهل فهمك . ( الاتصال ) </a:t>
            </a:r>
            <a:br>
              <a:rPr sz="4000"/>
            </a:br>
            <a:endParaRPr b="0" lang="en-US" sz="40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دما نستمع بقصد الفهم تصبح اتصالاتنا اكثر فعالية . وندع تحوير كل شيء حسب رغباتنا ونوقف قراءة توجهاتنا في حياة الآخرين ونبدأ في الاهتمام بما يحاول الآخرون قوله ونكون مستعدين اكثر للإنصات بقصد الفهم والتجاوب. والجزء الثاني من هذه العادة أن تحاول أن يفهمك الآخرين تحتاج إلى الجراءة والمهارة ، الجراءة في التعبير عن مشاعرك الحقيقية بتفتح ، ومهارة لتبين بشكل جيد وجهة نظرك بناء على قدرات الآخرين . </a:t>
            </a:r>
            <a:br>
              <a:rPr sz="3200"/>
            </a:br>
            <a:r>
              <a:rPr b="0" lang="ar-SA" sz="3200" spc="-1" strike="noStrike">
                <a:solidFill>
                  <a:srgbClr val="eaeaea"/>
                </a:solidFill>
                <a:latin typeface="Verdana"/>
              </a:rPr>
              <a:t>هل أتحاشى الردود المتحيزة وبدلاً منها اعبر عن مافهمتة من الآخرين قبل محاولة افهامهم؟ </a:t>
            </a:r>
            <a:endParaRPr b="0" lang="en-US" sz="3200" spc="-1" strike="noStrike">
              <a:solidFill>
                <a:srgbClr val="eaeaea"/>
              </a:solidFill>
              <a:latin typeface="Verdan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الاتصال</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aeaea"/>
                </a:solidFill>
                <a:latin typeface="Verdana"/>
              </a:rPr>
              <a:t>الفهم وكسب قلوب الناس</a:t>
            </a:r>
            <a:endParaRPr b="0" lang="en-US" sz="44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aeaea"/>
                </a:solidFill>
                <a:latin typeface="Verdana"/>
              </a:rPr>
              <a:t>الانصات العميق</a:t>
            </a:r>
            <a:endParaRPr b="0" lang="en-US" sz="44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aeaea"/>
                </a:solidFill>
                <a:latin typeface="Verdana"/>
              </a:rPr>
              <a:t>الحوار الواعي</a:t>
            </a:r>
            <a:endParaRPr b="0" lang="en-US" sz="4400" spc="-1" strike="noStrike">
              <a:solidFill>
                <a:srgbClr val="eaeaea"/>
              </a:solidFill>
              <a:latin typeface="Verdan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محتويات</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aeaea"/>
                </a:solidFill>
                <a:latin typeface="Verdana"/>
              </a:rPr>
              <a:t>عادات النجاح السبع</a:t>
            </a:r>
            <a:endParaRPr b="0" lang="en-US" sz="44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aeaea"/>
                </a:solidFill>
                <a:latin typeface="Verdana"/>
              </a:rPr>
              <a:t>كيف تكسب الأصدقاء وتؤثر في الناس</a:t>
            </a:r>
            <a:endParaRPr b="0" lang="en-US" sz="4400" spc="-1" strike="noStrike">
              <a:solidFill>
                <a:srgbClr val="eaeaea"/>
              </a:solidFill>
              <a:latin typeface="Verdana"/>
            </a:endParaRPr>
          </a:p>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aeaea"/>
                </a:solidFill>
                <a:latin typeface="Verdana"/>
              </a:rPr>
              <a:t>مهارات الاتصال</a:t>
            </a:r>
            <a:endParaRPr b="0" lang="en-US" sz="4400" spc="-1" strike="noStrike">
              <a:solidFill>
                <a:srgbClr val="eaeaea"/>
              </a:solidFill>
              <a:latin typeface="Verdana"/>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كيف تكسب الأصدقاء .. وتؤثر في الناس</a:t>
            </a:r>
            <a:endParaRPr b="0" lang="en-US" sz="5700" spc="-1" strike="noStrike">
              <a:solidFill>
                <a:srgbClr val="ffffcc"/>
              </a:solidFill>
              <a:latin typeface="Arial"/>
            </a:endParaRPr>
          </a:p>
        </p:txBody>
      </p:sp>
      <p:sp>
        <p:nvSpPr>
          <p:cNvPr id="16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aeaea"/>
                </a:solidFill>
                <a:latin typeface="Verdana"/>
              </a:rPr>
              <a:t>دايل كرنيجي</a:t>
            </a:r>
            <a:endParaRPr b="0" lang="en-US" sz="3600" spc="-1" strike="noStrike">
              <a:solidFill>
                <a:srgbClr val="eaeaea"/>
              </a:solidFill>
              <a:latin typeface="Verdana"/>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كما ترغب أن تكون متحدثاً جيداً.. فعليك بالمقابل أن تجيد فن الإصغاء لمن يحدثك.. فمقاطعتك له تضيع أفكاره وتفقده السيطرة على حديثه.. وبالتالي تجعله يفقد احترامه لك.. لأن إصغائك له يحسسه بأهميته عندك.</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ول أن تنتقي كلماتك.. فكل مصطلح تجد له الكثير من المرادفات فاختر أجملها.. كما عليك أن تختار موضوعاً محبباً للحديث.. وأن تبتعد عما ينفر الناس من المواضيع.. فحديثك دليل شخصيتك.</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ول أن تبدو مبتسماً هاشاً باشاً دائماً.. فهذا يجعلك مقبولاً لدى الناس حتى ممن لم يعرفوك جيداً.. فالابتسامة تعرف طريقها إلى القلب.</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ول أن تركز على الأشياء الجميلة فيمن تتعامل معه.. وتبرزها فلكل منا عيوب ومزايا.. وإن أردت التحدث عن عيوب شخص فلا تجابهه بها ولكن حاول أن تعرضها له بطريقة لبقة وغير مباشرة كأن تتحدث عنها في إنسان آخر من خيالك.. وسيقيسها هو على نفسه.</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ول أن تكون متعاوناً مع الآخرين في حدود مقدرتك.. ولكن عندما يطلب ذلك حتى تبتعد عن الفضول.</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ول أن تقلل من المزاح.. فهو ليس مقبولاً عند كل الناس.. وقد يكون مزاحك ثقيلاً فتفقد من خلاله من تحب.. وعليك اختيار الوقت المناسب لذلك.</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بتعد عن التلون والظهور بأكثر من وجه.. فسيأتي عليك يوم وتتكشف أقنعتك.</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بتعد عن التكلف بالكلام والتصرفات.. ودعك على طبيعتك مع الحرص على عدم فقدان الاتزان.. وفكر بما تقوله قبل أن تنطق به.</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حاول الادعاء بما ليس لديك.. فقد توضع في موقف لا تحسد عليه.. ولا تخجل من وضعك حتى لو لم يكن بمستوى وضع غيرك فهذا ليس عيباً.. ولكن العيب الزيف عندما ينكشف.</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عادات السبع للنجاح (ستيفن كوفي)</a:t>
            </a:r>
            <a:br>
              <a:rPr sz="4000"/>
            </a:b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1</a:t>
            </a:r>
            <a:r>
              <a:rPr b="1" lang="ar-SA" sz="2800" spc="-1" strike="noStrike">
                <a:solidFill>
                  <a:srgbClr val="eaeaea"/>
                </a:solidFill>
                <a:latin typeface="Verdana"/>
              </a:rPr>
              <a:t>. الشعور بالمسؤولية والمبادرة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2</a:t>
            </a:r>
            <a:r>
              <a:rPr b="1" lang="ar-SA" sz="2800" spc="-1" strike="noStrike">
                <a:solidFill>
                  <a:srgbClr val="eaeaea"/>
                </a:solidFill>
                <a:latin typeface="Verdana"/>
              </a:rPr>
              <a:t> . ركز على الأهداف والغايات </a:t>
            </a:r>
            <a:endParaRPr b="0" lang="en-US" sz="2800" spc="-1" strike="noStrike">
              <a:solidFill>
                <a:srgbClr val="eaeaea"/>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3</a:t>
            </a:r>
            <a:r>
              <a:rPr b="1" lang="ar-SA" sz="2800" spc="-1" strike="noStrike">
                <a:solidFill>
                  <a:srgbClr val="eaeaea"/>
                </a:solidFill>
                <a:latin typeface="Verdana"/>
              </a:rPr>
              <a:t>. نظم وقتك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4</a:t>
            </a:r>
            <a:r>
              <a:rPr b="1" lang="ar-SA" sz="2800" spc="-1" strike="noStrike">
                <a:solidFill>
                  <a:srgbClr val="eaeaea"/>
                </a:solidFill>
                <a:latin typeface="Verdana"/>
              </a:rPr>
              <a:t>. اربح وربح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5</a:t>
            </a:r>
            <a:r>
              <a:rPr b="1" lang="ar-SA" sz="2800" spc="-1" strike="noStrike">
                <a:solidFill>
                  <a:srgbClr val="eaeaea"/>
                </a:solidFill>
                <a:latin typeface="Verdana"/>
              </a:rPr>
              <a:t>. مارس مهارات التفاهم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6</a:t>
            </a:r>
            <a:r>
              <a:rPr b="1" lang="ar-SA" sz="2800" spc="-1" strike="noStrike">
                <a:solidFill>
                  <a:srgbClr val="eaeaea"/>
                </a:solidFill>
                <a:latin typeface="Verdana"/>
              </a:rPr>
              <a:t>. كون بريق منسجم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7</a:t>
            </a:r>
            <a:r>
              <a:rPr b="1" lang="ar-SA" sz="2800" spc="-1" strike="noStrike">
                <a:solidFill>
                  <a:srgbClr val="eaeaea"/>
                </a:solidFill>
                <a:latin typeface="Verdana"/>
              </a:rPr>
              <a:t>. جدد طاقاتك .</a:t>
            </a:r>
            <a:br>
              <a:rPr sz="2800"/>
            </a:br>
            <a:r>
              <a:rPr b="1" lang="ar-SA" sz="2800" spc="-1" strike="noStrike">
                <a:solidFill>
                  <a:srgbClr val="eaeaea"/>
                </a:solidFill>
                <a:latin typeface="Verdana"/>
              </a:rPr>
              <a:t> </a:t>
            </a:r>
            <a:endParaRPr b="0" lang="en-US" sz="2800" spc="-1" strike="noStrike">
              <a:solidFill>
                <a:srgbClr val="eaeaea"/>
              </a:solidFill>
              <a:latin typeface="Verdana"/>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ختر الأوقات المناسبة للزيارة.. ولا تكثرها.. وحاول أن تكون بدعوة.. وإن قمت بزيارة أحد فحاول أن تكون خفيفاً لطيفاً.. فقد يكون لدى مضيفك أعمال وواجبات يخجل أن يصرح لك بها، ووجودك يمنعه من إنجازها.</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كن لحوحاً في طلب حاجتك..لا تحاول إحراج من تطلب إليه قضاؤها.. وحاول أن تبدي له أنك تعذره في حالة عدم تنفيذها وأنها لن تؤثر على العلاقة بينكما.</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 dur="1000"/>
                                        <p:tgtEl>
                                          <p:spTgt spid="185">
                                            <p:txEl>
                                              <p:pRg st="0" end="0"/>
                                            </p:txEl>
                                          </p:spTgt>
                                        </p:tgtEl>
                                      </p:cBhvr>
                                    </p:animEffect>
                                    <p:anim calcmode="lin" valueType="num">
                                      <p:cBhvr additive="repl">
                                        <p:cTn id="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18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8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حافظ على مواعيدك مع الناس واحترمها.. فاحترامك لها معهم.. سيكون من احترامك لهم.. وبالتالي سيبادلونك الاحترام ذاته.</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بتعد عن الثرثرة.. فهو سلوك بغيض ينفر الناس منك ويحط من قدرك لديهم.</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ليك بالتواضع -بغير ذلة- مهما بلغت منزلتك، فهو من أجمل الأخلاق.. فإنه يرفع من قدرك ويجعلك تبدو أكثر ثقة بنفسك.. وبالتالي سيجعل الناس يحرصون على ملازمتك وحبك.</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اللمسات العشر الانسانية</a:t>
            </a:r>
            <a:endParaRPr b="0" lang="en-US" sz="5700" spc="-1" strike="noStrike">
              <a:solidFill>
                <a:srgbClr val="ffffcc"/>
              </a:solidFill>
              <a:latin typeface="Arial"/>
            </a:endParaRPr>
          </a:p>
        </p:txBody>
      </p:sp>
      <p:sp>
        <p:nvSpPr>
          <p:cNvPr id="19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cc"/>
                </a:solidFill>
                <a:latin typeface="Arial"/>
              </a:rPr>
              <a:t>HUMAN TOUCH</a:t>
            </a:r>
            <a:endParaRPr b="0" lang="en-US" sz="5300" spc="-1" strike="noStrike">
              <a:solidFill>
                <a:srgbClr val="ffffcc"/>
              </a:solidFill>
              <a:latin typeface="Arial"/>
            </a:endParaRPr>
          </a:p>
        </p:txBody>
      </p:sp>
      <p:sp>
        <p:nvSpPr>
          <p:cNvPr id="195" name="PlaceHolder 2"/>
          <p:cNvSpPr>
            <a:spLocks noGrp="1"/>
          </p:cNvSpPr>
          <p:nvPr>
            <p:ph/>
          </p:nvPr>
        </p:nvSpPr>
        <p:spPr>
          <a:xfrm>
            <a:off x="250920" y="155700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HEAR HIM</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UNDERSTAND HIS FEELING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MOTIVATE HIS DESIRE</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PPRECIATE HIS EFFORT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NEWS HIM</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TRAIN HIM</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OPEN HIS EYE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NDERSTAND HIS UNIGUENESS </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CONTACT HIM</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HONOUR  HIM</a:t>
            </a:r>
            <a:endParaRPr b="0" lang="en-US" sz="2800" spc="-1" strike="noStrike">
              <a:solidFill>
                <a:srgbClr val="eaeaea"/>
              </a:solidFill>
              <a:latin typeface="Verdan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وسائل الاتصال</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حديث</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قراءة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كتابة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لاستماع</a:t>
            </a:r>
            <a:endParaRPr b="0" lang="en-US" sz="3200" spc="-1" strike="noStrike">
              <a:solidFill>
                <a:srgbClr val="eaeaea"/>
              </a:solidFill>
              <a:latin typeface="Verdan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فنون الحوار</a:t>
            </a:r>
            <a:endParaRPr b="0" lang="en-US" sz="5700" spc="-1" strike="noStrike">
              <a:solidFill>
                <a:srgbClr val="ffffcc"/>
              </a:solidFill>
              <a:latin typeface="Arial"/>
            </a:endParaRPr>
          </a:p>
        </p:txBody>
      </p:sp>
      <p:sp>
        <p:nvSpPr>
          <p:cNvPr id="19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21 </a:t>
            </a:r>
            <a:r>
              <a:rPr b="0" lang="hi-IN" sz="3600" spc="-1" strike="noStrike">
                <a:solidFill>
                  <a:srgbClr val="eaeaea"/>
                </a:solidFill>
                <a:latin typeface="Verdana"/>
              </a:rPr>
              <a:t>تقنية لقيادة الحوار مستقاة من الهدي النبوي</a:t>
            </a:r>
            <a:endParaRPr b="0" lang="en-US" sz="3600" spc="-1" strike="noStrike">
              <a:solidFill>
                <a:srgbClr val="eaeaea"/>
              </a:solidFill>
              <a:latin typeface="Verdan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ثال </a:t>
            </a:r>
            <a:r>
              <a:rPr b="0" lang="en-US" sz="4400" spc="-1" strike="noStrike">
                <a:solidFill>
                  <a:srgbClr val="ffffcc"/>
                </a:solidFill>
                <a:latin typeface="Arial"/>
              </a:rPr>
              <a:t>1</a:t>
            </a: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 ابي أمامة رضي الله عنه:ان فتى شابا أتى النبي (ص) فقال: يا رسول الله أئذن لي بالزنا,فقال(ص)</a:t>
            </a:r>
            <a:r>
              <a:rPr b="0" lang="ar-SA" sz="3200" spc="-1" strike="noStrike">
                <a:solidFill>
                  <a:srgbClr val="000000"/>
                </a:solidFill>
                <a:latin typeface="Verdana"/>
              </a:rPr>
              <a:t>أدن</a:t>
            </a:r>
            <a:r>
              <a:rPr b="0" lang="ar-SA" sz="3200" spc="-1" strike="noStrike">
                <a:solidFill>
                  <a:srgbClr val="eaeaea"/>
                </a:solidFill>
                <a:latin typeface="Verdana"/>
              </a:rPr>
              <a:t>,فدنا منه قريبا,قال:</a:t>
            </a:r>
            <a:r>
              <a:rPr b="0" lang="ar-SA" sz="3200" spc="-1" strike="noStrike">
                <a:solidFill>
                  <a:srgbClr val="000000"/>
                </a:solidFill>
                <a:latin typeface="Verdana"/>
              </a:rPr>
              <a:t> اجلس</a:t>
            </a:r>
            <a:r>
              <a:rPr b="0" lang="ar-SA" sz="3200" spc="-1" strike="noStrike">
                <a:solidFill>
                  <a:srgbClr val="eaeaea"/>
                </a:solidFill>
                <a:latin typeface="Verdana"/>
              </a:rPr>
              <a:t>, فجلس, فقال أتحبه لأمك قال:لا والله,جعلني الله فدائك,:و</a:t>
            </a:r>
            <a:r>
              <a:rPr b="0" lang="ar-SA" sz="3200" spc="-1" strike="noStrike">
                <a:solidFill>
                  <a:srgbClr val="000000"/>
                </a:solidFill>
                <a:latin typeface="Verdana"/>
              </a:rPr>
              <a:t>لا الناس يحبونه لأمهاتهم</a:t>
            </a:r>
            <a:r>
              <a:rPr b="0" lang="ar-SA" sz="3200" spc="-1" strike="noStrike">
                <a:solidFill>
                  <a:srgbClr val="eaeaea"/>
                </a:solidFill>
                <a:latin typeface="Verdana"/>
              </a:rPr>
              <a:t>,قال :</a:t>
            </a:r>
            <a:r>
              <a:rPr b="0" lang="ar-SA" sz="3200" spc="-1" strike="noStrike">
                <a:solidFill>
                  <a:srgbClr val="000000"/>
                </a:solidFill>
                <a:latin typeface="Verdana"/>
              </a:rPr>
              <a:t>اتحبه لأختك</a:t>
            </a:r>
            <a:r>
              <a:rPr b="0" lang="ar-SA" sz="3200" spc="-1" strike="noStrike">
                <a:solidFill>
                  <a:srgbClr val="eaeaea"/>
                </a:solidFill>
                <a:latin typeface="Verdana"/>
              </a:rPr>
              <a:t> قال: لا والله جعلني الله فداك, قال </a:t>
            </a:r>
            <a:r>
              <a:rPr b="0" lang="ar-SA" sz="3200" spc="-1" strike="noStrike">
                <a:solidFill>
                  <a:srgbClr val="000000"/>
                </a:solidFill>
                <a:latin typeface="Verdana"/>
              </a:rPr>
              <a:t>ولا الناس يحبونه لأخواتهم,</a:t>
            </a:r>
            <a:r>
              <a:rPr b="0" lang="ar-SA" sz="3200" spc="-1" strike="noStrike">
                <a:solidFill>
                  <a:srgbClr val="eaeaea"/>
                </a:solidFill>
                <a:latin typeface="Verdana"/>
              </a:rPr>
              <a:t> قال </a:t>
            </a:r>
            <a:r>
              <a:rPr b="0" lang="ar-SA" sz="3200" spc="-1" strike="noStrike">
                <a:solidFill>
                  <a:srgbClr val="000000"/>
                </a:solidFill>
                <a:latin typeface="Verdana"/>
              </a:rPr>
              <a:t>اتحبه لعمتك</a:t>
            </a:r>
            <a:r>
              <a:rPr b="0" lang="ar-SA" sz="3200" spc="-1" strike="noStrike">
                <a:solidFill>
                  <a:srgbClr val="eaeaea"/>
                </a:solidFill>
                <a:latin typeface="Verdana"/>
              </a:rPr>
              <a:t> قال: لا والله جعلني الله فداك. قال </a:t>
            </a:r>
            <a:r>
              <a:rPr b="0" lang="ar-SA" sz="3200" spc="-1" strike="noStrike">
                <a:solidFill>
                  <a:srgbClr val="000000"/>
                </a:solidFill>
                <a:latin typeface="Verdana"/>
              </a:rPr>
              <a:t>ولا الناس يحبونه لعماتهم</a:t>
            </a:r>
            <a:r>
              <a:rPr b="0" lang="ar-SA" sz="3200" spc="-1" strike="noStrike">
                <a:solidFill>
                  <a:srgbClr val="eaeaea"/>
                </a:solidFill>
                <a:latin typeface="Verdana"/>
              </a:rPr>
              <a:t>, قال اتحبه لخالتك        </a:t>
            </a:r>
            <a:endParaRPr b="0" lang="en-US" sz="3200" spc="-1" strike="noStrike">
              <a:solidFill>
                <a:srgbClr val="eaeaea"/>
              </a:solidFill>
              <a:latin typeface="Verdana"/>
            </a:endParaRPr>
          </a:p>
          <a:p>
            <a:pPr marL="298440" indent="-2984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فوضع يده عليه</a:t>
            </a:r>
            <a:r>
              <a:rPr b="0" lang="ar-SA" sz="3200" spc="-1" strike="noStrike">
                <a:solidFill>
                  <a:srgbClr val="eaeaea"/>
                </a:solidFill>
                <a:latin typeface="Verdana"/>
              </a:rPr>
              <a:t> وقال ا</a:t>
            </a:r>
            <a:r>
              <a:rPr b="0" lang="ar-SA" sz="3200" spc="-1" strike="noStrike">
                <a:solidFill>
                  <a:srgbClr val="000000"/>
                </a:solidFill>
                <a:latin typeface="Verdana"/>
              </a:rPr>
              <a:t>للهم اغفر ذنبه وطهر قلبه واحصن فرجه, </a:t>
            </a:r>
            <a:r>
              <a:rPr b="0" lang="ar-SA" sz="3200" spc="-1" strike="noStrike">
                <a:solidFill>
                  <a:srgbClr val="eaeaea"/>
                </a:solidFill>
                <a:latin typeface="Verdana"/>
              </a:rPr>
              <a:t>فلم يكن الفتى بعد ذلك يلتفت الى شئ.</a:t>
            </a:r>
            <a:endParaRPr b="0" lang="en-US" sz="3200" spc="-1" strike="noStrike">
              <a:solidFill>
                <a:srgbClr val="eaeaea"/>
              </a:solidFill>
              <a:latin typeface="Verdan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6000"/>
          </a:bodyPr>
          <a:p>
            <a:pPr marL="260640" indent="-260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ادة الأولى : كن سباق ،مبادر . (الرؤية الشخصية)</a:t>
            </a:r>
            <a:endParaRPr b="0" lang="en-US" sz="2800" spc="-1" strike="noStrike">
              <a:solidFill>
                <a:srgbClr val="eaeaea"/>
              </a:solidFill>
              <a:latin typeface="Verdana"/>
            </a:endParaRPr>
          </a:p>
          <a:p>
            <a:pPr lvl="1" marL="564480" indent="-217080" algn="r" rtl="1">
              <a:lnSpc>
                <a:spcPct val="80000"/>
              </a:lnSpc>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3200" spc="-1" strike="noStrike">
                <a:solidFill>
                  <a:srgbClr val="eaeaea"/>
                </a:solidFill>
                <a:latin typeface="Verdana"/>
              </a:rPr>
              <a:t>كل إنسان لديه القوة لاتخاذ قراراته الشخصية ، وعندما يستخدم الإنسان هذه القوة لاختيار ردة فعله بناء على مبادئه الشخصية يكون سباق ،(ان الله لايغير مابقوم حتى يغيروا مابأنفسهم)،والأنسان السباق يعمل على الأشياء التي يملك القدرة على التحكم بها ( دائرة التأثير )بدلاً من الانشغال بالأشياء التي لا يستطيع التحكم بها ( دائرة الاهتمامات )، وهو يستخدم هذه القوه بإيجابية للتأثير على الأحداث وتوسيع دائرة التأثير. </a:t>
            </a:r>
            <a:br>
              <a:rPr sz="3200"/>
            </a:br>
            <a:r>
              <a:rPr b="0" lang="ar-SA" sz="3200" spc="-1" strike="noStrike">
                <a:solidFill>
                  <a:srgbClr val="eaeaea"/>
                </a:solidFill>
                <a:latin typeface="Verdana"/>
              </a:rPr>
              <a:t>هل تنبع تصرفاتي بناء على اختياري الشخصي حسب ما تمليه علي مبادئي أم بناء على وضعي ومشاعري والظروف؟ </a:t>
            </a:r>
            <a:endParaRPr b="0" lang="en-US" sz="3200" spc="-1" strike="noStrike">
              <a:solidFill>
                <a:srgbClr val="eaeaea"/>
              </a:solidFill>
              <a:latin typeface="Verdana"/>
            </a:endParaRPr>
          </a:p>
          <a:p>
            <a:pPr lvl="1" marL="564480" indent="-217080" algn="r" rtl="1">
              <a:lnSpc>
                <a:spcPct val="80000"/>
              </a:lnSpc>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Arial"/>
              </a:rPr>
              <a:t>الدروس المستفادة</a:t>
            </a:r>
            <a:endParaRPr b="0" lang="en-US" sz="48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حدد:</a:t>
            </a:r>
            <a:endParaRPr b="0" lang="en-US" sz="4800" spc="-1" strike="noStrike">
              <a:solidFill>
                <a:srgbClr val="eaeaea"/>
              </a:solidFill>
              <a:latin typeface="Verdan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دد مستمعك,حدد هدفك حدد ان تكون قائدا فيتغير الموقف أم مقودا فتكون سلبيا</a:t>
            </a:r>
            <a:endParaRPr b="0" lang="en-US" sz="2400" spc="-1" strike="noStrike">
              <a:solidFill>
                <a:srgbClr val="eaeaea"/>
              </a:solidFill>
              <a:latin typeface="Verdana"/>
            </a:endParaRPr>
          </a:p>
          <a:p>
            <a:pPr marL="343080" indent="-343080" algn="r" rtl="1">
              <a:lnSpc>
                <a:spcPct val="8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القرب النفسي:</a:t>
            </a:r>
            <a:endParaRPr b="0" lang="en-US" sz="4800" spc="-1" strike="noStrike">
              <a:solidFill>
                <a:srgbClr val="eaeaea"/>
              </a:solidFill>
              <a:latin typeface="Verdan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سماح بالجلوس الى جوارك وعدم زجره وان تصدق في حبه وبلا شروط كل ذلك يدل علا القرب</a:t>
            </a:r>
            <a:endParaRPr b="0" lang="en-US" sz="2400" spc="-1" strike="noStrike">
              <a:solidFill>
                <a:srgbClr val="eaeaea"/>
              </a:solidFill>
              <a:latin typeface="Verdana"/>
            </a:endParaRPr>
          </a:p>
          <a:p>
            <a:pPr marL="343080" indent="-343080" algn="r" rtl="1">
              <a:lnSpc>
                <a:spcPct val="8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النظر بمنظاره:</a:t>
            </a:r>
            <a:endParaRPr b="0" lang="en-US" sz="4800" spc="-1" strike="noStrike">
              <a:solidFill>
                <a:srgbClr val="eaeaea"/>
              </a:solidFill>
              <a:latin typeface="Verdan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تى تنقل الانسان الاخر من زاويته ال زاويتك,فابدا بأن تنتقل انت الى زاويته ثم تسير معه الى زاويتك, فيعتقد أنها زاويته ثم تسير معه الى زاوينك, فيعتقد أنها زاويته</a:t>
            </a:r>
            <a:endParaRPr b="0" lang="en-US" sz="2400" spc="-1" strike="noStrike">
              <a:solidFill>
                <a:srgbClr val="eaeaea"/>
              </a:solidFill>
              <a:latin typeface="Verdan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ابدا بنقاط الاتفاق </a:t>
            </a:r>
            <a:endParaRPr b="0" lang="en-US" sz="4800" spc="-1" strike="noStrike">
              <a:solidFill>
                <a:srgbClr val="eaeaea"/>
              </a:solidFill>
              <a:latin typeface="Verdana"/>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دع الرجل الأخر يكثر معك نقاط الالتقاء </a:t>
            </a:r>
            <a:endParaRPr b="0" lang="en-US" sz="2800" spc="-1" strike="noStrike">
              <a:solidFill>
                <a:srgbClr val="eaeaea"/>
              </a:solidFill>
              <a:latin typeface="Verdana"/>
            </a:endParaRPr>
          </a:p>
          <a:p>
            <a:pPr marL="339480" indent="-339480" algn="r" rtl="1">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اثارة السؤال </a:t>
            </a:r>
            <a:endParaRPr b="0" lang="en-US" sz="4800" spc="-1" strike="noStrike">
              <a:solidFill>
                <a:srgbClr val="eaeaea"/>
              </a:solidFill>
              <a:latin typeface="Verdana"/>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فالسؤال مصدر اثارة للانتباه لان فيه مجهولا وترغيبا فتحبه النفس </a:t>
            </a:r>
            <a:endParaRPr b="0" lang="en-US" sz="2800" spc="-1" strike="noStrike">
              <a:solidFill>
                <a:srgbClr val="eaeaea"/>
              </a:solidFill>
              <a:latin typeface="Verdana"/>
            </a:endParaRPr>
          </a:p>
          <a:p>
            <a:pPr marL="339480" indent="-339480" algn="r" rtl="1">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aeaea"/>
                </a:solidFill>
                <a:latin typeface="Verdana"/>
              </a:rPr>
              <a:t>اللمسات الحانية </a:t>
            </a:r>
            <a:endParaRPr b="0" lang="en-US" sz="4800" spc="-1" strike="noStrike">
              <a:solidFill>
                <a:srgbClr val="eaeaea"/>
              </a:solidFill>
              <a:latin typeface="Verdana"/>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وضع اليد على الصدر,الكلمة الطيبة, الدعاء,الاكثار من اللمسات السحرية</a:t>
            </a:r>
            <a:endParaRPr b="0" lang="en-US" sz="2800" spc="-1" strike="noStrike">
              <a:solidFill>
                <a:srgbClr val="eaeaea"/>
              </a:solidFill>
              <a:latin typeface="Verdan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ثال </a:t>
            </a:r>
            <a:r>
              <a:rPr b="0" lang="en-US" sz="4400" spc="-1" strike="noStrike">
                <a:solidFill>
                  <a:srgbClr val="ffffcc"/>
                </a:solidFill>
                <a:latin typeface="Arial"/>
              </a:rPr>
              <a:t>2</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ن انس رضي الله عنه قال كان (ص)أحسن الناس خلقا .وكان لي اخ يقال له أبو عمير وهو فطيم . كان اذا جاءنا (ص) قال يا أبا عمير ما فعل النغير. وهو طائر صغير لنغر كان يلعب به , وربما حضرت الصلاة وهو في بي تنا فيامرنا  بالبساط اللذي تحته فيكنس ثم ينفخ ,ثم يقوم ونقوم خلفه فيصلي بنا.</a:t>
            </a:r>
            <a:endParaRPr b="0" lang="en-US" sz="3200" spc="-1" strike="noStrike">
              <a:solidFill>
                <a:srgbClr val="eaeaea"/>
              </a:solidFill>
              <a:latin typeface="Verdana"/>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0000"/>
          </a:bodyPr>
          <a:p>
            <a:pPr marL="240120" indent="-24012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Verdana"/>
              </a:rPr>
              <a:t>حسسه بالاهتمام: </a:t>
            </a:r>
            <a:endParaRPr b="0" lang="en-US" sz="4400" spc="-1" strike="noStrike">
              <a:solidFill>
                <a:srgbClr val="eaeaea"/>
              </a:solidFill>
              <a:latin typeface="Verdana"/>
            </a:endParaRPr>
          </a:p>
          <a:p>
            <a:pPr marL="240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eaeaea"/>
                </a:solidFill>
                <a:latin typeface="Verdana"/>
              </a:rPr>
              <a:t>  التواضع له, الابتسامة, الكنى, التكلم بما يناسب ادراكه وعقله</a:t>
            </a:r>
            <a:endParaRPr b="0" lang="en-US" sz="2800" spc="-1" strike="noStrike">
              <a:solidFill>
                <a:srgbClr val="eaeaea"/>
              </a:solidFill>
              <a:latin typeface="Verdana"/>
            </a:endParaRPr>
          </a:p>
          <a:p>
            <a:pPr marL="240120" indent="-24012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000000"/>
                </a:solidFill>
                <a:uFillTx/>
                <a:latin typeface="Verdana"/>
              </a:rPr>
              <a:t>الخلفية المسبقة:</a:t>
            </a:r>
            <a:endParaRPr b="0" lang="en-US" sz="4400" spc="-1" strike="noStrike">
              <a:solidFill>
                <a:srgbClr val="eaeaea"/>
              </a:solidFill>
              <a:latin typeface="Verdana"/>
            </a:endParaRPr>
          </a:p>
          <a:p>
            <a:pPr marL="240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eaeaea"/>
                </a:solidFill>
                <a:latin typeface="Verdana"/>
              </a:rPr>
              <a:t>السؤال عن اهتماماته وهمومه ومشاكله ونفسيته      تشعره بانك تعرفه جيدا</a:t>
            </a:r>
            <a:endParaRPr b="0" lang="en-US" sz="2400" spc="-1" strike="noStrike">
              <a:solidFill>
                <a:srgbClr val="eaeaea"/>
              </a:solidFill>
              <a:latin typeface="Verdana"/>
            </a:endParaRPr>
          </a:p>
          <a:p>
            <a:pPr marL="240120" indent="-24012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000000"/>
                </a:solidFill>
                <a:uFillTx/>
                <a:latin typeface="Verdana"/>
              </a:rPr>
              <a:t>   التأدب, </a:t>
            </a:r>
            <a:endParaRPr b="0" lang="en-US" sz="4400" spc="-1" strike="noStrike">
              <a:solidFill>
                <a:srgbClr val="eaeaea"/>
              </a:solidFill>
              <a:latin typeface="Verdana"/>
            </a:endParaRPr>
          </a:p>
          <a:p>
            <a:pPr marL="240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u="sng">
                <a:solidFill>
                  <a:srgbClr val="000000"/>
                </a:solidFill>
                <a:uFillTx/>
                <a:latin typeface="Verdana"/>
              </a:rPr>
              <a:t> </a:t>
            </a:r>
            <a:r>
              <a:rPr b="1" i="1" lang="ar-SA" sz="2400" spc="-1" strike="noStrike" u="sng">
                <a:solidFill>
                  <a:srgbClr val="eaeaea"/>
                </a:solidFill>
                <a:uFillTx/>
                <a:latin typeface="Verdana"/>
              </a:rPr>
              <a:t>بالتواضع, عندها تملك أقوى سلاح للتاثير وجذب الأخرين. ان تتأدب حتى مع من هم أقل منك عمرا ومعرفة</a:t>
            </a:r>
            <a:endParaRPr b="0" lang="en-US" sz="2400" spc="-1" strike="noStrike">
              <a:solidFill>
                <a:srgbClr val="eaeaea"/>
              </a:solidFill>
              <a:latin typeface="Verdana"/>
            </a:endParaRPr>
          </a:p>
          <a:p>
            <a:pPr marL="2401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a:p>
            <a:pPr marL="240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40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eaeaea"/>
                </a:solidFill>
                <a:latin typeface="Verdana"/>
              </a:rPr>
              <a:t>ا</a:t>
            </a:r>
            <a:endParaRPr b="0" lang="en-US" sz="2800" spc="-1" strike="noStrike">
              <a:solidFill>
                <a:srgbClr val="eaeaea"/>
              </a:solidFill>
              <a:latin typeface="Verdan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ثال </a:t>
            </a:r>
            <a:r>
              <a:rPr b="0" lang="en-US" sz="4400" spc="-1" strike="noStrike">
                <a:solidFill>
                  <a:srgbClr val="ffffcc"/>
                </a:solidFill>
                <a:latin typeface="Arial"/>
              </a:rPr>
              <a:t>2</a:t>
            </a: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روى  ان عتبة بن ربيعة جلس الى رسول الله (ص) فقال له: يا ابن أخى انك منا حيث قد علمت من السلطة في العشيرة والمكان من النسب وانك قد أتيت قومك بأمر عظيم , فرقت به جماعتهم, وسفهت به أحلامهم وعبت به آلهتهم وكفرت به من مضى من ابائهم . فاسمع مني أعرض عليك أمورا لعلك تقبل بعضها فقال رسول الله (ص): قل يا أبو الوليد اسمع؟ </a:t>
            </a:r>
            <a:endParaRPr b="0" lang="en-US" sz="2800" spc="-1" strike="noStrike">
              <a:solidFill>
                <a:srgbClr val="eaeaea"/>
              </a:solidFill>
              <a:latin typeface="Verdan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قال له عتبة ما قال, حتى اذا فرغ قال له :</a:t>
            </a:r>
            <a:r>
              <a:rPr b="0" lang="ar-SA" sz="2800" spc="-1" strike="noStrike">
                <a:solidFill>
                  <a:srgbClr val="000000"/>
                </a:solidFill>
                <a:latin typeface="Verdana"/>
              </a:rPr>
              <a:t>او قد فرغت يا ابا الوليد؟ </a:t>
            </a:r>
            <a:r>
              <a:rPr b="0" lang="ar-SA" sz="2800" spc="-1" strike="noStrike">
                <a:solidFill>
                  <a:srgbClr val="eaeaea"/>
                </a:solidFill>
                <a:latin typeface="Verdana"/>
              </a:rPr>
              <a:t>نعم قال</a:t>
            </a:r>
            <a:r>
              <a:rPr b="0" lang="ar-SA" sz="2800" spc="-1" strike="noStrike">
                <a:solidFill>
                  <a:srgbClr val="000000"/>
                </a:solidFill>
                <a:latin typeface="Verdana"/>
              </a:rPr>
              <a:t> ,</a:t>
            </a:r>
            <a:r>
              <a:rPr b="0" lang="ar-SA" sz="2800" spc="-1" strike="noStrike">
                <a:solidFill>
                  <a:srgbClr val="eaeaea"/>
                </a:solidFill>
                <a:latin typeface="Verdana"/>
              </a:rPr>
              <a:t>قال</a:t>
            </a:r>
            <a:r>
              <a:rPr b="0" lang="ar-SA" sz="2800" spc="-1" strike="noStrike">
                <a:solidFill>
                  <a:srgbClr val="000000"/>
                </a:solidFill>
                <a:latin typeface="Verdana"/>
              </a:rPr>
              <a:t>:فاسمع مني </a:t>
            </a:r>
            <a:r>
              <a:rPr b="0" lang="ar-SA" sz="2800" spc="-1" strike="noStrike">
                <a:solidFill>
                  <a:srgbClr val="eaeaea"/>
                </a:solidFill>
                <a:latin typeface="Verdana"/>
              </a:rPr>
              <a:t>قال أفعل فأخذ رسول الله(ص) يتلو عليه من سورة فصلت حتى اذا انتهى الى الاية </a:t>
            </a:r>
            <a:r>
              <a:rPr b="0" lang="ar-SA" sz="2800" spc="-1" strike="noStrike">
                <a:solidFill>
                  <a:srgbClr val="eaeaea"/>
                </a:solidFill>
                <a:latin typeface="Verdana"/>
              </a:rPr>
              <a:t>37</a:t>
            </a:r>
            <a:r>
              <a:rPr b="0" lang="ar-SA" sz="2800" spc="-1" strike="noStrike">
                <a:solidFill>
                  <a:srgbClr val="eaeaea"/>
                </a:solidFill>
                <a:latin typeface="Verdana"/>
              </a:rPr>
              <a:t> سجد ثم قال لعتبة:</a:t>
            </a:r>
            <a:r>
              <a:rPr b="0" lang="ar-SA" sz="2800" spc="-1" strike="noStrike">
                <a:solidFill>
                  <a:srgbClr val="000000"/>
                </a:solidFill>
                <a:latin typeface="Verdana"/>
              </a:rPr>
              <a:t>قد سمعت يا أبا الوليد, فأنت وذاك,</a:t>
            </a:r>
            <a:r>
              <a:rPr b="0" lang="ar-SA" sz="2800" spc="-1" strike="noStrike">
                <a:solidFill>
                  <a:srgbClr val="eaeaea"/>
                </a:solidFill>
                <a:latin typeface="Verdana"/>
              </a:rPr>
              <a:t>فقام عتبة الى أصحابه فقال بعضهم</a:t>
            </a:r>
            <a:r>
              <a:rPr b="0" lang="ar-SA" sz="2800" spc="-1" strike="noStrike">
                <a:solidFill>
                  <a:srgbClr val="000000"/>
                </a:solidFill>
                <a:latin typeface="Verdana"/>
              </a:rPr>
              <a:t>:</a:t>
            </a:r>
            <a:r>
              <a:rPr b="0" lang="ar-SA" sz="2800" spc="-1" strike="noStrike">
                <a:solidFill>
                  <a:srgbClr val="eaeaea"/>
                </a:solidFill>
                <a:latin typeface="Verdana"/>
              </a:rPr>
              <a:t>نحلف بالله لقد جاءكم عتبة بوجه غير ذى الوجه الذى ذهب به</a:t>
            </a:r>
            <a:r>
              <a:rPr b="0" lang="ar-SA" sz="2800" spc="-1" strike="noStrike">
                <a:solidFill>
                  <a:srgbClr val="000000"/>
                </a:solidFill>
                <a:latin typeface="Verdana"/>
              </a:rPr>
              <a:t> </a:t>
            </a:r>
            <a:r>
              <a:rPr b="0" lang="ar-SA" sz="2800" spc="-1" strike="noStrike">
                <a:solidFill>
                  <a:srgbClr val="eaeaea"/>
                </a:solidFill>
                <a:latin typeface="Verdana"/>
              </a:rPr>
              <a:t>وطلب عتبة اليهم ان يدعو الرسول (ض) وشأنه فأبوا وقالو له : سحرك يا أبو الوليد بلسانه.</a:t>
            </a:r>
            <a:endParaRPr b="0" lang="en-US" sz="2800" spc="-1" strike="noStrike">
              <a:solidFill>
                <a:srgbClr val="eaeaea"/>
              </a:solidFill>
              <a:latin typeface="Verdana"/>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دروس المستفادة</a:t>
            </a: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Verdana"/>
              </a:rPr>
              <a:t>كن اذنا صاغية</a:t>
            </a:r>
            <a:endParaRPr b="0" lang="en-US" sz="3600" spc="-1" strike="noStrike">
              <a:solidFill>
                <a:srgbClr val="eaeaea"/>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سمع اكثر مما تتكلم ولا تقاطع , وان تمنح الفرصة للتعبير عما بالداخل ولو كان باطلا</a:t>
            </a:r>
            <a:endParaRPr b="0" lang="en-US" sz="2400" spc="-1" strike="noStrike">
              <a:solidFill>
                <a:srgbClr val="eaeaea"/>
              </a:solidFill>
              <a:latin typeface="Verdana"/>
            </a:endParaRPr>
          </a:p>
          <a:p>
            <a:pPr marL="343080" indent="-3430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حترام الذات:</a:t>
            </a:r>
            <a:endParaRPr b="0" lang="en-US" sz="3200" spc="-1" strike="noStrike">
              <a:solidFill>
                <a:srgbClr val="eaeaea"/>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مجرد  سماعك له, وافراغ ما بدلوه لدلوك وتوجيه كل اعضائك تجاهه,يدل أنك تقول له( </a:t>
            </a:r>
            <a:r>
              <a:rPr b="0" lang="ar-SA" sz="2400" spc="-1" strike="noStrike">
                <a:solidFill>
                  <a:srgbClr val="000000"/>
                </a:solidFill>
                <a:latin typeface="Verdana"/>
              </a:rPr>
              <a:t>أنا احترمتك مهما خالفتنى),</a:t>
            </a:r>
            <a:r>
              <a:rPr b="0" lang="ar-SA" sz="2400" spc="-1" strike="noStrike">
                <a:solidFill>
                  <a:srgbClr val="eaeaea"/>
                </a:solidFill>
                <a:latin typeface="Verdana"/>
              </a:rPr>
              <a:t>ثم تترك له حرية الاختيار,لان المفروض مرفوض, والمطلوب مرغوب</a:t>
            </a:r>
            <a:endParaRPr b="0" lang="en-US" sz="2400" spc="-1" strike="noStrike">
              <a:solidFill>
                <a:srgbClr val="eaeaea"/>
              </a:solidFill>
              <a:latin typeface="Verdana"/>
            </a:endParaRPr>
          </a:p>
          <a:p>
            <a:pPr marL="343080" indent="-343080" algn="r" rtl="1">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rPr>
              <a:t>اصبر واحلم:</a:t>
            </a:r>
            <a:endParaRPr b="0" lang="en-US" sz="3600" spc="-1" strike="noStrike">
              <a:solidFill>
                <a:srgbClr val="eaeaea"/>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ينما تتقبل الآخرين كما هم . وتصدق معهم وتصبر تجاههم يسمح لك بالتجوال في عقولهم.</a:t>
            </a:r>
            <a:endParaRPr b="0" lang="en-US" sz="2400" spc="-1" strike="noStrike">
              <a:solidFill>
                <a:srgbClr val="eaeaea"/>
              </a:solidFill>
              <a:latin typeface="Verdana"/>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Verdana"/>
              </a:rPr>
              <a:t>لا تغضب</a:t>
            </a:r>
            <a:endParaRPr b="0" lang="en-US" sz="4400" spc="-1" strike="noStrike">
              <a:solidFill>
                <a:srgbClr val="eaeaea"/>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hi-IN" sz="3600" spc="-1" strike="noStrike">
                <a:solidFill>
                  <a:srgbClr val="eaeaea"/>
                </a:solidFill>
                <a:latin typeface="Verdana"/>
              </a:rPr>
              <a:t>شعار ارفعه كثيرا وردده داخليا وخارجيا, فالغضب هو الكمين الفتاك لمنع دخول المعلومات واستقبالها , وهو أشرس سلبيات الحوار.</a:t>
            </a:r>
            <a:endParaRPr b="0" lang="en-US" sz="3600" spc="-1" strike="noStrike">
              <a:solidFill>
                <a:srgbClr val="eaeaea"/>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eaeaea"/>
                </a:solidFill>
                <a:latin typeface="Verdana"/>
              </a:rPr>
              <a:t>امتصاص الغضب والكلام الهادئ يجعلك متزنا واضعا هدفك في ذهنك لا يغيب عنك</a:t>
            </a:r>
            <a:endParaRPr b="0" lang="en-US" sz="3600" spc="-1" strike="noStrike">
              <a:solidFill>
                <a:srgbClr val="eaeaea"/>
              </a:solidFill>
              <a:latin typeface="Verdana"/>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ثال </a:t>
            </a:r>
            <a:r>
              <a:rPr b="0" lang="en-US" sz="4400" spc="-1" strike="noStrike">
                <a:solidFill>
                  <a:srgbClr val="ffffcc"/>
                </a:solidFill>
                <a:latin typeface="Arial"/>
              </a:rPr>
              <a:t>4</a:t>
            </a: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روى ان قريشا أرسلت أحد زعمائها وهو حصين الخزاعي وكان من الحكماء المتكامين ليفاوض الرسول (ص)في سب الهة قريش, فلما دخل على الرسول (ص) قال له يا محمدبلغنا أنك تسب الهتنا وتسفه عقولنا,لقد كان أبوك وجدك  حصيفا وخيرا فقال له الرسول (ص) يا حصين ان أبي وأباك في النار,</a:t>
            </a:r>
            <a:r>
              <a:rPr b="0" lang="ar-SA" sz="2800" spc="-1" strike="noStrike">
                <a:solidFill>
                  <a:srgbClr val="000000"/>
                </a:solidFill>
                <a:latin typeface="Verdana"/>
              </a:rPr>
              <a:t> يا حصين كم اله تعبد</a:t>
            </a:r>
            <a:r>
              <a:rPr b="0" lang="ar-SA" sz="2800" spc="-1" strike="noStrike">
                <a:solidFill>
                  <a:srgbClr val="eaeaea"/>
                </a:solidFill>
                <a:latin typeface="Verdana"/>
              </a:rPr>
              <a:t>؟ قال: سبعة, واحد في الساء وستة فب الأرض فقال (ص) </a:t>
            </a:r>
            <a:r>
              <a:rPr b="0" lang="ar-SA" sz="2800" spc="-1" strike="noStrike">
                <a:solidFill>
                  <a:srgbClr val="000000"/>
                </a:solidFill>
                <a:latin typeface="Verdana"/>
              </a:rPr>
              <a:t>با حصين اذا أصابك الجوع والفقر فمن تدعو</a:t>
            </a:r>
            <a:r>
              <a:rPr b="0" lang="ar-SA" sz="2800" spc="-1" strike="noStrike">
                <a:solidFill>
                  <a:srgbClr val="eaeaea"/>
                </a:solidFill>
                <a:latin typeface="Verdana"/>
              </a:rPr>
              <a:t>؟ قال الذي في السماء فقال (ص)ا</a:t>
            </a:r>
            <a:r>
              <a:rPr b="0" lang="ar-SA" sz="2800" spc="-1" strike="noStrike">
                <a:solidFill>
                  <a:srgbClr val="000000"/>
                </a:solidFill>
                <a:latin typeface="Verdana"/>
              </a:rPr>
              <a:t>ذا عدمت الولد فمن تدعو؟ ق</a:t>
            </a:r>
            <a:r>
              <a:rPr b="0" lang="ar-SA" sz="2800" spc="-1" strike="noStrike">
                <a:solidFill>
                  <a:srgbClr val="eaeaea"/>
                </a:solidFill>
                <a:latin typeface="Verdana"/>
              </a:rPr>
              <a:t>ال الذي في السماء فقال له (ص</a:t>
            </a:r>
            <a:r>
              <a:rPr b="0" lang="ar-SA" sz="2800" spc="-1" strike="noStrike">
                <a:solidFill>
                  <a:srgbClr val="000000"/>
                </a:solidFill>
                <a:latin typeface="Verdana"/>
              </a:rPr>
              <a:t>)فيستجيب لك وحدك وتشرك معه غيره</a:t>
            </a:r>
            <a:r>
              <a:rPr b="0" lang="ar-SA" sz="2800" spc="-1" strike="noStrike">
                <a:solidFill>
                  <a:srgbClr val="eaeaea"/>
                </a:solidFill>
                <a:latin typeface="Verdana"/>
              </a:rPr>
              <a:t> وهنا تنبه الحصين واقتنع بما قاله (ص), ثم عرض له الرسول الاسلام فأسلم حصين.</a:t>
            </a:r>
            <a:endParaRPr b="0" lang="en-US" sz="2800" spc="-1" strike="noStrike">
              <a:solidFill>
                <a:srgbClr val="eaeaea"/>
              </a:solidFill>
              <a:latin typeface="Verdana"/>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دروس المستفادة</a:t>
            </a: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aeaea"/>
                </a:solidFill>
                <a:latin typeface="Verdana"/>
              </a:rPr>
              <a:t>الارشاد غير المباشر</a:t>
            </a:r>
            <a:endParaRPr b="0" lang="en-US" sz="5400" spc="-1" strike="noStrike">
              <a:solidFill>
                <a:srgbClr val="eaeaea"/>
              </a:solidFill>
              <a:latin typeface="Verdana"/>
            </a:endParaRPr>
          </a:p>
          <a:p>
            <a:pPr marL="343080" indent="-343080" algn="r" rtl="1">
              <a:spcBef>
                <a:spcPts val="1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aeaea"/>
                </a:solidFill>
                <a:latin typeface="Verdana"/>
              </a:rPr>
              <a:t>المحاورة المنطقية</a:t>
            </a:r>
            <a:endParaRPr b="0" lang="en-US" sz="5400" spc="-1" strike="noStrike">
              <a:solidFill>
                <a:srgbClr val="eaeaea"/>
              </a:solidFill>
              <a:latin typeface="Verdana"/>
            </a:endParaRPr>
          </a:p>
          <a:p>
            <a:pPr marL="343080" indent="-343080" algn="r" rtl="1">
              <a:spcBef>
                <a:spcPts val="1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aeaea"/>
                </a:solidFill>
                <a:latin typeface="Verdana"/>
              </a:rPr>
              <a:t>دعه يكتشف الحقيقة</a:t>
            </a:r>
            <a:endParaRPr b="0" lang="en-US" sz="5400" spc="-1" strike="noStrike">
              <a:solidFill>
                <a:srgbClr val="eaeaea"/>
              </a:solidFill>
              <a:latin typeface="Verdan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Verdan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Verdana"/>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rPr>
              <a:t>مثال </a:t>
            </a:r>
            <a:r>
              <a:rPr b="0" lang="en-US" sz="4000" spc="-1" strike="noStrike">
                <a:solidFill>
                  <a:srgbClr val="ffffcc"/>
                </a:solidFill>
                <a:latin typeface="Arial"/>
              </a:rPr>
              <a:t>5</a:t>
            </a:r>
            <a:br>
              <a:rPr sz="4000"/>
            </a:br>
            <a:endParaRPr b="0" lang="en-US" sz="40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قال تعالى (ألم ترى الى الذي حاج ابراهيم في ربه ات آتاه الله الملك اذ قال ابراهيم  ربي الذي يحي ويميت قال أنا أحي وأميت  قال ابراهيم فأن الله ياتي بالشمس من المشرق فأت بها من المغرب فبهت الذي كفر والله لا يهدي القوم الظالمين)</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كل منا يملك دائرت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كيف تنتقل من دائرة الاهتمام الى دائرة النفوذ</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لغة الناجح والمتقاعس</a:t>
            </a:r>
            <a:endParaRPr b="0" lang="en-US" sz="3200" spc="-1" strike="noStrike">
              <a:solidFill>
                <a:srgbClr val="eaeaea"/>
              </a:solidFill>
              <a:latin typeface="Verdana"/>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الدروس المستفادة </a:t>
            </a:r>
            <a:endParaRPr b="0" lang="en-US" sz="4400" spc="-1" strike="noStrike">
              <a:solidFill>
                <a:srgbClr val="ffffcc"/>
              </a:solidFill>
              <a:latin typeface="Arial"/>
            </a:endParaRPr>
          </a:p>
        </p:txBody>
      </p:sp>
      <p:sp>
        <p:nvSpPr>
          <p:cNvPr id="223"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lgn="r" rtl="1">
              <a:spcBef>
                <a:spcPts val="15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Verdana"/>
              </a:rPr>
              <a:t>هجر كلمة لا</a:t>
            </a:r>
            <a:endParaRPr b="0" lang="en-US" sz="6000" spc="-1" strike="noStrike">
              <a:solidFill>
                <a:srgbClr val="eaeaea"/>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aeaea"/>
                </a:solidFill>
                <a:latin typeface="Verdana"/>
              </a:rPr>
              <a:t>لانها تقول انك مخطئ , كلمة لا محطمة للاخرين , وتزيد من العناد وتجعله لا يرتد عن كبريائه, فكلمة لا كالمطرقة على الراس</a:t>
            </a:r>
            <a:endParaRPr b="0" lang="en-US" sz="3600" spc="-1" strike="noStrike">
              <a:solidFill>
                <a:srgbClr val="eaeaea"/>
              </a:solidFill>
              <a:latin typeface="Verdana"/>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هارة الاستماع</a:t>
            </a: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اهمية الاستماع</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كيف نتقن الاستماع</a:t>
            </a:r>
            <a:endParaRPr b="0" lang="en-US" sz="3200" spc="-1" strike="noStrike">
              <a:solidFill>
                <a:srgbClr val="eaeaea"/>
              </a:solidFill>
              <a:latin typeface="Verdana"/>
            </a:endParaRPr>
          </a:p>
        </p:txBody>
      </p:sp>
      <p:pic>
        <p:nvPicPr>
          <p:cNvPr id="226" name="" descr=""/>
          <p:cNvPicPr/>
          <p:nvPr/>
        </p:nvPicPr>
        <p:blipFill>
          <a:blip r:embed="rId1"/>
          <a:stretch/>
        </p:blipFill>
        <p:spPr>
          <a:xfrm>
            <a:off x="0" y="2176560"/>
            <a:ext cx="3121200" cy="2054160"/>
          </a:xfrm>
          <a:prstGeom prst="rect">
            <a:avLst/>
          </a:prstGeom>
          <a:ln w="0">
            <a:noFill/>
          </a:ln>
        </p:spPr>
      </p:pic>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اهمية الاستماع</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ن الاستماع ليست مهارة فحسب، بل هي وصفة أخلاقية يجب أن نتعلمها، إننا نستمع لغيرنا لا لأننا نريد مصلحة منهم لكن لكي نبني علاقات وطيدة معهم.</a:t>
            </a:r>
            <a:endParaRPr b="0" lang="en-US" sz="3200" spc="-1" strike="noStrike">
              <a:solidFill>
                <a:srgbClr val="eaeaea"/>
              </a:solidFill>
              <a:latin typeface="Verdana"/>
            </a:endParaRPr>
          </a:p>
          <a:p>
            <a:pPr marL="308520" indent="-3085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إن عدم معرفتنا بأهمية مهارة الاستماع تؤدي بدورها لحدوث الكثير من سوء الفهم، الذي يؤدي بدوره إلى تضييع الأوقات والجهود والأموال والعلاقات التي كنا نتمنا ازدهاره</a:t>
            </a:r>
            <a:r>
              <a:rPr b="0" lang="en-US" sz="3200" spc="-1" strike="noStrike">
                <a:solidFill>
                  <a:srgbClr val="eaeaea"/>
                </a:solidFill>
                <a:latin typeface="Verdana"/>
              </a:rPr>
              <a:t> </a:t>
            </a:r>
            <a:endParaRPr b="0" lang="en-US" sz="3200" spc="-1" strike="noStrike">
              <a:solidFill>
                <a:srgbClr val="eaeaea"/>
              </a:solidFill>
              <a:latin typeface="Verdana"/>
            </a:endParaRPr>
          </a:p>
          <a:p>
            <a:pPr marL="308520" indent="-3085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شاكل الزوجية، عادة ما تنشء من قصور في مهارة الاستماع خصوصاً عند الزوج، </a:t>
            </a:r>
            <a:endParaRPr b="0" lang="en-US" sz="3200" spc="-1" strike="noStrike">
              <a:solidFill>
                <a:srgbClr val="eaeaea"/>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cc"/>
                </a:solidFill>
                <a:latin typeface="Arial"/>
              </a:rPr>
              <a:t>مثال</a:t>
            </a:r>
            <a:endParaRPr b="0" lang="en-US" sz="2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في كتاب ستيفن كوفي العادات السبع لأكثر الناس إنتاجية، تحدث الكاتب عن أب يجد أن علاقته بابنه ليست على ما يرام، فقال لستيفن: لا أستطيع أن أفهم ابني، فهو لا يريد الاستماع إلي أبداً.</a:t>
            </a:r>
            <a:r>
              <a:rPr b="0" lang="en-US" sz="2400" spc="-1" strike="noStrike">
                <a:solidFill>
                  <a:srgbClr val="eaeaea"/>
                </a:solidFill>
                <a:latin typeface="Verdana"/>
              </a:rPr>
              <a:t> </a:t>
            </a:r>
            <a:endParaRPr b="0" lang="en-US" sz="2400" spc="-1" strike="noStrike">
              <a:solidFill>
                <a:srgbClr val="eaeaea"/>
              </a:solidFill>
              <a:latin typeface="Verdana"/>
            </a:endParaRPr>
          </a:p>
          <a:p>
            <a:pPr marL="315360" indent="-315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فرد ستيفن: دعني أرتب ما قلته للتو، أنت لا تفهم ابنك لأنه لا يريد الاستماع إليك؟</a:t>
            </a:r>
            <a:r>
              <a:rPr b="0" lang="en-US" sz="2400" spc="-1" strike="noStrike">
                <a:solidFill>
                  <a:srgbClr val="eaeaea"/>
                </a:solidFill>
                <a:latin typeface="Verdana"/>
              </a:rPr>
              <a:t> </a:t>
            </a:r>
            <a:endParaRPr b="0" lang="en-US" sz="2400" spc="-1" strike="noStrike">
              <a:solidFill>
                <a:srgbClr val="eaeaea"/>
              </a:solidFill>
              <a:latin typeface="Verdana"/>
            </a:endParaRPr>
          </a:p>
          <a:p>
            <a:pPr marL="315360" indent="-3153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40000"/>
                </a:solidFill>
                <a:latin typeface="Verdana"/>
                <a:cs typeface="Simplified Arabic"/>
              </a:rPr>
              <a:t>فرد عليه "هذا صحيح"</a:t>
            </a:r>
            <a:r>
              <a:rPr b="0" lang="ar-SA" sz="2400" spc="-1" strike="noStrike">
                <a:solidFill>
                  <a:srgbClr val="000000"/>
                </a:solidFill>
                <a:latin typeface="Verdana"/>
                <a:ea typeface="Simplified Arabic"/>
              </a:rPr>
              <a:t> </a:t>
            </a:r>
            <a:br>
              <a:rPr sz="2400"/>
            </a:br>
            <a:r>
              <a:rPr b="0" lang="ar-SA" sz="2400" spc="-1" strike="noStrike">
                <a:solidFill>
                  <a:srgbClr val="000000"/>
                </a:solidFill>
                <a:latin typeface="Verdana"/>
                <a:cs typeface="Simplified Arabic"/>
              </a:rPr>
              <a:t>ستيفن: دعني أجرب مرة أخرى أنت لا تفهم ابنك لأنه -هو- لا يريد الاستماع إليك أنت؟ </a:t>
            </a:r>
            <a:br>
              <a:rPr sz="2400"/>
            </a:br>
            <a:r>
              <a:rPr b="0" lang="ar-SA" sz="2400" spc="-1" strike="noStrike">
                <a:solidFill>
                  <a:srgbClr val="a40000"/>
                </a:solidFill>
                <a:latin typeface="Verdana"/>
                <a:cs typeface="Simplified Arabic"/>
              </a:rPr>
              <a:t>فرد عليه بصبر نافذ: هذا ما قلته.</a:t>
            </a:r>
            <a:br>
              <a:rPr sz="2400"/>
            </a:br>
            <a:r>
              <a:rPr b="0" lang="ar-SA" sz="2400" spc="-1" strike="noStrike">
                <a:solidFill>
                  <a:srgbClr val="000000"/>
                </a:solidFill>
                <a:latin typeface="Verdana"/>
                <a:cs typeface="Simplified Arabic"/>
              </a:rPr>
              <a:t>ستيفن: أعتقد أنك كي تفهم شخصاً آخر فأنت بحاجة لأن تستمع له. </a:t>
            </a:r>
            <a:br>
              <a:rPr sz="2400"/>
            </a:br>
            <a:r>
              <a:rPr b="0" lang="ar-SA" sz="2400" spc="-1" strike="noStrike">
                <a:solidFill>
                  <a:srgbClr val="a40000"/>
                </a:solidFill>
                <a:latin typeface="Verdana"/>
                <a:cs typeface="Simplified Arabic"/>
              </a:rPr>
              <a:t>فقال الأب: أوه (تعبيراً عن صدمته) ثم جاءت فترة صمت طويلة، وقال مرة أخرى: أوه!</a:t>
            </a:r>
            <a:r>
              <a:rPr b="0" lang="en-US" sz="2400" spc="-1" strike="noStrike">
                <a:solidFill>
                  <a:srgbClr val="000000"/>
                </a:solidFill>
                <a:latin typeface="Verdana"/>
                <a:ea typeface="Simplified Arabic"/>
              </a:rPr>
              <a:t> </a:t>
            </a:r>
            <a:endParaRPr b="0" lang="en-US" sz="2400" spc="-1" strike="noStrike">
              <a:solidFill>
                <a:srgbClr val="eaeaea"/>
              </a:solidFill>
              <a:latin typeface="Verdan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Simplified Arabic"/>
              </a:rPr>
              <a:t>إن هذا الأب نموذج صغير للكثير من الناس، الذي يرددون في أنفسهم أو أمامنا: إنني لا أفهمه، إنه لا يستمع لي! والمفروظ أنك تستمع له لا أن يستمع لك</a:t>
            </a: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rPr>
              <a:t>الاسلوب العملي للاستماع</a:t>
            </a:r>
            <a:br>
              <a:rPr sz="4000"/>
            </a:br>
            <a:endParaRPr b="0" lang="en-US" sz="40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a:t>
            </a:r>
            <a:r>
              <a:rPr b="0" lang="ar-SA" sz="4400" spc="-1" strike="noStrike">
                <a:solidFill>
                  <a:srgbClr val="eaeaea"/>
                </a:solidFill>
                <a:latin typeface="Verdana"/>
              </a:rPr>
              <a:t> استمع استمع استمع!</a:t>
            </a:r>
            <a:r>
              <a:rPr b="0" lang="ar-SA" sz="3200" spc="-1" strike="noStrike">
                <a:solidFill>
                  <a:srgbClr val="eaeaea"/>
                </a:solidFill>
                <a:latin typeface="Verdana"/>
              </a:rPr>
              <a:t> نعم عليك أن تستمع وبإخلاص لمن يحدثكوزلات من بين ثنايا كلماته، استمع وأنت ترغب في فهمه. ، تستمع له حتى تفهمه، لا أن تخدعه أو تلقط منه عثرات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جهز الرد في نفسك وأنت تستمع له، ولا تستعجل ردك على من يحدثك، وتستطيع حتى تأجيل الرد لمدة معينة حتى تجمع أفكارك وتصيغها بشكل جيد، ومن الخطأ الاستعجال في الرد، لأنه يؤدي بدوره لسوء الفهم. </a:t>
            </a:r>
            <a:endParaRPr b="0" lang="en-US" sz="3200" spc="-1" strike="noStrike">
              <a:solidFill>
                <a:srgbClr val="eaeaea"/>
              </a:solidFill>
              <a:latin typeface="Verdana"/>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تجه بجسمك كله لمن يتحدث لك، فإن لم يكن، فبوجهك على الأقل، لأن المتحدث يتضايق ويحس بأنك تهمله إن لم نتظر له أو تتجه له، وفي حادثة طريفة تؤكد هذا المعنى، كان طفل يحدث أباه المشغول في قراءة الجريدة، فذهب الطفل وأمسك رأس أبيه وأداره تجاهه وكلمه!! </a:t>
            </a:r>
            <a:endParaRPr b="0" lang="en-US" sz="2800" spc="-1" strike="noStrike">
              <a:solidFill>
                <a:srgbClr val="eaeaea"/>
              </a:solidFill>
              <a:latin typeface="Verdana"/>
            </a:endParaRPr>
          </a:p>
          <a:p>
            <a:pPr marL="322200" indent="-3222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بين للمتحدث أنك تستمع، أنا أقول بين لا تتظاهر! لأنك إن تظاهرت بأنك تستمع لمن يحدثك فسيكتشف ذلك إن آجلاً أو عاجلاً، بين له أنك تستمع لحديثه بأن تقول: نعم... صحيح أو تهمهم، أو تومئ برأسك، المهم بين له بالحركات والكلمات أنك تستمع له. </a:t>
            </a:r>
            <a:endParaRPr b="0" lang="en-US" sz="2800" spc="-1" strike="noStrike">
              <a:solidFill>
                <a:srgbClr val="eaeaea"/>
              </a:solidFill>
              <a:latin typeface="Verdana"/>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قاطع أبداً، ولو طال الحديث لساعات! وهذه نصيحة مجربة كثيراً ولطالما حلت مشاكل بالاستماع فقط، لذلك لا تقاطع أبداً واستمع حتى النهاية، وهذه النصيحة مهمة بين الأزواج وبين الوالدين وأبنائهم وبين الإخوان وبين كل الناس. </a:t>
            </a:r>
            <a:endParaRPr b="0" lang="en-US" sz="3200" spc="-1" strike="noStrike">
              <a:solidFill>
                <a:srgbClr val="eaeaea"/>
              </a:solidFill>
              <a:latin typeface="Verdana"/>
            </a:endParaRPr>
          </a:p>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6</a:t>
            </a:r>
            <a:r>
              <a:rPr b="0" lang="ar-SA" sz="3200" spc="-1" strike="noStrike">
                <a:solidFill>
                  <a:srgbClr val="eaeaea"/>
                </a:solidFill>
                <a:latin typeface="Verdana"/>
              </a:rPr>
              <a:t>- بعد أن ينتهي المتكلم من حديثه لخص كلامه بقولك: أنت تقصد كذا وكذا.... صحيح؟ فإن أجاب بنعم فتحدث أنت، وإن أجاب بلا فاسأله أن يوضح أكثر، وهذا خير من أن تستعجل الرد فيحدث سوء تفاهم. </a:t>
            </a:r>
            <a:endParaRPr b="0" lang="en-US" sz="3200" spc="-1" strike="noStrike">
              <a:solidFill>
                <a:srgbClr val="eaeaea"/>
              </a:solidFill>
              <a:latin typeface="Verdana"/>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فسر كلام المتحدث من وجهة نظرك أنت، بل حاول أن تتقمص شخصيته وأن تنظر إلى الأمور من منظوره هو لا أنت، وإن طبقت هذه النصيحة فستجد أنك سريع التفاهم مع الغير. </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حاول أن تتوافق مع حالة المتحدث النفسية، فإن كان غاضباً فلا تطلب منه أن يهدئ من روعه، بل كن جاداً واستمع له بكل هدوء، وإن وجدت إنسان حزيناً فاسأله ما يحزنه ثم استمع له لأنه يريد الحديث لمن سيستمع له. </a:t>
            </a:r>
            <a:endParaRPr b="0" lang="en-US" sz="3200" spc="-1" strike="noStrike">
              <a:solidFill>
                <a:srgbClr val="eaeaea"/>
              </a:solidFill>
              <a:latin typeface="Verdana"/>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ندما يتكلم أحدنا عن مشكلة أو أحزان فإنه يعبر عن مشاعر لذلك عليك أن تلخص كلامه وتعكسها على شكل مشاعر يحس بها هو، آخذت مثالاً من كتاب ستيفن كوفي "العادات السبع لأكثر الناس إنتاج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بن: أبي لقد اكتفيت! المدرسة لصغار العقول فقط </a:t>
            </a:r>
            <a:br>
              <a:rPr sz="2800"/>
            </a:br>
            <a:r>
              <a:rPr b="0" lang="ar-SA" sz="2800" spc="-1" strike="noStrike">
                <a:solidFill>
                  <a:srgbClr val="eaeaea"/>
                </a:solidFill>
                <a:latin typeface="Verdana"/>
              </a:rPr>
              <a:t>الأب: يبدو أنك محبط فعلاً </a:t>
            </a:r>
            <a:br>
              <a:rPr sz="2800"/>
            </a:br>
            <a:r>
              <a:rPr b="0" lang="ar-SA" sz="2800" spc="-1" strike="noStrike">
                <a:solidFill>
                  <a:srgbClr val="eaeaea"/>
                </a:solidFill>
                <a:latin typeface="Verdana"/>
              </a:rPr>
              <a:t>الابن: أنا كذلك بكل تأكيد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هذا الحوار الصغير لم يغضب الأب، ولم يأنب ابنه ويتهمه بالكسل والتقصير، بل عكس شعور الابن فقط، وفي الكتاب تكملة للحور على هذا المنوال حتى وصل الابن إلى قناعة إلى أن الدراسة مهمة وإلى اتخاذ خطوات عملية لتحسين مستواه في الدراسة. </a:t>
            </a:r>
            <a:endParaRPr b="0" lang="en-US" sz="2800" spc="-1" strike="noStrike">
              <a:solidFill>
                <a:srgbClr val="eaeaea"/>
              </a:solidFill>
              <a:latin typeface="Verdana"/>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 العادة الثانية : ابدأ والنهاية في ذهنك .(القيادة الشخصية) </a:t>
            </a:r>
            <a:br>
              <a:rPr sz="4000"/>
            </a:b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شخاص الفعالين ينحتون مستقبلهم بأنفسهم ، وهم يستفيدون من البدء والنهاية في ذهنهم في جميع مناطق حياتهم بدلاً من ترك الآخرين أو الظروف تقرر النتائج . وهم يخططون بحرص لما يريدون أن يصبحوا وما يريدون أن يفعلوا وما يريدون أن يملكون ثم يدعون خريطتهم الذهنية ترشدهم في اتخاذ قراراتهم وهذه الخريطة الذهنية لما يريدون لحياتهم يترجمونها كتابة في ما </a:t>
            </a:r>
            <a:endParaRPr b="0" lang="en-US" sz="2800" spc="-1" strike="noStrike">
              <a:solidFill>
                <a:srgbClr val="eaeaea"/>
              </a:solidFill>
              <a:latin typeface="Verdana"/>
            </a:endParaRPr>
          </a:p>
          <a:p>
            <a:pPr marL="291600" indent="-29160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سمي بيان بالمهمة أو رسالة الحياة . والشخص الذي لديه رسالة ويستخدمها لأرشاده في قراراته يعيش في تناسق بديع مع ما يعمله . </a:t>
            </a:r>
            <a:br>
              <a:rPr sz="2800"/>
            </a:br>
            <a:r>
              <a:rPr b="0" lang="ar-SA" sz="2800" spc="-1" strike="noStrike">
                <a:solidFill>
                  <a:srgbClr val="eaeaea"/>
                </a:solidFill>
                <a:latin typeface="Verdana"/>
              </a:rPr>
              <a:t>هل كتبت رسالة حياه شخصيه تعطي معنى وهدف واتجاه لحياتي ؟ </a:t>
            </a:r>
            <a:br>
              <a:rPr sz="2800"/>
            </a:br>
            <a:r>
              <a:rPr b="0" lang="ar-SA" sz="2800" spc="-1" strike="noStrike">
                <a:solidFill>
                  <a:srgbClr val="eaeaea"/>
                </a:solidFill>
                <a:latin typeface="Verdana"/>
              </a:rPr>
              <a:t>وهل تنبع تصرفاتي منها ؟ </a:t>
            </a:r>
            <a:endParaRPr b="0" lang="en-US" sz="2800" spc="-1" strike="noStrike">
              <a:solidFill>
                <a:srgbClr val="eaeaea"/>
              </a:solidFill>
              <a:latin typeface="Verdana"/>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مقترحات عملية لترسيخ مهارة الاستماع</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حيث تسنح لك الفرصة مراقبة أشخاص يتحدثون اغلق أذنيك لبضع دقائق وراقب فقط أي انفعالات والتي قد لا تظهرها الكلمات وحدها. </a:t>
            </a:r>
            <a:endParaRPr b="0" lang="en-US" sz="3200" spc="-1" strike="noStrike">
              <a:solidFill>
                <a:srgbClr val="eaeaea"/>
              </a:solidFill>
              <a:latin typeface="Verdana"/>
            </a:endParaRPr>
          </a:p>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 راقب نفسك كلما كنت في حوار مع أي شخص، واضبط نفسك إن حاولت أن تقيم أو تفسر حديث الشخص بشكل خاطئ، واعتذر له واطلب منه أن يعيد الحوار مرة أخرى، جربت هذه الطريقة من قبل وكان لها مفعولاً عجيباً على الطرف الآخر.</a:t>
            </a:r>
            <a:endParaRPr b="0" lang="en-US" sz="3200" spc="-1" strike="noStrike">
              <a:solidFill>
                <a:srgbClr val="eaeaea"/>
              </a:solidFill>
              <a:latin typeface="Verdana"/>
            </a:endParaRPr>
          </a:p>
        </p:txBody>
      </p:sp>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eaeaea"/>
                </a:solidFill>
                <a:latin typeface="Verdana"/>
              </a:rPr>
              <a:t>ملاحظة أخيرة: الاستماع متعب حقاً لكنه بالتأكيد خير من وجود خلاف وسوء تفاهم.</a:t>
            </a:r>
            <a:endParaRPr b="0" lang="en-US" sz="3200" spc="-1" strike="noStrike">
              <a:solidFill>
                <a:srgbClr val="eaeaea"/>
              </a:solidFill>
              <a:latin typeface="Verdana"/>
            </a:endParaRPr>
          </a:p>
        </p:txBody>
      </p:sp>
    </p:spTree>
  </p:cSld>
  <p:transition>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المراجع الرئيسية</a:t>
            </a:r>
            <a:endParaRPr b="0" lang="en-US" sz="4400" spc="-1" strike="noStrike">
              <a:solidFill>
                <a:srgbClr val="ffffcc"/>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ادات السبع لاكثر الناس فعالية (ستيفن كوفي )</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كيف تكسب الاصدقاء وتؤثر في الناس (دييل كارينجي)</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شرطة د طارق السويدان</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اصول الحوار (الندوة العالمية للشباب الاسلامي)</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ساليب النبوية في التعامل مع اخطاء الناس (المنجد)</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جاح بلا حدود (ابراهيم الفقي)</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ناعة النجاح (السويدان,باشراحيل)</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جلة ابداع</a:t>
            </a:r>
            <a:endParaRPr b="0" lang="en-US" sz="2800" spc="-1" strike="noStrike">
              <a:solidFill>
                <a:srgbClr val="eaeaea"/>
              </a:solidFill>
              <a:latin typeface="Verdana"/>
            </a:endParaRPr>
          </a:p>
          <a:p>
            <a:pPr marL="343080" indent="-34308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بعض مواقع الانترنت الادارية</a:t>
            </a:r>
            <a:endParaRPr b="0" lang="en-US" sz="2800" spc="-1" strike="noStrike">
              <a:solidFill>
                <a:srgbClr val="eaeaea"/>
              </a:solidFill>
              <a:latin typeface="Verdana"/>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حياتي بيدي </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غلى الدقائق</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طلق لنفسك الخيال</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كل شئ  يصور مرتين</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كتب رسالتك في الحياة:تبنى على </a:t>
            </a:r>
            <a:r>
              <a:rPr b="0" lang="ar-SA" sz="2400" spc="-1" strike="noStrike">
                <a:solidFill>
                  <a:srgbClr val="eaeaea"/>
                </a:solidFill>
                <a:latin typeface="Verdana"/>
              </a:rPr>
              <a:t>6</a:t>
            </a:r>
            <a:r>
              <a:rPr b="0" lang="ar-SA" sz="2400" spc="-1" strike="noStrike">
                <a:solidFill>
                  <a:srgbClr val="eaeaea"/>
                </a:solidFill>
                <a:latin typeface="Verdana"/>
              </a:rPr>
              <a:t> أمور</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أساس مبادئك وقيمك</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خاطبة الاهداف العامة في مختلف المجالات</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نقاط القوى والضعف</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قدراتك,اهتماماتك </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لتوازن بين ادوارك في الحياة</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لديك حرية الاختيار</a:t>
            </a:r>
            <a:endParaRPr b="0" lang="en-US" sz="2400" spc="-1" strike="noStrike">
              <a:solidFill>
                <a:srgbClr val="eaeaea"/>
              </a:solidFill>
              <a:latin typeface="Verdan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rPr>
              <a:t>العادة الثالثة : ابدأ بالأهم قبل المهم . ( الإدارة الشخصية </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ماهي الأشياء الأولى ؟ الأشياء الأولى هي تلك الأشياء التي نجد بأنفسنا أنها تستحق أن نعملها وتحركنا في الاتجاه الصحيح، وتساعدنا على تحقيق المبادئ الذاتية الموجودة في رسالتنا بالحياة . والأشياء الأولية غالباً مهمة وأيضا ربما مستعجلة ، وافضل استخدام لوقتنا يتم بالتركيز على المهم في عملنا وعلاقاتنا . </a:t>
            </a:r>
            <a:br>
              <a:rPr sz="3200"/>
            </a:br>
            <a:r>
              <a:rPr b="0" lang="ar-SA" sz="3200" spc="-1" strike="noStrike">
                <a:solidFill>
                  <a:srgbClr val="eaeaea"/>
                </a:solidFill>
                <a:latin typeface="Verdana"/>
              </a:rPr>
              <a:t>هل باستطاعتي أن أقول " لا " لغير المهم مهما كان مستعجل ، و " نعم " للمهم ؟ </a:t>
            </a:r>
            <a:endParaRPr b="0" lang="en-US" sz="3200" spc="-1" strike="noStrike">
              <a:solidFill>
                <a:srgbClr val="eaeaea"/>
              </a:solidFill>
              <a:latin typeface="Verdan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عادة الرابعة : تفكير المنفعة للجميع "ربح – ربح" . ( القيادة العامة ) </a:t>
            </a:r>
            <a:br>
              <a:rPr sz="4000"/>
            </a:b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مط التفكير " ربح / ربح " ليس تقنية وانما فلسفة شاملة للتعاملات الإنسانية وهو مبدأ أساسي للنجاح في جميع تعاملاتنا ، وهو يعني أن الطرفين ربحوا لأنهم اختاروا الاتفاقات أو الحلول التي تفيد وترضي الطرفين مما يجعل كل الطرفين يشعرون بالراحة لقراراتهم وبالالتزام لأدائها . والشخص الذي يفكر " ربح / ربح " لديه ثلاثة سمات أساسية ، الاستقامة ، النضج والوفره العقلية . فالإنسان المستقيم صادق في أحاسيسه ومبادئه والتزاماته ، والناضج يترجم أفكاره ومشاعره بجراءة مع مراعاة مشاعر الآخرين وأفكارهم ، والأشخاص ذوي الوفرة العقلية يصدقون بأن هناك ما يكفي للجميع ويعترفون بالإمكانيات غير المحدودة لتنمية التعامل الإيجابي والتطوير مما يخلق بديلاً ثالثاً جديداً ومقبول من الطرفين . </a:t>
            </a:r>
            <a:br>
              <a:rPr sz="2800"/>
            </a:br>
            <a:r>
              <a:rPr b="0" lang="ar-SA" sz="2800" spc="-1" strike="noStrike">
                <a:solidFill>
                  <a:srgbClr val="eaeaea"/>
                </a:solidFill>
                <a:latin typeface="Verdana"/>
              </a:rPr>
              <a:t>هل أسعى لما يفيد ويرضي الطرفين في جميع علاقاتي ؟ </a:t>
            </a:r>
            <a:endParaRPr b="0" lang="en-US" sz="2800" spc="-1" strike="noStrike">
              <a:solidFill>
                <a:srgbClr val="eaeaea"/>
              </a:solidFill>
              <a:latin typeface="Verdan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1T18:26:18Z</dcterms:created>
  <dc:creator>WALEED &amp; GADA</dc:creator>
  <dc:description/>
  <dc:language>en-US</dc:language>
  <cp:lastModifiedBy>WALEED &amp; GADA</cp:lastModifiedBy>
  <dcterms:modified xsi:type="dcterms:W3CDTF">2003-03-10T17:20:19Z</dcterms:modified>
  <cp:revision>56</cp:revision>
  <dc:subject/>
  <dc:title>صناعة النجاح</dc:title>
</cp:coreProperties>
</file>