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wmf" ContentType="image/x-wmf"/>
  <Override PartName="/ppt/media/image18.gif" ContentType="image/gif"/>
  <Override PartName="/ppt/media/image4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wmf" ContentType="image/x-wmf"/>
  <Override PartName="/ppt/media/image15.jpeg" ContentType="image/jpeg"/>
  <Override PartName="/ppt/media/image2.gif" ContentType="image/gif"/>
  <Override PartName="/ppt/media/image5.png" ContentType="image/png"/>
  <Override PartName="/ppt/media/image10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4C23-6B6B-4841-AD51-90C65105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8E34-E9C1-40C8-B082-13135B49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5F3A-2EA6-434D-9D3D-17CDC652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4D3D-C940-4A99-80EA-9F7B656A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E5F-890B-4510-BFE2-1EC7F6E5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853-709D-48D4-BA67-8EA7F109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2BCF-000A-4C97-A767-1893D4B9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F521-B42E-4B35-9BF1-57165DB3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44E7-712D-4FEA-BC3B-7A8F20EF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3BB3-BCE1-450E-92DB-BCEC0141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BD53-3A11-420D-B334-083E8C30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CAA-130A-4934-950A-D1C94E3B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DFC4-528B-46B7-8EA1-222C7ADF0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gi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e2e2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311880" y="2060640"/>
            <a:ext cx="2570040" cy="428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87280" y="260280"/>
            <a:ext cx="547236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PT Bold Heading"/>
              </a:rPr>
              <a:t>آداب الطعا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19280" y="476280"/>
            <a:ext cx="2736720" cy="998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692360" y="3797280"/>
            <a:ext cx="52545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11640" y="2565360"/>
            <a:ext cx="2079720" cy="3313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116000" y="2276640"/>
            <a:ext cx="1860480" cy="3485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124000" y="1916280"/>
            <a:ext cx="3344760" cy="383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908000" y="5013360"/>
            <a:ext cx="1917720" cy="814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411280" y="4699080"/>
            <a:ext cx="1917720" cy="814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3635280" y="5013360"/>
            <a:ext cx="1917720" cy="814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00720" y="404640"/>
            <a:ext cx="374328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80">
                    <a:alpha val="69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ـع السلامة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80">
                  <a:alpha val="69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15:56:24Z</dcterms:created>
  <dc:creator>User</dc:creator>
  <dc:description/>
  <dc:language>en-US</dc:language>
  <cp:lastModifiedBy>User</cp:lastModifiedBy>
  <dcterms:modified xsi:type="dcterms:W3CDTF">2006-05-17T10:51:45Z</dcterms:modified>
  <cp:revision>7</cp:revision>
  <dc:subject/>
  <dc:title>Slide 1</dc:title>
</cp:coreProperties>
</file>