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9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32.png" ContentType="image/png"/>
  <Override PartName="/ppt/media/image3.png" ContentType="image/png"/>
  <Override PartName="/ppt/media/image80.png" ContentType="image/png"/>
  <Override PartName="/ppt/media/image33.png" ContentType="image/png"/>
  <Override PartName="/ppt/media/image1.png" ContentType="image/png"/>
  <Override PartName="/ppt/media/image8.jpeg" ContentType="image/jpeg"/>
  <Override PartName="/ppt/media/image38.png" ContentType="image/png"/>
  <Override PartName="/ppt/media/image101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117.png" ContentType="image/png"/>
  <Override PartName="/ppt/media/image20.png" ContentType="image/png"/>
  <Override PartName="/ppt/media/image57.png" ContentType="image/png"/>
  <Override PartName="/ppt/media/image13.png" ContentType="image/png"/>
  <Override PartName="/ppt/media/image81.png" ContentType="image/png"/>
  <Override PartName="/ppt/media/image7.jpeg" ContentType="image/jpeg"/>
  <Override PartName="/ppt/media/image4.png" ContentType="image/png"/>
  <Override PartName="/ppt/media/image111.png" ContentType="image/png"/>
  <Override PartName="/ppt/media/image27.jpeg" ContentType="image/jpeg"/>
  <Override PartName="/ppt/media/image52.png" ContentType="image/png"/>
  <Override PartName="/ppt/media/image71.png" ContentType="image/png"/>
  <Override PartName="/ppt/media/image6.jpeg" ContentType="image/jpeg"/>
  <Override PartName="/ppt/media/image107.png" ContentType="image/png"/>
  <Override PartName="/ppt/media/image51.png" ContentType="image/png"/>
  <Override PartName="/ppt/media/image49.png" ContentType="image/png"/>
  <Override PartName="/ppt/media/image100.png" ContentType="image/png"/>
  <Override PartName="/ppt/media/image53.png" ContentType="image/png"/>
  <Override PartName="/ppt/media/image128.jpeg" ContentType="image/jpeg"/>
  <Override PartName="/ppt/media/image109.png" ContentType="image/png"/>
  <Override PartName="/ppt/media/image55.png" ContentType="image/png"/>
  <Override PartName="/ppt/media/image28.jpeg" ContentType="image/jpeg"/>
  <Override PartName="/ppt/media/image11.jpeg" ContentType="image/jpeg"/>
  <Override PartName="/ppt/media/image121.png" ContentType="image/png"/>
  <Override PartName="/ppt/media/image56.png" ContentType="image/png"/>
  <Override PartName="/ppt/media/image50.png" ContentType="image/png"/>
  <Override PartName="/ppt/media/image126.png" ContentType="image/png"/>
  <Override PartName="/ppt/media/image127.jpeg" ContentType="image/jpeg"/>
  <Override PartName="/ppt/media/image43.png" ContentType="image/png"/>
  <Override PartName="/ppt/media/image36.png" ContentType="image/png"/>
  <Override PartName="/ppt/media/image41.png" ContentType="image/png"/>
  <Override PartName="/ppt/media/image129.jpeg" ContentType="image/jpeg"/>
  <Override PartName="/ppt/media/image134.png" ContentType="image/png"/>
  <Override PartName="/ppt/media/image48.png" ContentType="image/png"/>
  <Override PartName="/ppt/media/image131.jpeg" ContentType="image/jpeg"/>
  <Override PartName="/ppt/media/image34.png" ContentType="image/png"/>
  <Override PartName="/ppt/media/image10.png" ContentType="image/png"/>
  <Override PartName="/ppt/media/image12.jpeg" ContentType="image/jpeg"/>
  <Override PartName="/ppt/media/image29.jpeg" ContentType="image/jpeg"/>
  <Override PartName="/ppt/media/image132.png" ContentType="image/png"/>
  <Override PartName="/ppt/media/image46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37.png" ContentType="image/png"/>
  <Override PartName="/ppt/media/image116.png" ContentType="image/png"/>
  <Override PartName="/ppt/media/image35.png" ContentType="image/png"/>
  <Override PartName="/ppt/media/image133.png" ContentType="image/png"/>
  <Override PartName="/ppt/media/image47.png" ContentType="image/png"/>
  <Override PartName="/ppt/media/image2.png" ContentType="image/png"/>
  <Override PartName="/ppt/media/image90.png" ContentType="image/png"/>
  <Override PartName="/ppt/media/image54.png" ContentType="image/png"/>
  <Override PartName="/ppt/media/image30.png" ContentType="image/png"/>
  <Override PartName="/ppt/media/image14.jpeg" ContentType="image/jpeg"/>
  <Override PartName="/ppt/media/image40.png" ContentType="image/png"/>
  <Override PartName="/ppt/media/image15.jpeg" ContentType="image/jpeg"/>
  <Override PartName="/ppt/media/image16.png" ContentType="image/png"/>
  <Override PartName="/ppt/media/image84.png" ContentType="image/png"/>
  <Override PartName="/ppt/media/image21.png" ContentType="image/png"/>
  <Override PartName="/ppt/media/image118.png" ContentType="image/png"/>
  <Override PartName="/ppt/media/image39.png" ContentType="image/png"/>
  <Override PartName="/ppt/media/image31.png" ContentType="image/pn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91.png" ContentType="image/png"/>
  <Override PartName="/ppt/media/image23.png" ContentType="image/png"/>
  <Override PartName="/ppt/media/image6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17.jpeg" ContentType="image/jpeg"/>
  <Override PartName="/ppt/media/image60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18.jpeg" ContentType="image/jpeg"/>
  <Override PartName="/ppt/media/image70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2.png" ContentType="image/png"/>
  <Override PartName="/ppt/media/image83.png" ContentType="image/png"/>
  <Override PartName="/ppt/media/image85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4.png" ContentType="image/png"/>
  <Override PartName="/ppt/media/drumroll.wav" ContentType="audio/x-wav"/>
  <Override PartName="/ppt/media/image92.png" ContentType="image/png"/>
  <Override PartName="/ppt/media/image25.png" ContentType="image/png"/>
  <Override PartName="/ppt/media/image93.png" ContentType="image/png"/>
  <Override PartName="/ppt/media/bomb.wav" ContentType="audio/x-wav"/>
  <Override PartName="/ppt/media/image94.png" ContentType="image/png"/>
  <Override PartName="/ppt/media/image95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0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BE3-0BBA-4C8E-B351-E5374DFE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069-BB0C-45F8-BFC2-506BCBAC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3CC-A6C5-42ED-8A1C-759F8795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EB9-7809-458E-9ACC-682F3A32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F17-5D9B-4BB6-AB83-C48907C3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588-55CC-4044-87D2-95B932E1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CC2-9D61-4283-9201-7939E013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40B-F094-4D13-9BF6-1977FFEB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1AF-9385-4CD0-8C99-753AB398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B80-3439-4599-A045-1C5A6E1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787-B4DF-49B8-8F76-BB349D1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2B3-B592-4D05-9AF6-6FB343B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0A96-0D21-42C2-9BD7-49A0C09BD4A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82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2.png"/><Relationship Id="rId11" Type="http://schemas.openxmlformats.org/officeDocument/2006/relationships/image" Target="../media/image93.png"/><Relationship Id="rId12" Type="http://schemas.openxmlformats.org/officeDocument/2006/relationships/image" Target="../media/image94.png"/><Relationship Id="rId13" Type="http://schemas.openxmlformats.org/officeDocument/2006/relationships/image" Target="../media/image95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image" Target="../media/image109.png"/><Relationship Id="rId8" Type="http://schemas.openxmlformats.org/officeDocument/2006/relationships/image" Target="../media/image110.png"/><Relationship Id="rId9" Type="http://schemas.openxmlformats.org/officeDocument/2006/relationships/image" Target="../media/image11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21.png"/><Relationship Id="rId4" Type="http://schemas.openxmlformats.org/officeDocument/2006/relationships/image" Target="../media/image122.png"/><Relationship Id="rId5" Type="http://schemas.openxmlformats.org/officeDocument/2006/relationships/image" Target="../media/image123.png"/><Relationship Id="rId6" Type="http://schemas.openxmlformats.org/officeDocument/2006/relationships/image" Target="../media/image122.png"/><Relationship Id="rId7" Type="http://schemas.openxmlformats.org/officeDocument/2006/relationships/image" Target="../media/image122.png"/><Relationship Id="rId8" Type="http://schemas.openxmlformats.org/officeDocument/2006/relationships/image" Target="../media/image122.png"/><Relationship Id="rId9" Type="http://schemas.openxmlformats.org/officeDocument/2006/relationships/image" Target="../media/image124.png"/><Relationship Id="rId10" Type="http://schemas.openxmlformats.org/officeDocument/2006/relationships/image" Target="../media/image125.png"/><Relationship Id="rId11" Type="http://schemas.openxmlformats.org/officeDocument/2006/relationships/image" Target="../media/image126.png"/><Relationship Id="rId12" Type="http://schemas.openxmlformats.org/officeDocument/2006/relationships/image" Target="../media/image127.jpeg"/><Relationship Id="rId13" Type="http://schemas.openxmlformats.org/officeDocument/2006/relationships/image" Target="../media/image128.jpeg"/><Relationship Id="rId14" Type="http://schemas.openxmlformats.org/officeDocument/2006/relationships/image" Target="../media/image129.jpeg"/><Relationship Id="rId15" Type="http://schemas.openxmlformats.org/officeDocument/2006/relationships/image" Target="../media/image130.png"/><Relationship Id="rId16" Type="http://schemas.openxmlformats.org/officeDocument/2006/relationships/image" Target="../media/image131.jpeg"/><Relationship Id="rId17" Type="http://schemas.openxmlformats.org/officeDocument/2006/relationships/image" Target="../media/image132.pn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hyperlink" Target="http://www.google.com.sa/imgres?imgurl=http://www.mazikao.net/vb/imgcache/32704.png&amp;imgrefurl=http://www.mazikao.net/vb/showthread.php?t=99527&amp;h=304&amp;w=400&amp;sz=18&amp;tbnid=EW06EYdADNih5M:&amp;tbnh=94&amp;tbnw=124&amp;prev=/images?q=&#1606;&#1581;&#1604;&#1577;&amp;zoom=1&amp;q=&#1606;&#1581;&#1604;&#1577;&amp;hl=en-GB&amp;usg=__OKh1Dgag1cepe9qARYR6pxafdCE=&amp;sa=X&amp;ei=w8iVTcmrE8uFhQfx4-D8CA&amp;ved=0CEcQ9QEwBQ" TargetMode="External"/><Relationship Id="rId14" Type="http://schemas.openxmlformats.org/officeDocument/2006/relationships/hyperlink" Target="http://www.google.com.sa/imgres?imgurl=http://www.mazikao.net/vb/imgcache/32704.png&amp;imgrefurl=http://www.mazikao.net/vb/showthread.php?t=99527&amp;h=304&amp;w=400&amp;sz=18&amp;tbnid=EW06EYdADNih5M:&amp;tbnh=94&amp;tbnw=124&amp;prev=/images?q=&#1606;&#1581;&#1604;&#1577;&amp;zoom=1&amp;q=&#1606;&#1581;&#1604;&#1577;&amp;hl=en-GB&amp;usg=__OKh1Dgag1cepe9qARYR6pxafdCE=&amp;sa=X&amp;ei=w8iVTcmrE8uFhQfx4-D8CA&amp;ved=0CEcQ9QEwBQ" TargetMode="External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jpeg"/><Relationship Id="rId21" Type="http://schemas.openxmlformats.org/officeDocument/2006/relationships/image" Target="../media/image23.png"/><Relationship Id="rId22" Type="http://schemas.openxmlformats.org/officeDocument/2006/relationships/audio" Target="../media/drumroll.wav"/><Relationship Id="rId23" Type="http://schemas.openxmlformats.org/officeDocument/2006/relationships/audio" Target="../media/bomb.wav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95280" y="907920"/>
            <a:ext cx="6480360" cy="1252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بعد الإطلاع على الواجب+إملاء الجملة المحددة للتلميذات  تصحيح الخطأ على السبورة من قبل التلميذات  +نقوم بالآت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348000" y="260280"/>
            <a:ext cx="261324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راجعة الدرس الساب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94284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8153280" cy="93672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539640" y="5445000"/>
            <a:ext cx="8029800" cy="9939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47" name="Rectangle 12"/>
          <p:cNvSpPr/>
          <p:nvPr/>
        </p:nvSpPr>
        <p:spPr>
          <a:xfrm>
            <a:off x="7093080" y="1268280"/>
            <a:ext cx="151596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قراءة ن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3276720" y="3213000"/>
            <a:ext cx="5029200" cy="8953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912000" cy="575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6732720" y="2421000"/>
            <a:ext cx="1584360" cy="1263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 rot="19419000">
            <a:off x="2868120" y="2068200"/>
            <a:ext cx="839880" cy="8208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2124000" y="3213000"/>
            <a:ext cx="2293920" cy="6476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52" name="Picture 8" descr=""/>
          <p:cNvPicPr/>
          <p:nvPr/>
        </p:nvPicPr>
        <p:blipFill>
          <a:blip r:embed="rId5"/>
          <a:stretch/>
        </p:blipFill>
        <p:spPr>
          <a:xfrm rot="19893000">
            <a:off x="2873520" y="4140000"/>
            <a:ext cx="1047600" cy="69192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153" name="Picture 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432108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7"/>
          <a:stretch/>
        </p:blipFill>
        <p:spPr>
          <a:xfrm>
            <a:off x="6227640" y="404640"/>
            <a:ext cx="2438640" cy="621000"/>
          </a:xfrm>
          <a:prstGeom prst="rect">
            <a:avLst/>
          </a:prstGeom>
          <a:ln w="0">
            <a:noFill/>
          </a:ln>
        </p:spPr>
      </p:pic>
      <p:cxnSp>
        <p:nvCxnSpPr>
          <p:cNvPr id="155" name="Straight Arrow Connector 12"/>
          <p:cNvCxnSpPr/>
          <p:nvPr/>
        </p:nvCxnSpPr>
        <p:spPr>
          <a:xfrm flipH="1">
            <a:off x="4500000" y="3357720"/>
            <a:ext cx="2159640" cy="143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9" descr=""/>
          <p:cNvPicPr/>
          <p:nvPr/>
        </p:nvPicPr>
        <p:blipFill>
          <a:blip r:embed="rId1"/>
          <a:stretch/>
        </p:blipFill>
        <p:spPr>
          <a:xfrm>
            <a:off x="4356000" y="260280"/>
            <a:ext cx="2845080" cy="68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2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7200" cy="790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5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5257800" cy="5689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6" descr=""/>
          <p:cNvPicPr/>
          <p:nvPr/>
        </p:nvPicPr>
        <p:blipFill>
          <a:blip r:embed="rId4"/>
          <a:stretch/>
        </p:blipFill>
        <p:spPr>
          <a:xfrm>
            <a:off x="2556000" y="1125360"/>
            <a:ext cx="2643120" cy="10573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pic>
        <p:nvPicPr>
          <p:cNvPr id="167" name="Picture 27" descr=""/>
          <p:cNvPicPr/>
          <p:nvPr/>
        </p:nvPicPr>
        <p:blipFill>
          <a:blip r:embed="rId5"/>
          <a:stretch/>
        </p:blipFill>
        <p:spPr>
          <a:xfrm>
            <a:off x="1332000" y="3357720"/>
            <a:ext cx="3724200" cy="9349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pic>
        <p:nvPicPr>
          <p:cNvPr id="168" name="Picture 28" descr=""/>
          <p:cNvPicPr/>
          <p:nvPr/>
        </p:nvPicPr>
        <p:blipFill>
          <a:blip r:embed="rId6"/>
          <a:stretch/>
        </p:blipFill>
        <p:spPr>
          <a:xfrm>
            <a:off x="971640" y="4508640"/>
            <a:ext cx="4127400" cy="8665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pic>
        <p:nvPicPr>
          <p:cNvPr id="169" name="Picture 29" descr=""/>
          <p:cNvPicPr/>
          <p:nvPr/>
        </p:nvPicPr>
        <p:blipFill>
          <a:blip r:embed="rId7"/>
          <a:stretch/>
        </p:blipFill>
        <p:spPr>
          <a:xfrm>
            <a:off x="755640" y="5516640"/>
            <a:ext cx="4200480" cy="86508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70" name="Straight Connector 31"/>
          <p:cNvSpPr/>
          <p:nvPr/>
        </p:nvSpPr>
        <p:spPr>
          <a:xfrm flipH="1">
            <a:off x="3995640" y="191628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36"/>
          <p:cNvSpPr/>
          <p:nvPr/>
        </p:nvSpPr>
        <p:spPr>
          <a:xfrm>
            <a:off x="2411280" y="3357720"/>
            <a:ext cx="576360" cy="7887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37"/>
          <p:cNvSpPr/>
          <p:nvPr/>
        </p:nvSpPr>
        <p:spPr>
          <a:xfrm>
            <a:off x="1403280" y="3357720"/>
            <a:ext cx="370080" cy="7887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38"/>
          <p:cNvSpPr/>
          <p:nvPr/>
        </p:nvSpPr>
        <p:spPr>
          <a:xfrm>
            <a:off x="3708360" y="4508640"/>
            <a:ext cx="503280" cy="7887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4356000" y="6165720"/>
            <a:ext cx="515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8"/>
          <a:stretch/>
        </p:blipFill>
        <p:spPr>
          <a:xfrm>
            <a:off x="7740720" y="1628640"/>
            <a:ext cx="577800" cy="1152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9"/>
          <a:stretch/>
        </p:blipFill>
        <p:spPr>
          <a:xfrm>
            <a:off x="7596360" y="3068640"/>
            <a:ext cx="680760" cy="91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10"/>
          <a:stretch/>
        </p:blipFill>
        <p:spPr>
          <a:xfrm>
            <a:off x="6300720" y="3141720"/>
            <a:ext cx="574920" cy="990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11"/>
          <a:stretch/>
        </p:blipFill>
        <p:spPr>
          <a:xfrm>
            <a:off x="7597800" y="4365720"/>
            <a:ext cx="676080" cy="1079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12"/>
          <a:stretch/>
        </p:blipFill>
        <p:spPr>
          <a:xfrm>
            <a:off x="7596360" y="5589720"/>
            <a:ext cx="704520" cy="871560"/>
          </a:xfrm>
          <a:prstGeom prst="rect">
            <a:avLst/>
          </a:prstGeom>
          <a:ln w="0">
            <a:noFill/>
          </a:ln>
        </p:spPr>
      </p:pic>
      <p:pic>
        <p:nvPicPr>
          <p:cNvPr id="180" name="Rectangle 27" descr=""/>
          <p:cNvPicPr/>
          <p:nvPr/>
        </p:nvPicPr>
        <p:blipFill>
          <a:blip r:embed="rId13"/>
          <a:stretch/>
        </p:blipFill>
        <p:spPr>
          <a:xfrm>
            <a:off x="5419800" y="1463760"/>
            <a:ext cx="3558960" cy="511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8"/>
          <p:cNvSpPr/>
          <p:nvPr/>
        </p:nvSpPr>
        <p:spPr>
          <a:xfrm>
            <a:off x="250920" y="260280"/>
            <a:ext cx="457200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علامة الاستفهام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؟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هي علامة رمزية من علامات الترقيم، توضع في نهاية الجملة الاستفهام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9 -0.03149 L 0.66337 -0.0375 E">
                                      <p:cBhvr>
                                        <p:cTn id="68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3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0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7365960" y="0"/>
            <a:ext cx="1778040" cy="836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5832360" cy="374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4076640" cy="63828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pic>
        <p:nvPicPr>
          <p:cNvPr id="186" name="Picture 3" descr=""/>
          <p:cNvPicPr/>
          <p:nvPr/>
        </p:nvPicPr>
        <p:blipFill>
          <a:blip r:embed="rId4"/>
          <a:stretch/>
        </p:blipFill>
        <p:spPr>
          <a:xfrm>
            <a:off x="5076720" y="0"/>
            <a:ext cx="2276640" cy="933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"/>
          <p:cNvPicPr/>
          <p:nvPr/>
        </p:nvPicPr>
        <p:blipFill>
          <a:blip r:embed="rId5"/>
          <a:stretch/>
        </p:blipFill>
        <p:spPr>
          <a:xfrm>
            <a:off x="1332000" y="4365720"/>
            <a:ext cx="7272360" cy="214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6"/>
          <a:stretch/>
        </p:blipFill>
        <p:spPr>
          <a:xfrm>
            <a:off x="1908000" y="2133720"/>
            <a:ext cx="1295640" cy="107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"/>
          <p:cNvPicPr/>
          <p:nvPr/>
        </p:nvPicPr>
        <p:blipFill>
          <a:blip r:embed="rId7"/>
          <a:stretch/>
        </p:blipFill>
        <p:spPr>
          <a:xfrm>
            <a:off x="395280" y="907920"/>
            <a:ext cx="1297080" cy="1059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"/>
          <p:cNvPicPr/>
          <p:nvPr/>
        </p:nvPicPr>
        <p:blipFill>
          <a:blip r:embed="rId8"/>
          <a:stretch/>
        </p:blipFill>
        <p:spPr>
          <a:xfrm>
            <a:off x="3780000" y="3068640"/>
            <a:ext cx="1368360" cy="93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"/>
          <p:cNvPicPr/>
          <p:nvPr/>
        </p:nvPicPr>
        <p:blipFill>
          <a:blip r:embed="rId9"/>
          <a:stretch/>
        </p:blipFill>
        <p:spPr>
          <a:xfrm>
            <a:off x="6372360" y="3429000"/>
            <a:ext cx="2492280" cy="57636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92" name="Picture 22" descr=""/>
          <p:cNvPicPr/>
          <p:nvPr/>
        </p:nvPicPr>
        <p:blipFill>
          <a:blip r:embed="rId10"/>
          <a:stretch/>
        </p:blipFill>
        <p:spPr>
          <a:xfrm>
            <a:off x="3348000" y="1052640"/>
            <a:ext cx="747720" cy="618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http://www.saudinokia.com/vb/images/uploads/30283_2519147440e06e29bc.gif"/>
          <p:cNvPicPr/>
          <p:nvPr/>
        </p:nvPicPr>
        <p:blipFill>
          <a:blip r:embed="rId11"/>
          <a:stretch/>
        </p:blipFill>
        <p:spPr>
          <a:xfrm>
            <a:off x="324000" y="4149720"/>
            <a:ext cx="842472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12"/>
          <a:stretch/>
        </p:blipFill>
        <p:spPr>
          <a:xfrm>
            <a:off x="4572000" y="4581360"/>
            <a:ext cx="4329000" cy="208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13"/>
          <a:stretch/>
        </p:blipFill>
        <p:spPr>
          <a:xfrm>
            <a:off x="4716360" y="6021360"/>
            <a:ext cx="594000" cy="533520"/>
          </a:xfrm>
          <a:prstGeom prst="rect">
            <a:avLst/>
          </a:prstGeom>
          <a:ln w="0">
            <a:noFill/>
          </a:ln>
        </p:spPr>
      </p:pic>
      <p:sp>
        <p:nvSpPr>
          <p:cNvPr id="196" name="Oval 17"/>
          <p:cNvSpPr/>
          <p:nvPr/>
        </p:nvSpPr>
        <p:spPr>
          <a:xfrm>
            <a:off x="4643280" y="5950080"/>
            <a:ext cx="720720" cy="718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0532 L -0.08264 0.35695 E">
                                      <p:cBhvr>
                                        <p:cTn id="78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481E-006 L -0.03143 0.4463 E">
                                      <p:cBhvr>
                                        <p:cTn id="78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81481E-006 L -0.01528 0.58796 E">
                                      <p:cBhvr>
                                        <p:cTn id="793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832360" cy="6112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746440" cy="93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657440" cy="609480"/>
          </a:xfrm>
          <a:prstGeom prst="rect">
            <a:avLst/>
          </a:prstGeom>
          <a:ln w="0">
            <a:noFill/>
          </a:ln>
        </p:spPr>
      </p:pic>
      <p:sp>
        <p:nvSpPr>
          <p:cNvPr id="201" name="Freeform 8"/>
          <p:cNvSpPr/>
          <p:nvPr/>
        </p:nvSpPr>
        <p:spPr>
          <a:xfrm>
            <a:off x="1484280" y="685800"/>
            <a:ext cx="3589200" cy="5594400"/>
          </a:xfrm>
          <a:custGeom>
            <a:avLst/>
            <a:gdLst/>
            <a:ahLst/>
            <a:rect l="l" t="t" r="r" b="b"/>
            <a:pathLst>
              <a:path w="4387696" h="5594462">
                <a:moveTo>
                  <a:pt x="1373033" y="2014537"/>
                </a:moveTo>
                <a:cubicBezTo>
                  <a:pt x="1368271" y="2209800"/>
                  <a:pt x="1366877" y="2405174"/>
                  <a:pt x="1358746" y="2600325"/>
                </a:cubicBezTo>
                <a:cubicBezTo>
                  <a:pt x="1357344" y="2633972"/>
                  <a:pt x="1347143" y="2666768"/>
                  <a:pt x="1344458" y="2700337"/>
                </a:cubicBezTo>
                <a:cubicBezTo>
                  <a:pt x="1343911" y="2707175"/>
                  <a:pt x="1354765" y="2922611"/>
                  <a:pt x="1315883" y="3000375"/>
                </a:cubicBezTo>
                <a:cubicBezTo>
                  <a:pt x="1308204" y="3015733"/>
                  <a:pt x="1296833" y="3028950"/>
                  <a:pt x="1287308" y="3043237"/>
                </a:cubicBezTo>
                <a:cubicBezTo>
                  <a:pt x="1253303" y="3145252"/>
                  <a:pt x="1275441" y="3103900"/>
                  <a:pt x="1230158" y="3171825"/>
                </a:cubicBezTo>
                <a:cubicBezTo>
                  <a:pt x="1225579" y="3190142"/>
                  <a:pt x="1211834" y="3251335"/>
                  <a:pt x="1201583" y="3271837"/>
                </a:cubicBezTo>
                <a:cubicBezTo>
                  <a:pt x="1193904" y="3287196"/>
                  <a:pt x="1182533" y="3300412"/>
                  <a:pt x="1173008" y="3314700"/>
                </a:cubicBezTo>
                <a:cubicBezTo>
                  <a:pt x="1161388" y="3349561"/>
                  <a:pt x="1157843" y="3372728"/>
                  <a:pt x="1130146" y="3400425"/>
                </a:cubicBezTo>
                <a:cubicBezTo>
                  <a:pt x="1118004" y="3412567"/>
                  <a:pt x="1100475" y="3418007"/>
                  <a:pt x="1087283" y="3429000"/>
                </a:cubicBezTo>
                <a:cubicBezTo>
                  <a:pt x="1071761" y="3441935"/>
                  <a:pt x="1062084" y="3462049"/>
                  <a:pt x="1044421" y="3471862"/>
                </a:cubicBezTo>
                <a:cubicBezTo>
                  <a:pt x="1018091" y="3486490"/>
                  <a:pt x="987271" y="3490912"/>
                  <a:pt x="958696" y="3500437"/>
                </a:cubicBezTo>
                <a:lnTo>
                  <a:pt x="915833" y="3514725"/>
                </a:lnTo>
                <a:lnTo>
                  <a:pt x="872971" y="3529012"/>
                </a:lnTo>
                <a:cubicBezTo>
                  <a:pt x="774715" y="3594516"/>
                  <a:pt x="819826" y="3575302"/>
                  <a:pt x="744383" y="3600450"/>
                </a:cubicBezTo>
                <a:cubicBezTo>
                  <a:pt x="734858" y="3614737"/>
                  <a:pt x="729216" y="3632585"/>
                  <a:pt x="715808" y="3643312"/>
                </a:cubicBezTo>
                <a:cubicBezTo>
                  <a:pt x="704048" y="3652720"/>
                  <a:pt x="685477" y="3649246"/>
                  <a:pt x="672946" y="3657600"/>
                </a:cubicBezTo>
                <a:cubicBezTo>
                  <a:pt x="656134" y="3668808"/>
                  <a:pt x="644371" y="3686175"/>
                  <a:pt x="630083" y="3700462"/>
                </a:cubicBezTo>
                <a:cubicBezTo>
                  <a:pt x="596078" y="3802477"/>
                  <a:pt x="618216" y="3761125"/>
                  <a:pt x="572933" y="3829050"/>
                </a:cubicBezTo>
                <a:cubicBezTo>
                  <a:pt x="568171" y="3843337"/>
                  <a:pt x="562783" y="3857431"/>
                  <a:pt x="558646" y="3871912"/>
                </a:cubicBezTo>
                <a:cubicBezTo>
                  <a:pt x="553251" y="3890793"/>
                  <a:pt x="552093" y="3911013"/>
                  <a:pt x="544358" y="3929062"/>
                </a:cubicBezTo>
                <a:cubicBezTo>
                  <a:pt x="537594" y="3944845"/>
                  <a:pt x="525308" y="3957637"/>
                  <a:pt x="515783" y="3971925"/>
                </a:cubicBezTo>
                <a:cubicBezTo>
                  <a:pt x="506258" y="4000500"/>
                  <a:pt x="508507" y="4036351"/>
                  <a:pt x="487208" y="4057650"/>
                </a:cubicBezTo>
                <a:cubicBezTo>
                  <a:pt x="389341" y="4155517"/>
                  <a:pt x="435107" y="4120959"/>
                  <a:pt x="358621" y="4171950"/>
                </a:cubicBezTo>
                <a:cubicBezTo>
                  <a:pt x="349096" y="4186237"/>
                  <a:pt x="343455" y="4204085"/>
                  <a:pt x="330046" y="4214812"/>
                </a:cubicBezTo>
                <a:cubicBezTo>
                  <a:pt x="318286" y="4224220"/>
                  <a:pt x="300654" y="4222365"/>
                  <a:pt x="287183" y="4229100"/>
                </a:cubicBezTo>
                <a:cubicBezTo>
                  <a:pt x="176403" y="4284490"/>
                  <a:pt x="309189" y="4236053"/>
                  <a:pt x="201458" y="4271962"/>
                </a:cubicBezTo>
                <a:cubicBezTo>
                  <a:pt x="187171" y="4286250"/>
                  <a:pt x="176259" y="4305012"/>
                  <a:pt x="158596" y="4314825"/>
                </a:cubicBezTo>
                <a:cubicBezTo>
                  <a:pt x="132266" y="4329453"/>
                  <a:pt x="97933" y="4326692"/>
                  <a:pt x="72871" y="4343400"/>
                </a:cubicBezTo>
                <a:lnTo>
                  <a:pt x="30008" y="4371975"/>
                </a:lnTo>
                <a:cubicBezTo>
                  <a:pt x="20483" y="4400550"/>
                  <a:pt x="0" y="4427613"/>
                  <a:pt x="1433" y="4457700"/>
                </a:cubicBezTo>
                <a:cubicBezTo>
                  <a:pt x="6196" y="4557712"/>
                  <a:pt x="7406" y="4657957"/>
                  <a:pt x="15721" y="4757737"/>
                </a:cubicBezTo>
                <a:cubicBezTo>
                  <a:pt x="18690" y="4793366"/>
                  <a:pt x="72226" y="4878859"/>
                  <a:pt x="87158" y="4886325"/>
                </a:cubicBezTo>
                <a:cubicBezTo>
                  <a:pt x="106208" y="4895850"/>
                  <a:pt x="126977" y="4902521"/>
                  <a:pt x="144308" y="4914900"/>
                </a:cubicBezTo>
                <a:cubicBezTo>
                  <a:pt x="160750" y="4926644"/>
                  <a:pt x="170359" y="4946554"/>
                  <a:pt x="187171" y="4957762"/>
                </a:cubicBezTo>
                <a:cubicBezTo>
                  <a:pt x="199702" y="4966116"/>
                  <a:pt x="216563" y="4965315"/>
                  <a:pt x="230033" y="4972050"/>
                </a:cubicBezTo>
                <a:cubicBezTo>
                  <a:pt x="245392" y="4979729"/>
                  <a:pt x="257537" y="4992946"/>
                  <a:pt x="272896" y="5000625"/>
                </a:cubicBezTo>
                <a:cubicBezTo>
                  <a:pt x="286366" y="5007360"/>
                  <a:pt x="301916" y="5008980"/>
                  <a:pt x="315758" y="5014912"/>
                </a:cubicBezTo>
                <a:cubicBezTo>
                  <a:pt x="335334" y="5023302"/>
                  <a:pt x="353858" y="5033962"/>
                  <a:pt x="372908" y="5043487"/>
                </a:cubicBezTo>
                <a:cubicBezTo>
                  <a:pt x="449105" y="5157784"/>
                  <a:pt x="349098" y="5019678"/>
                  <a:pt x="444346" y="5114925"/>
                </a:cubicBezTo>
                <a:cubicBezTo>
                  <a:pt x="539599" y="5210177"/>
                  <a:pt x="401480" y="5110159"/>
                  <a:pt x="515783" y="5186362"/>
                </a:cubicBezTo>
                <a:cubicBezTo>
                  <a:pt x="563408" y="5257800"/>
                  <a:pt x="530071" y="5219700"/>
                  <a:pt x="630083" y="5286375"/>
                </a:cubicBezTo>
                <a:cubicBezTo>
                  <a:pt x="644371" y="5295900"/>
                  <a:pt x="656656" y="5309520"/>
                  <a:pt x="672946" y="5314950"/>
                </a:cubicBezTo>
                <a:cubicBezTo>
                  <a:pt x="701521" y="5324475"/>
                  <a:pt x="733609" y="5326817"/>
                  <a:pt x="758671" y="5343525"/>
                </a:cubicBezTo>
                <a:cubicBezTo>
                  <a:pt x="826594" y="5388807"/>
                  <a:pt x="785244" y="5366671"/>
                  <a:pt x="887258" y="5400675"/>
                </a:cubicBezTo>
                <a:lnTo>
                  <a:pt x="972983" y="5429250"/>
                </a:lnTo>
                <a:cubicBezTo>
                  <a:pt x="987271" y="5434013"/>
                  <a:pt x="1000902" y="5441669"/>
                  <a:pt x="1015846" y="5443537"/>
                </a:cubicBezTo>
                <a:lnTo>
                  <a:pt x="1130146" y="5457825"/>
                </a:lnTo>
                <a:cubicBezTo>
                  <a:pt x="1144433" y="5462587"/>
                  <a:pt x="1158527" y="5467975"/>
                  <a:pt x="1173008" y="5472112"/>
                </a:cubicBezTo>
                <a:cubicBezTo>
                  <a:pt x="1601232" y="5594462"/>
                  <a:pt x="2533228" y="5472388"/>
                  <a:pt x="2558896" y="5472112"/>
                </a:cubicBezTo>
                <a:cubicBezTo>
                  <a:pt x="2659910" y="5438441"/>
                  <a:pt x="2531422" y="5478157"/>
                  <a:pt x="2716058" y="5443537"/>
                </a:cubicBezTo>
                <a:cubicBezTo>
                  <a:pt x="2754658" y="5436299"/>
                  <a:pt x="2793101" y="5427381"/>
                  <a:pt x="2830358" y="5414962"/>
                </a:cubicBezTo>
                <a:cubicBezTo>
                  <a:pt x="2858933" y="5405437"/>
                  <a:pt x="2891021" y="5403095"/>
                  <a:pt x="2916083" y="5386387"/>
                </a:cubicBezTo>
                <a:cubicBezTo>
                  <a:pt x="3014339" y="5320883"/>
                  <a:pt x="2969227" y="5340097"/>
                  <a:pt x="3044671" y="5314950"/>
                </a:cubicBezTo>
                <a:lnTo>
                  <a:pt x="3130396" y="5257800"/>
                </a:lnTo>
                <a:cubicBezTo>
                  <a:pt x="3144683" y="5248275"/>
                  <a:pt x="3156968" y="5234655"/>
                  <a:pt x="3173258" y="5229225"/>
                </a:cubicBezTo>
                <a:cubicBezTo>
                  <a:pt x="3187546" y="5224462"/>
                  <a:pt x="3202650" y="5221672"/>
                  <a:pt x="3216121" y="5214937"/>
                </a:cubicBezTo>
                <a:cubicBezTo>
                  <a:pt x="3231479" y="5207258"/>
                  <a:pt x="3242905" y="5192391"/>
                  <a:pt x="3258983" y="5186362"/>
                </a:cubicBezTo>
                <a:cubicBezTo>
                  <a:pt x="3281721" y="5177835"/>
                  <a:pt x="3306992" y="5178465"/>
                  <a:pt x="3330421" y="5172075"/>
                </a:cubicBezTo>
                <a:cubicBezTo>
                  <a:pt x="3359480" y="5164150"/>
                  <a:pt x="3416146" y="5143500"/>
                  <a:pt x="3416146" y="5143500"/>
                </a:cubicBezTo>
                <a:cubicBezTo>
                  <a:pt x="3444721" y="5124450"/>
                  <a:pt x="3469290" y="5097210"/>
                  <a:pt x="3501871" y="5086350"/>
                </a:cubicBezTo>
                <a:lnTo>
                  <a:pt x="3587596" y="5057775"/>
                </a:lnTo>
                <a:cubicBezTo>
                  <a:pt x="3601883" y="5053012"/>
                  <a:pt x="3617927" y="5051841"/>
                  <a:pt x="3630458" y="5043487"/>
                </a:cubicBezTo>
                <a:lnTo>
                  <a:pt x="3673321" y="5014912"/>
                </a:lnTo>
                <a:cubicBezTo>
                  <a:pt x="3701135" y="4931468"/>
                  <a:pt x="3665845" y="5008101"/>
                  <a:pt x="3730471" y="4943475"/>
                </a:cubicBezTo>
                <a:cubicBezTo>
                  <a:pt x="3742613" y="4931333"/>
                  <a:pt x="3748053" y="4913804"/>
                  <a:pt x="3759046" y="4900612"/>
                </a:cubicBezTo>
                <a:cubicBezTo>
                  <a:pt x="3793423" y="4859359"/>
                  <a:pt x="3802626" y="4857271"/>
                  <a:pt x="3844771" y="4829175"/>
                </a:cubicBezTo>
                <a:cubicBezTo>
                  <a:pt x="3859058" y="4810125"/>
                  <a:pt x="3869835" y="4787845"/>
                  <a:pt x="3887633" y="4772025"/>
                </a:cubicBezTo>
                <a:cubicBezTo>
                  <a:pt x="3913301" y="4749209"/>
                  <a:pt x="3973358" y="4714875"/>
                  <a:pt x="3973358" y="4714875"/>
                </a:cubicBezTo>
                <a:cubicBezTo>
                  <a:pt x="3982883" y="4700587"/>
                  <a:pt x="3989791" y="4684154"/>
                  <a:pt x="4001933" y="4672012"/>
                </a:cubicBezTo>
                <a:cubicBezTo>
                  <a:pt x="4014075" y="4659870"/>
                  <a:pt x="4034069" y="4656846"/>
                  <a:pt x="4044796" y="4643437"/>
                </a:cubicBezTo>
                <a:cubicBezTo>
                  <a:pt x="4054204" y="4631677"/>
                  <a:pt x="4053151" y="4614417"/>
                  <a:pt x="4059083" y="4600575"/>
                </a:cubicBezTo>
                <a:cubicBezTo>
                  <a:pt x="4084523" y="4541215"/>
                  <a:pt x="4104407" y="4528656"/>
                  <a:pt x="4116233" y="4457700"/>
                </a:cubicBezTo>
                <a:cubicBezTo>
                  <a:pt x="4132997" y="4357119"/>
                  <a:pt x="4121361" y="4399458"/>
                  <a:pt x="4144808" y="4329112"/>
                </a:cubicBezTo>
                <a:cubicBezTo>
                  <a:pt x="4140046" y="4219575"/>
                  <a:pt x="4141803" y="4109559"/>
                  <a:pt x="4130521" y="4000500"/>
                </a:cubicBezTo>
                <a:cubicBezTo>
                  <a:pt x="4119050" y="3889615"/>
                  <a:pt x="4105807" y="3944894"/>
                  <a:pt x="4073371" y="3871912"/>
                </a:cubicBezTo>
                <a:cubicBezTo>
                  <a:pt x="4061138" y="3844387"/>
                  <a:pt x="4054321" y="3814762"/>
                  <a:pt x="4044796" y="3786187"/>
                </a:cubicBezTo>
                <a:cubicBezTo>
                  <a:pt x="4040033" y="3771900"/>
                  <a:pt x="4038862" y="3755856"/>
                  <a:pt x="4030508" y="3743325"/>
                </a:cubicBezTo>
                <a:lnTo>
                  <a:pt x="4001933" y="3700462"/>
                </a:lnTo>
                <a:lnTo>
                  <a:pt x="3973358" y="3614737"/>
                </a:lnTo>
                <a:cubicBezTo>
                  <a:pt x="3968596" y="3600450"/>
                  <a:pt x="3968107" y="3583923"/>
                  <a:pt x="3959071" y="3571875"/>
                </a:cubicBezTo>
                <a:lnTo>
                  <a:pt x="3916208" y="3514725"/>
                </a:lnTo>
                <a:cubicBezTo>
                  <a:pt x="3901889" y="3471765"/>
                  <a:pt x="3904121" y="3465930"/>
                  <a:pt x="3873346" y="3429000"/>
                </a:cubicBezTo>
                <a:cubicBezTo>
                  <a:pt x="3860411" y="3413478"/>
                  <a:pt x="3843418" y="3401659"/>
                  <a:pt x="3830483" y="3386137"/>
                </a:cubicBezTo>
                <a:cubicBezTo>
                  <a:pt x="3770952" y="3314700"/>
                  <a:pt x="3837627" y="3367088"/>
                  <a:pt x="3759046" y="3314700"/>
                </a:cubicBezTo>
                <a:cubicBezTo>
                  <a:pt x="3749521" y="3300412"/>
                  <a:pt x="3742613" y="3283979"/>
                  <a:pt x="3730471" y="3271837"/>
                </a:cubicBezTo>
                <a:cubicBezTo>
                  <a:pt x="3718329" y="3259695"/>
                  <a:pt x="3698335" y="3256671"/>
                  <a:pt x="3687608" y="3243262"/>
                </a:cubicBezTo>
                <a:cubicBezTo>
                  <a:pt x="3678200" y="3231502"/>
                  <a:pt x="3680056" y="3213870"/>
                  <a:pt x="3673321" y="3200400"/>
                </a:cubicBezTo>
                <a:cubicBezTo>
                  <a:pt x="3665642" y="3185041"/>
                  <a:pt x="3651720" y="3173229"/>
                  <a:pt x="3644746" y="3157537"/>
                </a:cubicBezTo>
                <a:cubicBezTo>
                  <a:pt x="3632513" y="3130012"/>
                  <a:pt x="3625696" y="3100387"/>
                  <a:pt x="3616171" y="3071812"/>
                </a:cubicBezTo>
                <a:lnTo>
                  <a:pt x="3601883" y="3028950"/>
                </a:lnTo>
                <a:cubicBezTo>
                  <a:pt x="3597120" y="3014662"/>
                  <a:pt x="3595950" y="2998618"/>
                  <a:pt x="3587596" y="2986087"/>
                </a:cubicBezTo>
                <a:cubicBezTo>
                  <a:pt x="3547813" y="2926413"/>
                  <a:pt x="3571163" y="2955367"/>
                  <a:pt x="3516158" y="2900362"/>
                </a:cubicBezTo>
                <a:cubicBezTo>
                  <a:pt x="3489964" y="2821778"/>
                  <a:pt x="3517610" y="2892187"/>
                  <a:pt x="3473296" y="2814637"/>
                </a:cubicBezTo>
                <a:cubicBezTo>
                  <a:pt x="3462729" y="2796145"/>
                  <a:pt x="3455679" y="2775750"/>
                  <a:pt x="3444721" y="2757487"/>
                </a:cubicBezTo>
                <a:cubicBezTo>
                  <a:pt x="3393452" y="2672038"/>
                  <a:pt x="3401801" y="2685992"/>
                  <a:pt x="3344708" y="2628900"/>
                </a:cubicBezTo>
                <a:cubicBezTo>
                  <a:pt x="3308799" y="2521169"/>
                  <a:pt x="3357236" y="2653955"/>
                  <a:pt x="3301846" y="2543175"/>
                </a:cubicBezTo>
                <a:cubicBezTo>
                  <a:pt x="3260491" y="2460466"/>
                  <a:pt x="3325948" y="2538702"/>
                  <a:pt x="3244696" y="2457450"/>
                </a:cubicBezTo>
                <a:cubicBezTo>
                  <a:pt x="3240767" y="2429946"/>
                  <a:pt x="3227982" y="2297861"/>
                  <a:pt x="3201833" y="2271712"/>
                </a:cubicBezTo>
                <a:cubicBezTo>
                  <a:pt x="3187546" y="2257425"/>
                  <a:pt x="3171376" y="2244799"/>
                  <a:pt x="3158971" y="2228850"/>
                </a:cubicBezTo>
                <a:cubicBezTo>
                  <a:pt x="3158963" y="2228840"/>
                  <a:pt x="3087537" y="2121698"/>
                  <a:pt x="3073246" y="2100262"/>
                </a:cubicBezTo>
                <a:cubicBezTo>
                  <a:pt x="3063721" y="2085975"/>
                  <a:pt x="3050101" y="2073690"/>
                  <a:pt x="3044671" y="2057400"/>
                </a:cubicBezTo>
                <a:cubicBezTo>
                  <a:pt x="3034028" y="2025472"/>
                  <a:pt x="3019485" y="1956781"/>
                  <a:pt x="2987521" y="1928812"/>
                </a:cubicBezTo>
                <a:cubicBezTo>
                  <a:pt x="2961675" y="1906197"/>
                  <a:pt x="2929270" y="1892268"/>
                  <a:pt x="2901796" y="1871662"/>
                </a:cubicBezTo>
                <a:cubicBezTo>
                  <a:pt x="2882746" y="1857375"/>
                  <a:pt x="2864023" y="1842641"/>
                  <a:pt x="2844646" y="1828800"/>
                </a:cubicBezTo>
                <a:cubicBezTo>
                  <a:pt x="2830673" y="1818819"/>
                  <a:pt x="2814975" y="1811218"/>
                  <a:pt x="2801783" y="1800225"/>
                </a:cubicBezTo>
                <a:cubicBezTo>
                  <a:pt x="2752471" y="1759131"/>
                  <a:pt x="2745421" y="1724287"/>
                  <a:pt x="2673196" y="1700212"/>
                </a:cubicBezTo>
                <a:cubicBezTo>
                  <a:pt x="2551045" y="1659495"/>
                  <a:pt x="2617359" y="1675373"/>
                  <a:pt x="2473171" y="1657350"/>
                </a:cubicBezTo>
                <a:cubicBezTo>
                  <a:pt x="2309999" y="1602958"/>
                  <a:pt x="2534839" y="1673518"/>
                  <a:pt x="2087408" y="1628775"/>
                </a:cubicBezTo>
                <a:cubicBezTo>
                  <a:pt x="2057437" y="1625778"/>
                  <a:pt x="2030258" y="1609725"/>
                  <a:pt x="2001683" y="1600200"/>
                </a:cubicBezTo>
                <a:lnTo>
                  <a:pt x="1915958" y="1571625"/>
                </a:lnTo>
                <a:cubicBezTo>
                  <a:pt x="1901671" y="1566863"/>
                  <a:pt x="1885627" y="1565691"/>
                  <a:pt x="1873096" y="1557337"/>
                </a:cubicBezTo>
                <a:cubicBezTo>
                  <a:pt x="1817702" y="1520408"/>
                  <a:pt x="1846523" y="1534192"/>
                  <a:pt x="1787371" y="1514475"/>
                </a:cubicBezTo>
                <a:cubicBezTo>
                  <a:pt x="1782608" y="1500187"/>
                  <a:pt x="1782491" y="1483372"/>
                  <a:pt x="1773083" y="1471612"/>
                </a:cubicBezTo>
                <a:cubicBezTo>
                  <a:pt x="1762356" y="1458203"/>
                  <a:pt x="1743412" y="1454030"/>
                  <a:pt x="1730221" y="1443037"/>
                </a:cubicBezTo>
                <a:cubicBezTo>
                  <a:pt x="1714699" y="1430102"/>
                  <a:pt x="1701646" y="1414462"/>
                  <a:pt x="1687358" y="1400175"/>
                </a:cubicBezTo>
                <a:cubicBezTo>
                  <a:pt x="1795103" y="1364259"/>
                  <a:pt x="1662288" y="1412709"/>
                  <a:pt x="1773083" y="1357312"/>
                </a:cubicBezTo>
                <a:cubicBezTo>
                  <a:pt x="1786554" y="1350577"/>
                  <a:pt x="1801658" y="1347787"/>
                  <a:pt x="1815946" y="1343025"/>
                </a:cubicBezTo>
                <a:cubicBezTo>
                  <a:pt x="1830233" y="1333500"/>
                  <a:pt x="1843025" y="1321214"/>
                  <a:pt x="1858808" y="1314450"/>
                </a:cubicBezTo>
                <a:cubicBezTo>
                  <a:pt x="1876857" y="1306715"/>
                  <a:pt x="1897077" y="1305556"/>
                  <a:pt x="1915958" y="1300162"/>
                </a:cubicBezTo>
                <a:cubicBezTo>
                  <a:pt x="2076226" y="1254371"/>
                  <a:pt x="1773251" y="1295154"/>
                  <a:pt x="2244571" y="1271587"/>
                </a:cubicBezTo>
                <a:cubicBezTo>
                  <a:pt x="2273146" y="1262062"/>
                  <a:pt x="2305234" y="1259720"/>
                  <a:pt x="2330296" y="1243012"/>
                </a:cubicBezTo>
                <a:cubicBezTo>
                  <a:pt x="2344583" y="1233487"/>
                  <a:pt x="2356868" y="1219867"/>
                  <a:pt x="2373158" y="1214437"/>
                </a:cubicBezTo>
                <a:cubicBezTo>
                  <a:pt x="2400641" y="1205276"/>
                  <a:pt x="2430308" y="1204912"/>
                  <a:pt x="2458883" y="1200150"/>
                </a:cubicBezTo>
                <a:lnTo>
                  <a:pt x="2630333" y="1143000"/>
                </a:lnTo>
                <a:cubicBezTo>
                  <a:pt x="2630343" y="1142997"/>
                  <a:pt x="2716047" y="1114428"/>
                  <a:pt x="2716058" y="1114425"/>
                </a:cubicBezTo>
                <a:cubicBezTo>
                  <a:pt x="2787819" y="1096484"/>
                  <a:pt x="2754579" y="1106346"/>
                  <a:pt x="2816071" y="1085850"/>
                </a:cubicBezTo>
                <a:cubicBezTo>
                  <a:pt x="2883995" y="1040567"/>
                  <a:pt x="2842642" y="1062706"/>
                  <a:pt x="2944658" y="1028700"/>
                </a:cubicBezTo>
                <a:cubicBezTo>
                  <a:pt x="2958946" y="1023937"/>
                  <a:pt x="2974990" y="1022766"/>
                  <a:pt x="2987521" y="1014412"/>
                </a:cubicBezTo>
                <a:cubicBezTo>
                  <a:pt x="3001808" y="1004887"/>
                  <a:pt x="3014692" y="992811"/>
                  <a:pt x="3030383" y="985837"/>
                </a:cubicBezTo>
                <a:cubicBezTo>
                  <a:pt x="3057908" y="973604"/>
                  <a:pt x="3087533" y="966787"/>
                  <a:pt x="3116108" y="957262"/>
                </a:cubicBezTo>
                <a:lnTo>
                  <a:pt x="3158971" y="942975"/>
                </a:lnTo>
                <a:cubicBezTo>
                  <a:pt x="3173258" y="933450"/>
                  <a:pt x="3186475" y="922079"/>
                  <a:pt x="3201833" y="914400"/>
                </a:cubicBezTo>
                <a:cubicBezTo>
                  <a:pt x="3320138" y="855247"/>
                  <a:pt x="3164723" y="953428"/>
                  <a:pt x="3287558" y="871537"/>
                </a:cubicBezTo>
                <a:cubicBezTo>
                  <a:pt x="3297083" y="857250"/>
                  <a:pt x="3301572" y="837776"/>
                  <a:pt x="3316133" y="828675"/>
                </a:cubicBezTo>
                <a:cubicBezTo>
                  <a:pt x="3341675" y="812711"/>
                  <a:pt x="3401858" y="800100"/>
                  <a:pt x="3401858" y="800100"/>
                </a:cubicBezTo>
                <a:cubicBezTo>
                  <a:pt x="3469006" y="732952"/>
                  <a:pt x="3427908" y="768446"/>
                  <a:pt x="3530446" y="700087"/>
                </a:cubicBezTo>
                <a:lnTo>
                  <a:pt x="3573308" y="671512"/>
                </a:lnTo>
                <a:lnTo>
                  <a:pt x="3616171" y="642937"/>
                </a:lnTo>
                <a:cubicBezTo>
                  <a:pt x="3637255" y="611312"/>
                  <a:pt x="3654608" y="579212"/>
                  <a:pt x="3687608" y="557212"/>
                </a:cubicBezTo>
                <a:cubicBezTo>
                  <a:pt x="3700139" y="548858"/>
                  <a:pt x="3716183" y="547687"/>
                  <a:pt x="3730471" y="542925"/>
                </a:cubicBezTo>
                <a:cubicBezTo>
                  <a:pt x="3798395" y="497642"/>
                  <a:pt x="3757042" y="519781"/>
                  <a:pt x="3859058" y="485775"/>
                </a:cubicBezTo>
                <a:lnTo>
                  <a:pt x="3901921" y="471487"/>
                </a:lnTo>
                <a:cubicBezTo>
                  <a:pt x="3916208" y="457200"/>
                  <a:pt x="3927971" y="439833"/>
                  <a:pt x="3944783" y="428625"/>
                </a:cubicBezTo>
                <a:cubicBezTo>
                  <a:pt x="3957314" y="420271"/>
                  <a:pt x="3974175" y="421072"/>
                  <a:pt x="3987646" y="414337"/>
                </a:cubicBezTo>
                <a:cubicBezTo>
                  <a:pt x="4003004" y="406658"/>
                  <a:pt x="4015149" y="393441"/>
                  <a:pt x="4030508" y="385762"/>
                </a:cubicBezTo>
                <a:cubicBezTo>
                  <a:pt x="4043979" y="379027"/>
                  <a:pt x="4059528" y="377408"/>
                  <a:pt x="4073371" y="371475"/>
                </a:cubicBezTo>
                <a:cubicBezTo>
                  <a:pt x="4092948" y="363085"/>
                  <a:pt x="4110746" y="350810"/>
                  <a:pt x="4130521" y="342900"/>
                </a:cubicBezTo>
                <a:cubicBezTo>
                  <a:pt x="4158487" y="331713"/>
                  <a:pt x="4216246" y="314325"/>
                  <a:pt x="4216246" y="314325"/>
                </a:cubicBezTo>
                <a:cubicBezTo>
                  <a:pt x="4230533" y="304800"/>
                  <a:pt x="4243417" y="292724"/>
                  <a:pt x="4259108" y="285750"/>
                </a:cubicBezTo>
                <a:cubicBezTo>
                  <a:pt x="4286633" y="273517"/>
                  <a:pt x="4344833" y="257175"/>
                  <a:pt x="4344833" y="257175"/>
                </a:cubicBezTo>
                <a:cubicBezTo>
                  <a:pt x="4359121" y="247650"/>
                  <a:pt x="4387696" y="245772"/>
                  <a:pt x="4387696" y="228600"/>
                </a:cubicBezTo>
                <a:cubicBezTo>
                  <a:pt x="4387696" y="211428"/>
                  <a:pt x="4355560" y="213434"/>
                  <a:pt x="4344833" y="200025"/>
                </a:cubicBezTo>
                <a:cubicBezTo>
                  <a:pt x="4335425" y="188265"/>
                  <a:pt x="4339954" y="168922"/>
                  <a:pt x="4330546" y="157162"/>
                </a:cubicBezTo>
                <a:cubicBezTo>
                  <a:pt x="4310403" y="131983"/>
                  <a:pt x="4273057" y="123712"/>
                  <a:pt x="4244821" y="114300"/>
                </a:cubicBezTo>
                <a:cubicBezTo>
                  <a:pt x="4230533" y="104775"/>
                  <a:pt x="4217317" y="93404"/>
                  <a:pt x="4201958" y="85725"/>
                </a:cubicBezTo>
                <a:cubicBezTo>
                  <a:pt x="4177944" y="73718"/>
                  <a:pt x="4124843" y="64019"/>
                  <a:pt x="4101946" y="57150"/>
                </a:cubicBezTo>
                <a:cubicBezTo>
                  <a:pt x="4073096" y="48495"/>
                  <a:pt x="4045757" y="34482"/>
                  <a:pt x="4016221" y="28575"/>
                </a:cubicBezTo>
                <a:cubicBezTo>
                  <a:pt x="3930015" y="11333"/>
                  <a:pt x="3967821" y="21966"/>
                  <a:pt x="3901921" y="0"/>
                </a:cubicBezTo>
                <a:lnTo>
                  <a:pt x="2444596" y="14287"/>
                </a:lnTo>
                <a:cubicBezTo>
                  <a:pt x="2424963" y="14657"/>
                  <a:pt x="2406327" y="23181"/>
                  <a:pt x="2387446" y="28575"/>
                </a:cubicBezTo>
                <a:cubicBezTo>
                  <a:pt x="2372965" y="32712"/>
                  <a:pt x="2358871" y="38100"/>
                  <a:pt x="2344583" y="42862"/>
                </a:cubicBezTo>
                <a:cubicBezTo>
                  <a:pt x="2330296" y="52387"/>
                  <a:pt x="2317412" y="64463"/>
                  <a:pt x="2301721" y="71437"/>
                </a:cubicBezTo>
                <a:cubicBezTo>
                  <a:pt x="2274196" y="83670"/>
                  <a:pt x="2244571" y="90487"/>
                  <a:pt x="2215996" y="100012"/>
                </a:cubicBezTo>
                <a:cubicBezTo>
                  <a:pt x="2201708" y="104775"/>
                  <a:pt x="2188119" y="112801"/>
                  <a:pt x="2173133" y="114300"/>
                </a:cubicBezTo>
                <a:lnTo>
                  <a:pt x="2030258" y="128587"/>
                </a:lnTo>
                <a:cubicBezTo>
                  <a:pt x="1927496" y="162843"/>
                  <a:pt x="2055819" y="121284"/>
                  <a:pt x="1930246" y="157162"/>
                </a:cubicBezTo>
                <a:cubicBezTo>
                  <a:pt x="1915765" y="161299"/>
                  <a:pt x="1900548" y="164136"/>
                  <a:pt x="1887383" y="171450"/>
                </a:cubicBezTo>
                <a:cubicBezTo>
                  <a:pt x="1887373" y="171456"/>
                  <a:pt x="1780232" y="242884"/>
                  <a:pt x="1758796" y="257175"/>
                </a:cubicBezTo>
                <a:cubicBezTo>
                  <a:pt x="1744508" y="266700"/>
                  <a:pt x="1732223" y="280320"/>
                  <a:pt x="1715933" y="285750"/>
                </a:cubicBezTo>
                <a:lnTo>
                  <a:pt x="1630208" y="314325"/>
                </a:lnTo>
                <a:cubicBezTo>
                  <a:pt x="1611158" y="342900"/>
                  <a:pt x="1583918" y="367469"/>
                  <a:pt x="1573058" y="400050"/>
                </a:cubicBezTo>
                <a:cubicBezTo>
                  <a:pt x="1568296" y="414337"/>
                  <a:pt x="1566085" y="429747"/>
                  <a:pt x="1558771" y="442912"/>
                </a:cubicBezTo>
                <a:cubicBezTo>
                  <a:pt x="1476890" y="590299"/>
                  <a:pt x="1519663" y="474511"/>
                  <a:pt x="1487333" y="571500"/>
                </a:cubicBezTo>
                <a:cubicBezTo>
                  <a:pt x="1492096" y="600075"/>
                  <a:pt x="1499869" y="628309"/>
                  <a:pt x="1501621" y="657225"/>
                </a:cubicBezTo>
                <a:cubicBezTo>
                  <a:pt x="1509405" y="785665"/>
                  <a:pt x="1504258" y="914840"/>
                  <a:pt x="1515908" y="1042987"/>
                </a:cubicBezTo>
                <a:cubicBezTo>
                  <a:pt x="1518635" y="1072984"/>
                  <a:pt x="1527775" y="1103650"/>
                  <a:pt x="1544483" y="1128712"/>
                </a:cubicBezTo>
                <a:cubicBezTo>
                  <a:pt x="1554008" y="1143000"/>
                  <a:pt x="1565379" y="1156216"/>
                  <a:pt x="1573058" y="1171575"/>
                </a:cubicBezTo>
                <a:cubicBezTo>
                  <a:pt x="1607564" y="1240585"/>
                  <a:pt x="1557955" y="1194843"/>
                  <a:pt x="1630208" y="1243012"/>
                </a:cubicBezTo>
                <a:cubicBezTo>
                  <a:pt x="1634971" y="1257300"/>
                  <a:pt x="1635088" y="1274115"/>
                  <a:pt x="1644496" y="1285875"/>
                </a:cubicBezTo>
                <a:cubicBezTo>
                  <a:pt x="1655223" y="1299284"/>
                  <a:pt x="1675216" y="1326592"/>
                  <a:pt x="1687358" y="1314450"/>
                </a:cubicBezTo>
                <a:cubicBezTo>
                  <a:pt x="1699500" y="1302307"/>
                  <a:pt x="1673344" y="1280688"/>
                  <a:pt x="1658783" y="1271587"/>
                </a:cubicBezTo>
                <a:cubicBezTo>
                  <a:pt x="1633241" y="1255623"/>
                  <a:pt x="1601633" y="1252537"/>
                  <a:pt x="1573058" y="1243012"/>
                </a:cubicBezTo>
                <a:lnTo>
                  <a:pt x="1530196" y="1228725"/>
                </a:lnTo>
                <a:cubicBezTo>
                  <a:pt x="1515908" y="1223962"/>
                  <a:pt x="1502342" y="1215688"/>
                  <a:pt x="1487333" y="1214437"/>
                </a:cubicBezTo>
                <a:lnTo>
                  <a:pt x="1315883" y="1200150"/>
                </a:lnTo>
                <a:cubicBezTo>
                  <a:pt x="1208142" y="1164235"/>
                  <a:pt x="1340952" y="1212684"/>
                  <a:pt x="1230158" y="1157287"/>
                </a:cubicBezTo>
                <a:cubicBezTo>
                  <a:pt x="1216688" y="1150552"/>
                  <a:pt x="1201583" y="1147762"/>
                  <a:pt x="1187296" y="1143000"/>
                </a:cubicBezTo>
                <a:cubicBezTo>
                  <a:pt x="1153291" y="1040985"/>
                  <a:pt x="1183783" y="1073983"/>
                  <a:pt x="1115858" y="1028700"/>
                </a:cubicBezTo>
                <a:cubicBezTo>
                  <a:pt x="1111096" y="1014412"/>
                  <a:pt x="1109925" y="998368"/>
                  <a:pt x="1101571" y="985837"/>
                </a:cubicBezTo>
                <a:cubicBezTo>
                  <a:pt x="1090363" y="969025"/>
                  <a:pt x="1071643" y="958497"/>
                  <a:pt x="1058708" y="942975"/>
                </a:cubicBezTo>
                <a:cubicBezTo>
                  <a:pt x="1047715" y="929783"/>
                  <a:pt x="1041126" y="913304"/>
                  <a:pt x="1030133" y="900112"/>
                </a:cubicBezTo>
                <a:cubicBezTo>
                  <a:pt x="1017198" y="884590"/>
                  <a:pt x="1000206" y="872772"/>
                  <a:pt x="987271" y="857250"/>
                </a:cubicBezTo>
                <a:cubicBezTo>
                  <a:pt x="976278" y="844058"/>
                  <a:pt x="970104" y="827221"/>
                  <a:pt x="958696" y="814387"/>
                </a:cubicBezTo>
                <a:cubicBezTo>
                  <a:pt x="931848" y="784183"/>
                  <a:pt x="901546" y="757237"/>
                  <a:pt x="872971" y="728662"/>
                </a:cubicBezTo>
                <a:cubicBezTo>
                  <a:pt x="858683" y="714375"/>
                  <a:pt x="849277" y="692190"/>
                  <a:pt x="830108" y="685800"/>
                </a:cubicBezTo>
                <a:lnTo>
                  <a:pt x="787246" y="671512"/>
                </a:lnTo>
                <a:cubicBezTo>
                  <a:pt x="777721" y="657225"/>
                  <a:pt x="772080" y="639377"/>
                  <a:pt x="758671" y="628650"/>
                </a:cubicBezTo>
                <a:cubicBezTo>
                  <a:pt x="746911" y="619242"/>
                  <a:pt x="730869" y="614362"/>
                  <a:pt x="715808" y="614362"/>
                </a:cubicBezTo>
                <a:cubicBezTo>
                  <a:pt x="625195" y="614362"/>
                  <a:pt x="534833" y="623887"/>
                  <a:pt x="444346" y="628650"/>
                </a:cubicBezTo>
                <a:cubicBezTo>
                  <a:pt x="430058" y="633412"/>
                  <a:pt x="410237" y="630682"/>
                  <a:pt x="401483" y="642937"/>
                </a:cubicBezTo>
                <a:cubicBezTo>
                  <a:pt x="383976" y="667447"/>
                  <a:pt x="372908" y="728662"/>
                  <a:pt x="372908" y="728662"/>
                </a:cubicBezTo>
                <a:cubicBezTo>
                  <a:pt x="374117" y="737127"/>
                  <a:pt x="383348" y="844335"/>
                  <a:pt x="401483" y="871537"/>
                </a:cubicBezTo>
                <a:cubicBezTo>
                  <a:pt x="412691" y="888349"/>
                  <a:pt x="426683" y="904587"/>
                  <a:pt x="444346" y="914400"/>
                </a:cubicBezTo>
                <a:cubicBezTo>
                  <a:pt x="556492" y="976703"/>
                  <a:pt x="499234" y="910135"/>
                  <a:pt x="572933" y="971550"/>
                </a:cubicBezTo>
                <a:cubicBezTo>
                  <a:pt x="713366" y="1088577"/>
                  <a:pt x="531988" y="944890"/>
                  <a:pt x="644371" y="1057275"/>
                </a:cubicBezTo>
                <a:cubicBezTo>
                  <a:pt x="656513" y="1069417"/>
                  <a:pt x="674042" y="1074857"/>
                  <a:pt x="687233" y="1085850"/>
                </a:cubicBezTo>
                <a:cubicBezTo>
                  <a:pt x="702755" y="1098785"/>
                  <a:pt x="713284" y="1117504"/>
                  <a:pt x="730096" y="1128712"/>
                </a:cubicBezTo>
                <a:cubicBezTo>
                  <a:pt x="858966" y="1214626"/>
                  <a:pt x="680935" y="1059171"/>
                  <a:pt x="815821" y="1171575"/>
                </a:cubicBezTo>
                <a:cubicBezTo>
                  <a:pt x="831343" y="1184510"/>
                  <a:pt x="841020" y="1204624"/>
                  <a:pt x="858683" y="1214437"/>
                </a:cubicBezTo>
                <a:cubicBezTo>
                  <a:pt x="885013" y="1229065"/>
                  <a:pt x="944408" y="1243012"/>
                  <a:pt x="944408" y="1243012"/>
                </a:cubicBezTo>
                <a:cubicBezTo>
                  <a:pt x="972983" y="1262062"/>
                  <a:pt x="997553" y="1289302"/>
                  <a:pt x="1030133" y="1300162"/>
                </a:cubicBezTo>
                <a:cubicBezTo>
                  <a:pt x="1044421" y="1304925"/>
                  <a:pt x="1059831" y="1307136"/>
                  <a:pt x="1072996" y="1314450"/>
                </a:cubicBezTo>
                <a:cubicBezTo>
                  <a:pt x="1103017" y="1331128"/>
                  <a:pt x="1130146" y="1352550"/>
                  <a:pt x="1158721" y="1371600"/>
                </a:cubicBezTo>
                <a:lnTo>
                  <a:pt x="1201583" y="1400175"/>
                </a:lnTo>
                <a:cubicBezTo>
                  <a:pt x="1206346" y="1414462"/>
                  <a:pt x="1203616" y="1434283"/>
                  <a:pt x="1215871" y="1443037"/>
                </a:cubicBezTo>
                <a:cubicBezTo>
                  <a:pt x="1240381" y="1460544"/>
                  <a:pt x="1301596" y="1471612"/>
                  <a:pt x="1301596" y="1471612"/>
                </a:cubicBezTo>
                <a:cubicBezTo>
                  <a:pt x="1330171" y="1490662"/>
                  <a:pt x="1363037" y="1504478"/>
                  <a:pt x="1387321" y="1528762"/>
                </a:cubicBezTo>
                <a:cubicBezTo>
                  <a:pt x="1442325" y="1583767"/>
                  <a:pt x="1413371" y="1560417"/>
                  <a:pt x="1473046" y="1600200"/>
                </a:cubicBezTo>
                <a:cubicBezTo>
                  <a:pt x="1492096" y="1628775"/>
                  <a:pt x="1497615" y="1675065"/>
                  <a:pt x="1530196" y="1685925"/>
                </a:cubicBezTo>
                <a:lnTo>
                  <a:pt x="1615921" y="1714500"/>
                </a:lnTo>
                <a:cubicBezTo>
                  <a:pt x="1651832" y="1822236"/>
                  <a:pt x="1599213" y="1693613"/>
                  <a:pt x="1673071" y="1785937"/>
                </a:cubicBezTo>
                <a:cubicBezTo>
                  <a:pt x="1682479" y="1797697"/>
                  <a:pt x="1680623" y="1815329"/>
                  <a:pt x="1687358" y="1828800"/>
                </a:cubicBezTo>
                <a:cubicBezTo>
                  <a:pt x="1695037" y="1844159"/>
                  <a:pt x="1706408" y="1857375"/>
                  <a:pt x="1715933" y="1871662"/>
                </a:cubicBezTo>
                <a:cubicBezTo>
                  <a:pt x="1706408" y="1885950"/>
                  <a:pt x="1700767" y="1903798"/>
                  <a:pt x="1687358" y="1914525"/>
                </a:cubicBezTo>
                <a:cubicBezTo>
                  <a:pt x="1677844" y="1922136"/>
                  <a:pt x="1591336" y="1941960"/>
                  <a:pt x="1587346" y="1943100"/>
                </a:cubicBezTo>
                <a:cubicBezTo>
                  <a:pt x="1572865" y="1947237"/>
                  <a:pt x="1559185" y="1954120"/>
                  <a:pt x="1544483" y="1957387"/>
                </a:cubicBezTo>
                <a:cubicBezTo>
                  <a:pt x="1393616" y="1990913"/>
                  <a:pt x="1512383" y="1953800"/>
                  <a:pt x="1415896" y="1985962"/>
                </a:cubicBezTo>
                <a:cubicBezTo>
                  <a:pt x="1557317" y="2033105"/>
                  <a:pt x="1311266" y="1955155"/>
                  <a:pt x="1687358" y="2014537"/>
                </a:cubicBezTo>
                <a:cubicBezTo>
                  <a:pt x="1734184" y="2021930"/>
                  <a:pt x="1730221" y="2032548"/>
                  <a:pt x="1730221" y="2057400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4"/>
          <a:stretch/>
        </p:blipFill>
        <p:spPr>
          <a:xfrm>
            <a:off x="5292720" y="1628640"/>
            <a:ext cx="3240000" cy="4392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03" name="Picture 9" descr=""/>
          <p:cNvPicPr/>
          <p:nvPr/>
        </p:nvPicPr>
        <p:blipFill>
          <a:blip r:embed="rId5"/>
          <a:stretch/>
        </p:blipFill>
        <p:spPr>
          <a:xfrm>
            <a:off x="395280" y="3860640"/>
            <a:ext cx="860400" cy="129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"/>
          <p:cNvPicPr/>
          <p:nvPr/>
        </p:nvPicPr>
        <p:blipFill>
          <a:blip r:embed="rId6"/>
          <a:stretch/>
        </p:blipFill>
        <p:spPr>
          <a:xfrm>
            <a:off x="468360" y="1557360"/>
            <a:ext cx="836640" cy="136692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15" descr=""/>
          <p:cNvPicPr/>
          <p:nvPr/>
        </p:nvPicPr>
        <p:blipFill>
          <a:blip r:embed="rId7"/>
          <a:stretch/>
        </p:blipFill>
        <p:spPr>
          <a:xfrm>
            <a:off x="6516720" y="189000"/>
            <a:ext cx="228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3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4064040" cy="78912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2075040" cy="2087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4"/>
          <a:stretch/>
        </p:blipFill>
        <p:spPr>
          <a:xfrm>
            <a:off x="539640" y="333360"/>
            <a:ext cx="167508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5"/>
          <a:stretch/>
        </p:blipFill>
        <p:spPr>
          <a:xfrm>
            <a:off x="395280" y="3141720"/>
            <a:ext cx="1928880" cy="1942920"/>
          </a:xfrm>
          <a:prstGeom prst="rect">
            <a:avLst/>
          </a:prstGeom>
          <a:ln w="0">
            <a:noFill/>
          </a:ln>
        </p:spPr>
      </p:pic>
      <p:sp>
        <p:nvSpPr>
          <p:cNvPr id="212" name="Rounded Rectangular Callout 8"/>
          <p:cNvSpPr/>
          <p:nvPr/>
        </p:nvSpPr>
        <p:spPr>
          <a:xfrm>
            <a:off x="6012000" y="1341360"/>
            <a:ext cx="2520720" cy="935280"/>
          </a:xfrm>
          <a:prstGeom prst="wedgeRoundRectCallout">
            <a:avLst>
              <a:gd name="adj1" fmla="val 13791"/>
              <a:gd name="adj2" fmla="val 133976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6"/>
          <a:stretch/>
        </p:blipFill>
        <p:spPr>
          <a:xfrm>
            <a:off x="5508720" y="5516640"/>
            <a:ext cx="3249360" cy="87948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214" name="Rounded Rectangular Callout 10"/>
          <p:cNvSpPr/>
          <p:nvPr/>
        </p:nvSpPr>
        <p:spPr>
          <a:xfrm>
            <a:off x="395280" y="1341360"/>
            <a:ext cx="2736720" cy="1079640"/>
          </a:xfrm>
          <a:prstGeom prst="wedgeRoundRectCallout">
            <a:avLst>
              <a:gd name="adj1" fmla="val -13074"/>
              <a:gd name="adj2" fmla="val 111175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Rectangle 12" descr=""/>
          <p:cNvPicPr/>
          <p:nvPr/>
        </p:nvPicPr>
        <p:blipFill>
          <a:blip r:embed="rId7"/>
          <a:stretch/>
        </p:blipFill>
        <p:spPr>
          <a:xfrm>
            <a:off x="2030400" y="2639880"/>
            <a:ext cx="5284800" cy="536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8"/>
          <a:stretch/>
        </p:blipFill>
        <p:spPr>
          <a:xfrm>
            <a:off x="395280" y="5373720"/>
            <a:ext cx="3168720" cy="8906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217" name="Rectangle 13"/>
          <p:cNvSpPr/>
          <p:nvPr/>
        </p:nvSpPr>
        <p:spPr>
          <a:xfrm>
            <a:off x="5750280" y="141300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اذا تشاهدين في الصور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6730560" y="177336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اذا يفعل عمر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207000" y="141300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اذا تشاهدين في الصورة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1004760" y="184464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اذا تفعل أحلام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Rectangle 17" descr=""/>
          <p:cNvPicPr/>
          <p:nvPr/>
        </p:nvPicPr>
        <p:blipFill>
          <a:blip r:embed="rId9"/>
          <a:stretch/>
        </p:blipFill>
        <p:spPr>
          <a:xfrm>
            <a:off x="3693960" y="3492360"/>
            <a:ext cx="172584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6659640" y="1052640"/>
            <a:ext cx="2141640" cy="201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2367000" cy="2012760"/>
          </a:xfrm>
          <a:prstGeom prst="rect">
            <a:avLst/>
          </a:prstGeom>
          <a:ln w="0">
            <a:noFill/>
          </a:ln>
        </p:spPr>
      </p:pic>
      <p:sp>
        <p:nvSpPr>
          <p:cNvPr id="225" name="Rounded Rectangle 6"/>
          <p:cNvSpPr/>
          <p:nvPr/>
        </p:nvSpPr>
        <p:spPr>
          <a:xfrm>
            <a:off x="2843280" y="260280"/>
            <a:ext cx="38894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هنا يطبق الإجراء السابق في المشهدين للفعل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Calibri"/>
              </a:rPr>
              <a:t>يشرب  وتشر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مناقشة حول المشاهد الثلاثة حتى نصل  بهن إلى نطق الفعل  مذكراً في مواضيع التذكير ومؤنثاً في مواضيع التأنيث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5940360" y="3284640"/>
            <a:ext cx="2770200" cy="6490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227" name="Picture 5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736720" cy="79236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228" name="Picture 6" descr=""/>
          <p:cNvPicPr/>
          <p:nvPr/>
        </p:nvPicPr>
        <p:blipFill>
          <a:blip r:embed="rId5"/>
          <a:stretch/>
        </p:blipFill>
        <p:spPr>
          <a:xfrm>
            <a:off x="6227640" y="4133880"/>
            <a:ext cx="2232000" cy="2349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6"/>
          <a:stretch/>
        </p:blipFill>
        <p:spPr>
          <a:xfrm>
            <a:off x="3419640" y="422100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7"/>
          <a:stretch/>
        </p:blipFill>
        <p:spPr>
          <a:xfrm>
            <a:off x="468360" y="4437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3"/>
          <p:cNvSpPr/>
          <p:nvPr/>
        </p:nvSpPr>
        <p:spPr>
          <a:xfrm>
            <a:off x="1941840" y="335772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ت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7578360" y="328464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ي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371680" cy="79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4541760" cy="72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987640" y="981000"/>
            <a:ext cx="4680000" cy="1231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2987640" y="2205000"/>
            <a:ext cx="4676760" cy="1158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5"/>
          <a:stretch/>
        </p:blipFill>
        <p:spPr>
          <a:xfrm>
            <a:off x="4427640" y="2421000"/>
            <a:ext cx="1852560" cy="647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6"/>
          <a:stretch/>
        </p:blipFill>
        <p:spPr>
          <a:xfrm>
            <a:off x="2987640" y="3357720"/>
            <a:ext cx="467676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7"/>
          <a:stretch/>
        </p:blipFill>
        <p:spPr>
          <a:xfrm>
            <a:off x="2843280" y="4437000"/>
            <a:ext cx="4676760" cy="100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8"/>
          <a:stretch/>
        </p:blipFill>
        <p:spPr>
          <a:xfrm>
            <a:off x="2916360" y="5445000"/>
            <a:ext cx="4676760" cy="1008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9"/>
          <a:stretch/>
        </p:blipFill>
        <p:spPr>
          <a:xfrm>
            <a:off x="4284720" y="3645000"/>
            <a:ext cx="2306520" cy="57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10"/>
          <a:stretch/>
        </p:blipFill>
        <p:spPr>
          <a:xfrm>
            <a:off x="3851280" y="4653000"/>
            <a:ext cx="2496960" cy="558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11"/>
          <a:stretch/>
        </p:blipFill>
        <p:spPr>
          <a:xfrm>
            <a:off x="3851280" y="5661000"/>
            <a:ext cx="2898720" cy="565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http://t1.gstatic.com/images?q=tbn:ANd9GcRhIqpF_msZ3V_yczPIizqrVTYLArxlUgaiSqxUSGJTd46QUXAsMQ"/>
          <p:cNvPicPr/>
          <p:nvPr/>
        </p:nvPicPr>
        <p:blipFill>
          <a:blip r:embed="rId12"/>
          <a:stretch/>
        </p:blipFill>
        <p:spPr>
          <a:xfrm>
            <a:off x="684360" y="5516640"/>
            <a:ext cx="64764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8"/>
          <p:cNvSpPr/>
          <p:nvPr/>
        </p:nvSpPr>
        <p:spPr>
          <a:xfrm>
            <a:off x="971640" y="2276640"/>
            <a:ext cx="431640" cy="43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684360" y="2924280"/>
            <a:ext cx="934920" cy="1009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5" descr="http://t3.gstatic.com/images?q=tbn:ANd9GcQxu_tYUQQE76QpPjcpnvMQRa3UbnkIYuj0hw3-gIed2HsmObJ3"/>
          <p:cNvPicPr/>
          <p:nvPr/>
        </p:nvPicPr>
        <p:blipFill>
          <a:blip r:embed="rId13"/>
          <a:stretch/>
        </p:blipFill>
        <p:spPr>
          <a:xfrm>
            <a:off x="1835280" y="549360"/>
            <a:ext cx="6376680" cy="5630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http://t2.gstatic.com/images?q=tbn:ANd9GcS60rKksyX0gjEgZAVbFiS3ClLluuORN-wJ9bqDMpftaAUZgum-bQ"/>
          <p:cNvPicPr/>
          <p:nvPr/>
        </p:nvPicPr>
        <p:blipFill>
          <a:blip r:embed="rId14"/>
          <a:stretch/>
        </p:blipFill>
        <p:spPr>
          <a:xfrm>
            <a:off x="324000" y="4149720"/>
            <a:ext cx="1655640" cy="136692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22" descr=""/>
          <p:cNvPicPr/>
          <p:nvPr/>
        </p:nvPicPr>
        <p:blipFill>
          <a:blip r:embed="rId15"/>
          <a:stretch/>
        </p:blipFill>
        <p:spPr>
          <a:xfrm>
            <a:off x="2736720" y="5005440"/>
            <a:ext cx="4322880" cy="1236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http://t0.gstatic.com/images?q=tbn:ANd9GcQqYS20EclS91JaRt_IaWKcMutjJA3GmROgrirmh1otH7yoYIc0Yw"/>
          <p:cNvPicPr/>
          <p:nvPr/>
        </p:nvPicPr>
        <p:blipFill>
          <a:blip r:embed="rId16"/>
          <a:stretch/>
        </p:blipFill>
        <p:spPr>
          <a:xfrm>
            <a:off x="468360" y="868320"/>
            <a:ext cx="1582560" cy="112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52" name="Rectangle 20" descr=""/>
          <p:cNvPicPr/>
          <p:nvPr/>
        </p:nvPicPr>
        <p:blipFill>
          <a:blip r:embed="rId17"/>
          <a:stretch/>
        </p:blipFill>
        <p:spPr>
          <a:xfrm>
            <a:off x="3870360" y="755640"/>
            <a:ext cx="23544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7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ounded Rectangle 4"/>
          <p:cNvSpPr/>
          <p:nvPr/>
        </p:nvSpPr>
        <p:spPr>
          <a:xfrm>
            <a:off x="1258920" y="260280"/>
            <a:ext cx="662616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(ابحث ) نشاط لا صف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مناقشة الطالبات حول المصادر التي يمكن  ان يحصلن على محتوى المكون مثال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جلات الصحف شبكة الانترنت مع مشاركة الو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6" descr="http://www.saudinokia.com/vb/images/uploads/30283_2519147440e06e29bc.gif"/>
          <p:cNvPicPr/>
          <p:nvPr/>
        </p:nvPicPr>
        <p:blipFill>
          <a:blip r:embed="rId1"/>
          <a:stretch/>
        </p:blipFill>
        <p:spPr>
          <a:xfrm>
            <a:off x="2268360" y="1484280"/>
            <a:ext cx="4496040" cy="476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7274160" cy="456372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2556000" y="1989000"/>
            <a:ext cx="33112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79280" y="189000"/>
            <a:ext cx="885852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3.gstatic.com/images?q=tbn:ANd9GcSmu4EsncoaYjuXUOTtAFTPSI1oFigJR6SJU83K8zCxeKN9NRfd"/>
          <p:cNvPicPr/>
          <p:nvPr/>
        </p:nvPicPr>
        <p:blipFill>
          <a:blip r:embed="rId1"/>
          <a:stretch/>
        </p:blipFill>
        <p:spPr>
          <a:xfrm>
            <a:off x="4140360" y="1268280"/>
            <a:ext cx="2160360" cy="160668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51" name="Picture 4" descr="http://t0.gstatic.com/images?q=tbn:ANd9GcQ3Q8iHuiIY1LAPr5xFWi6y2tL9UAaU6oQ8FXmopOCl0jzmwGGV"/>
          <p:cNvPicPr/>
          <p:nvPr/>
        </p:nvPicPr>
        <p:blipFill>
          <a:blip r:embed="rId2"/>
          <a:stretch/>
        </p:blipFill>
        <p:spPr>
          <a:xfrm>
            <a:off x="6948360" y="1700280"/>
            <a:ext cx="1541520" cy="11858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52" name="Picture 6" descr="http://t0.gstatic.com/images?q=tbn:ANd9GcQpW4r9E5s-TvmUTSm_Xgn5hooIcRvjRq-oqSwl23nialF4CsTV"/>
          <p:cNvPicPr/>
          <p:nvPr/>
        </p:nvPicPr>
        <p:blipFill>
          <a:blip r:embed="rId3"/>
          <a:stretch/>
        </p:blipFill>
        <p:spPr>
          <a:xfrm>
            <a:off x="5219640" y="3141720"/>
            <a:ext cx="1368360" cy="110484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pic>
        <p:nvPicPr>
          <p:cNvPr id="53" name="Picture 10" descr="http://t3.gstatic.com/images?q=tbn:ANd9GcQSHiUHrI0BmV6wnLr7GQ5TKVyNOclkwDWfnMM1oStHI6flqGwba-0iBsgf"/>
          <p:cNvPicPr/>
          <p:nvPr/>
        </p:nvPicPr>
        <p:blipFill>
          <a:blip r:embed="rId4"/>
          <a:stretch/>
        </p:blipFill>
        <p:spPr>
          <a:xfrm>
            <a:off x="3276720" y="3068640"/>
            <a:ext cx="1366560" cy="115236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  <p:sp>
        <p:nvSpPr>
          <p:cNvPr id="54" name="AutoShape 12"/>
          <p:cNvSpPr/>
          <p:nvPr/>
        </p:nvSpPr>
        <p:spPr>
          <a:xfrm>
            <a:off x="8736120" y="-54756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8605800" y="-830160"/>
            <a:ext cx="264816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Rectangle 15" descr=""/>
          <p:cNvPicPr/>
          <p:nvPr/>
        </p:nvPicPr>
        <p:blipFill>
          <a:blip r:embed="rId5"/>
          <a:stretch/>
        </p:blipFill>
        <p:spPr>
          <a:xfrm>
            <a:off x="1390680" y="73080"/>
            <a:ext cx="653400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6" descr=""/>
          <p:cNvPicPr/>
          <p:nvPr/>
        </p:nvPicPr>
        <p:blipFill>
          <a:blip r:embed="rId6"/>
          <a:stretch/>
        </p:blipFill>
        <p:spPr>
          <a:xfrm>
            <a:off x="523800" y="73080"/>
            <a:ext cx="2921040" cy="104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t1.gstatic.com/images?q=tbn:ANd9GcSyskdATcqO5g0BaeYcaRYBDZV9RobxUKbzk9OPSfqUhSY53rkU"/>
          <p:cNvPicPr/>
          <p:nvPr/>
        </p:nvPicPr>
        <p:blipFill>
          <a:blip r:embed="rId7"/>
          <a:stretch/>
        </p:blipFill>
        <p:spPr>
          <a:xfrm>
            <a:off x="2050920" y="1197000"/>
            <a:ext cx="936720" cy="140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http://t3.gstatic.com/images?q=tbn:ANd9GcQJF79KHAufzoJ9m_CBjymcTLPRgjhl-h1np7opdoBFqHxfT2ikxlfRAMyoPA"/>
          <p:cNvPicPr/>
          <p:nvPr/>
        </p:nvPicPr>
        <p:blipFill>
          <a:blip r:embed="rId8"/>
          <a:stretch/>
        </p:blipFill>
        <p:spPr>
          <a:xfrm>
            <a:off x="539640" y="112536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19" descr=""/>
          <p:cNvPicPr/>
          <p:nvPr/>
        </p:nvPicPr>
        <p:blipFill>
          <a:blip r:embed="rId9"/>
          <a:stretch/>
        </p:blipFill>
        <p:spPr>
          <a:xfrm>
            <a:off x="3395520" y="219240"/>
            <a:ext cx="4248360" cy="1042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t3.gstatic.com/images?q=tbn:ANd9GcR07wg0hedbYaYCNTPZtTsAEctqQvP77U3Ul40dQMPvh7kJFFoj"/>
          <p:cNvPicPr/>
          <p:nvPr/>
        </p:nvPicPr>
        <p:blipFill>
          <a:blip r:embed="rId10"/>
          <a:stretch/>
        </p:blipFill>
        <p:spPr>
          <a:xfrm>
            <a:off x="4427640" y="4437000"/>
            <a:ext cx="3028680" cy="201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http://t2.gstatic.com/images?q=tbn:ANd9GcQqTRJqwKcDDwOljgDani32iKtx-3Fe0yav8Ui5QdJlyWQKxSQu"/>
          <p:cNvPicPr/>
          <p:nvPr/>
        </p:nvPicPr>
        <p:blipFill>
          <a:blip r:embed="rId11"/>
          <a:stretch/>
        </p:blipFill>
        <p:spPr>
          <a:xfrm>
            <a:off x="684360" y="3429000"/>
            <a:ext cx="1962000" cy="23335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5" descr=""/>
          <p:cNvPicPr/>
          <p:nvPr/>
        </p:nvPicPr>
        <p:blipFill>
          <a:blip r:embed="rId12"/>
          <a:stretch/>
        </p:blipFill>
        <p:spPr>
          <a:xfrm>
            <a:off x="4383000" y="895320"/>
            <a:ext cx="615960" cy="6224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">
            <a:hlinkClick r:id="rId13"/>
          </p:cNvPr>
          <p:cNvSpPr/>
          <p:nvPr/>
        </p:nvSpPr>
        <p:spPr>
          <a:xfrm>
            <a:off x="7875720" y="-351000"/>
            <a:ext cx="9712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4">
            <a:hlinkClick r:id="rId14"/>
          </p:cNvPr>
          <p:cNvSpPr/>
          <p:nvPr/>
        </p:nvSpPr>
        <p:spPr>
          <a:xfrm>
            <a:off x="7875720" y="-351000"/>
            <a:ext cx="9712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8129520" y="-35100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0" descr="http://t2.gstatic.com/images?q=tbn:ANd9GcTjtOobBxH2FGal1iZpcLI13QFVch4M1g1yBwBwz32_38euynpmpw"/>
          <p:cNvPicPr/>
          <p:nvPr/>
        </p:nvPicPr>
        <p:blipFill>
          <a:blip r:embed="rId15"/>
          <a:stretch/>
        </p:blipFill>
        <p:spPr>
          <a:xfrm>
            <a:off x="3276720" y="1268280"/>
            <a:ext cx="3981240" cy="273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t1.gstatic.com/images?q=tbn:ANd9GcQOYXdO1D20lFnaBf1GFI1LoK_Ju20N_8FfSndBzXAshn9wF0D0"/>
          <p:cNvPicPr/>
          <p:nvPr/>
        </p:nvPicPr>
        <p:blipFill>
          <a:blip r:embed="rId16"/>
          <a:stretch/>
        </p:blipFill>
        <p:spPr>
          <a:xfrm>
            <a:off x="7236000" y="3141720"/>
            <a:ext cx="1388880" cy="115092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4" descr=""/>
          <p:cNvPicPr/>
          <p:nvPr/>
        </p:nvPicPr>
        <p:blipFill>
          <a:blip r:embed="rId17"/>
          <a:stretch/>
        </p:blipFill>
        <p:spPr>
          <a:xfrm>
            <a:off x="676440" y="311040"/>
            <a:ext cx="3236760" cy="633600"/>
          </a:xfrm>
          <a:prstGeom prst="rect">
            <a:avLst/>
          </a:prstGeom>
          <a:ln w="0">
            <a:noFill/>
          </a:ln>
        </p:spPr>
      </p:pic>
      <p:sp>
        <p:nvSpPr>
          <p:cNvPr id="73" name="Rounded Rectangle 26"/>
          <p:cNvSpPr/>
          <p:nvPr/>
        </p:nvSpPr>
        <p:spPr>
          <a:xfrm>
            <a:off x="179280" y="189000"/>
            <a:ext cx="8785440" cy="626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10-Point Star 27"/>
          <p:cNvGrpSpPr/>
          <p:nvPr/>
        </p:nvGrpSpPr>
        <p:grpSpPr>
          <a:xfrm>
            <a:off x="6377040" y="-79200"/>
            <a:ext cx="2657520" cy="2663640"/>
            <a:chOff x="6377040" y="-79200"/>
            <a:chExt cx="2657520" cy="2663640"/>
          </a:xfrm>
        </p:grpSpPr>
        <p:pic>
          <p:nvPicPr>
            <p:cNvPr id="75" name="10-Point Star 27" descr=""/>
            <p:cNvPicPr/>
            <p:nvPr/>
          </p:nvPicPr>
          <p:blipFill>
            <a:blip r:embed="rId18"/>
            <a:stretch/>
          </p:blipFill>
          <p:spPr>
            <a:xfrm>
              <a:off x="6377040" y="-79200"/>
              <a:ext cx="26575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948360" y="711360"/>
              <a:ext cx="151128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Calibri"/>
                </a:rPr>
                <a:t>قال تعال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Explosion 2 28"/>
          <p:cNvGrpSpPr/>
          <p:nvPr/>
        </p:nvGrpSpPr>
        <p:grpSpPr>
          <a:xfrm>
            <a:off x="963720" y="4084560"/>
            <a:ext cx="6931080" cy="2754360"/>
            <a:chOff x="963720" y="4084560"/>
            <a:chExt cx="6931080" cy="2754360"/>
          </a:xfrm>
        </p:grpSpPr>
        <p:pic>
          <p:nvPicPr>
            <p:cNvPr id="78" name="Explosion 2 28" descr=""/>
            <p:cNvPicPr/>
            <p:nvPr/>
          </p:nvPicPr>
          <p:blipFill>
            <a:blip r:embed="rId19"/>
            <a:stretch/>
          </p:blipFill>
          <p:spPr>
            <a:xfrm>
              <a:off x="963720" y="4084560"/>
              <a:ext cx="693108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35360" y="5003640"/>
              <a:ext cx="2719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Calibri"/>
                </a:rPr>
                <a:t>اذا درسنا اليوم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26" descr="http://t3.gstatic.com/images?q=tbn:ANd9GcSWgpNrM-hohdPViYq8v5o1J94G0Dky1jt2qLXZZDxZ4TDyDlIm"/>
          <p:cNvPicPr/>
          <p:nvPr/>
        </p:nvPicPr>
        <p:blipFill>
          <a:blip r:embed="rId20"/>
          <a:stretch/>
        </p:blipFill>
        <p:spPr>
          <a:xfrm>
            <a:off x="900000" y="722160"/>
            <a:ext cx="5472360" cy="3581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30"/>
          <p:cNvGrpSpPr/>
          <p:nvPr/>
        </p:nvGrpSpPr>
        <p:grpSpPr>
          <a:xfrm>
            <a:off x="2916360" y="4076640"/>
            <a:ext cx="3240000" cy="2521080"/>
            <a:chOff x="2916360" y="4076640"/>
            <a:chExt cx="3240000" cy="2521080"/>
          </a:xfrm>
        </p:grpSpPr>
        <p:sp>
          <p:nvSpPr>
            <p:cNvPr id="82" name="12-Point Star 32"/>
            <p:cNvSpPr/>
            <p:nvPr/>
          </p:nvSpPr>
          <p:spPr>
            <a:xfrm>
              <a:off x="2916360" y="4076640"/>
              <a:ext cx="3240000" cy="25210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Calibri"/>
                </a:rPr>
                <a:t>فِـيـه  شِـفَـا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27" descr=""/>
            <p:cNvPicPr/>
            <p:nvPr/>
          </p:nvPicPr>
          <p:blipFill>
            <a:blip r:embed="rId21"/>
            <a:stretch/>
          </p:blipFill>
          <p:spPr>
            <a:xfrm>
              <a:off x="3492360" y="5013000"/>
              <a:ext cx="1868400" cy="78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-0.00521 -0.8294 E">
                                      <p:cBhvr>
                                        <p:cTn id="5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333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333 E">
                                      <p:cBhvr>
                                        <p:cTn id="9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6 -3.7037E-006 L -0.00018 -0.64537 E">
                                      <p:cBhvr>
                                        <p:cTn id="16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0.00799 0.43056 E">
                                      <p:cBhvr>
                                        <p:cTn id="21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2760" cy="2408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163980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"/>
          <p:cNvSpPr/>
          <p:nvPr/>
        </p:nvSpPr>
        <p:spPr>
          <a:xfrm>
            <a:off x="8693280" y="-639720"/>
            <a:ext cx="1333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8693280" y="-639720"/>
            <a:ext cx="1333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http://t2.gstatic.com/images?q=tbn:ANd9GcSZH2OCZiyZQszaK-mSZU9ndWC53ZT2P4UMfYQAbOrp-yqrCRVr"/>
          <p:cNvPicPr/>
          <p:nvPr/>
        </p:nvPicPr>
        <p:blipFill>
          <a:blip r:embed="rId3"/>
          <a:stretch/>
        </p:blipFill>
        <p:spPr>
          <a:xfrm>
            <a:off x="755640" y="3213000"/>
            <a:ext cx="1074600" cy="115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t0.gstatic.com/images?q=tbn:ANd9GcQpW4r9E5s-TvmUTSm_Xgn5hooIcRvjRq-oqSwl23nialF4CsTV"/>
          <p:cNvPicPr/>
          <p:nvPr/>
        </p:nvPicPr>
        <p:blipFill>
          <a:blip r:embed="rId4"/>
          <a:stretch/>
        </p:blipFill>
        <p:spPr>
          <a:xfrm>
            <a:off x="7451640" y="32130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http://t1.gstatic.com/images?q=tbn:ANd9GcT13n5cw-2B7ucbhwPcipb2L4D8FD1bmBrbEsbd3dLz7p949qtJG_tU1Ahq"/>
          <p:cNvPicPr/>
          <p:nvPr/>
        </p:nvPicPr>
        <p:blipFill>
          <a:blip r:embed="rId5"/>
          <a:stretch/>
        </p:blipFill>
        <p:spPr>
          <a:xfrm>
            <a:off x="6516720" y="4221000"/>
            <a:ext cx="961920" cy="1333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http://t0.gstatic.com/images?q=tbn:ANd9GcQBssFQznwFyp2TSDgeBwlbQvIDhZpPfzht72R5Jz784bTVE2vHq_0IZh_n"/>
          <p:cNvPicPr/>
          <p:nvPr/>
        </p:nvPicPr>
        <p:blipFill>
          <a:blip r:embed="rId6"/>
          <a:stretch/>
        </p:blipFill>
        <p:spPr>
          <a:xfrm>
            <a:off x="3419640" y="3357720"/>
            <a:ext cx="2466720" cy="285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http://t2.gstatic.com/images?q=tbn:ANd9GcRALSKwH7cD3WvOw-QVX99Jo33IGD2G-oRAtHJI6uOf4eGZ_WKUqcxEljk"/>
          <p:cNvPicPr/>
          <p:nvPr/>
        </p:nvPicPr>
        <p:blipFill>
          <a:blip r:embed="rId7"/>
          <a:stretch/>
        </p:blipFill>
        <p:spPr>
          <a:xfrm>
            <a:off x="1979640" y="4292640"/>
            <a:ext cx="10191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812000" y="246240"/>
            <a:ext cx="100800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2319120" cy="100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203720" cy="1657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5219640" y="1628640"/>
            <a:ext cx="345600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84720" y="1052640"/>
            <a:ext cx="4208400" cy="51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587760" cy="3706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210120" cy="3240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554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3903840" cy="4973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822840" cy="2124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174840" y="5516640"/>
            <a:ext cx="5457960" cy="73800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700360" y="476280"/>
            <a:ext cx="6192720" cy="14400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5767560" cy="8496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12" name="Picture 6" descr=""/>
          <p:cNvPicPr/>
          <p:nvPr/>
        </p:nvPicPr>
        <p:blipFill>
          <a:blip r:embed="rId4"/>
          <a:stretch/>
        </p:blipFill>
        <p:spPr>
          <a:xfrm>
            <a:off x="2556000" y="3716280"/>
            <a:ext cx="6313320" cy="100800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324000" y="3645000"/>
            <a:ext cx="1223640" cy="122400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pic>
        <p:nvPicPr>
          <p:cNvPr id="114" name="Picture 1" descr=""/>
          <p:cNvPicPr/>
          <p:nvPr/>
        </p:nvPicPr>
        <p:blipFill>
          <a:blip r:embed="rId6"/>
          <a:stretch/>
        </p:blipFill>
        <p:spPr>
          <a:xfrm>
            <a:off x="324000" y="260280"/>
            <a:ext cx="12236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2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296720" cy="13399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16" name="Picture 3" descr=""/>
          <p:cNvPicPr/>
          <p:nvPr/>
        </p:nvPicPr>
        <p:blipFill>
          <a:blip r:embed="rId8"/>
          <a:stretch/>
        </p:blipFill>
        <p:spPr>
          <a:xfrm>
            <a:off x="324000" y="1989000"/>
            <a:ext cx="1185840" cy="13957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cxnSp>
        <p:nvCxnSpPr>
          <p:cNvPr id="117" name="Straight Arrow Connector 11"/>
          <p:cNvCxnSpPr/>
          <p:nvPr/>
        </p:nvCxnSpPr>
        <p:spPr>
          <a:xfrm flipH="1">
            <a:off x="1618920" y="1915920"/>
            <a:ext cx="1152720" cy="2161080"/>
          </a:xfrm>
          <a:prstGeom prst="straightConnector1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18" name="Straight Arrow Connector 12"/>
          <p:cNvCxnSpPr/>
          <p:nvPr/>
        </p:nvCxnSpPr>
        <p:spPr>
          <a:xfrm flipH="1" flipV="1">
            <a:off x="1547640" y="1124640"/>
            <a:ext cx="1440360" cy="158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" name="Straight Arrow Connector 14"/>
          <p:cNvCxnSpPr/>
          <p:nvPr/>
        </p:nvCxnSpPr>
        <p:spPr>
          <a:xfrm flipH="1" flipV="1">
            <a:off x="1547280" y="2851920"/>
            <a:ext cx="1627920" cy="30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0" name="Straight Arrow Connector 18"/>
          <p:cNvCxnSpPr/>
          <p:nvPr/>
        </p:nvCxnSpPr>
        <p:spPr>
          <a:xfrm flipH="1">
            <a:off x="1618920" y="4797000"/>
            <a:ext cx="1152720" cy="136908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121" name="Rectangle 15" descr=""/>
          <p:cNvPicPr/>
          <p:nvPr/>
        </p:nvPicPr>
        <p:blipFill>
          <a:blip r:embed="rId9"/>
          <a:stretch/>
        </p:blipFill>
        <p:spPr>
          <a:xfrm>
            <a:off x="3236760" y="298440"/>
            <a:ext cx="3614760" cy="224316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19"/>
          <p:cNvSpPr/>
          <p:nvPr/>
        </p:nvSpPr>
        <p:spPr>
          <a:xfrm flipH="1">
            <a:off x="6372000" y="3068640"/>
            <a:ext cx="93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23"/>
          <p:cNvSpPr/>
          <p:nvPr/>
        </p:nvSpPr>
        <p:spPr>
          <a:xfrm flipH="1">
            <a:off x="7596000" y="170028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25"/>
          <p:cNvSpPr/>
          <p:nvPr/>
        </p:nvSpPr>
        <p:spPr>
          <a:xfrm flipH="1">
            <a:off x="7812000" y="306864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8"/>
          <p:cNvSpPr/>
          <p:nvPr/>
        </p:nvSpPr>
        <p:spPr>
          <a:xfrm flipH="1">
            <a:off x="6948000" y="465300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9"/>
          <p:cNvSpPr/>
          <p:nvPr/>
        </p:nvSpPr>
        <p:spPr>
          <a:xfrm flipH="1">
            <a:off x="6300360" y="458136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32"/>
          <p:cNvSpPr/>
          <p:nvPr/>
        </p:nvSpPr>
        <p:spPr>
          <a:xfrm flipH="1">
            <a:off x="4500360" y="458136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33"/>
          <p:cNvSpPr/>
          <p:nvPr/>
        </p:nvSpPr>
        <p:spPr>
          <a:xfrm flipH="1">
            <a:off x="2700000" y="4653000"/>
            <a:ext cx="107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35"/>
          <p:cNvSpPr/>
          <p:nvPr/>
        </p:nvSpPr>
        <p:spPr>
          <a:xfrm flipH="1">
            <a:off x="7667280" y="623736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0087 -0.52662 E">
                                      <p:cBhvr>
                                        <p:cTn id="44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1206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711080" cy="131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714240" cy="974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3348000" y="404640"/>
            <a:ext cx="2087640" cy="81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7550280" y="2349360"/>
            <a:ext cx="847440" cy="8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5"/>
          <a:stretch/>
        </p:blipFill>
        <p:spPr>
          <a:xfrm>
            <a:off x="7596360" y="3789360"/>
            <a:ext cx="782640" cy="86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6"/>
          <a:stretch/>
        </p:blipFill>
        <p:spPr>
          <a:xfrm>
            <a:off x="7524720" y="5300640"/>
            <a:ext cx="792360" cy="8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7"/>
          <a:stretch/>
        </p:blipFill>
        <p:spPr>
          <a:xfrm>
            <a:off x="2916360" y="2492280"/>
            <a:ext cx="4435200" cy="5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8"/>
          <a:stretch/>
        </p:blipFill>
        <p:spPr>
          <a:xfrm>
            <a:off x="2556000" y="3933720"/>
            <a:ext cx="495936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9"/>
          <a:stretch/>
        </p:blipFill>
        <p:spPr>
          <a:xfrm>
            <a:off x="4572000" y="5445000"/>
            <a:ext cx="2647800" cy="73836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11" descr=""/>
          <p:cNvPicPr/>
          <p:nvPr/>
        </p:nvPicPr>
        <p:blipFill>
          <a:blip r:embed="rId10"/>
          <a:stretch/>
        </p:blipFill>
        <p:spPr>
          <a:xfrm>
            <a:off x="341280" y="208080"/>
            <a:ext cx="2627280" cy="834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val 12"/>
          <p:cNvGrpSpPr/>
          <p:nvPr/>
        </p:nvGrpSpPr>
        <p:grpSpPr>
          <a:xfrm>
            <a:off x="5754600" y="79200"/>
            <a:ext cx="1236600" cy="1236960"/>
            <a:chOff x="5754600" y="79200"/>
            <a:chExt cx="1236600" cy="1236960"/>
          </a:xfrm>
        </p:grpSpPr>
        <p:pic>
          <p:nvPicPr>
            <p:cNvPr id="142" name="Oval 12" descr=""/>
            <p:cNvPicPr/>
            <p:nvPr/>
          </p:nvPicPr>
          <p:blipFill>
            <a:blip r:embed="rId11"/>
            <a:stretch/>
          </p:blipFill>
          <p:spPr>
            <a:xfrm>
              <a:off x="5754600" y="79200"/>
              <a:ext cx="12366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118200" y="438120"/>
              <a:ext cx="5079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Picture 11" descr=""/>
          <p:cNvPicPr/>
          <p:nvPr/>
        </p:nvPicPr>
        <p:blipFill>
          <a:blip r:embed="rId12"/>
          <a:stretch/>
        </p:blipFill>
        <p:spPr>
          <a:xfrm>
            <a:off x="1042920" y="1628640"/>
            <a:ext cx="1419120" cy="15019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5" name="Picture 12" descr=""/>
          <p:cNvPicPr/>
          <p:nvPr/>
        </p:nvPicPr>
        <p:blipFill>
          <a:blip r:embed="rId13"/>
          <a:stretch/>
        </p:blipFill>
        <p:spPr>
          <a:xfrm>
            <a:off x="826920" y="3500280"/>
            <a:ext cx="1325880" cy="1368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46" name="Picture 2" descr=""/>
          <p:cNvPicPr/>
          <p:nvPr/>
        </p:nvPicPr>
        <p:blipFill>
          <a:blip r:embed="rId14"/>
          <a:stretch/>
        </p:blipFill>
        <p:spPr>
          <a:xfrm>
            <a:off x="539640" y="5516640"/>
            <a:ext cx="3629160" cy="76824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9:04:27Z</dcterms:created>
  <dc:creator>HIND</dc:creator>
  <dc:description/>
  <dc:language>en-US</dc:language>
  <cp:lastModifiedBy>HIND</cp:lastModifiedBy>
  <dcterms:modified xsi:type="dcterms:W3CDTF">2011-04-01T19:02:40Z</dcterms:modified>
  <cp:revision>6</cp:revision>
  <dc:subject/>
  <dc:title>Slide 1</dc:title>
</cp:coreProperties>
</file>