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57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90.jpeg" ContentType="image/jpeg"/>
  <Override PartName="/ppt/media/image63.jpeg" ContentType="image/jpeg"/>
  <Override PartName="/ppt/media/image22.png" ContentType="image/png"/>
  <Override PartName="/ppt/media/image64.png" ContentType="image/png"/>
  <Override PartName="/ppt/media/image65.png" ContentType="image/png"/>
  <Override PartName="/ppt/media/bomb.wav" ContentType="audio/x-wav"/>
  <Override PartName="/ppt/media/image67.png" ContentType="image/png"/>
  <Override PartName="/ppt/media/image68.png" ContentType="image/png"/>
  <Override PartName="/ppt/media/image31.png" ContentType="image/png"/>
  <Override PartName="/ppt/media/image89.png" ContentType="image/png"/>
  <Override PartName="/ppt/media/image77.png" ContentType="image/png"/>
  <Override PartName="/ppt/media/image74.png" ContentType="image/png"/>
  <Override PartName="/ppt/media/image61.jpeg" ContentType="image/jpeg"/>
  <Override PartName="/ppt/media/image87.png" ContentType="image/png"/>
  <Override PartName="/ppt/media/image75.png" ContentType="image/png"/>
  <Override PartName="/ppt/media/image86.jpeg" ContentType="image/jpeg"/>
  <Override PartName="/ppt/media/image73.png" ContentType="image/png"/>
  <Override PartName="/ppt/media/image78.png" ContentType="image/png"/>
  <Override PartName="/ppt/media/image7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9.jpeg" ContentType="image/jpeg"/>
  <Override PartName="/ppt/media/image88.jpeg" ContentType="image/jpe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82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6D4-F550-4D34-AE81-F78180B1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2A6-5830-425C-88F2-311A4569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787-5F97-4090-A47E-DBC968A7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C2D-791B-4DF7-9675-DAA36131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BBE-7515-4ABB-84F4-2439BB57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D65-F4E6-4540-87F5-42CBB53C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4AF-92D6-4C82-9D6F-70B3C69D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571-DE28-4A20-BFC2-4D8CCB7F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14F-CE4F-4805-8360-3E575D1B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2BB-62DE-483B-A929-BFA3766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A22-5E31-4A1A-B0DA-03B487B0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23C-6E1E-4B4F-819D-6A7BF0E2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24F8-54CE-4631-9837-D734C305E88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55.pn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image" Target="../media/image60.png"/><Relationship Id="rId9" Type="http://schemas.openxmlformats.org/officeDocument/2006/relationships/image" Target="../media/image65.png"/><Relationship Id="rId10" Type="http://schemas.openxmlformats.org/officeDocument/2006/relationships/image" Target="../media/image66.jpeg"/><Relationship Id="rId11" Type="http://schemas.openxmlformats.org/officeDocument/2006/relationships/image" Target="../media/image61.jpe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image" Target="../media/image69.png"/><Relationship Id="rId16" Type="http://schemas.openxmlformats.org/officeDocument/2006/relationships/image" Target="../media/image70.jpeg"/><Relationship Id="rId17" Type="http://schemas.openxmlformats.org/officeDocument/2006/relationships/image" Target="../media/image71.png"/><Relationship Id="rId18" Type="http://schemas.openxmlformats.org/officeDocument/2006/relationships/image" Target="../media/image71.png"/><Relationship Id="rId19" Type="http://schemas.openxmlformats.org/officeDocument/2006/relationships/image" Target="../media/image72.png"/><Relationship Id="rId20" Type="http://schemas.openxmlformats.org/officeDocument/2006/relationships/image" Target="../media/image73.png"/><Relationship Id="rId21" Type="http://schemas.openxmlformats.org/officeDocument/2006/relationships/image" Target="../media/image74.png"/><Relationship Id="rId22" Type="http://schemas.openxmlformats.org/officeDocument/2006/relationships/audio" Target="../media/bomb.wav"/><Relationship Id="rId23" Type="http://schemas.openxmlformats.org/officeDocument/2006/relationships/audio" Target="../media/bomb.wav"/><Relationship Id="rId24" Type="http://schemas.openxmlformats.org/officeDocument/2006/relationships/audio" Target="../media/bomb.wav"/><Relationship Id="rId2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image" Target="../media/image84.png"/><Relationship Id="rId11" Type="http://schemas.openxmlformats.org/officeDocument/2006/relationships/image" Target="../media/image8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png"/><Relationship Id="rId3" Type="http://schemas.openxmlformats.org/officeDocument/2006/relationships/image" Target="../media/image88.jpeg"/><Relationship Id="rId4" Type="http://schemas.openxmlformats.org/officeDocument/2006/relationships/image" Target="../media/image89.png"/><Relationship Id="rId5" Type="http://schemas.openxmlformats.org/officeDocument/2006/relationships/image" Target="../media/image9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5.png"/><Relationship Id="rId9" Type="http://schemas.openxmlformats.org/officeDocument/2006/relationships/image" Target="../media/image5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  <a:cs typeface="Arial"/>
              </a:rPr>
              <a:t>من الوحدة الرابع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لى أي سوق ذهب عمر ووالده؟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ذكري انواع الخضراوات التي اشتراها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لفواكه انواع كثيرة اذكريها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ماذا نستفيد من الخضراوات والفواكه؟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ذا وحدتنا هي.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ounded Rectangle 2" descr=""/>
          <p:cNvPicPr/>
          <p:nvPr/>
        </p:nvPicPr>
        <p:blipFill>
          <a:blip r:embed="rId1"/>
          <a:stretch/>
        </p:blipFill>
        <p:spPr>
          <a:xfrm>
            <a:off x="249120" y="3865680"/>
            <a:ext cx="37735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1476360" y="1484280"/>
            <a:ext cx="5951520" cy="3581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0504d"/>
                </a:solidFill>
                <a:latin typeface="Calibri"/>
                <a:cs typeface="PT Bold Broken"/>
              </a:rPr>
              <a:t>وردت كلمة اللبن في القرآن الكريم في قوله تعال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Calibri"/>
                <a:ea typeface="PT Bold Broken"/>
              </a:rPr>
              <a:t> </a:t>
            </a:r>
            <a:r>
              <a:rPr b="1" lang="ar-AE" sz="2400" spc="-1" strike="noStrike">
                <a:solidFill>
                  <a:srgbClr val="c0504d"/>
                </a:solidFill>
                <a:latin typeface="Calibri"/>
                <a:cs typeface="PT Bold Broken"/>
              </a:rPr>
              <a:t>قال تعالى في وصف الجن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0504d"/>
                </a:solidFill>
                <a:latin typeface="Calibri"/>
                <a:ea typeface="PT Bold Broken"/>
              </a:rPr>
              <a:t>( مثل الجنة التي وعد المتقون فيها أنهار من ماء غير آسن وأنهار من لبن لم يتغير طعمه وأنهار من خمر لذة للشاربين وأنهار من عسل مصفى ... ) ( محمد آية </a:t>
            </a:r>
            <a:r>
              <a:rPr b="1" lang="ar-AE" sz="2400" spc="-1" strike="noStrike">
                <a:solidFill>
                  <a:srgbClr val="c0504d"/>
                </a:solidFill>
                <a:latin typeface="Calibri"/>
                <a:ea typeface="PT Bold Broken"/>
              </a:rPr>
              <a:t>15</a:t>
            </a:r>
            <a:r>
              <a:rPr b="1" lang="ar-AE" sz="2400" spc="-1" strike="noStrike">
                <a:solidFill>
                  <a:srgbClr val="c0504d"/>
                </a:solidFill>
                <a:latin typeface="Calibri"/>
                <a:ea typeface="PT Bold Broke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1908000" y="692280"/>
            <a:ext cx="5112000" cy="761760"/>
          </a:xfrm>
          <a:prstGeom prst="rect">
            <a:avLst/>
          </a:prstGeom>
          <a:solidFill>
            <a:srgbClr val="00008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Calibri"/>
                <a:cs typeface="Al-Mothnna"/>
              </a:rPr>
              <a:t>اللبن غذاء ذكر في القرا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ttp://t1.gstatic.com/images?q=tbn:ANd9GcTy1ZI6wF6zXBzCZE-OQtbdqM-EytlwFzECNJNCfBs1ZIzqTExy"/>
          <p:cNvPicPr/>
          <p:nvPr/>
        </p:nvPicPr>
        <p:blipFill>
          <a:blip r:embed="rId1"/>
          <a:stretch/>
        </p:blipFill>
        <p:spPr>
          <a:xfrm>
            <a:off x="324000" y="5157720"/>
            <a:ext cx="1204920" cy="1166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t1.gstatic.com/images?q=tbn:ANd9GcTy1ZI6wF6zXBzCZE-OQtbdqM-EytlwFzECNJNCfBs1ZIzqTExy"/>
          <p:cNvPicPr/>
          <p:nvPr/>
        </p:nvPicPr>
        <p:blipFill>
          <a:blip r:embed="rId2"/>
          <a:stretch/>
        </p:blipFill>
        <p:spPr>
          <a:xfrm>
            <a:off x="7596360" y="333360"/>
            <a:ext cx="1204920" cy="1166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7524720" y="4797360"/>
            <a:ext cx="1076400" cy="1514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10764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2" descr="http://www.schoolarabia.net/images/asasia_im/milk/cow9.jpg"/>
          <p:cNvPicPr/>
          <p:nvPr/>
        </p:nvPicPr>
        <p:blipFill>
          <a:blip r:embed="rId1"/>
          <a:stretch/>
        </p:blipFill>
        <p:spPr>
          <a:xfrm>
            <a:off x="611280" y="1844640"/>
            <a:ext cx="2568600" cy="35654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2484360" y="692280"/>
            <a:ext cx="5562720" cy="761760"/>
          </a:xfrm>
          <a:prstGeom prst="rect">
            <a:avLst/>
          </a:prstGeom>
          <a:solidFill>
            <a:srgbClr val="c0504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Calibri"/>
                <a:cs typeface="Al-Mothnna"/>
              </a:rPr>
              <a:t>لماذا نشرب الحليب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995640" y="21337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Led Italic Font"/>
              </a:rPr>
              <a:t> </a:t>
            </a:r>
            <a:r>
              <a:rPr b="1" lang="ar-SA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 -غذاء مهم لبناء العظام والأسنان والحفاظ عليها وعلى الخلايا العصبية وا لتفاعلات الحيوية بالحسم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PT Bold Broke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276720" y="3296520"/>
            <a:ext cx="541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504d"/>
                </a:solidFill>
                <a:latin typeface="Calibri"/>
                <a:cs typeface="Times New Roman"/>
              </a:rPr>
              <a:t>يساعد في الوقاية من مرض هشاشة العظام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.</a:t>
            </a:r>
            <a:r>
              <a:rPr b="1" lang="ar-SA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564000" y="4724280"/>
            <a:ext cx="521964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  <a:ea typeface="PT Bold Broken"/>
              </a:rPr>
              <a:t> </a:t>
            </a:r>
            <a:r>
              <a:rPr b="1" lang="ar-SA" sz="2400" spc="-1" strike="noStrike">
                <a:solidFill>
                  <a:srgbClr val="c0504d"/>
                </a:solidFill>
                <a:latin typeface="Calibri"/>
                <a:ea typeface="PT Bold Broken"/>
              </a:rPr>
              <a:t> </a:t>
            </a:r>
            <a:r>
              <a:rPr b="1" lang="ar-SA" sz="2400" spc="-1" strike="noStrike">
                <a:solidFill>
                  <a:srgbClr val="c0504d"/>
                </a:solidFill>
                <a:latin typeface="Calibri"/>
              </a:rPr>
              <a:t>- مصدر غذائي جيد للعديد من العناصر الغذائية مما يساعد في عملية النمو و البناء وهو سهل الهضم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.  </a:t>
            </a:r>
            <a:r>
              <a:rPr b="1" lang="ar-SA" sz="2400" spc="-1" strike="noStrike">
                <a:solidFill>
                  <a:srgbClr val="c0504d"/>
                </a:solidFill>
                <a:latin typeface="Calibri"/>
              </a:rPr>
              <a:t>وله دور وقائي من تسوس الأسنان</a:t>
            </a: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.</a:t>
            </a:r>
            <a:r>
              <a:rPr b="1" lang="ar-SA" sz="1800" spc="-1" strike="noStrike">
                <a:solidFill>
                  <a:srgbClr val="c0504d"/>
                </a:solidFill>
                <a:latin typeface="Calibri"/>
                <a:ea typeface="PT Bold Broken"/>
              </a:rPr>
              <a:t>4</a:t>
            </a:r>
            <a:r>
              <a:rPr b="1" lang="ar-SA" sz="1800" spc="-1" strike="noStrike">
                <a:solidFill>
                  <a:srgbClr val="c0504d"/>
                </a:solidFill>
                <a:latin typeface="Calibri"/>
                <a:ea typeface="PT Bold Broken"/>
              </a:rPr>
              <a:t>-  </a:t>
            </a:r>
            <a:r>
              <a:rPr b="1" lang="en-US" sz="1800" spc="-1" strike="noStrike">
                <a:solidFill>
                  <a:srgbClr val="c0504d"/>
                </a:solidFill>
                <a:latin typeface="Calibri"/>
                <a:ea typeface="PT Bold Broken"/>
              </a:rPr>
              <a:t>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4" descr="http://www.schoolarabia.net/images/asasia_im/almjmo3at_algtha2ia/pdairy.gif"/>
          <p:cNvPicPr/>
          <p:nvPr/>
        </p:nvPicPr>
        <p:blipFill>
          <a:blip r:embed="rId2"/>
          <a:stretch/>
        </p:blipFill>
        <p:spPr>
          <a:xfrm>
            <a:off x="468360" y="404640"/>
            <a:ext cx="1150920" cy="132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http://www.schoolarabia.net/images/asasia_im/almjmo3at_algtha2ia/pdairy.gif"/>
          <p:cNvPicPr/>
          <p:nvPr/>
        </p:nvPicPr>
        <p:blipFill>
          <a:blip r:embed="rId3"/>
          <a:stretch/>
        </p:blipFill>
        <p:spPr>
          <a:xfrm>
            <a:off x="8028000" y="404640"/>
            <a:ext cx="714240" cy="820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http://www.schoolarabia.net/images/asasia_im/almjmo3at_algtha2ia/pdairy.gif"/>
          <p:cNvPicPr/>
          <p:nvPr/>
        </p:nvPicPr>
        <p:blipFill>
          <a:blip r:embed="rId4"/>
          <a:stretch/>
        </p:blipFill>
        <p:spPr>
          <a:xfrm>
            <a:off x="8101080" y="6043680"/>
            <a:ext cx="569880" cy="655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http://www.schoolarabia.net/images/asasia_im/almjmo3at_algtha2ia/pdairy.gif"/>
          <p:cNvPicPr/>
          <p:nvPr/>
        </p:nvPicPr>
        <p:blipFill>
          <a:blip r:embed="rId5"/>
          <a:stretch/>
        </p:blipFill>
        <p:spPr>
          <a:xfrm>
            <a:off x="6443640" y="6021360"/>
            <a:ext cx="569880" cy="655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http://www.schoolarabia.net/images/asasia_im/almjmo3at_algtha2ia/pdairy.gif"/>
          <p:cNvPicPr/>
          <p:nvPr/>
        </p:nvPicPr>
        <p:blipFill>
          <a:blip r:embed="rId6"/>
          <a:stretch/>
        </p:blipFill>
        <p:spPr>
          <a:xfrm>
            <a:off x="4859280" y="5950080"/>
            <a:ext cx="569880" cy="655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http://www.schoolarabia.net/images/asasia_im/almjmo3at_algtha2ia/pdairy.gif"/>
          <p:cNvPicPr/>
          <p:nvPr/>
        </p:nvPicPr>
        <p:blipFill>
          <a:blip r:embed="rId7"/>
          <a:stretch/>
        </p:blipFill>
        <p:spPr>
          <a:xfrm>
            <a:off x="3708360" y="5950080"/>
            <a:ext cx="569880" cy="655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http://www.schoolarabia.net/images/asasia_im/almjmo3at_algtha2ia/pdairy.gif"/>
          <p:cNvPicPr/>
          <p:nvPr/>
        </p:nvPicPr>
        <p:blipFill>
          <a:blip r:embed="rId8"/>
          <a:stretch/>
        </p:blipFill>
        <p:spPr>
          <a:xfrm>
            <a:off x="1979640" y="5950080"/>
            <a:ext cx="56988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http://t1.gstatic.com/images?q=tbn:ANd9GcR6f2MKX5gfH36uxfnghK7BHHdGZJZNR6pizmYho_vF54xs5bNhIA"/>
          <p:cNvPicPr/>
          <p:nvPr/>
        </p:nvPicPr>
        <p:blipFill>
          <a:blip r:embed="rId1"/>
          <a:stretch/>
        </p:blipFill>
        <p:spPr>
          <a:xfrm>
            <a:off x="7596360" y="476280"/>
            <a:ext cx="1055520" cy="2305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5" name="Rectangle 2"/>
          <p:cNvSpPr/>
          <p:nvPr/>
        </p:nvSpPr>
        <p:spPr>
          <a:xfrm>
            <a:off x="2195640" y="333360"/>
            <a:ext cx="4824360" cy="671400"/>
          </a:xfrm>
          <a:prstGeom prst="rect">
            <a:avLst/>
          </a:prstGeom>
          <a:solidFill>
            <a:srgbClr val="c0504d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  <a:cs typeface="Al-Mothnna"/>
              </a:rPr>
              <a:t>لنسمع هذا الحوار بين الحليب والبيبس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271520" cy="251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7" name="Rectangle 4"/>
          <p:cNvSpPr/>
          <p:nvPr/>
        </p:nvSpPr>
        <p:spPr>
          <a:xfrm>
            <a:off x="1403280" y="1700280"/>
            <a:ext cx="6096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5050"/>
                </a:solidFill>
                <a:latin typeface="Calibri"/>
                <a:cs typeface="Simple Bold Jut Out"/>
              </a:rPr>
              <a:t>في يوم من الايام تلاقى البيبسي والحليب فدار بينهم حوار</a:t>
            </a:r>
            <a:r>
              <a:rPr b="0" lang="ar-SA" sz="3200" spc="-1" strike="noStrike">
                <a:solidFill>
                  <a:srgbClr val="ff5050"/>
                </a:solidFill>
                <a:latin typeface="Calibri"/>
                <a:ea typeface="Hesham AlSharq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b050"/>
                </a:solidFill>
                <a:latin typeface="Calibri"/>
                <a:cs typeface="PT Bold Heading"/>
              </a:rPr>
              <a:t>البيبسي:من أنت 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  <a:cs typeface="PT Bold Heading"/>
              </a:rPr>
              <a:t>الحليب</a:t>
            </a:r>
            <a:r>
              <a:rPr b="0" lang="ar-SA" sz="2000" spc="-1" strike="noStrike">
                <a:solidFill>
                  <a:srgbClr val="c0504d"/>
                </a:solidFill>
                <a:latin typeface="Calibri"/>
                <a:ea typeface="PT Bold Heading"/>
              </a:rPr>
              <a:t>:أنا الحليب أنا الشراب السائغ الطبيعي أنا الذي أعطي القوة والنشاط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504d"/>
                </a:solidFill>
                <a:latin typeface="Calibri"/>
                <a:cs typeface="PT Bold Heading"/>
              </a:rPr>
              <a:t>لكن شكلك عجيب ولونك مريب ، فمن تكون يا غريب !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b050"/>
                </a:solidFill>
                <a:latin typeface="Calibri"/>
                <a:cs typeface="PT Bold Heading"/>
              </a:rPr>
              <a:t>البيبسي:أ</a:t>
            </a:r>
            <a:r>
              <a:rPr b="0" lang="ar-SA" sz="2000" spc="-1" strike="noStrike">
                <a:solidFill>
                  <a:srgbClr val="c0504d"/>
                </a:solidFill>
                <a:latin typeface="Calibri"/>
                <a:cs typeface="PT Bold Heading"/>
              </a:rPr>
              <a:t>نا المشروب العصري، ذو الطعم الحضار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504d"/>
                </a:solidFill>
                <a:latin typeface="Calibri"/>
                <a:cs typeface="PT Bold Heading"/>
              </a:rPr>
              <a:t>أنا البيبسي وأنا غني عن التعريف.. فهل أخفى عليك ؟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504d"/>
                </a:solidFill>
                <a:latin typeface="Calibri"/>
                <a:cs typeface="PT Bold Heading"/>
              </a:rPr>
              <a:t>ألا ترى اسمي في الشوارع الواسعة وعلى الشاشات اللامع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504d"/>
                </a:solidFill>
                <a:latin typeface="Calibri"/>
                <a:cs typeface="PT Bold Heading"/>
              </a:rPr>
              <a:t>وفي المطاعم العالمية ، والمقاهي الليليه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t2.gstatic.com/images?q=tbn:ANd9GcTp6bhv3hyyI_r8YIGv1bv81WsobdmDRFM_nRokT8HXhCPGktCmXg"/>
          <p:cNvPicPr/>
          <p:nvPr/>
        </p:nvPicPr>
        <p:blipFill>
          <a:blip r:embed="rId3"/>
          <a:stretch/>
        </p:blipFill>
        <p:spPr>
          <a:xfrm>
            <a:off x="468360" y="4581360"/>
            <a:ext cx="1224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1271520" cy="252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pSp>
        <p:nvGrpSpPr>
          <p:cNvPr id="151" name="Group 6"/>
          <p:cNvGrpSpPr/>
          <p:nvPr/>
        </p:nvGrpSpPr>
        <p:grpSpPr>
          <a:xfrm>
            <a:off x="2050920" y="476280"/>
            <a:ext cx="5329440" cy="2469240"/>
            <a:chOff x="2050920" y="476280"/>
            <a:chExt cx="5329440" cy="2469240"/>
          </a:xfrm>
        </p:grpSpPr>
        <p:sp>
          <p:nvSpPr>
            <p:cNvPr id="152" name="Rounded Rectangular Callout 4"/>
            <p:cNvSpPr/>
            <p:nvPr/>
          </p:nvSpPr>
          <p:spPr>
            <a:xfrm>
              <a:off x="2050920" y="476280"/>
              <a:ext cx="5329440" cy="1801440"/>
            </a:xfrm>
            <a:prstGeom prst="wedgeRoundRectCallout">
              <a:avLst>
                <a:gd name="adj1" fmla="val -59444"/>
                <a:gd name="adj2" fmla="val -12898"/>
                <a:gd name="adj3" fmla="val 16667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2338920" y="548280"/>
              <a:ext cx="475344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tabLst>
                  <a:tab algn="l" pos="0"/>
                  <a:tab algn="l" pos="58244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حليب:نعم ، نعم .. لقد عرفتك الآن أنت الذي خدعت الناس بمظاهرك الكاذبة ؟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58244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فأنت منتفخ بغير فائدة ، دخلت الموائد ودخلت معك الأمراض والمصائب فجلبت البطنة وذهبت بالفطن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4" name="Picture 4" descr="http://t1.gstatic.com/images?q=tbn:ANd9GcR6f2MKX5gfH36uxfnghK7BHHdGZJZNR6pizmYho_vF54xs5bNhIA"/>
          <p:cNvPicPr/>
          <p:nvPr/>
        </p:nvPicPr>
        <p:blipFill>
          <a:blip r:embed="rId2"/>
          <a:stretch/>
        </p:blipFill>
        <p:spPr>
          <a:xfrm>
            <a:off x="7596360" y="4005360"/>
            <a:ext cx="1055520" cy="2303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pSp>
        <p:nvGrpSpPr>
          <p:cNvPr id="155" name="Group 13"/>
          <p:cNvGrpSpPr/>
          <p:nvPr/>
        </p:nvGrpSpPr>
        <p:grpSpPr>
          <a:xfrm>
            <a:off x="1187280" y="4221000"/>
            <a:ext cx="5329440" cy="2140200"/>
            <a:chOff x="1187280" y="4221000"/>
            <a:chExt cx="5329440" cy="2140200"/>
          </a:xfrm>
        </p:grpSpPr>
        <p:sp>
          <p:nvSpPr>
            <p:cNvPr id="156" name="Rounded Rectangular Callout 10"/>
            <p:cNvSpPr/>
            <p:nvPr/>
          </p:nvSpPr>
          <p:spPr>
            <a:xfrm>
              <a:off x="1187280" y="4221000"/>
              <a:ext cx="5329440" cy="1800000"/>
            </a:xfrm>
            <a:prstGeom prst="wedgeRoundRectCallout">
              <a:avLst>
                <a:gd name="adj1" fmla="val 69259"/>
                <a:gd name="adj2" fmla="val -10518"/>
                <a:gd name="adj3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1259280" y="4293000"/>
              <a:ext cx="502344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tabLst>
                  <a:tab algn="l" pos="0"/>
                  <a:tab algn="l" pos="58244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0000"/>
                  </a:solidFill>
                  <a:latin typeface="Calibri"/>
                  <a:cs typeface="Times New Roman"/>
                </a:rPr>
                <a:t>البيبسي:ماذا ؟ماذا 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58244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0000"/>
                  </a:solidFill>
                  <a:latin typeface="Calibri"/>
                  <a:cs typeface="Times New Roman"/>
                </a:rPr>
                <a:t>ماذا تقول أيها العجوز؟فأنت لم يعد لك عهد ووجو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58244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0000"/>
                  </a:solidFill>
                  <a:latin typeface="Calibri"/>
                  <a:cs typeface="Times New Roman"/>
                </a:rPr>
                <a:t>فقد استبدلك الناس بي وفضلوني عليك والشاهد على ذلك كثرة مبيعاتي وانتشاري في أنحاء العالم وازدهار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8" name="Picture 2" descr="http://t2.gstatic.com/images?q=tbn:ANd9GcTp6bhv3hyyI_r8YIGv1bv81WsobdmDRFM_nRokT8HXhCPGktCmXg"/>
          <p:cNvPicPr/>
          <p:nvPr/>
        </p:nvPicPr>
        <p:blipFill>
          <a:blip r:embed="rId3"/>
          <a:stretch/>
        </p:blipFill>
        <p:spPr>
          <a:xfrm>
            <a:off x="7524720" y="620640"/>
            <a:ext cx="1224000" cy="165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t3.gstatic.com/images?q=tbn:ANd9GcQqrsawscKjI1uNpbsG1wh1eEmhqnEYafCqymldca6sdlsBZ_Rp"/>
          <p:cNvPicPr/>
          <p:nvPr/>
        </p:nvPicPr>
        <p:blipFill>
          <a:blip r:embed="rId4"/>
          <a:stretch/>
        </p:blipFill>
        <p:spPr>
          <a:xfrm>
            <a:off x="3708360" y="2421000"/>
            <a:ext cx="2032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Rectangle 3"/>
          <p:cNvGrpSpPr/>
          <p:nvPr/>
        </p:nvGrpSpPr>
        <p:grpSpPr>
          <a:xfrm>
            <a:off x="755640" y="353880"/>
            <a:ext cx="7669080" cy="2200320"/>
            <a:chOff x="755640" y="353880"/>
            <a:chExt cx="7669080" cy="2200320"/>
          </a:xfrm>
        </p:grpSpPr>
        <p:pic>
          <p:nvPicPr>
            <p:cNvPr id="162" name="Rectangle 3" descr=""/>
            <p:cNvPicPr/>
            <p:nvPr/>
          </p:nvPicPr>
          <p:blipFill>
            <a:blip r:embed="rId1"/>
            <a:stretch/>
          </p:blipFill>
          <p:spPr>
            <a:xfrm>
              <a:off x="755640" y="353880"/>
              <a:ext cx="766908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042920" y="620640"/>
              <a:ext cx="7093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c0504d"/>
                  </a:solidFill>
                  <a:latin typeface="Calibri"/>
                  <a:cs typeface="PT Bold Heading"/>
                </a:rPr>
                <a:t>الحليب:أتعيرني بقدمي؟هذا فخر لي أني موجود من قديم الزمان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c0504d"/>
                  </a:solidFill>
                  <a:latin typeface="Calibri"/>
                  <a:cs typeface="PT Bold Heading"/>
                </a:rPr>
                <a:t>في عصر الصحبة والأعيان وهون عليك .. ما فضلك علي إلا أهل العقول الخاوية  أما أهل العقول الحليمة، والاجسام السليم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c0504d"/>
                  </a:solidFill>
                  <a:latin typeface="Calibri"/>
                  <a:cs typeface="PT Bold Heading"/>
                </a:rPr>
                <a:t>ما رضوا بك بديلا عني..فلا يستبدل الذي هو أدنى بالذي هو خي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c0504d"/>
                  </a:solidFill>
                  <a:latin typeface="Calibri"/>
                  <a:cs typeface="PT Bold Heading"/>
                </a:rPr>
                <a:t>في الصحة والقوة والنشاط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4" name="Picture 14" descr="http://www.schoolarabia.net/images/asasia_im/almjmo3at_algtha2ia/pdairy.gif"/>
          <p:cNvPicPr/>
          <p:nvPr/>
        </p:nvPicPr>
        <p:blipFill>
          <a:blip r:embed="rId2"/>
          <a:stretch/>
        </p:blipFill>
        <p:spPr>
          <a:xfrm flipH="1">
            <a:off x="324000" y="765000"/>
            <a:ext cx="496800" cy="115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http://www.schoolarabia.net/images/asasia_im/almjmo3at_algtha2ia/pdairy.gif"/>
          <p:cNvPicPr/>
          <p:nvPr/>
        </p:nvPicPr>
        <p:blipFill>
          <a:blip r:embed="rId3"/>
          <a:stretch/>
        </p:blipFill>
        <p:spPr>
          <a:xfrm>
            <a:off x="8172360" y="404640"/>
            <a:ext cx="625680" cy="1511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http://www.schoolarabia.net/images/asasia_im/almjmo3at_algtha2ia/pdairy.gif"/>
          <p:cNvPicPr/>
          <p:nvPr/>
        </p:nvPicPr>
        <p:blipFill>
          <a:blip r:embed="rId4"/>
          <a:stretch/>
        </p:blipFill>
        <p:spPr>
          <a:xfrm>
            <a:off x="8317080" y="3933720"/>
            <a:ext cx="569880" cy="654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http://www.schoolarabia.net/images/asasia_im/almjmo3at_algtha2ia/pdairy.gif"/>
          <p:cNvPicPr/>
          <p:nvPr/>
        </p:nvPicPr>
        <p:blipFill>
          <a:blip r:embed="rId5"/>
          <a:stretch/>
        </p:blipFill>
        <p:spPr>
          <a:xfrm>
            <a:off x="395280" y="2421000"/>
            <a:ext cx="569880" cy="655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http://www.schoolarabia.net/images/asasia_im/almjmo3at_algtha2ia/pdairy.gif"/>
          <p:cNvPicPr/>
          <p:nvPr/>
        </p:nvPicPr>
        <p:blipFill>
          <a:blip r:embed="rId6"/>
          <a:stretch/>
        </p:blipFill>
        <p:spPr>
          <a:xfrm>
            <a:off x="2916360" y="2492280"/>
            <a:ext cx="569880" cy="65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http://www.schoolarabia.net/images/asasia_im/almjmo3at_algtha2ia/pdairy.gif"/>
          <p:cNvPicPr/>
          <p:nvPr/>
        </p:nvPicPr>
        <p:blipFill>
          <a:blip r:embed="rId7"/>
          <a:stretch/>
        </p:blipFill>
        <p:spPr>
          <a:xfrm>
            <a:off x="826920" y="5732640"/>
            <a:ext cx="427320" cy="799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http://www.schoolarabia.net/images/asasia_im/almjmo3at_algtha2ia/pdairy.gif"/>
          <p:cNvPicPr/>
          <p:nvPr/>
        </p:nvPicPr>
        <p:blipFill>
          <a:blip r:embed="rId8"/>
          <a:stretch/>
        </p:blipFill>
        <p:spPr>
          <a:xfrm>
            <a:off x="4808520" y="189000"/>
            <a:ext cx="405000" cy="466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9"/>
          <a:stretch/>
        </p:blipFill>
        <p:spPr>
          <a:xfrm>
            <a:off x="3276720" y="5300640"/>
            <a:ext cx="608040" cy="118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t2.gstatic.com/images?q=tbn:ANd9GcTiBKgSBVpG_bhuYT74VZng1lzDfe3ZGVbwCTFHIKYWpedJHBC42A"/>
          <p:cNvPicPr/>
          <p:nvPr/>
        </p:nvPicPr>
        <p:blipFill>
          <a:blip r:embed="rId10"/>
          <a:stretch/>
        </p:blipFill>
        <p:spPr>
          <a:xfrm>
            <a:off x="250920" y="3357720"/>
            <a:ext cx="2665440" cy="234792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20"/>
          <p:cNvGrpSpPr/>
          <p:nvPr/>
        </p:nvGrpSpPr>
        <p:grpSpPr>
          <a:xfrm>
            <a:off x="3419640" y="2708280"/>
            <a:ext cx="4465440" cy="2952720"/>
            <a:chOff x="3419640" y="2708280"/>
            <a:chExt cx="4465440" cy="2952720"/>
          </a:xfrm>
        </p:grpSpPr>
        <p:sp>
          <p:nvSpPr>
            <p:cNvPr id="174" name="Oval Callout 18"/>
            <p:cNvSpPr/>
            <p:nvPr/>
          </p:nvSpPr>
          <p:spPr>
            <a:xfrm>
              <a:off x="3419640" y="2708280"/>
              <a:ext cx="4465440" cy="2952720"/>
            </a:xfrm>
            <a:prstGeom prst="wedgeEllipseCallout">
              <a:avLst>
                <a:gd name="adj1" fmla="val -66662"/>
                <a:gd name="adj2" fmla="val -69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3782160" y="3644280"/>
              <a:ext cx="37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ffffff"/>
                  </a:solidFill>
                  <a:latin typeface="Calibri"/>
                  <a:cs typeface="PT Bold Heading"/>
                </a:rPr>
                <a:t>فهل ستشرب الحليب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ffffff"/>
                  </a:solidFill>
                  <a:latin typeface="Calibri"/>
                  <a:ea typeface="PT Bold Heading"/>
                </a:rPr>
                <a:t> أم البيبسي </a:t>
              </a:r>
              <a:r>
                <a:rPr b="0" lang="ar-SA" sz="2400" spc="-1" strike="noStrike">
                  <a:solidFill>
                    <a:srgbClr val="ffffff"/>
                  </a:solidFill>
                  <a:latin typeface="Calibri"/>
                  <a:cs typeface="PT Bold Heading"/>
                </a:rPr>
                <a:t>؟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6" name="Picture 4" descr="http://t1.gstatic.com/images?q=tbn:ANd9GcR6f2MKX5gfH36uxfnghK7BHHdGZJZNR6pizmYho_vF54xs5bNhIA"/>
          <p:cNvPicPr/>
          <p:nvPr/>
        </p:nvPicPr>
        <p:blipFill>
          <a:blip r:embed="rId11"/>
          <a:stretch/>
        </p:blipFill>
        <p:spPr>
          <a:xfrm>
            <a:off x="7308720" y="5300640"/>
            <a:ext cx="623880" cy="1158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pSp>
        <p:nvGrpSpPr>
          <p:cNvPr id="177" name="Rounded Rectangle 23"/>
          <p:cNvGrpSpPr/>
          <p:nvPr/>
        </p:nvGrpSpPr>
        <p:grpSpPr>
          <a:xfrm>
            <a:off x="262080" y="298440"/>
            <a:ext cx="8613720" cy="6297480"/>
            <a:chOff x="262080" y="298440"/>
            <a:chExt cx="8613720" cy="6297480"/>
          </a:xfrm>
        </p:grpSpPr>
        <p:pic>
          <p:nvPicPr>
            <p:cNvPr id="178" name="Rounded Rectangle 23" descr=""/>
            <p:cNvPicPr/>
            <p:nvPr/>
          </p:nvPicPr>
          <p:blipFill>
            <a:blip r:embed="rId12"/>
            <a:stretch/>
          </p:blipFill>
          <p:spPr>
            <a:xfrm>
              <a:off x="262080" y="298440"/>
              <a:ext cx="8613720" cy="62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25320" y="635040"/>
              <a:ext cx="7893360" cy="55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Rectangle 24" descr=""/>
          <p:cNvPicPr/>
          <p:nvPr/>
        </p:nvPicPr>
        <p:blipFill>
          <a:blip r:embed="rId13"/>
          <a:stretch/>
        </p:blipFill>
        <p:spPr>
          <a:xfrm>
            <a:off x="1981080" y="3645000"/>
            <a:ext cx="5211720" cy="11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14"/>
          <a:stretch/>
        </p:blipFill>
        <p:spPr>
          <a:xfrm>
            <a:off x="900000" y="765000"/>
            <a:ext cx="1008000" cy="16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15"/>
          <a:stretch/>
        </p:blipFill>
        <p:spPr>
          <a:xfrm>
            <a:off x="7236000" y="836640"/>
            <a:ext cx="1008000" cy="1655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http://t2.gstatic.com/images?q=tbn:ANd9GcRMEWo2P3eSl2I2Yx2WX-fPvLhxpQmwMOEuoDCs42bMUFK576RI"/>
          <p:cNvPicPr/>
          <p:nvPr/>
        </p:nvPicPr>
        <p:blipFill>
          <a:blip r:embed="rId16"/>
          <a:stretch/>
        </p:blipFill>
        <p:spPr>
          <a:xfrm>
            <a:off x="3276720" y="765000"/>
            <a:ext cx="2950920" cy="266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t1.gstatic.com/images?q=tbn:ANd9GcTy1ZI6wF6zXBzCZE-OQtbdqM-EytlwFzECNJNCfBs1ZIzqTExy"/>
          <p:cNvPicPr/>
          <p:nvPr/>
        </p:nvPicPr>
        <p:blipFill>
          <a:blip r:embed="rId17"/>
          <a:stretch/>
        </p:blipFill>
        <p:spPr>
          <a:xfrm>
            <a:off x="676440" y="5078520"/>
            <a:ext cx="1218960" cy="1182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t1.gstatic.com/images?q=tbn:ANd9GcTy1ZI6wF6zXBzCZE-OQtbdqM-EytlwFzECNJNCfBs1ZIzqTExy"/>
          <p:cNvPicPr/>
          <p:nvPr/>
        </p:nvPicPr>
        <p:blipFill>
          <a:blip r:embed="rId18"/>
          <a:stretch/>
        </p:blipFill>
        <p:spPr>
          <a:xfrm>
            <a:off x="7156440" y="5078520"/>
            <a:ext cx="1219320" cy="118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://t1.gstatic.com/images?q=tbn:ANd9GcTy1ZI6wF6zXBzCZE-OQtbdqM-EytlwFzECNJNCfBs1ZIzqTExy"/>
          <p:cNvPicPr/>
          <p:nvPr/>
        </p:nvPicPr>
        <p:blipFill>
          <a:blip r:embed="rId19"/>
          <a:stretch/>
        </p:blipFill>
        <p:spPr>
          <a:xfrm>
            <a:off x="3846600" y="5224320"/>
            <a:ext cx="1218960" cy="1176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t1.gstatic.com/images?q=tbn:ANd9GcTy1ZI6wF6zXBzCZE-OQtbdqM-EytlwFzECNJNCfBs1ZIzqTExy"/>
          <p:cNvPicPr/>
          <p:nvPr/>
        </p:nvPicPr>
        <p:blipFill>
          <a:blip r:embed="rId20"/>
          <a:stretch/>
        </p:blipFill>
        <p:spPr>
          <a:xfrm>
            <a:off x="463680" y="3352680"/>
            <a:ext cx="1212840" cy="1176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t1.gstatic.com/images?q=tbn:ANd9GcTy1ZI6wF6zXBzCZE-OQtbdqM-EytlwFzECNJNCfBs1ZIzqTExy"/>
          <p:cNvPicPr/>
          <p:nvPr/>
        </p:nvPicPr>
        <p:blipFill>
          <a:blip r:embed="rId21"/>
          <a:stretch/>
        </p:blipFill>
        <p:spPr>
          <a:xfrm>
            <a:off x="7516800" y="3279600"/>
            <a:ext cx="12193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968480" cy="100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471320" cy="1584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216036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4"/>
          <a:stretch/>
        </p:blipFill>
        <p:spPr>
          <a:xfrm>
            <a:off x="1692360" y="1197000"/>
            <a:ext cx="6081480" cy="79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5"/>
          <a:stretch/>
        </p:blipFill>
        <p:spPr>
          <a:xfrm>
            <a:off x="1692360" y="1989000"/>
            <a:ext cx="6119640" cy="690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6"/>
          <a:stretch/>
        </p:blipFill>
        <p:spPr>
          <a:xfrm>
            <a:off x="3564000" y="2637000"/>
            <a:ext cx="2124000" cy="58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7"/>
          <a:stretch/>
        </p:blipFill>
        <p:spPr>
          <a:xfrm>
            <a:off x="1619280" y="3141720"/>
            <a:ext cx="5689440" cy="65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8"/>
          <a:stretch/>
        </p:blipFill>
        <p:spPr>
          <a:xfrm>
            <a:off x="3492360" y="3789360"/>
            <a:ext cx="230364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9"/>
          <a:stretch/>
        </p:blipFill>
        <p:spPr>
          <a:xfrm>
            <a:off x="1763640" y="4365720"/>
            <a:ext cx="6140520" cy="64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10"/>
          <a:stretch/>
        </p:blipFill>
        <p:spPr>
          <a:xfrm>
            <a:off x="3780000" y="5013360"/>
            <a:ext cx="2030400" cy="647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" descr=""/>
          <p:cNvPicPr/>
          <p:nvPr/>
        </p:nvPicPr>
        <p:blipFill>
          <a:blip r:embed="rId11"/>
          <a:stretch/>
        </p:blipFill>
        <p:spPr>
          <a:xfrm>
            <a:off x="3705120" y="5661000"/>
            <a:ext cx="20908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t2.gstatic.com/images?q=tbn:ANd9GcSGG3qZWhfVT_RzW9BZdAdnjgOQN8WfbF_sN2EhWrTY-SELOkuE"/>
          <p:cNvPicPr/>
          <p:nvPr/>
        </p:nvPicPr>
        <p:blipFill>
          <a:blip r:embed="rId1"/>
          <a:stretch/>
        </p:blipFill>
        <p:spPr>
          <a:xfrm>
            <a:off x="539640" y="1916280"/>
            <a:ext cx="2592360" cy="35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2" name="Rectangle 2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Rectangle 3" descr=""/>
          <p:cNvPicPr/>
          <p:nvPr/>
        </p:nvPicPr>
        <p:blipFill>
          <a:blip r:embed="rId2"/>
          <a:stretch/>
        </p:blipFill>
        <p:spPr>
          <a:xfrm>
            <a:off x="1407960" y="189000"/>
            <a:ext cx="6821640" cy="1170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://t0.gstatic.com/images?q=tbn:ANd9GcSZgwHA8PJ1YIOLnHlyXRhkNLiaCDOkkCPWlfXiVOWqKkRSG3t44A"/>
          <p:cNvPicPr/>
          <p:nvPr/>
        </p:nvPicPr>
        <p:blipFill>
          <a:blip r:embed="rId3"/>
          <a:stretch/>
        </p:blipFill>
        <p:spPr>
          <a:xfrm>
            <a:off x="3780000" y="1628640"/>
            <a:ext cx="1823760" cy="2737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http://t1.gstatic.com/images?q=tbn:ANd9GcTKy6nckt_pQhevNnpo59UhfP_uGF_SUhtNULSGB15hRZJ9llt0"/>
          <p:cNvPicPr/>
          <p:nvPr/>
        </p:nvPicPr>
        <p:blipFill>
          <a:blip r:embed="rId4"/>
          <a:stretch/>
        </p:blipFill>
        <p:spPr>
          <a:xfrm>
            <a:off x="3468600" y="4863960"/>
            <a:ext cx="2279880" cy="2768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http://t3.gstatic.com/images?q=tbn:ANd9GcTJKhir3eo6XlzMftKumTkG9CyXj4io1UWFWI7UTjPgCANPJDrGJQ"/>
          <p:cNvPicPr/>
          <p:nvPr/>
        </p:nvPicPr>
        <p:blipFill>
          <a:blip r:embed="rId5"/>
          <a:stretch/>
        </p:blipFill>
        <p:spPr>
          <a:xfrm>
            <a:off x="5940360" y="1700280"/>
            <a:ext cx="25192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89080" cy="93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875640" y="1989000"/>
            <a:ext cx="181908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5867280" y="1052640"/>
            <a:ext cx="1638360" cy="1190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 rot="15988800">
            <a:off x="3381120" y="2271600"/>
            <a:ext cx="2619360" cy="80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990720" cy="16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6"/>
          <a:stretch/>
        </p:blipFill>
        <p:spPr>
          <a:xfrm>
            <a:off x="7596360" y="4941720"/>
            <a:ext cx="1161720" cy="140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7"/>
          <a:stretch/>
        </p:blipFill>
        <p:spPr>
          <a:xfrm>
            <a:off x="7093080" y="3573360"/>
            <a:ext cx="1295280" cy="120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8"/>
          <a:stretch/>
        </p:blipFill>
        <p:spPr>
          <a:xfrm rot="15922800">
            <a:off x="4417920" y="1174320"/>
            <a:ext cx="2057400" cy="8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9"/>
          <a:stretch/>
        </p:blipFill>
        <p:spPr>
          <a:xfrm rot="18105600">
            <a:off x="5568120" y="3179880"/>
            <a:ext cx="1563480" cy="1121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10"/>
          <a:stretch/>
        </p:blipFill>
        <p:spPr>
          <a:xfrm>
            <a:off x="4859280" y="4365720"/>
            <a:ext cx="1028880" cy="189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11"/>
          <a:stretch/>
        </p:blipFill>
        <p:spPr>
          <a:xfrm rot="21331200">
            <a:off x="2408040" y="945720"/>
            <a:ext cx="10476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12"/>
          <a:stretch/>
        </p:blipFill>
        <p:spPr>
          <a:xfrm>
            <a:off x="468360" y="692280"/>
            <a:ext cx="1457280" cy="165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"/>
          <p:cNvPicPr/>
          <p:nvPr/>
        </p:nvPicPr>
        <p:blipFill>
          <a:blip r:embed="rId13"/>
          <a:stretch/>
        </p:blipFill>
        <p:spPr>
          <a:xfrm>
            <a:off x="611280" y="5300640"/>
            <a:ext cx="1231920" cy="97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"/>
          <p:cNvPicPr/>
          <p:nvPr/>
        </p:nvPicPr>
        <p:blipFill>
          <a:blip r:embed="rId14"/>
          <a:stretch/>
        </p:blipFill>
        <p:spPr>
          <a:xfrm>
            <a:off x="2124000" y="4581360"/>
            <a:ext cx="1476360" cy="165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15"/>
          <a:stretch/>
        </p:blipFill>
        <p:spPr>
          <a:xfrm>
            <a:off x="684360" y="2781360"/>
            <a:ext cx="121284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Left Brace 23"/>
          <p:cNvSpPr/>
          <p:nvPr/>
        </p:nvSpPr>
        <p:spPr>
          <a:xfrm rot="10800000">
            <a:off x="3276720" y="404640"/>
            <a:ext cx="1008000" cy="612000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209520 h 6120000"/>
              <a:gd name="textAreaBottom" fmla="*/ 5910480 h 612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2"/>
                  <a:pt x="10800" y="2364"/>
                </a:cubicBezTo>
                <a:lnTo>
                  <a:pt x="10800" y="8436"/>
                </a:lnTo>
                <a:cubicBezTo>
                  <a:pt x="10800" y="9618"/>
                  <a:pt x="5400" y="10800"/>
                  <a:pt x="0" y="10800"/>
                </a:cubicBezTo>
                <a:cubicBezTo>
                  <a:pt x="5400" y="10800"/>
                  <a:pt x="10800" y="11982"/>
                  <a:pt x="10800" y="13164"/>
                </a:cubicBezTo>
                <a:lnTo>
                  <a:pt x="10800" y="19236"/>
                </a:lnTo>
                <a:cubicBezTo>
                  <a:pt x="10800" y="20418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26" descr=""/>
          <p:cNvPicPr/>
          <p:nvPr/>
        </p:nvPicPr>
        <p:blipFill>
          <a:blip r:embed="rId16"/>
          <a:stretch/>
        </p:blipFill>
        <p:spPr>
          <a:xfrm>
            <a:off x="1944720" y="2749680"/>
            <a:ext cx="52545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8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31200" cy="230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7667640" y="1773360"/>
            <a:ext cx="861840" cy="49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579320" cy="495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4"/>
          <a:stretch/>
        </p:blipFill>
        <p:spPr>
          <a:xfrm>
            <a:off x="3564000" y="1773360"/>
            <a:ext cx="1079280" cy="50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5"/>
          <a:stretch/>
        </p:blipFill>
        <p:spPr>
          <a:xfrm>
            <a:off x="900000" y="1700280"/>
            <a:ext cx="165276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6"/>
          <a:stretch/>
        </p:blipFill>
        <p:spPr>
          <a:xfrm>
            <a:off x="7596360" y="1700280"/>
            <a:ext cx="95220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7"/>
          <a:stretch/>
        </p:blipFill>
        <p:spPr>
          <a:xfrm>
            <a:off x="5435640" y="1773360"/>
            <a:ext cx="1687320" cy="517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8"/>
          <a:stretch/>
        </p:blipFill>
        <p:spPr>
          <a:xfrm>
            <a:off x="3635280" y="1773360"/>
            <a:ext cx="1006560" cy="61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9"/>
          <a:stretch/>
        </p:blipFill>
        <p:spPr>
          <a:xfrm>
            <a:off x="900000" y="1700280"/>
            <a:ext cx="1771920" cy="65232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13" descr=""/>
          <p:cNvPicPr/>
          <p:nvPr/>
        </p:nvPicPr>
        <p:blipFill>
          <a:blip r:embed="rId10"/>
          <a:stretch/>
        </p:blipFill>
        <p:spPr>
          <a:xfrm>
            <a:off x="1390680" y="2408400"/>
            <a:ext cx="6905520" cy="235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11"/>
          <a:stretch/>
        </p:blipFill>
        <p:spPr>
          <a:xfrm>
            <a:off x="3419640" y="4797360"/>
            <a:ext cx="2476440" cy="172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12"/>
          <a:stretch/>
        </p:blipFill>
        <p:spPr>
          <a:xfrm>
            <a:off x="7380360" y="4797360"/>
            <a:ext cx="1412640" cy="1700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13"/>
          <a:stretch/>
        </p:blipFill>
        <p:spPr>
          <a:xfrm>
            <a:off x="324000" y="3141720"/>
            <a:ext cx="1152360" cy="158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14"/>
          <a:stretch/>
        </p:blipFill>
        <p:spPr>
          <a:xfrm>
            <a:off x="468360" y="4941720"/>
            <a:ext cx="1366920" cy="15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t1.gstatic.com/images?q=tbn:ANd9GcTFcaGWwSo0l_fTGoF_Jg4f7X1KCcWusuqbv_K7qsK3VVVYJKHm"/>
          <p:cNvPicPr/>
          <p:nvPr/>
        </p:nvPicPr>
        <p:blipFill>
          <a:blip r:embed="rId15"/>
          <a:stretch/>
        </p:blipFill>
        <p:spPr>
          <a:xfrm>
            <a:off x="1979640" y="5013360"/>
            <a:ext cx="12063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7631280" y="0"/>
            <a:ext cx="1512720" cy="504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103640" cy="3205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3132000" y="4724280"/>
            <a:ext cx="202896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4"/>
          <a:stretch/>
        </p:blipFill>
        <p:spPr>
          <a:xfrm>
            <a:off x="2556000" y="333360"/>
            <a:ext cx="3671640" cy="115092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pic>
        <p:nvPicPr>
          <p:cNvPr id="82" name="Picture 11" descr=""/>
          <p:cNvPicPr/>
          <p:nvPr/>
        </p:nvPicPr>
        <p:blipFill>
          <a:blip r:embed="rId5"/>
          <a:stretch/>
        </p:blipFill>
        <p:spPr>
          <a:xfrm>
            <a:off x="2556000" y="333360"/>
            <a:ext cx="3671640" cy="1224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8"/>
          <p:cNvGrpSpPr/>
          <p:nvPr/>
        </p:nvGrpSpPr>
        <p:grpSpPr>
          <a:xfrm>
            <a:off x="5435640" y="1557360"/>
            <a:ext cx="3430440" cy="4032360"/>
            <a:chOff x="5435640" y="1557360"/>
            <a:chExt cx="3430440" cy="4032360"/>
          </a:xfrm>
        </p:grpSpPr>
        <p:pic>
          <p:nvPicPr>
            <p:cNvPr id="84" name="Picture 3" descr=""/>
            <p:cNvPicPr/>
            <p:nvPr/>
          </p:nvPicPr>
          <p:blipFill>
            <a:blip r:embed="rId6"/>
            <a:stretch/>
          </p:blipFill>
          <p:spPr>
            <a:xfrm>
              <a:off x="5435640" y="1557360"/>
              <a:ext cx="3430440" cy="40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2" descr=""/>
            <p:cNvPicPr/>
            <p:nvPr/>
          </p:nvPicPr>
          <p:blipFill>
            <a:blip r:embed="rId7"/>
            <a:stretch/>
          </p:blipFill>
          <p:spPr>
            <a:xfrm>
              <a:off x="6011640" y="3285360"/>
              <a:ext cx="411840" cy="5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Picture 5" descr=""/>
          <p:cNvPicPr/>
          <p:nvPr/>
        </p:nvPicPr>
        <p:blipFill>
          <a:blip r:embed="rId8"/>
          <a:stretch/>
        </p:blipFill>
        <p:spPr>
          <a:xfrm>
            <a:off x="6012000" y="3357720"/>
            <a:ext cx="522000" cy="62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9"/>
          <a:stretch/>
        </p:blipFill>
        <p:spPr>
          <a:xfrm>
            <a:off x="200160" y="4941720"/>
            <a:ext cx="2404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1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0.00659 0.01296 0.01354 0.02662 0.02343 0.03542 C 0.02829 0.04514 0.03385 0.05255 0.04218 0.05625 C 0.04322 0.05833 0.04392 0.06088 0.04531 0.0625 C 0.04809 0.06574 0.05468 0.07083 0.05468 0.07083 C 0.05572 0.07292 0.05642 0.07546 0.05781 0.07708 C 0.05902 0.07847 0.0618 0.08102 0.0625 0.07917 C 0.06336 0.07685 0.06024 0.07523 0.05937 0.07292 C 0.05868 0.07106 0.0585 0.06852 0.05781 0.06667 C 0.05312 0.05394 0.04982 0.03727 0.04062 0.02917 C 0.03854 0.02106 0.0375 0.01736 0.03125 0.01458 C 0.02829 0.01065 0.02447 0.00833 0.02187 0.00417 C 0.01579 -0.00602 0.02586 0.00046 0.01562 -0.00417 C 0.01406 -0.00625 0.01319 -0.01042 0.01093 -0.01042 C 0.00937 -0.01042 0.0092 -0.00625 0.00937 -0.00417 C 0.01006 0.00486 0.01232 0.0081 0.01562 0.01458 C 0.01736 0.02639 0.01753 0.03495 0.025 0.04167 C 0.03333 0.05833 0.02239 0.03819 0.03281 0.05208 C 0.04322 0.06597 0.02812 0.05139 0.04062 0.0625 C 0.04409 0.06921 0.04809 0.07245 0.05156 0.07917 C 0.03628 0.08588 0.02447 0.06505 0.01406 0.05417 C 0.01111 0.05116 0.00782 0.04861 0.00468 0.04583 C 0.00312 0.04444 2.5E-006 0.04167 2.5E-006 0.04167 C -0.00504 0.03171 -0.00261 0.03773 -0.00625 0.02292 C -0.00678 0.02083 -0.00782 0.01667 -0.00782 0.01667 C -0.00053 0.01019 0.00538 0.0125 0.0125 0.01875 C 0.01614 0.02593 0.02083 0.0287 0.025 0.03542 C 0.02621 0.03727 0.02656 0.04028 0.02812 0.04167 C 0.0309 0.04398 0.03472 0.04329 0.0375 0.04583 C 0.05416 0.06065 0.02881 0.0375 0.04687 0.05625 C 0.04687 0.05625 0.05868 0.06667 0.06093 0.06875 C 0.06371 0.0713 0.07031 0.07292 0.07031 0.07292 C 0.07239 0.07106 0.07795 0.06806 0.07656 0.0625 C 0.07343 0.04977 0.06666 0.04884 0.06093 0.03958 C 0.05642 0.03241 0.05972 0.03356 0.05312 0.02917 C 0.0401 0.0206 0.05711 0.03495 0.04375 0.02292 C 0.03541 0.00625 0.04635 0.02639 0.03593 0.0125 C 0.02552 -0.00139 0.04062 0.01319 0.02812 0.00208 C 0.01979 -0.01458 0.03072 0.00556 0.02031 -0.00833 C 0.01579 -0.01435 0.01336 -0.02014 0.00782 -0.025 C 0.02343 -0.03194 0.01006 -0.03218 0.03437 -0.02917 C 0.04218 -0.02222 0.04635 -0.01042 0.05156 2.22222E-006 C 0.0526 0.00208 0.05364 0.00417 0.05468 0.00625 C 0.05572 0.00833 0.05781 0.0125 0.05781 0.0125 C 0.05642 0.02917 0.05434 0.04352 0.05312 0.06042 C 0.04392 0.05231 0.05034 0.05116 0.04531 0.04167 C 0.0427 0.03681 0.03906 0.03333 0.03593 0.02917 C 0.03333 0.02569 0.02656 0.02083 0.02656 0.02083 C 0.02552 0.01875 0.02482 0.0162 0.02343 0.01458 C 0.02065 0.01134 0.01406 0.00625 0.01406 0.00625 C 0.00572 -0.01042 0.01666 0.00972 0.00625 -0.00417 C -0.00087 -0.01366 0.00763 -0.00833 -0.00157 -0.0125 C -0.01389 -0.00162 -0.0066 0.01181 2.5E-006 0.025 C 0.00329 0.03171 0.00677 0.03866 0.00937 0.04583 C 0.01006 0.04769 0.01006 0.05023 0.01093 0.05208 C 0.01631 0.06296 0.03437 0.06667 0.04375 0.06667 E">
                                      <p:cBhvr>
                                        <p:cTn id="24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6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284720" y="2133720"/>
            <a:ext cx="4208400" cy="417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3564000" y="404640"/>
            <a:ext cx="5051520" cy="72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3492360" y="404640"/>
            <a:ext cx="519768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2484360" y="404640"/>
            <a:ext cx="6284880" cy="86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826920" y="1197000"/>
            <a:ext cx="26830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9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0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2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292720" y="2852640"/>
            <a:ext cx="3610080" cy="37450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9"/>
          <p:cNvGrpSpPr/>
          <p:nvPr/>
        </p:nvGrpSpPr>
        <p:grpSpPr>
          <a:xfrm>
            <a:off x="900000" y="0"/>
            <a:ext cx="3095640" cy="2087640"/>
            <a:chOff x="900000" y="0"/>
            <a:chExt cx="3095640" cy="2087640"/>
          </a:xfrm>
        </p:grpSpPr>
        <p:sp>
          <p:nvSpPr>
            <p:cNvPr id="97" name="Rounded Rectangular Callout 7"/>
            <p:cNvSpPr/>
            <p:nvPr/>
          </p:nvSpPr>
          <p:spPr>
            <a:xfrm>
              <a:off x="900000" y="0"/>
              <a:ext cx="3095640" cy="2087640"/>
            </a:xfrm>
            <a:prstGeom prst="wedgeRoundRectCallout">
              <a:avLst>
                <a:gd name="adj1" fmla="val 740"/>
                <a:gd name="adj2" fmla="val 83162"/>
                <a:gd name="adj3" fmla="val 16667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8" name="Picture 6" descr=""/>
            <p:cNvPicPr/>
            <p:nvPr/>
          </p:nvPicPr>
          <p:blipFill>
            <a:blip r:embed="rId2"/>
            <a:stretch/>
          </p:blipFill>
          <p:spPr>
            <a:xfrm>
              <a:off x="971640" y="144000"/>
              <a:ext cx="2951640" cy="179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12"/>
          <p:cNvGrpSpPr/>
          <p:nvPr/>
        </p:nvGrpSpPr>
        <p:grpSpPr>
          <a:xfrm>
            <a:off x="5651640" y="260280"/>
            <a:ext cx="3278160" cy="2592360"/>
            <a:chOff x="5651640" y="260280"/>
            <a:chExt cx="3278160" cy="2592360"/>
          </a:xfrm>
        </p:grpSpPr>
        <p:sp>
          <p:nvSpPr>
            <p:cNvPr id="100" name="Rounded Rectangular Callout 10"/>
            <p:cNvSpPr/>
            <p:nvPr/>
          </p:nvSpPr>
          <p:spPr>
            <a:xfrm>
              <a:off x="5651640" y="260280"/>
              <a:ext cx="3278160" cy="2592360"/>
            </a:xfrm>
            <a:prstGeom prst="wedgeRoundRectCallout">
              <a:avLst>
                <a:gd name="adj1" fmla="val 7402"/>
                <a:gd name="adj2" fmla="val 79032"/>
                <a:gd name="adj3" fmla="val 16667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1" name="Picture 2" descr=""/>
            <p:cNvPicPr/>
            <p:nvPr/>
          </p:nvPicPr>
          <p:blipFill>
            <a:blip r:embed="rId3"/>
            <a:stretch/>
          </p:blipFill>
          <p:spPr>
            <a:xfrm>
              <a:off x="5777640" y="404280"/>
              <a:ext cx="2988360" cy="223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3708360" y="1197000"/>
            <a:ext cx="1657440" cy="188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611280" y="4508640"/>
            <a:ext cx="3609720" cy="2028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539640" y="2492280"/>
            <a:ext cx="1629000" cy="265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7"/>
          <a:stretch/>
        </p:blipFill>
        <p:spPr>
          <a:xfrm>
            <a:off x="2627280" y="4292640"/>
            <a:ext cx="828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7407E-006 L -0.00399 -0.44189 E">
                                      <p:cBhvr>
                                        <p:cTn id="34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2041560" y="2766960"/>
            <a:ext cx="5065560" cy="1152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  <a:cs typeface="Arial"/>
              </a:rPr>
              <a:t>بعد الاستماع للقصة عليك الاجابة على. الاسئلة. ....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  <a:cs typeface="Arial"/>
              </a:rPr>
              <a:t>ما عنوان القصة ؟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  <a:cs typeface="Arial"/>
              </a:rPr>
              <a:t>اين دخلت الام 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  <a:ea typeface="Arial"/>
              </a:rPr>
              <a:t> ماذا رأت الام ؟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  <a:cs typeface="Arial"/>
              </a:rPr>
              <a:t>ايمكن ان يكون تصرف مهند صحيح ؟ ولماذا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  <a:cs typeface="Arial"/>
              </a:rPr>
              <a:t>ما هي الفائدة التي نحصل عليها من البرتقال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  <a:cs typeface="Arial"/>
              </a:rPr>
              <a:t>بماذا شعر مهند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 rtl="1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4720" y="620640"/>
            <a:ext cx="3382920" cy="3570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547640" y="3645000"/>
            <a:ext cx="27622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324000" y="333360"/>
            <a:ext cx="8640720" cy="6335640"/>
          </a:xfrm>
          <a:prstGeom prst="rect">
            <a:avLst/>
          </a:prstGeom>
          <a:noFill/>
          <a:ln w="117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1415880" cy="151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7451640" y="404640"/>
            <a:ext cx="1281240" cy="1368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" descr=""/>
          <p:cNvPicPr/>
          <p:nvPr/>
        </p:nvPicPr>
        <p:blipFill>
          <a:blip r:embed="rId3"/>
          <a:stretch/>
        </p:blipFill>
        <p:spPr>
          <a:xfrm>
            <a:off x="7885080" y="5213520"/>
            <a:ext cx="965160" cy="1311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4"/>
          <a:stretch/>
        </p:blipFill>
        <p:spPr>
          <a:xfrm>
            <a:off x="395280" y="5013360"/>
            <a:ext cx="117792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5"/>
          <a:stretch/>
        </p:blipFill>
        <p:spPr>
          <a:xfrm>
            <a:off x="7956720" y="2637000"/>
            <a:ext cx="839520" cy="194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8" name="Picture 5" descr=""/>
          <p:cNvPicPr/>
          <p:nvPr/>
        </p:nvPicPr>
        <p:blipFill>
          <a:blip r:embed="rId6"/>
          <a:stretch/>
        </p:blipFill>
        <p:spPr>
          <a:xfrm>
            <a:off x="539640" y="2708280"/>
            <a:ext cx="839880" cy="1944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9" name="Picture 5" descr=""/>
          <p:cNvPicPr/>
          <p:nvPr/>
        </p:nvPicPr>
        <p:blipFill>
          <a:blip r:embed="rId7"/>
          <a:stretch/>
        </p:blipFill>
        <p:spPr>
          <a:xfrm>
            <a:off x="5940360" y="404640"/>
            <a:ext cx="479520" cy="107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0" name="Picture 5" descr=""/>
          <p:cNvPicPr/>
          <p:nvPr/>
        </p:nvPicPr>
        <p:blipFill>
          <a:blip r:embed="rId8"/>
          <a:stretch/>
        </p:blipFill>
        <p:spPr>
          <a:xfrm>
            <a:off x="3276720" y="549360"/>
            <a:ext cx="574560" cy="93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1619280" y="1773360"/>
            <a:ext cx="5977080" cy="381636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من المعروف إن الحليب يتميز بقيمة غذائية شاملة مقارنة بالمواد الغذائية الأخرى</a:t>
            </a:r>
            <a:r>
              <a:rPr b="1" lang="en-US" sz="44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، </a:t>
            </a:r>
            <a:r>
              <a:rPr b="1" lang="ar-AE" sz="44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فهو يقدم العناصر الغذائية الضرورية لجسم الإنسان، لذلك يطلق عليه </a:t>
            </a:r>
            <a:r>
              <a:rPr b="1" lang="ar-AE" sz="54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سم "الدم</a:t>
            </a:r>
            <a:r>
              <a:rPr b="1" lang="en-US" sz="5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 </a:t>
            </a:r>
            <a:r>
              <a:rPr b="1" lang="ar-AE" sz="54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أبيض"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http://t2.gstatic.com/images?q=tbn:ANd9GcTiBKgSBVpG_bhuYT74VZng1lzDfe3ZGVbwCTFHIKYWpedJHBC42A"/>
          <p:cNvPicPr/>
          <p:nvPr/>
        </p:nvPicPr>
        <p:blipFill>
          <a:blip r:embed="rId9"/>
          <a:stretch/>
        </p:blipFill>
        <p:spPr>
          <a:xfrm>
            <a:off x="3348000" y="5516640"/>
            <a:ext cx="2676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8:30:25Z</dcterms:created>
  <dc:creator>HIND</dc:creator>
  <dc:description/>
  <dc:language>en-US</dc:language>
  <cp:lastModifiedBy>HIND</cp:lastModifiedBy>
  <dcterms:modified xsi:type="dcterms:W3CDTF">2011-03-27T17:48:20Z</dcterms:modified>
  <cp:revision>2</cp:revision>
  <dc:subject/>
  <dc:title>Slide 1</dc:title>
</cp:coreProperties>
</file>