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33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0FE-F838-4BCC-931E-A9BC5151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D37-AE4D-43A3-8670-E4FF4BC0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D6B-5540-4C15-BEB5-A6C4F5C2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62B-6381-4EA0-B06E-19A3052F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9E7-3E89-453F-9397-9E731E34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E76-B335-43B7-BC4E-4D75BC1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582-995A-4BC9-B436-FA978007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36B-C623-45D4-A2EC-0D19B2CC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A73-517C-4EEE-BA32-F58A34B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581-8417-4ACD-B639-7A11AD0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A61-01BE-4101-A270-563A7BFE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B4C-6E92-4089-BF88-9354039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4B72-1E63-445A-A49B-E6A679BABF9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21.png"/><Relationship Id="rId15" Type="http://schemas.openxmlformats.org/officeDocument/2006/relationships/image" Target="../media/image44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042920" y="392760"/>
            <a:ext cx="748980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دراستك للوحدات السابقة حددي أهم شخصية كانت في تلك الوحدات بنظرك ؟ولماذا اخترتها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042920" y="1088640"/>
            <a:ext cx="75088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حروف التي تعلمناها حددي حرفان لو كررتيهما نفسهما تحصلي على كلمة </a:t>
            </a:r>
            <a:r>
              <a:rPr b="0" lang="ar-SA" sz="2400" spc="-1" strike="noStrike">
                <a:solidFill>
                  <a:srgbClr val="000000"/>
                </a:solidFill>
                <a:latin typeface="Arial Narrow"/>
                <a:ea typeface="PT Bold Heading"/>
              </a:rPr>
              <a:t>:                    </a:t>
            </a:r>
            <a:r>
              <a:rPr b="0" lang="ar-SA" sz="2400" spc="-1" strike="noStrike">
                <a:solidFill>
                  <a:srgbClr val="00b050"/>
                </a:solidFill>
                <a:latin typeface="Arial Narrow"/>
                <a:cs typeface="PT Bold Heading"/>
              </a:rPr>
              <a:t>بلبل</a:t>
            </a: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PT Bold Heading"/>
              </a:rPr>
              <a:t> - </a:t>
            </a:r>
            <a:r>
              <a:rPr b="0" lang="ar-SA" sz="2400" spc="-1" strike="noStrike">
                <a:solidFill>
                  <a:srgbClr val="00b050"/>
                </a:solidFill>
                <a:latin typeface="Arial Narrow"/>
                <a:cs typeface="PT Bold Heading"/>
              </a:rPr>
              <a:t>فلفل - سمسم </a:t>
            </a:r>
            <a:r>
              <a:rPr b="0" lang="ar-SA" sz="2400" spc="-1" strike="noStrike">
                <a:solidFill>
                  <a:srgbClr val="00b050"/>
                </a:solidFill>
                <a:latin typeface="Calibri"/>
                <a:ea typeface="Times New Roman"/>
              </a:rPr>
              <a:t>–</a:t>
            </a:r>
            <a:r>
              <a:rPr b="0" lang="ar-SA" sz="2400" spc="-1" strike="noStrike">
                <a:solidFill>
                  <a:srgbClr val="00b050"/>
                </a:solidFill>
                <a:latin typeface="Arial Narrow"/>
                <a:cs typeface="PT Bold Heading"/>
              </a:rPr>
              <a:t>ه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954520" y="2350080"/>
            <a:ext cx="330480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  <a:cs typeface="PT Bold Heading"/>
              </a:rPr>
              <a:t>التمهيد للدرس الج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t0.gstatic.com/images?q=tbn:ANd9GcQETrPZHqj9tjcd5WgfBoJToMKzI5Zi8BECzmaxyJscgePcPPWkRA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54000">
            <a:solidFill>
              <a:srgbClr val="4f81bd"/>
            </a:solidFill>
            <a:miter/>
          </a:ln>
        </p:spPr>
      </p:pic>
      <p:sp>
        <p:nvSpPr>
          <p:cNvPr id="46" name="Rectangle 9"/>
          <p:cNvSpPr/>
          <p:nvPr/>
        </p:nvSpPr>
        <p:spPr>
          <a:xfrm>
            <a:off x="4539960" y="40464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اذا تشاهدين في الصورة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100680" y="405720"/>
            <a:ext cx="67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لأسباب المحتملة لدخوله إلى المستشفى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780000" y="33336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سمي بعض الأمراض التي قد يصاب بها الإنسان وتؤدي إلى دخوله للمستشف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439640" cy="112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8172360" y="620640"/>
            <a:ext cx="679680" cy="7653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8172360" y="476280"/>
            <a:ext cx="647640" cy="649080"/>
          </a:xfrm>
          <a:prstGeom prst="ellipse">
            <a:avLst/>
          </a:prstGeom>
          <a:noFill/>
          <a:ln w="117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708360" y="404640"/>
            <a:ext cx="2629080" cy="87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7596360" y="1916280"/>
            <a:ext cx="752400" cy="842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5"/>
          <a:stretch/>
        </p:blipFill>
        <p:spPr>
          <a:xfrm>
            <a:off x="3995640" y="1989000"/>
            <a:ext cx="3413160" cy="62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6"/>
          <a:stretch/>
        </p:blipFill>
        <p:spPr>
          <a:xfrm>
            <a:off x="7596360" y="2997360"/>
            <a:ext cx="779400" cy="76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7"/>
          <a:stretch/>
        </p:blipFill>
        <p:spPr>
          <a:xfrm>
            <a:off x="7596360" y="3860640"/>
            <a:ext cx="668160" cy="766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8"/>
          <a:stretch/>
        </p:blipFill>
        <p:spPr>
          <a:xfrm>
            <a:off x="7521480" y="4797360"/>
            <a:ext cx="749520" cy="7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9"/>
          <a:stretch/>
        </p:blipFill>
        <p:spPr>
          <a:xfrm>
            <a:off x="7451640" y="5661000"/>
            <a:ext cx="827280" cy="80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3106800" cy="68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11"/>
          <a:stretch/>
        </p:blipFill>
        <p:spPr>
          <a:xfrm>
            <a:off x="2484360" y="3860640"/>
            <a:ext cx="506268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12"/>
          <a:stretch/>
        </p:blipFill>
        <p:spPr>
          <a:xfrm>
            <a:off x="3851280" y="4869000"/>
            <a:ext cx="3425760" cy="68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13"/>
          <a:stretch/>
        </p:blipFill>
        <p:spPr>
          <a:xfrm>
            <a:off x="971640" y="5589720"/>
            <a:ext cx="6432480" cy="75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14"/>
          <a:stretch/>
        </p:blipFill>
        <p:spPr>
          <a:xfrm>
            <a:off x="2124000" y="1484280"/>
            <a:ext cx="1452600" cy="10098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17" descr=""/>
          <p:cNvPicPr/>
          <p:nvPr/>
        </p:nvPicPr>
        <p:blipFill>
          <a:blip r:embed="rId15"/>
          <a:stretch/>
        </p:blipFill>
        <p:spPr>
          <a:xfrm>
            <a:off x="554040" y="401760"/>
            <a:ext cx="2921040" cy="98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16"/>
          <a:stretch/>
        </p:blipFill>
        <p:spPr>
          <a:xfrm>
            <a:off x="468360" y="3716280"/>
            <a:ext cx="1150920" cy="97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17"/>
          <a:stretch/>
        </p:blipFill>
        <p:spPr>
          <a:xfrm>
            <a:off x="539640" y="2421000"/>
            <a:ext cx="1295640" cy="112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18"/>
          <a:stretch/>
        </p:blipFill>
        <p:spPr>
          <a:xfrm>
            <a:off x="2411280" y="4653000"/>
            <a:ext cx="1227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766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659640" y="836640"/>
            <a:ext cx="222408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6443640" y="3789360"/>
            <a:ext cx="23432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5"/>
          <a:stretch/>
        </p:blipFill>
        <p:spPr>
          <a:xfrm>
            <a:off x="6443640" y="5445000"/>
            <a:ext cx="215424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6"/>
          <a:stretch/>
        </p:blipFill>
        <p:spPr>
          <a:xfrm>
            <a:off x="1403280" y="189000"/>
            <a:ext cx="1611360" cy="158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7"/>
          <a:stretch/>
        </p:blipFill>
        <p:spPr>
          <a:xfrm>
            <a:off x="684360" y="1762200"/>
            <a:ext cx="1655640" cy="1782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8"/>
          <a:stretch/>
        </p:blipFill>
        <p:spPr>
          <a:xfrm>
            <a:off x="468360" y="5300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9"/>
          <a:stretch/>
        </p:blipFill>
        <p:spPr>
          <a:xfrm>
            <a:off x="468360" y="3573360"/>
            <a:ext cx="1582560" cy="1511280"/>
          </a:xfrm>
          <a:prstGeom prst="rect">
            <a:avLst/>
          </a:prstGeom>
          <a:ln w="0">
            <a:noFill/>
          </a:ln>
        </p:spPr>
      </p:pic>
      <p:cxnSp>
        <p:nvCxnSpPr>
          <p:cNvPr id="137" name="Straight Arrow Connector 16"/>
          <p:cNvCxnSpPr/>
          <p:nvPr/>
        </p:nvCxnSpPr>
        <p:spPr>
          <a:xfrm flipH="1">
            <a:off x="2195280" y="1627560"/>
            <a:ext cx="4753440" cy="1080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38" name="Picture 2" descr=""/>
          <p:cNvPicPr/>
          <p:nvPr/>
        </p:nvPicPr>
        <p:blipFill>
          <a:blip r:embed="rId10"/>
          <a:stretch/>
        </p:blipFill>
        <p:spPr>
          <a:xfrm rot="3936600">
            <a:off x="3970800" y="-54360"/>
            <a:ext cx="431640" cy="85572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20"/>
          <p:cNvCxnSpPr/>
          <p:nvPr/>
        </p:nvCxnSpPr>
        <p:spPr>
          <a:xfrm flipH="1" flipV="1">
            <a:off x="2916000" y="1556640"/>
            <a:ext cx="3960000" cy="180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Straight Arrow Connector 27"/>
          <p:cNvCxnSpPr/>
          <p:nvPr/>
        </p:nvCxnSpPr>
        <p:spPr>
          <a:xfrm>
            <a:off x="3779640" y="692280"/>
            <a:ext cx="2448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41" name="Picture 13" descr=""/>
          <p:cNvPicPr/>
          <p:nvPr/>
        </p:nvPicPr>
        <p:blipFill>
          <a:blip r:embed="rId11"/>
          <a:stretch/>
        </p:blipFill>
        <p:spPr>
          <a:xfrm>
            <a:off x="6256440" y="189000"/>
            <a:ext cx="1052280" cy="57600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33"/>
          <p:cNvCxnSpPr/>
          <p:nvPr/>
        </p:nvCxnSpPr>
        <p:spPr>
          <a:xfrm flipH="1">
            <a:off x="2123640" y="4509000"/>
            <a:ext cx="4609440" cy="13676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43" name="Straight Arrow Connector 38"/>
          <p:cNvCxnSpPr/>
          <p:nvPr/>
        </p:nvCxnSpPr>
        <p:spPr>
          <a:xfrm flipH="1" flipV="1">
            <a:off x="1979280" y="4436280"/>
            <a:ext cx="4906080" cy="13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4 0.00463 L 0.19966 0.00463 E">
                                      <p:cBhvr>
                                        <p:cTn id="55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158920" cy="8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4699080" cy="432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 rot="18996600">
            <a:off x="4905360" y="3739680"/>
            <a:ext cx="884160" cy="7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3348000" y="2057400"/>
            <a:ext cx="2144880" cy="10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9" descr=""/>
          <p:cNvPicPr/>
          <p:nvPr/>
        </p:nvPicPr>
        <p:blipFill>
          <a:blip r:embed="rId5"/>
          <a:stretch/>
        </p:blipFill>
        <p:spPr>
          <a:xfrm rot="328200">
            <a:off x="1976040" y="4005360"/>
            <a:ext cx="26352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12" descr=""/>
          <p:cNvPicPr/>
          <p:nvPr/>
        </p:nvPicPr>
        <p:blipFill>
          <a:blip r:embed="rId6"/>
          <a:stretch/>
        </p:blipFill>
        <p:spPr>
          <a:xfrm>
            <a:off x="1116000" y="5589720"/>
            <a:ext cx="5753160" cy="81108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151" name="Picture 1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941480" cy="1014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2484360" y="476280"/>
            <a:ext cx="399564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قراء كلمة (مستشفى)من قبلهن (جميعهن)حتى يتحقق قراءتها  وفهم مدلول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0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2"/>
          <p:cNvSpPr/>
          <p:nvPr/>
        </p:nvSpPr>
        <p:spPr>
          <a:xfrm>
            <a:off x="324000" y="333360"/>
            <a:ext cx="8424720" cy="612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4998960" y="566640"/>
            <a:ext cx="32004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5" descr=""/>
          <p:cNvPicPr/>
          <p:nvPr/>
        </p:nvPicPr>
        <p:blipFill>
          <a:blip r:embed="rId2"/>
          <a:stretch/>
        </p:blipFill>
        <p:spPr>
          <a:xfrm>
            <a:off x="2548080" y="609480"/>
            <a:ext cx="2541600" cy="94464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6" descr=""/>
          <p:cNvPicPr/>
          <p:nvPr/>
        </p:nvPicPr>
        <p:blipFill>
          <a:blip r:embed="rId3"/>
          <a:stretch/>
        </p:blipFill>
        <p:spPr>
          <a:xfrm>
            <a:off x="414360" y="1670040"/>
            <a:ext cx="81565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Rectangle 3" descr=""/>
          <p:cNvPicPr/>
          <p:nvPr/>
        </p:nvPicPr>
        <p:blipFill>
          <a:blip r:embed="rId1"/>
          <a:stretch/>
        </p:blipFill>
        <p:spPr>
          <a:xfrm>
            <a:off x="3200400" y="268200"/>
            <a:ext cx="3005280" cy="731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-858240" y="836640"/>
            <a:ext cx="11092680" cy="941760"/>
            <a:chOff x="-858240" y="836640"/>
            <a:chExt cx="11092680" cy="941760"/>
          </a:xfrm>
        </p:grpSpPr>
        <p:sp>
          <p:nvSpPr>
            <p:cNvPr id="161" name="Rectangle 4"/>
            <p:cNvSpPr/>
            <p:nvPr/>
          </p:nvSpPr>
          <p:spPr>
            <a:xfrm>
              <a:off x="-858240" y="1197000"/>
              <a:ext cx="11092680" cy="5814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7f7f7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Arabic Typesetting"/>
                  <a:cs typeface="Arabic Typesetting"/>
                </a:rPr>
                <a:t>نون ساكنة زائدة تلحق آخر الاسم المعرب لفظًا لا كتاب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6955560" y="836640"/>
              <a:ext cx="1578240" cy="5814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0000"/>
                  </a:solidFill>
                  <a:latin typeface="Calibri"/>
                </a:rPr>
                <a:t>التنوي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Callout 1 10"/>
          <p:cNvSpPr/>
          <p:nvPr/>
        </p:nvSpPr>
        <p:spPr>
          <a:xfrm rot="5400000">
            <a:off x="6731640" y="4364640"/>
            <a:ext cx="1152360" cy="1440000"/>
          </a:xfrm>
          <a:prstGeom prst="borderCallout1">
            <a:avLst>
              <a:gd name="adj1" fmla="val 18750"/>
              <a:gd name="adj2" fmla="val -8333"/>
              <a:gd name="adj3" fmla="val 194199"/>
              <a:gd name="adj4" fmla="val -104944"/>
            </a:avLst>
          </a:prstGeom>
          <a:solidFill>
            <a:srgbClr val="ffefe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Callout 1 11"/>
          <p:cNvSpPr/>
          <p:nvPr/>
        </p:nvSpPr>
        <p:spPr>
          <a:xfrm rot="5400000">
            <a:off x="4175640" y="4328280"/>
            <a:ext cx="1152360" cy="1513080"/>
          </a:xfrm>
          <a:prstGeom prst="borderCallout1">
            <a:avLst>
              <a:gd name="adj1" fmla="val 18750"/>
              <a:gd name="adj2" fmla="val -8333"/>
              <a:gd name="adj3" fmla="val 42472"/>
              <a:gd name="adj4" fmla="val -130453"/>
            </a:avLst>
          </a:prstGeom>
          <a:solidFill>
            <a:srgbClr val="ebf1de"/>
          </a:solidFill>
          <a:ln w="54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Callout 1 12"/>
          <p:cNvSpPr/>
          <p:nvPr/>
        </p:nvSpPr>
        <p:spPr>
          <a:xfrm rot="5400000">
            <a:off x="1727640" y="4185360"/>
            <a:ext cx="1150920" cy="1511640"/>
          </a:xfrm>
          <a:prstGeom prst="borderCallout1">
            <a:avLst>
              <a:gd name="adj1" fmla="val 18750"/>
              <a:gd name="adj2" fmla="val -8333"/>
              <a:gd name="adj3" fmla="val -92921"/>
              <a:gd name="adj4" fmla="val -96439"/>
            </a:avLst>
          </a:prstGeom>
          <a:solidFill>
            <a:srgbClr val="dbeef4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918960" y="2708280"/>
            <a:ext cx="174600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علام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6588000" y="450864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Calibri"/>
              </a:rPr>
              <a:t>تنوين بالكس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qual 15"/>
          <p:cNvSpPr/>
          <p:nvPr/>
        </p:nvSpPr>
        <p:spPr>
          <a:xfrm rot="20256000">
            <a:off x="7007400" y="5243040"/>
            <a:ext cx="431640" cy="211320"/>
          </a:xfrm>
          <a:custGeom>
            <a:avLst/>
            <a:gdLst>
              <a:gd name="textAreaLeft" fmla="*/ 57240 w 431640"/>
              <a:gd name="textAreaRight" fmla="*/ 374400 w 431640"/>
              <a:gd name="textAreaTop" fmla="*/ 36360 h 211320"/>
              <a:gd name="textAreaBottom" fmla="*/ 174960 h 211320"/>
            </a:gdLst>
            <a:ahLst/>
            <a:rect l="textAreaLeft" t="textAreaTop" r="textAreaRight" b="textAreaBottom"/>
            <a:pathLst>
              <a:path w="431800" h="211137">
                <a:moveTo>
                  <a:pt x="57235" y="36512"/>
                </a:moveTo>
                <a:lnTo>
                  <a:pt x="374565" y="36512"/>
                </a:lnTo>
                <a:lnTo>
                  <a:pt x="374565" y="79189"/>
                </a:lnTo>
                <a:lnTo>
                  <a:pt x="57235" y="79189"/>
                </a:lnTo>
                <a:close/>
                <a:moveTo>
                  <a:pt x="57235" y="131948"/>
                </a:moveTo>
                <a:lnTo>
                  <a:pt x="374565" y="131948"/>
                </a:lnTo>
                <a:lnTo>
                  <a:pt x="374565" y="174625"/>
                </a:lnTo>
                <a:lnTo>
                  <a:pt x="57235" y="1746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qual 16"/>
          <p:cNvSpPr/>
          <p:nvPr/>
        </p:nvSpPr>
        <p:spPr>
          <a:xfrm rot="20256000">
            <a:off x="2149560" y="4511520"/>
            <a:ext cx="433440" cy="223920"/>
          </a:xfrm>
          <a:custGeom>
            <a:avLst/>
            <a:gdLst>
              <a:gd name="textAreaLeft" fmla="*/ 57240 w 433440"/>
              <a:gd name="textAreaRight" fmla="*/ 376200 w 433440"/>
              <a:gd name="textAreaTop" fmla="*/ 38520 h 223920"/>
              <a:gd name="textAreaBottom" fmla="*/ 185400 h 223920"/>
            </a:gdLst>
            <a:ahLst/>
            <a:rect l="textAreaLeft" t="textAreaTop" r="textAreaRight" b="textAreaBottom"/>
            <a:pathLst>
              <a:path w="433388" h="223838">
                <a:moveTo>
                  <a:pt x="57446" y="38708"/>
                </a:moveTo>
                <a:lnTo>
                  <a:pt x="375942" y="38708"/>
                </a:lnTo>
                <a:lnTo>
                  <a:pt x="375942" y="83953"/>
                </a:lnTo>
                <a:lnTo>
                  <a:pt x="57446" y="83953"/>
                </a:lnTo>
                <a:close/>
                <a:moveTo>
                  <a:pt x="57446" y="139885"/>
                </a:moveTo>
                <a:lnTo>
                  <a:pt x="375942" y="139885"/>
                </a:lnTo>
                <a:lnTo>
                  <a:pt x="375942" y="185130"/>
                </a:lnTo>
                <a:lnTo>
                  <a:pt x="57446" y="1851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3995640" y="5229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تنوين بالض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1619280" y="50846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تنوين بالفت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3280" y="4653000"/>
            <a:ext cx="3906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3"/>
          <p:cNvGrpSpPr/>
          <p:nvPr/>
        </p:nvGrpSpPr>
        <p:grpSpPr>
          <a:xfrm>
            <a:off x="468360" y="2997360"/>
            <a:ext cx="2663640" cy="2519280"/>
            <a:chOff x="468360" y="2997360"/>
            <a:chExt cx="2663640" cy="2519280"/>
          </a:xfrm>
        </p:grpSpPr>
        <p:sp>
          <p:nvSpPr>
            <p:cNvPr id="175" name="Teardrop 14"/>
            <p:cNvSpPr/>
            <p:nvPr/>
          </p:nvSpPr>
          <p:spPr>
            <a:xfrm>
              <a:off x="468360" y="2997360"/>
              <a:ext cx="2663640" cy="2519280"/>
            </a:xfrm>
            <a:custGeom>
              <a:avLst/>
              <a:gdLst>
                <a:gd name="textAreaLeft" fmla="*/ 389880 w 2663640"/>
                <a:gd name="textAreaRight" fmla="*/ 2273760 w 2663640"/>
                <a:gd name="textAreaTop" fmla="*/ 368640 h 2519280"/>
                <a:gd name="textAreaBottom" fmla="*/ 2150640 h 2519280"/>
              </a:gdLst>
              <a:ahLst/>
              <a:rect l="textAreaLeft" t="textAreaTop" r="textAreaRight" b="textAreaBottom"/>
              <a:pathLst>
                <a:path w="2664296" h="2520280">
                  <a:moveTo>
                    <a:pt x="0" y="1260140"/>
                  </a:moveTo>
                  <a:lnTo>
                    <a:pt x="0" y="1260140"/>
                  </a:lnTo>
                  <a:arcTo wR="1332148" hR="1260140" stAng="-10799995" swAng="5400000"/>
                  <a:lnTo>
                    <a:pt x="2278465" y="0"/>
                  </a:lnTo>
                  <a:lnTo>
                    <a:pt x="3224783" y="-530192"/>
                  </a:lnTo>
                  <a:lnTo>
                    <a:pt x="2664296" y="812557"/>
                  </a:lnTo>
                  <a:arcTo wR="0" hR="447583" stAng="0" swAng="0"/>
                  <a:lnTo>
                    <a:pt x="2469207" y="2335737"/>
                  </a:lnTo>
                  <a:arcTo wR="-666075" hR="630070" stAng="2604532" swAng="10799998"/>
                  <a:close/>
                </a:path>
              </a:pathLst>
            </a:cu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1044360" y="3213000"/>
              <a:ext cx="20509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أن تكون الكلم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مختومة بتاء مربو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2"/>
          <p:cNvGrpSpPr/>
          <p:nvPr/>
        </p:nvGrpSpPr>
        <p:grpSpPr>
          <a:xfrm>
            <a:off x="6104520" y="3002040"/>
            <a:ext cx="2696400" cy="2714040"/>
            <a:chOff x="6104520" y="3002040"/>
            <a:chExt cx="2696400" cy="2714040"/>
          </a:xfrm>
        </p:grpSpPr>
        <p:sp>
          <p:nvSpPr>
            <p:cNvPr id="178" name="Teardrop 13"/>
            <p:cNvSpPr/>
            <p:nvPr/>
          </p:nvSpPr>
          <p:spPr>
            <a:xfrm rot="16349400">
              <a:off x="6228360" y="3140640"/>
              <a:ext cx="2448000" cy="2592360"/>
            </a:xfrm>
            <a:custGeom>
              <a:avLst/>
              <a:gdLst>
                <a:gd name="textAreaLeft" fmla="*/ 358200 w 2448000"/>
                <a:gd name="textAreaRight" fmla="*/ 2089800 w 2448000"/>
                <a:gd name="textAreaTop" fmla="*/ 379440 h 2592360"/>
                <a:gd name="textAreaBottom" fmla="*/ 2212920 h 2592360"/>
              </a:gdLst>
              <a:ahLst/>
              <a:rect l="textAreaLeft" t="textAreaTop" r="textAreaRight" b="textAreaBottom"/>
              <a:pathLst>
                <a:path w="2448272" h="2592288">
                  <a:moveTo>
                    <a:pt x="0" y="1296144"/>
                  </a:moveTo>
                  <a:lnTo>
                    <a:pt x="0" y="1296144"/>
                  </a:lnTo>
                  <a:arcTo wR="1224136" hR="1296144" stAng="-10799997" swAng="5400002"/>
                  <a:lnTo>
                    <a:pt x="2058273" y="0"/>
                  </a:lnTo>
                  <a:lnTo>
                    <a:pt x="2892412" y="-470267"/>
                  </a:lnTo>
                  <a:lnTo>
                    <a:pt x="2448272" y="854541"/>
                  </a:lnTo>
                  <a:arcTo wR="0" hR="441603" stAng="0" swAng="0"/>
                  <a:lnTo>
                    <a:pt x="2269001" y="2402472"/>
                  </a:lnTo>
                  <a:arcTo wR="-612069" hR="648072" stAng="2798195" swAng="10799998"/>
                  <a:close/>
                </a:path>
              </a:pathLst>
            </a:cu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21084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 rot="21599400">
              <a:off x="6194160" y="3002040"/>
              <a:ext cx="22687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الحالات التي لا تكت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فيها الألف الزائدة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Rectangle 17" descr=""/>
          <p:cNvPicPr/>
          <p:nvPr/>
        </p:nvPicPr>
        <p:blipFill>
          <a:blip r:embed="rId1"/>
          <a:stretch/>
        </p:blipFill>
        <p:spPr>
          <a:xfrm>
            <a:off x="6523200" y="4194000"/>
            <a:ext cx="1877760" cy="20178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19" descr=""/>
          <p:cNvPicPr/>
          <p:nvPr/>
        </p:nvPicPr>
        <p:blipFill>
          <a:blip r:embed="rId2"/>
          <a:stretch/>
        </p:blipFill>
        <p:spPr>
          <a:xfrm>
            <a:off x="281160" y="4102200"/>
            <a:ext cx="1650960" cy="14144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20" descr=""/>
          <p:cNvPicPr/>
          <p:nvPr/>
        </p:nvPicPr>
        <p:blipFill>
          <a:blip r:embed="rId3"/>
          <a:stretch/>
        </p:blipFill>
        <p:spPr>
          <a:xfrm>
            <a:off x="963720" y="3833640"/>
            <a:ext cx="2028600" cy="2017800"/>
          </a:xfrm>
          <a:prstGeom prst="rect">
            <a:avLst/>
          </a:prstGeom>
          <a:ln w="0">
            <a:noFill/>
          </a:ln>
        </p:spPr>
      </p:pic>
      <p:sp>
        <p:nvSpPr>
          <p:cNvPr id="183" name="Oval 21"/>
          <p:cNvSpPr/>
          <p:nvPr/>
        </p:nvSpPr>
        <p:spPr>
          <a:xfrm>
            <a:off x="4716360" y="4797360"/>
            <a:ext cx="1511280" cy="1295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2916360" y="4797360"/>
            <a:ext cx="1511280" cy="1295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alibri"/>
              </a:rPr>
              <a:t>زهـ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4-Point Star 27"/>
          <p:cNvSpPr/>
          <p:nvPr/>
        </p:nvSpPr>
        <p:spPr>
          <a:xfrm>
            <a:off x="3059280" y="836640"/>
            <a:ext cx="3168360" cy="280836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3924360" y="134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تنوين بالفت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4"/>
          <a:stretch/>
        </p:blipFill>
        <p:spPr>
          <a:xfrm>
            <a:off x="4067280" y="1916280"/>
            <a:ext cx="295200" cy="1238040"/>
          </a:xfrm>
          <a:prstGeom prst="rect">
            <a:avLst/>
          </a:prstGeom>
          <a:ln w="0">
            <a:noFill/>
          </a:ln>
        </p:spPr>
      </p:pic>
      <p:sp>
        <p:nvSpPr>
          <p:cNvPr id="188" name="Equal 30"/>
          <p:cNvSpPr/>
          <p:nvPr/>
        </p:nvSpPr>
        <p:spPr>
          <a:xfrm rot="20256000">
            <a:off x="4886280" y="1990440"/>
            <a:ext cx="432000" cy="223920"/>
          </a:xfrm>
          <a:custGeom>
            <a:avLst/>
            <a:gdLst>
              <a:gd name="textAreaLeft" fmla="*/ 57240 w 432000"/>
              <a:gd name="textAreaRight" fmla="*/ 374760 w 432000"/>
              <a:gd name="textAreaTop" fmla="*/ 38520 h 223920"/>
              <a:gd name="textAreaBottom" fmla="*/ 185400 h 223920"/>
            </a:gdLst>
            <a:ahLst/>
            <a:rect l="textAreaLeft" t="textAreaTop" r="textAreaRight" b="textAreaBottom"/>
            <a:pathLst>
              <a:path w="431800" h="223838">
                <a:moveTo>
                  <a:pt x="57235" y="38708"/>
                </a:moveTo>
                <a:lnTo>
                  <a:pt x="374565" y="38708"/>
                </a:lnTo>
                <a:lnTo>
                  <a:pt x="374565" y="83953"/>
                </a:lnTo>
                <a:lnTo>
                  <a:pt x="57235" y="83953"/>
                </a:lnTo>
                <a:close/>
                <a:moveTo>
                  <a:pt x="57235" y="139885"/>
                </a:moveTo>
                <a:lnTo>
                  <a:pt x="374565" y="139885"/>
                </a:lnTo>
                <a:lnTo>
                  <a:pt x="374565" y="185130"/>
                </a:lnTo>
                <a:lnTo>
                  <a:pt x="57235" y="1851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2195640" y="333360"/>
            <a:ext cx="5400720" cy="398880"/>
          </a:xfrm>
          <a:prstGeom prst="rect">
            <a:avLst/>
          </a:prstGeom>
          <a:solidFill>
            <a:srgbClr val="f3faff"/>
          </a:solidFill>
          <a:ln w="9360">
            <a:solidFill>
              <a:srgbClr val="558e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abic Typesetting"/>
                <a:cs typeface="Times New Roman"/>
              </a:rPr>
              <a:t>هو :</a:t>
            </a:r>
            <a:r>
              <a:rPr b="0" lang="ar-SA" sz="2000" spc="-1" strike="noStrike">
                <a:solidFill>
                  <a:srgbClr val="0000ff"/>
                </a:solidFill>
                <a:latin typeface="Arabic Typesetting"/>
                <a:ea typeface="Times New Roman"/>
              </a:rPr>
              <a:t> نون ساكنة زائدة تلحق آخر الاسم  نطقا لا كتا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763640" y="765000"/>
            <a:ext cx="6300720" cy="94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تطبيق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رض بطاقات كلمات ويطلب منها وضع حركة التنوين بالفت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tretch/>
        </p:blipFill>
        <p:spPr>
          <a:xfrm>
            <a:off x="6297480" y="2719440"/>
            <a:ext cx="2522520" cy="148104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4" descr=""/>
          <p:cNvPicPr/>
          <p:nvPr/>
        </p:nvPicPr>
        <p:blipFill>
          <a:blip r:embed="rId2"/>
          <a:stretch/>
        </p:blipFill>
        <p:spPr>
          <a:xfrm>
            <a:off x="4048200" y="2828880"/>
            <a:ext cx="2255760" cy="134640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5" descr=""/>
          <p:cNvPicPr/>
          <p:nvPr/>
        </p:nvPicPr>
        <p:blipFill>
          <a:blip r:embed="rId3"/>
          <a:stretch/>
        </p:blipFill>
        <p:spPr>
          <a:xfrm>
            <a:off x="1974960" y="2719440"/>
            <a:ext cx="2523960" cy="148104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6" descr=""/>
          <p:cNvPicPr/>
          <p:nvPr/>
        </p:nvPicPr>
        <p:blipFill>
          <a:blip r:embed="rId4"/>
          <a:stretch/>
        </p:blipFill>
        <p:spPr>
          <a:xfrm>
            <a:off x="103320" y="2719440"/>
            <a:ext cx="23716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219400" cy="10000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6" descr=""/>
          <p:cNvPicPr/>
          <p:nvPr/>
        </p:nvPicPr>
        <p:blipFill>
          <a:blip r:embed="rId2"/>
          <a:stretch/>
        </p:blipFill>
        <p:spPr>
          <a:xfrm>
            <a:off x="4516560" y="2316240"/>
            <a:ext cx="4456080" cy="2298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3132000" y="5445000"/>
            <a:ext cx="5380200" cy="93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6588000" y="1413000"/>
            <a:ext cx="2248200" cy="83484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4"/>
          <p:cNvGrpSpPr/>
          <p:nvPr/>
        </p:nvGrpSpPr>
        <p:grpSpPr>
          <a:xfrm>
            <a:off x="395280" y="692280"/>
            <a:ext cx="4176720" cy="4897440"/>
            <a:chOff x="395280" y="692280"/>
            <a:chExt cx="4176720" cy="4897440"/>
          </a:xfrm>
        </p:grpSpPr>
        <p:pic>
          <p:nvPicPr>
            <p:cNvPr id="202" name="Picture 5" descr=""/>
            <p:cNvPicPr/>
            <p:nvPr/>
          </p:nvPicPr>
          <p:blipFill>
            <a:blip r:embed="rId5"/>
            <a:stretch/>
          </p:blipFill>
          <p:spPr>
            <a:xfrm>
              <a:off x="395280" y="692280"/>
              <a:ext cx="417672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"/>
            <p:cNvPicPr/>
            <p:nvPr/>
          </p:nvPicPr>
          <p:blipFill>
            <a:blip r:embed="rId6"/>
            <a:stretch/>
          </p:blipFill>
          <p:spPr>
            <a:xfrm rot="20907600">
              <a:off x="1764360" y="1313280"/>
              <a:ext cx="533880" cy="12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7" descr=""/>
          <p:cNvPicPr/>
          <p:nvPr/>
        </p:nvPicPr>
        <p:blipFill>
          <a:blip r:embed="rId7"/>
          <a:stretch/>
        </p:blipFill>
        <p:spPr>
          <a:xfrm>
            <a:off x="1979640" y="2205000"/>
            <a:ext cx="360360" cy="37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8"/>
          <a:stretch/>
        </p:blipFill>
        <p:spPr>
          <a:xfrm>
            <a:off x="1547640" y="836640"/>
            <a:ext cx="360360" cy="42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9"/>
          <a:stretch/>
        </p:blipFill>
        <p:spPr>
          <a:xfrm>
            <a:off x="2050920" y="1557360"/>
            <a:ext cx="281160" cy="46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10"/>
          <a:stretch/>
        </p:blipFill>
        <p:spPr>
          <a:xfrm>
            <a:off x="4427640" y="2205000"/>
            <a:ext cx="360360" cy="37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11"/>
          <a:stretch/>
        </p:blipFill>
        <p:spPr>
          <a:xfrm>
            <a:off x="3851280" y="404640"/>
            <a:ext cx="360360" cy="427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12"/>
          <a:stretch/>
        </p:blipFill>
        <p:spPr>
          <a:xfrm>
            <a:off x="4716360" y="765000"/>
            <a:ext cx="2793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875640" y="333360"/>
            <a:ext cx="1914480" cy="771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4008600" cy="86364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213" name="Picture 5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612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6444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705040" y="476280"/>
            <a:ext cx="405792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حدد التلميذة الصحيح من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913200" cy="43164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032360" cy="42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6" name="Rectangle 7"/>
          <p:cNvSpPr/>
          <p:nvPr/>
        </p:nvSpPr>
        <p:spPr>
          <a:xfrm>
            <a:off x="1062360" y="549360"/>
            <a:ext cx="147780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لماذ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8"/>
          <p:cNvSpPr/>
          <p:nvPr/>
        </p:nvSpPr>
        <p:spPr>
          <a:xfrm>
            <a:off x="324000" y="333360"/>
            <a:ext cx="8496000" cy="60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-1028880" y="982800"/>
            <a:ext cx="11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32cc"/>
                </a:solidFill>
                <a:latin typeface="Arial Narrow"/>
                <a:cs typeface="PT Bold Heading"/>
              </a:rPr>
              <a:t>لنرى ماذا يحدث لمن يشتري من الباعة المتجول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7"/>
          <p:cNvGrpSpPr/>
          <p:nvPr/>
        </p:nvGrpSpPr>
        <p:grpSpPr>
          <a:xfrm>
            <a:off x="826920" y="2349360"/>
            <a:ext cx="5185080" cy="3672000"/>
            <a:chOff x="826920" y="2349360"/>
            <a:chExt cx="5185080" cy="3672000"/>
          </a:xfrm>
        </p:grpSpPr>
        <p:grpSp>
          <p:nvGrpSpPr>
            <p:cNvPr id="60" name="Explosion 2 12"/>
            <p:cNvGrpSpPr/>
            <p:nvPr/>
          </p:nvGrpSpPr>
          <p:grpSpPr>
            <a:xfrm>
              <a:off x="826920" y="2349360"/>
              <a:ext cx="5185080" cy="3672000"/>
              <a:chOff x="826920" y="2349360"/>
              <a:chExt cx="5185080" cy="3672000"/>
            </a:xfrm>
          </p:grpSpPr>
          <p:pic>
            <p:nvPicPr>
              <p:cNvPr id="61" name="Explosion 2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6920" y="2349360"/>
                <a:ext cx="5185080" cy="36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244960" y="3520800"/>
                <a:ext cx="2004480" cy="14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"/>
            <p:cNvSpPr/>
            <p:nvPr/>
          </p:nvSpPr>
          <p:spPr>
            <a:xfrm>
              <a:off x="1506600" y="3661200"/>
              <a:ext cx="35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32cc"/>
                  </a:solidFill>
                  <a:latin typeface="Arial Narrow"/>
                  <a:cs typeface="PT Bold Heading"/>
                </a:rPr>
                <a:t>طَـعَـام مُـلَـوْث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6300720" y="2421000"/>
            <a:ext cx="2678760" cy="2232000"/>
            <a:chOff x="6300720" y="2421000"/>
            <a:chExt cx="2678760" cy="2232000"/>
          </a:xfrm>
        </p:grpSpPr>
        <p:grpSp>
          <p:nvGrpSpPr>
            <p:cNvPr id="65" name="Oval Callout 14"/>
            <p:cNvGrpSpPr/>
            <p:nvPr/>
          </p:nvGrpSpPr>
          <p:grpSpPr>
            <a:xfrm>
              <a:off x="6300720" y="2421000"/>
              <a:ext cx="2374920" cy="2232000"/>
              <a:chOff x="6300720" y="2421000"/>
              <a:chExt cx="2374920" cy="2232000"/>
            </a:xfrm>
          </p:grpSpPr>
          <p:pic>
            <p:nvPicPr>
              <p:cNvPr id="66" name="Oval Callou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300720" y="2421000"/>
                <a:ext cx="237492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050960" y="2768040"/>
                <a:ext cx="1311120" cy="15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1"/>
            <p:cNvSpPr/>
            <p:nvPr/>
          </p:nvSpPr>
          <p:spPr>
            <a:xfrm>
              <a:off x="6413760" y="2845080"/>
              <a:ext cx="256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32cc"/>
                  </a:solidFill>
                  <a:latin typeface="Arial Narrow"/>
                  <a:cs typeface="PT Bold Heading"/>
                </a:rPr>
                <a:t>في درسنا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32cc"/>
                  </a:solidFill>
                  <a:latin typeface="Arial Narrow"/>
                  <a:cs typeface="PT Bold Heading"/>
                </a:rPr>
                <a:t>اليو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755640" y="1628640"/>
            <a:ext cx="7848720" cy="4680000"/>
            <a:chOff x="755640" y="1628640"/>
            <a:chExt cx="7848720" cy="46800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755640" y="1628640"/>
              <a:ext cx="7848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"/>
            <p:cNvPicPr/>
            <p:nvPr/>
          </p:nvPicPr>
          <p:blipFill>
            <a:blip r:embed="rId2"/>
            <a:stretch/>
          </p:blipFill>
          <p:spPr>
            <a:xfrm>
              <a:off x="6068160" y="2780640"/>
              <a:ext cx="2380680" cy="309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724360" y="836640"/>
            <a:ext cx="2049480" cy="100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248292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136836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1692360" y="40464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06440" y="1125360"/>
            <a:ext cx="7993080" cy="511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320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826920" y="1268280"/>
            <a:ext cx="7561440" cy="4969080"/>
            <a:chOff x="826920" y="1268280"/>
            <a:chExt cx="7561440" cy="4969080"/>
          </a:xfrm>
        </p:grpSpPr>
        <p:pic>
          <p:nvPicPr>
            <p:cNvPr id="82" name="Picture 1" descr=""/>
            <p:cNvPicPr/>
            <p:nvPr/>
          </p:nvPicPr>
          <p:blipFill>
            <a:blip r:embed="rId1"/>
            <a:stretch/>
          </p:blipFill>
          <p:spPr>
            <a:xfrm>
              <a:off x="826920" y="1268280"/>
              <a:ext cx="7561440" cy="49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" descr=""/>
            <p:cNvPicPr/>
            <p:nvPr/>
          </p:nvPicPr>
          <p:blipFill>
            <a:blip r:embed="rId2"/>
            <a:stretch/>
          </p:blipFill>
          <p:spPr>
            <a:xfrm>
              <a:off x="4859640" y="1556280"/>
              <a:ext cx="3282120" cy="43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3319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94600" cy="482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716040" y="1773360"/>
            <a:ext cx="32083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3280" y="692280"/>
            <a:ext cx="8126280" cy="56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5877000" y="2205000"/>
            <a:ext cx="2582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79280" y="0"/>
            <a:ext cx="1274760" cy="1197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1152720" cy="13683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116000" cy="12970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5" name="Picture 18" descr=""/>
          <p:cNvPicPr/>
          <p:nvPr/>
        </p:nvPicPr>
        <p:blipFill>
          <a:blip r:embed="rId4"/>
          <a:stretch/>
        </p:blipFill>
        <p:spPr>
          <a:xfrm>
            <a:off x="179280" y="5445000"/>
            <a:ext cx="1227240" cy="1224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96" name="Picture 2" descr=""/>
          <p:cNvPicPr/>
          <p:nvPr/>
        </p:nvPicPr>
        <p:blipFill>
          <a:blip r:embed="rId5"/>
          <a:stretch/>
        </p:blipFill>
        <p:spPr>
          <a:xfrm>
            <a:off x="2700360" y="4292640"/>
            <a:ext cx="6114960" cy="92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6"/>
          <a:stretch/>
        </p:blipFill>
        <p:spPr>
          <a:xfrm>
            <a:off x="3851280" y="1484280"/>
            <a:ext cx="497664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584964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8"/>
          <a:stretch/>
        </p:blipFill>
        <p:spPr>
          <a:xfrm>
            <a:off x="3780000" y="2781360"/>
            <a:ext cx="507672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9"/>
          <a:stretch/>
        </p:blipFill>
        <p:spPr>
          <a:xfrm>
            <a:off x="2050920" y="5661000"/>
            <a:ext cx="6861240" cy="946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10"/>
          <a:stretch/>
        </p:blipFill>
        <p:spPr>
          <a:xfrm>
            <a:off x="179280" y="4221000"/>
            <a:ext cx="1152720" cy="1149480"/>
          </a:xfrm>
          <a:prstGeom prst="rect">
            <a:avLst/>
          </a:prstGeom>
          <a:ln w="0">
            <a:noFill/>
          </a:ln>
        </p:spPr>
      </p:pic>
      <p:cxnSp>
        <p:nvCxnSpPr>
          <p:cNvPr id="102" name="Straight Arrow Connector 14"/>
          <p:cNvCxnSpPr/>
          <p:nvPr/>
        </p:nvCxnSpPr>
        <p:spPr>
          <a:xfrm flipH="1">
            <a:off x="1402560" y="1197000"/>
            <a:ext cx="1801080" cy="20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Straight Arrow Connector 16"/>
          <p:cNvCxnSpPr/>
          <p:nvPr/>
        </p:nvCxnSpPr>
        <p:spPr>
          <a:xfrm flipH="1" flipV="1">
            <a:off x="1402920" y="2059920"/>
            <a:ext cx="2377440" cy="7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19"/>
          <p:cNvCxnSpPr/>
          <p:nvPr/>
        </p:nvCxnSpPr>
        <p:spPr>
          <a:xfrm flipH="1">
            <a:off x="1331640" y="3068640"/>
            <a:ext cx="2448720" cy="2448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Straight Arrow Connector 21"/>
          <p:cNvCxnSpPr/>
          <p:nvPr/>
        </p:nvCxnSpPr>
        <p:spPr>
          <a:xfrm flipH="1" flipV="1">
            <a:off x="1476360" y="836280"/>
            <a:ext cx="1440360" cy="345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6" name="Straight Arrow Connector 24"/>
          <p:cNvCxnSpPr/>
          <p:nvPr/>
        </p:nvCxnSpPr>
        <p:spPr>
          <a:xfrm flipH="1" flipV="1">
            <a:off x="1331640" y="4795200"/>
            <a:ext cx="1080000" cy="865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23:59:49Z</dcterms:created>
  <dc:creator>HIND</dc:creator>
  <dc:description/>
  <dc:language>en-US</dc:language>
  <cp:lastModifiedBy>HIND</cp:lastModifiedBy>
  <dcterms:modified xsi:type="dcterms:W3CDTF">2011-03-27T15:14:31Z</dcterms:modified>
  <cp:revision>3</cp:revision>
  <dc:subject/>
  <dc:title>Slide 1</dc:title>
</cp:coreProperties>
</file>