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7.png" ContentType="image/png"/>
  <Override PartName="/ppt/media/image14.png" ContentType="image/png"/>
  <Override PartName="/ppt/media/image12.png" ContentType="image/png"/>
  <Override PartName="/ppt/media/click.wav" ContentType="audio/x-wav"/>
  <Override PartName="/ppt/media/voltage.wav" ContentType="audio/x-wav"/>
  <Override PartName="/ppt/media/image18.png" ContentType="image/png"/>
  <Override PartName="/ppt/media/whoosh.wav" ContentType="audio/x-wav"/>
  <Override PartName="/ppt/media/chimes.wav" ContentType="audio/x-wav"/>
  <Override PartName="/ppt/media/wind.wav" ContentType="audio/x-wav"/>
  <Override PartName="/ppt/media/image16.png" ContentType="image/png"/>
  <Override PartName="/ppt/media/image6.png" ContentType="image/png"/>
  <Override PartName="/ppt/media/image15.png" ContentType="image/png"/>
  <Override PartName="/ppt/media/drumroll.wav" ContentType="audio/x-wav"/>
  <Override PartName="/ppt/media/image5.png" ContentType="image/png"/>
  <Override PartName="/ppt/media/applause.wav" ContentType="audio/x-wav"/>
  <Override PartName="/ppt/media/breeze.wav" ContentType="audio/x-wav"/>
  <Override PartName="/ppt/media/image10.png" ContentType="image/png"/>
  <Override PartName="/ppt/media/image7.png" ContentType="image/png"/>
  <Override PartName="/ppt/media/image19.png" ContentType="image/png"/>
  <Override PartName="/ppt/media/laser.wav" ContentType="audio/x-wav"/>
  <Override PartName="/ppt/media/image4.png" ContentType="image/png"/>
  <Override PartName="/ppt/media/push.wav" ContentType="audio/x-wav"/>
  <Override PartName="/ppt/media/image3.png" ContentType="image/png"/>
  <Override PartName="/ppt/media/image2.png" ContentType="image/png"/>
  <Override PartName="/ppt/media/suction.wav" ContentType="audio/x-wav"/>
  <Override PartName="/ppt/media/image1.png" ContentType="image/png"/>
  <Override PartName="/ppt/media/image8.png" ContentType="image/png"/>
  <Override PartName="/ppt/media/image9.png" ContentType="image/png"/>
  <Override PartName="/ppt/media/image20.png" ContentType="image/png"/>
  <Override PartName="/ppt/media/hammer.wav" ContentType="audio/x-wav"/>
  <Override PartName="/ppt/media/image13.png" ContentType="image/png"/>
  <Override PartName="/ppt/media/coin.wav" ContentType="audio/x-wav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2C56-4551-4B0A-BDC9-0E06F3F42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7C2D-ED91-475B-90EE-C468FE4B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8BE9-BE20-4924-8FE9-D6C2942CE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FFEE-6CA8-44D6-B415-1B91F64D6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496E-DF95-4941-BF23-3270430CB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89F5-021C-45FF-81AF-4F6704F7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69B8-F669-4F28-B465-DF028A27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097A-86C4-4F8A-B07B-E6AC901F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FACB-60E8-43C6-AE5F-57D8A516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97DF-6F7C-42C3-B2D6-6EFEA007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4F20-5882-4FB9-A96F-BB526B98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DAAF-3FF9-413A-ADA9-25ED57E7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C2EB-14C3-4243-A5B7-2BA4714C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FE54-CA0A-4A8C-B236-3AFA46E7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DA08-12B4-4271-9DAC-2025428A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9BDB-CED3-4C9F-AA3F-1A0DB64B6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388F-122F-4EA9-AC08-89DBBA929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3C83-1EA0-4A63-BC63-510CED46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BC2F-AEF2-4DEC-B81D-A5FAA1FF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F77B-5EAC-46E6-B5C1-4DA3C5E4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E7AC-AB2D-439C-81DB-F0D3B8E2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C5F4-7BBF-49C0-854B-C20414AE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70A0-DDB6-43DD-BBF6-568684F0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33B0-39B3-45C8-9270-E94B1D64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6A77-34ED-47D5-934A-11ECA29DF2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1AD7-3FD2-45BF-AE88-2E08A82528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audio" Target="../media/suction.wav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push.wav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332000" y="477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Times New Roman"/>
              </a:rPr>
              <a:t>نور البدرى</a:t>
            </a:r>
            <a:r>
              <a:rPr b="0" lang="ar-EG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836640"/>
            <a:ext cx="8640720" cy="4032360"/>
          </a:xfrm>
          <a:prstGeom prst="irregularSeal2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0757600">
            <a:off x="1189080" y="2276280"/>
            <a:ext cx="60469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ffffff"/>
                </a:solidFill>
                <a:latin typeface="Book Antiqua"/>
                <a:cs typeface="Andalus"/>
              </a:rPr>
              <a:t>أصحاب </a:t>
            </a:r>
            <a:r>
              <a:rPr b="1" lang="hi-IN" sz="9600" spc="-1" strike="noStrike">
                <a:solidFill>
                  <a:srgbClr val="ffffff"/>
                </a:solidFill>
                <a:latin typeface="Book Antiqua"/>
                <a:cs typeface="Andalus"/>
              </a:rPr>
              <a:t>المهن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332000" y="620640"/>
            <a:ext cx="6624720" cy="5113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124000" y="602784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صيّـــــــــــــــــــــــا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195640" y="476280"/>
            <a:ext cx="5256000" cy="5329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340000" y="602136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طبّـــــــــــــــــــــا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743280" cy="5400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68360" y="610092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طبيــــــــــ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602784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شــــــــرطـــ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388620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619280" y="620640"/>
            <a:ext cx="5877000" cy="5113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124000" y="595620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طيّــــــــــــــا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908000" y="620640"/>
            <a:ext cx="5311800" cy="51134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197080" y="5950080"/>
            <a:ext cx="48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عـــــــــــامل نظــــــــــــــاف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124000" y="404640"/>
            <a:ext cx="4753080" cy="5185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556000" y="58118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مُـــــــــــــــزار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19280" y="620640"/>
            <a:ext cx="5979960" cy="4969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484360" y="595620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معـــــــــــــــــــــــلّ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647720" y="693720"/>
            <a:ext cx="5877000" cy="50403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627280" y="588312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ميكــــــــــــانيك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272360" cy="475164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1692360" y="573408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رجل الإطفا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032000" cy="5329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340000" y="5229360"/>
            <a:ext cx="50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40000" y="5589720"/>
            <a:ext cx="50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181080" y="602784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بنّـــــــــــــــــــــــــــا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59280" y="476280"/>
            <a:ext cx="3814920" cy="5329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859280" y="6021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حــــــــــــلاّ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816360" cy="5040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4360" y="5883120"/>
            <a:ext cx="31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خبـّـــــــــــــــــــــا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859280" y="692280"/>
            <a:ext cx="3745080" cy="5041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716360" y="595620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خيّـــــــــــــا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6985080" cy="4896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763640" y="5956200"/>
            <a:ext cx="53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خضّـــــــــــــــــــــــــــــــا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63640" y="476280"/>
            <a:ext cx="5184720" cy="5400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692360" y="595008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دهّــــــــــــــــــــــــــــــــ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337440" cy="5327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836720" y="595008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ســــــــــــــــــــــــائ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3672000" cy="4608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95280" y="59562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ســـــــــــــاعي البري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148360" y="836640"/>
            <a:ext cx="3529080" cy="4535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076720" y="59562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نجّـــــــــــــــــا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03280" y="549360"/>
            <a:ext cx="6193080" cy="5400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619280" y="6100920"/>
            <a:ext cx="53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سبّــــــــــــــــــــــــــــــــــا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1T16:59:41Z</dcterms:created>
  <dc:creator>winxp</dc:creator>
  <dc:description/>
  <dc:language>en-US</dc:language>
  <cp:lastModifiedBy>pc</cp:lastModifiedBy>
  <dcterms:modified xsi:type="dcterms:W3CDTF">2010-02-03T18:42:47Z</dcterms:modified>
  <cp:revision>8</cp:revision>
  <dc:subject/>
  <dc:title>الشريحة 1</dc:title>
</cp:coreProperties>
</file>