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37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7BC-0F6F-4A0A-909A-C2AA050C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9A8-772C-4238-94ED-1CF95B45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136-7EE3-4060-BA03-4A74E523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01F-9C7F-495C-AFBF-8B408818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AC6C-29AA-4451-90D6-E0B7F689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DC00-44D5-41EA-9E81-7B34249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E3AF-22AB-4F4A-BDFB-F01F2687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BB43-1230-46F4-9DE7-097FC6E1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F1A9-C1DF-4C95-8340-AE4E83DA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B967-F1B3-4C7A-B443-FA75A2E8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82AF-8461-4B6E-9A9F-0292756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47E-E08C-4675-A328-DA9280F5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E83D-5343-40E4-80E1-EB32D461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704D-E233-4787-9070-BF322895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0D80-5DB7-4649-9D1A-27453CCB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37FE-9FCA-4513-8F5B-A4E6D38C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5EE7-1895-465E-851F-708B7508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3EBE-B46C-4E92-B0F1-10DFE8FF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1188-F83F-4063-A364-14508DA0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E671-A7D1-48EA-BCDF-70997FEA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AB89-8804-41E7-AFA1-780B27F2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8E6F-20D9-41B1-ABEE-79E99C66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A7D-B88D-4A3D-87ED-23DE7352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7D39-B880-44C4-8748-2C5006B7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BCC2-1081-4C26-BBB8-041AE840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AB6E-753C-4F8D-8798-0422E806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21F3-2C23-4D97-8E4A-C4C3C558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F7F0-BC96-435D-8002-D7EC646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FCE2-7DA6-4BA8-A2A5-17430447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96232-1253-4E2E-A610-C10A36AA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D84A-1E1C-4C16-AB0B-CD2295BC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A35A-3C5B-4FBB-B2B2-9787F70D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CF02-A01F-4D16-8803-804D26D0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502-1C63-4E07-834F-64A2192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1C0D-30CE-4F7D-8E8B-82002409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A617-2FDE-4423-9D38-A3D2CA5E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7C7A-3220-4D6F-9864-5DC1ACB8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FD63-8263-4B39-9133-D82D40F8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E492-FACF-48C2-A998-0CAD2AD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DE65A-2B76-4A34-9442-55920D4A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7C66-CF30-49A2-9CCE-FB801702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2837-B583-441A-B369-297202BB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FA23-0221-42D8-A034-A1A2BE3A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E4DD2-5876-4743-90EB-622DA53D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7D1-9BE5-4CC8-9EF5-82DD8FB5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4B27-C46F-4FD2-A8C6-8932C21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543E3-C09A-4873-A3EA-6C335AB0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3BBAB-230E-446A-B594-8E5CF808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9DB57-AF86-4E4E-86F5-F3172258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7863D-5CBB-41F6-B609-A4E0C607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4404-3062-4EEF-8712-B9BDABA2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4D81-0BDB-4319-98BD-9857176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B0887-15ED-4114-838E-489C6235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709D-CCFF-43C9-8F51-3765FB05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4811A-B565-4D8D-B038-3BB83FD8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302-2FF3-4E1B-9B7F-D39D1496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C2777-24DC-4F92-8DB8-168EB681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B1DF0-6344-4BD1-B1FE-746AF6E1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F03F7-0CF4-491B-ABD6-8B57234D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1C2E8-A702-48ED-85CD-E2B8A58F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6DE20-FF8A-4FCC-A64E-866F9F23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71FC9-9679-4E0D-88D3-41301F7A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DC5F-16C5-42CE-A982-4067D385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3033-C24E-4F67-B4F1-C17BF9F6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AEE44-7008-4206-8069-939BD410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536AF-AC1A-462E-AC3E-CCD70F55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6CD-D147-40D5-BF97-56024C9F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C5C2A-30BE-4C82-A1CB-8FF1AB20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85CCB-88AD-444D-B44C-E5959A84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0C194-8A2A-4FA5-92E7-D8EE872A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D037-7FA5-4EB5-BAB9-BD07D660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31D45-F1BD-4DF0-8BCC-000F80A7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FCA6-439F-4731-95A7-34E1AC33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6043A-6843-41C1-901D-7FA4C69C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BEA1D-6E57-44D3-888B-6C31A7A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38942-0B2C-44E7-8ACD-65FDD988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B0640-686E-489C-83C8-760929A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28C-57F2-447A-BDA1-1CF9D17B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561D-9C5A-4472-8A54-147C3A2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F6AE8-AC02-4C70-9385-D51831ED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81BA0-C98E-4B4C-9443-B2893FFE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58E63-3BA0-41F7-80FA-8A042ADB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81DC8-2DE8-4A8F-A0D5-B029B558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8C0-8E85-4617-9D29-86B9E6DA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81A7-CB37-46BF-9B20-B54FDE75E42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6F49-A5E0-45B2-BDFC-BF97E82056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E332-764F-4A57-B116-8F1ADB8AD1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BB6C-930A-4ED0-BA9F-989FC2C2989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4320-5D31-4486-9D57-0D260665747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4A34-182C-45E5-80FF-ABE3D6D29FD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58F9-5C6E-491E-AFC6-47DC119DB00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054160" y="-6480"/>
            <a:ext cx="6651720" cy="311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971800" y="3504960"/>
            <a:ext cx="5477040" cy="2971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orbel"/>
                <a:cs typeface="AL-Hosam"/>
              </a:rPr>
              <a:t>علياء عبدالرحمن البازعي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orbel"/>
                <a:cs typeface="AL-Hosam"/>
              </a:rPr>
              <a:t>إدارة التدريب التربوي بالرياض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orbel"/>
                <a:cs typeface="AL-Hosam"/>
              </a:rPr>
              <a:t>وزارة التربية و التعليم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  <a:ea typeface="AL-Hosam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  <a:ea typeface="AL-Hosam"/>
              </a:rPr>
              <a:t>alia@albazei.co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rbel"/>
                <a:cs typeface="Mohammad Head"/>
              </a:rPr>
              <a:t>عندما يملي المعلم على التلاميذ جملة مثل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000000"/>
                </a:solidFill>
                <a:uFillTx/>
                <a:latin typeface="Corbel"/>
                <a:cs typeface="Mohammad Head"/>
              </a:rPr>
              <a:t>الأولاد</a:t>
            </a:r>
            <a:r>
              <a:rPr b="0" lang="ar-SA" sz="4400" spc="-1" strike="noStrike">
                <a:solidFill>
                  <a:srgbClr val="000000"/>
                </a:solidFill>
                <a:latin typeface="Corbel"/>
                <a:ea typeface="Mohammad Head"/>
              </a:rPr>
              <a:t> يلعبون في الحديقة و السماء صافية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6476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rbel"/>
                <a:cs typeface="Mohammad Head"/>
              </a:rPr>
              <a:t>يطلب المعلم من التلاميذ إجراء عملية ذهنية لإيجاد ناتج: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  <a:ea typeface="Mohammad Hea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ea typeface="Mohammad Head"/>
              </a:rPr>
              <a:t> </a:t>
            </a:r>
            <a:r>
              <a:rPr b="0" lang="ar-SA" sz="6600" spc="-1" strike="noStrike">
                <a:solidFill>
                  <a:srgbClr val="000000"/>
                </a:solidFill>
                <a:latin typeface="Corbel"/>
                <a:ea typeface="Mohammad Head"/>
              </a:rPr>
              <a:t>23</a:t>
            </a:r>
            <a:r>
              <a:rPr b="1" lang="en-US" sz="4400" spc="-1" strike="noStrike">
                <a:solidFill>
                  <a:srgbClr val="000000"/>
                </a:solidFill>
                <a:latin typeface="Corbel"/>
                <a:ea typeface="Mohammad Head"/>
              </a:rPr>
              <a:t>X </a:t>
            </a:r>
            <a:r>
              <a:rPr b="0" lang="ar-SA" sz="6600" spc="-1" strike="noStrike">
                <a:solidFill>
                  <a:srgbClr val="000000"/>
                </a:solidFill>
                <a:latin typeface="Corbel"/>
                <a:ea typeface="Mohammad Head"/>
              </a:rPr>
              <a:t> 8</a:t>
            </a:r>
            <a:r>
              <a:rPr b="0" lang="ar-SA" sz="6600" spc="-1" strike="noStrike">
                <a:solidFill>
                  <a:srgbClr val="000000"/>
                </a:solidFill>
                <a:latin typeface="Corbel"/>
                <a:ea typeface="Mohammad Head"/>
              </a:rPr>
              <a:t> =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907920" y="378000"/>
            <a:ext cx="7328160" cy="1164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914400" y="1828800"/>
            <a:ext cx="7315200" cy="44798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42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Al-Hadith1"/>
              </a:rPr>
              <a:t>التاريخ: الأربعاء </a:t>
            </a: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Al-Hadith1"/>
              </a:rPr>
              <a:t>12</a:t>
            </a: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Al-Hadith1"/>
              </a:rPr>
              <a:t> محرم </a:t>
            </a: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Al-Hadith1"/>
              </a:rPr>
              <a:t>1433</a:t>
            </a: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Al-Hadith1"/>
              </a:rPr>
              <a:t> ه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Al-Hadith1"/>
              </a:rPr>
              <a:t>المادة: إملاء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Al-Hadith1"/>
              </a:rPr>
              <a:t>الموضوع: اللام الشمسية   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907920" y="1212840"/>
            <a:ext cx="7632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670040" y="237960"/>
            <a:ext cx="7699320" cy="1225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914400" y="2438280"/>
            <a:ext cx="7315200" cy="35402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8000"/>
          </a:bodyPr>
          <a:p>
            <a:pPr marL="102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rbel"/>
                <a:cs typeface="AL-Hosam"/>
              </a:rPr>
              <a:t>سعر تذكرة الدخول إلى مدينة الملاهي 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osam"/>
              </a:rPr>
              <a:t>15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osam"/>
              </a:rPr>
              <a:t> ريال للكبار و 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osam"/>
              </a:rPr>
              <a:t>10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osam"/>
              </a:rPr>
              <a:t> ريالات للصغار. في يوم العطلة كان دخل مدينة الملاهي 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osam"/>
              </a:rPr>
              <a:t>8970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osam"/>
              </a:rPr>
              <a:t> منها 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osam"/>
              </a:rPr>
              <a:t>3450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osam"/>
              </a:rPr>
              <a:t> دخل تذاكر الكبار. كم كان الدخل من تذاكر الصغار, و كم عدد كل من الأطفال و الكبار الذين دخلوا مدينة الملاهي..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6476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rbel"/>
                <a:cs typeface="Mohammad Head"/>
              </a:rPr>
              <a:t>الغرفة في الدور الثالث، ثاني باب إلى يمين المصعد و مفتاحها في صندوق البريد الموجود في غرفة البريد في آخر الممر إلى اليسار رقم الصندوق </a:t>
            </a:r>
            <a:r>
              <a:rPr b="0" lang="ar-SA" sz="4000" spc="-1" strike="noStrike">
                <a:solidFill>
                  <a:srgbClr val="000000"/>
                </a:solidFill>
                <a:latin typeface="Corbel"/>
                <a:ea typeface="Mohammad Head"/>
              </a:rPr>
              <a:t>17</a:t>
            </a:r>
            <a:r>
              <a:rPr b="0" lang="ar-SA" sz="4000" spc="-1" strike="noStrike">
                <a:solidFill>
                  <a:srgbClr val="000000"/>
                </a:solidFill>
                <a:latin typeface="Corbel"/>
                <a:ea typeface="Mohammad Head"/>
              </a:rPr>
              <a:t> ستجد الملف في درج الملفات رقمه </a:t>
            </a:r>
            <a:r>
              <a:rPr b="0" lang="ar-SA" sz="4000" spc="-1" strike="noStrike">
                <a:solidFill>
                  <a:srgbClr val="000000"/>
                </a:solidFill>
                <a:latin typeface="Corbel"/>
                <a:ea typeface="Mohammad Head"/>
              </a:rPr>
              <a:t>819</a:t>
            </a:r>
            <a:r>
              <a:rPr b="0" lang="ar-SA" sz="4000" spc="-1" strike="noStrike">
                <a:solidFill>
                  <a:srgbClr val="000000"/>
                </a:solidFill>
                <a:latin typeface="Corbel"/>
                <a:ea typeface="Mohammad Hea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lowchart: Magnetic Disk 3"/>
          <p:cNvSpPr/>
          <p:nvPr/>
        </p:nvSpPr>
        <p:spPr>
          <a:xfrm>
            <a:off x="762120" y="2590920"/>
            <a:ext cx="3809880" cy="3124080"/>
          </a:xfrm>
          <a:prstGeom prst="flowChartMagneticDisk">
            <a:avLst/>
          </a:prstGeom>
          <a:solidFill>
            <a:srgbClr val="ffffff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822320" y="298440"/>
            <a:ext cx="7620120" cy="1165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952880" y="4188600"/>
            <a:ext cx="3549960" cy="1175400"/>
          </a:xfrm>
          <a:prstGeom prst="rect">
            <a:avLst/>
          </a:prstGeom>
          <a:solidFill>
            <a:srgbClr val="ffffff"/>
          </a:solidFill>
          <a:ln w="47880">
            <a:solidFill>
              <a:srgbClr val="b07e00"/>
            </a:solidFill>
            <a:miter/>
          </a:ln>
        </p:spPr>
        <p:txBody>
          <a:bodyPr lIns="54720" rIns="90000" tIns="91440" bIns="46800" anchor="ctr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Flowchart: Card 6"/>
          <p:cNvSpPr/>
          <p:nvPr/>
        </p:nvSpPr>
        <p:spPr>
          <a:xfrm rot="19555800">
            <a:off x="2857680" y="2952360"/>
            <a:ext cx="236196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Flowchart: Card 8"/>
          <p:cNvSpPr/>
          <p:nvPr/>
        </p:nvSpPr>
        <p:spPr>
          <a:xfrm rot="1934400">
            <a:off x="748800" y="3171600"/>
            <a:ext cx="236232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Flowchart: Card 9"/>
          <p:cNvSpPr/>
          <p:nvPr/>
        </p:nvSpPr>
        <p:spPr>
          <a:xfrm>
            <a:off x="1733400" y="3390840"/>
            <a:ext cx="2362320" cy="38124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Flowchart: Card 10"/>
          <p:cNvSpPr/>
          <p:nvPr/>
        </p:nvSpPr>
        <p:spPr>
          <a:xfrm>
            <a:off x="1109520" y="3772080"/>
            <a:ext cx="236232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Flowchart: Card 11"/>
          <p:cNvSpPr/>
          <p:nvPr/>
        </p:nvSpPr>
        <p:spPr>
          <a:xfrm>
            <a:off x="1790640" y="4152960"/>
            <a:ext cx="236232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Flowchart: Card 12"/>
          <p:cNvSpPr/>
          <p:nvPr/>
        </p:nvSpPr>
        <p:spPr>
          <a:xfrm>
            <a:off x="1790640" y="4594320"/>
            <a:ext cx="236232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Flowchart: Card 13"/>
          <p:cNvSpPr/>
          <p:nvPr/>
        </p:nvSpPr>
        <p:spPr>
          <a:xfrm>
            <a:off x="1504800" y="5029200"/>
            <a:ext cx="236232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Flowchart: Card 14"/>
          <p:cNvSpPr/>
          <p:nvPr/>
        </p:nvSpPr>
        <p:spPr>
          <a:xfrm rot="19525800">
            <a:off x="151920" y="5709960"/>
            <a:ext cx="236232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Flowchart: Card 16"/>
          <p:cNvSpPr/>
          <p:nvPr/>
        </p:nvSpPr>
        <p:spPr>
          <a:xfrm>
            <a:off x="5638680" y="5095800"/>
            <a:ext cx="2362320" cy="38124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Flowchart: Card 17"/>
          <p:cNvSpPr/>
          <p:nvPr/>
        </p:nvSpPr>
        <p:spPr>
          <a:xfrm>
            <a:off x="5124600" y="4579920"/>
            <a:ext cx="236196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Flowchart: Card 18"/>
          <p:cNvSpPr/>
          <p:nvPr/>
        </p:nvSpPr>
        <p:spPr>
          <a:xfrm>
            <a:off x="5943600" y="4105440"/>
            <a:ext cx="236232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Flowchart: Card 19"/>
          <p:cNvSpPr/>
          <p:nvPr/>
        </p:nvSpPr>
        <p:spPr>
          <a:xfrm rot="1881000">
            <a:off x="4762080" y="3625560"/>
            <a:ext cx="2362320" cy="38088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Flowchart: Card 20"/>
          <p:cNvSpPr/>
          <p:nvPr/>
        </p:nvSpPr>
        <p:spPr>
          <a:xfrm rot="20286000">
            <a:off x="6273360" y="5905440"/>
            <a:ext cx="2362320" cy="381240"/>
          </a:xfrm>
          <a:prstGeom prst="flowChartPunchedCard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معلومات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6140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Corbel"/>
                <a:cs typeface="AL-Hosam"/>
              </a:rPr>
              <a:t>برتقال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أصدقاء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Corbel"/>
                <a:cs typeface="AL-Mohanad Bold"/>
              </a:rPr>
              <a:t>الحمد لله...و الصلاة و السلام على أشرف خلق الله...سيدنا محمد و على آله و صحبه و من اهتدى بهداه.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سبانخ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مـشـط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مرمى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أقــلام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1173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لـؤلـؤة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ثــابت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علبــــة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ورقــة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زيزفون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نجـــود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1158840"/>
          </a:xfrm>
          <a:prstGeom prst="rect">
            <a:avLst/>
          </a:prstGeom>
          <a:ln w="0">
            <a:noFill/>
          </a:ln>
        </p:spPr>
      </p:pic>
      <p:pic>
        <p:nvPicPr>
          <p:cNvPr id="308" name="Diagram 3" descr=""/>
          <p:cNvPicPr/>
          <p:nvPr/>
        </p:nvPicPr>
        <p:blipFill>
          <a:blip r:embed="rId2"/>
          <a:stretch/>
        </p:blipFill>
        <p:spPr>
          <a:xfrm>
            <a:off x="1212840" y="1316160"/>
            <a:ext cx="6108840" cy="42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عصفـــور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شاحنة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Corbel"/>
                <a:cs typeface="AL-Hosam"/>
              </a:rPr>
              <a:t>زرافة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0ad00"/>
                </a:solidFill>
                <a:latin typeface="Corbel"/>
                <a:cs typeface="Mohammad Head"/>
              </a:rPr>
              <a:t>الآن...اكتبوا ما تتذكرون من الكلمات السابقة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تقدم أكاديمي ضعيف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صعوبة اتباع التعليمات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مشاكل في الجمع بين المعالجة و التخزين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صعوبة المحافظة على المكان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فترة انتباه بسيطة/ سريع التشت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هل ترغبين بأن تكوني عقبة رئيسية في طريق تقدم هذه الطفلة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هل لدى هذه الطفلة مؤشرات لها علاقة بضف الذاكرة العاملة...ماهي هذه المؤشرات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"/>
          <p:cNvSpPr/>
          <p:nvPr/>
        </p:nvSpPr>
        <p:spPr>
          <a:xfrm>
            <a:off x="2819520" y="1143000"/>
            <a:ext cx="2209680" cy="1066680"/>
          </a:xfrm>
          <a:prstGeom prst="rect">
            <a:avLst/>
          </a:prstGeom>
          <a:solidFill>
            <a:srgbClr val="ccff99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rbel"/>
                <a:cs typeface="AL-Hosam"/>
              </a:rPr>
              <a:t>المدخلات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rbel"/>
                <a:cs typeface="AL-Hosam"/>
              </a:rPr>
              <a:t>عن طريق الحواس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533520" y="3149640"/>
            <a:ext cx="1904760" cy="736560"/>
          </a:xfrm>
          <a:prstGeom prst="rect">
            <a:avLst/>
          </a:prstGeom>
          <a:solidFill>
            <a:srgbClr val="ccff66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AL-Hosam"/>
              </a:rPr>
              <a:t>الذاكرة البصرية المكاني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5464080" y="3149640"/>
            <a:ext cx="1986120" cy="736560"/>
          </a:xfrm>
          <a:prstGeom prst="rect">
            <a:avLst/>
          </a:prstGeom>
          <a:solidFill>
            <a:srgbClr val="ccff66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AL-Hosam"/>
              </a:rPr>
              <a:t>الذاكرة اللغو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2819520" y="2743200"/>
            <a:ext cx="2286000" cy="1600200"/>
          </a:xfrm>
          <a:prstGeom prst="ellipse">
            <a:avLst/>
          </a:prstGeom>
          <a:solidFill>
            <a:srgbClr val="ccecff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AL-Hosam"/>
              </a:rPr>
              <a:t>الوظاثف التنفيذية للمخ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762120" y="4952880"/>
            <a:ext cx="1981080" cy="1447920"/>
          </a:xfrm>
          <a:prstGeom prst="rect">
            <a:avLst/>
          </a:prstGeom>
          <a:solidFill>
            <a:srgbClr val="fff0c9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AL-Hosam"/>
              </a:rPr>
              <a:t>الذاكرة طويلة المد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5468760" y="4929120"/>
            <a:ext cx="1981440" cy="1447920"/>
          </a:xfrm>
          <a:prstGeom prst="rect">
            <a:avLst/>
          </a:prstGeom>
          <a:solidFill>
            <a:srgbClr val="a6d4a7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AL-Hosam"/>
              </a:rPr>
              <a:t>المهام الأخر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Left Arrow 26"/>
          <p:cNvSpPr/>
          <p:nvPr/>
        </p:nvSpPr>
        <p:spPr>
          <a:xfrm rot="13816800">
            <a:off x="4925880" y="2441160"/>
            <a:ext cx="1197000" cy="301680"/>
          </a:xfrm>
          <a:prstGeom prst="leftArrow">
            <a:avLst>
              <a:gd name="adj1" fmla="val 50000"/>
              <a:gd name="adj2" fmla="val 50075"/>
            </a:avLst>
          </a:prstGeom>
          <a:solidFill>
            <a:srgbClr val="ccff99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Left Arrow 28"/>
          <p:cNvSpPr/>
          <p:nvPr/>
        </p:nvSpPr>
        <p:spPr>
          <a:xfrm rot="18267000">
            <a:off x="1880280" y="2456640"/>
            <a:ext cx="1116000" cy="298440"/>
          </a:xfrm>
          <a:prstGeom prst="leftArrow">
            <a:avLst>
              <a:gd name="adj1" fmla="val 50000"/>
              <a:gd name="adj2" fmla="val 49825"/>
            </a:avLst>
          </a:prstGeom>
          <a:solidFill>
            <a:srgbClr val="ccff99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Left Arrow 29"/>
          <p:cNvSpPr/>
          <p:nvPr/>
        </p:nvSpPr>
        <p:spPr>
          <a:xfrm rot="7184400">
            <a:off x="2206080" y="4225680"/>
            <a:ext cx="799920" cy="235080"/>
          </a:xfrm>
          <a:prstGeom prst="leftArrow">
            <a:avLst>
              <a:gd name="adj1" fmla="val 50000"/>
              <a:gd name="adj2" fmla="val 49891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Left Arrow 31"/>
          <p:cNvSpPr/>
          <p:nvPr/>
        </p:nvSpPr>
        <p:spPr>
          <a:xfrm rot="18049800">
            <a:off x="2419200" y="4425480"/>
            <a:ext cx="800280" cy="235080"/>
          </a:xfrm>
          <a:prstGeom prst="leftArrow">
            <a:avLst>
              <a:gd name="adj1" fmla="val 50000"/>
              <a:gd name="adj2" fmla="val 49914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Left Arrow 32"/>
          <p:cNvSpPr/>
          <p:nvPr/>
        </p:nvSpPr>
        <p:spPr>
          <a:xfrm rot="13615200">
            <a:off x="4957560" y="4241520"/>
            <a:ext cx="799920" cy="235080"/>
          </a:xfrm>
          <a:prstGeom prst="leftArrow">
            <a:avLst>
              <a:gd name="adj1" fmla="val 50000"/>
              <a:gd name="adj2" fmla="val 49891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Left Arrow 33"/>
          <p:cNvSpPr/>
          <p:nvPr/>
        </p:nvSpPr>
        <p:spPr>
          <a:xfrm rot="2893800">
            <a:off x="4702680" y="4398120"/>
            <a:ext cx="801720" cy="23508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Left-Right Arrow 27"/>
          <p:cNvSpPr/>
          <p:nvPr/>
        </p:nvSpPr>
        <p:spPr>
          <a:xfrm>
            <a:off x="2305080" y="3409920"/>
            <a:ext cx="601560" cy="133560"/>
          </a:xfrm>
          <a:prstGeom prst="leftRightArrow">
            <a:avLst>
              <a:gd name="adj1" fmla="val 50000"/>
              <a:gd name="adj2" fmla="val 49670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Right Arrow 34"/>
          <p:cNvSpPr/>
          <p:nvPr/>
        </p:nvSpPr>
        <p:spPr>
          <a:xfrm>
            <a:off x="5103720" y="3263760"/>
            <a:ext cx="451080" cy="146160"/>
          </a:xfrm>
          <a:prstGeom prst="rightArrow">
            <a:avLst>
              <a:gd name="adj1" fmla="val 50000"/>
              <a:gd name="adj2" fmla="val 50294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Left Arrow 35"/>
          <p:cNvSpPr/>
          <p:nvPr/>
        </p:nvSpPr>
        <p:spPr>
          <a:xfrm>
            <a:off x="4919760" y="3594240"/>
            <a:ext cx="527040" cy="126720"/>
          </a:xfrm>
          <a:prstGeom prst="leftArrow">
            <a:avLst>
              <a:gd name="adj1" fmla="val 50000"/>
              <a:gd name="adj2" fmla="val 50429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Left-Right Arrow 38"/>
          <p:cNvSpPr/>
          <p:nvPr/>
        </p:nvSpPr>
        <p:spPr>
          <a:xfrm>
            <a:off x="2330280" y="3656160"/>
            <a:ext cx="601920" cy="131760"/>
          </a:xfrm>
          <a:prstGeom prst="leftRightArrow">
            <a:avLst>
              <a:gd name="adj1" fmla="val 50000"/>
              <a:gd name="adj2" fmla="val 50378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705800" cy="11527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979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استماع إلى سلسلة مطولة من التعليمات و محاولة تذكرها و تنفيذها.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« ضعوا أوراق العمل على الطاولة الخضراء, ضعوا بطاقات الأرقام في مكانها المخصص, ضعوا أقلامكم في المقلمة, أخرجوا كتب القراءة و افتحوا صفحة </a:t>
            </a: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26</a:t>
            </a: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-6480" y="158760"/>
            <a:ext cx="7937640" cy="1474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22093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تذكر المكان الذي وصل إليه مثلاً في الإملاء أو النسخ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ستخدام الصور لرواية قصة أو ترتيب الأحداث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سرد أسماء أو كلمات بالترتيب الأبجدي مما يستدعي تذكر شكل الكلمات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تتأثركثير من المقاييس التي تقيس الذكاء بالذاكرة العاملة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ذاكرة العاملة ذات علاقة بنسبة الذكاء لكنها تختلف عنها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علاقة بينهما ليست طردية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قياس الذاكرة العاملة يعطي مؤشر أفضل عن قدرة الطفل على الأداء من ا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3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3962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98440" y="317520"/>
            <a:ext cx="7675560" cy="11509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تختلف المراجع و الترجمات في التفريق بينهما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يميل التربويون إلى التفريق بين المصطلحين و يميل علماء النفس إلى أنها مسميان لشيء واحد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ذاكرة اللغوية قصيرة المدى و الذاكرة البصرية المكانية قصيرة المدى يشكلان جزء من نظام الذاكرة العاملة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يستخدمان لتوفير مكان لتخزين المعلومات لمدة أطول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كثير من عمليات التذكر لا تعتمد على الذاكرة العاملة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ذاكرة طويلة المدى تمثل النظام الداعم للذاكرة العاملة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مواد المخزنة في الذاكرة طويلة المدى تدعم محدودية التخزين لدى الذاكرة العاملة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060560" y="158760"/>
            <a:ext cx="7413480" cy="12193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53316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14440" indent="-51444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ذاكرة العاملة توضح قدرتنا على التعلم لا المعلومات التي لدينا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ذاكرة العاملة هي أفضل مؤشر على التحصيل الأكاديمي و هي أفضل من نسبة الذكاء (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IQ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واحد من كل عشرة تلاميذ يعاني من مشكلات في الذاكرة العاملة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64760" cy="1262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تتطور الذاكرة العاملة خلال مرحلة الطفولة و بالذات في العشر سنوات الأولى و تستمر في النمو خلال سنوات المراهقة و تصل إلى قمتها في مرحلة الرشد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( العقد الثالث)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ذاكرة العاملة لدى الأطفال ذوي «افتا» أظهرت معدلات أقل من المتوسط في مقاييس الذاكرة اللغوية و الذاكرة البصرية المكاني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ستراتيجيات التدريس التي تعنى بخفض الحمولة على الذاكرة العاملة أثبتت نجاحها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64760" cy="1262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الذاكرة العاملة تؤثر على تعلم الأطفال الذين يعانون من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- عسر القراءة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Dyslex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- صعوبة الرياضيات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Dyscalcul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صعوبة التآزر الحركي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Dyspraxi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- اضطراب فرط الحركة و تشتت الانتباه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ADH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طيف التوحد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Autism Spectr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Oval 3" descr=""/>
          <p:cNvPicPr/>
          <p:nvPr/>
        </p:nvPicPr>
        <p:blipFill>
          <a:blip r:embed="rId1"/>
          <a:stretch/>
        </p:blipFill>
        <p:spPr>
          <a:xfrm>
            <a:off x="2530440" y="311040"/>
            <a:ext cx="3486240" cy="3645000"/>
          </a:xfrm>
          <a:prstGeom prst="rect">
            <a:avLst/>
          </a:prstGeom>
          <a:ln w="0">
            <a:noFill/>
          </a:ln>
        </p:spPr>
      </p:pic>
      <p:pic>
        <p:nvPicPr>
          <p:cNvPr id="399" name="Oval 14" descr=""/>
          <p:cNvPicPr/>
          <p:nvPr/>
        </p:nvPicPr>
        <p:blipFill>
          <a:blip r:embed="rId2"/>
          <a:stretch/>
        </p:blipFill>
        <p:spPr>
          <a:xfrm>
            <a:off x="3803760" y="1743120"/>
            <a:ext cx="4151160" cy="3193920"/>
          </a:xfrm>
          <a:prstGeom prst="rect">
            <a:avLst/>
          </a:prstGeom>
          <a:ln w="0">
            <a:noFill/>
          </a:ln>
        </p:spPr>
      </p:pic>
      <p:pic>
        <p:nvPicPr>
          <p:cNvPr id="400" name="Oval 15" descr=""/>
          <p:cNvPicPr/>
          <p:nvPr/>
        </p:nvPicPr>
        <p:blipFill>
          <a:blip r:embed="rId3"/>
          <a:stretch/>
        </p:blipFill>
        <p:spPr>
          <a:xfrm>
            <a:off x="811080" y="1749600"/>
            <a:ext cx="3760920" cy="3108240"/>
          </a:xfrm>
          <a:prstGeom prst="rect">
            <a:avLst/>
          </a:prstGeom>
          <a:ln w="0">
            <a:noFill/>
          </a:ln>
        </p:spPr>
      </p:pic>
      <p:pic>
        <p:nvPicPr>
          <p:cNvPr id="401" name="Oval 16" descr=""/>
          <p:cNvPicPr/>
          <p:nvPr/>
        </p:nvPicPr>
        <p:blipFill>
          <a:blip r:embed="rId4"/>
          <a:stretch/>
        </p:blipFill>
        <p:spPr>
          <a:xfrm>
            <a:off x="2365200" y="2103480"/>
            <a:ext cx="368784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AL-Hosam"/>
              </a:rPr>
              <a:t>خالد يصفه المعلمون بـ..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AL-Hosam"/>
              </a:rPr>
              <a:t> سبب التوتر في الفصل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AL-Hosam"/>
              </a:rPr>
              <a:t> دائماً مشغول بشيء ما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AL-Hosam"/>
              </a:rPr>
              <a:t>يحاول إشغال زملاؤه باستمرار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AL-Hosam"/>
              </a:rPr>
              <a:t>يبدو  و كأنه يعمل بمحر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AL-Hosam"/>
              </a:rPr>
              <a:t>كثير الحركة و الكلا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AL-Hosam"/>
              </a:rPr>
              <a:t>ذكي لكن لا يستغل ذكاءه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rbel"/>
                <a:ea typeface="AL-Hosam"/>
              </a:rPr>
              <a:t>ADHD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840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rbel"/>
                <a:ea typeface="AL-Hosam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Corbel"/>
                <a:ea typeface="AL-Hosam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AL-Hosam"/>
              </a:rPr>
              <a:t>1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AL-Hosam"/>
              </a:rPr>
              <a:t>. 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في عالم ثان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. 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adith1"/>
              </a:rPr>
              <a:t>« 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يدخل من هنا و يطلع من هنا </a:t>
            </a: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Al-Hadith1"/>
              </a:rPr>
              <a:t>»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Al-Hadith1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3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. غالباً ما يضيع أوراقه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4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. ينسى واجباته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5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. هاديء قليل المشاركة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6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. غير مبادر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7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. قد ينتج لو انتبه أكثر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84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84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  <a:ea typeface="AL-Mohanad"/>
              </a:rPr>
              <a:t>ADD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84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على الرغم من اختلاف المظاهر السلوكية لدى التلميذين...إلا أن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كلاهما يعاني من افتا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كلاهما يعاني من اضطراب في الذاكرة العاملة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كلاهما يعاني من مشكلات دراسية بسبب الخلل الموجود في الذاكرة العاملة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987480" y="1292400"/>
            <a:ext cx="703404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530280" y="1670040"/>
            <a:ext cx="725472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84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يبدو  أن الحل الأمثل هو إعطاء التلاميذ تمرينات لتقوية و تدريب الذاكرة العاملة لكن الدراسات لم تثبت جدوى هذا الإجراء!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84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إذاً ما الحل</a:t>
            </a:r>
            <a:r>
              <a:rPr b="1" lang="ar-SA" sz="44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؟؟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835200" y="231840"/>
            <a:ext cx="7327800" cy="12254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84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يكمن الحل الأمثل لتجاوز هذه العقبة و لدعم الأطفال الذين يعانون من قصور في أداء الذاكرة العاملة في...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84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8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Corbel"/>
                <a:cs typeface="MCS Jeddah S_U normal."/>
              </a:rPr>
              <a:t>إدارة الصف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ملاحظة القصور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متابعة التلميذ/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تقييم المهام التعليمية التي تضع حمل كبير على الذاكرة العامل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التخفيف من الحمل على الذاكرة العامل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كن مستعداً للتكرار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تقييم المهام التعليمية التي تضع حمل كبير على الذاكرة العامل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التخفيف من الحمل على الذاكرة العامل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كن مستعداً للتكرار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تشجيع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تلاميذ على استخدام معينات التذكر 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(للكتابة- للرياضيات- الأجهزة السمعية- برامج الحاسب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 تطوير قدرة الطفل على استخدام معينات الذاكرة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MCS Jeddah S_U normal."/>
              </a:rPr>
              <a:t>(طلب المساعدة- التكرار- كتابة المعلومات- استراتيجيات التنظيم- استخدام الذاكرة طويلة المدى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64760" cy="1262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النجاح في المدرسة هو من أفضل الأساليب العلاجية التي من الممكن أن نقدمها لأي طفل...لذا من واجبنا أن نفعل كل مافي وسعنا لجعل هذا النجاح يحدث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rbel"/>
                <a:cs typeface="MCS Jeddah S_U normal."/>
              </a:rPr>
              <a:t>فكل من يعمل في مجال التعليم مسئول مسئولية كاملة عن نجاح هذا الطفل!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65692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34520" cy="1311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380520" y="18284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rbel"/>
                <a:cs typeface="Mohammad Head"/>
              </a:rPr>
              <a:t>هي الذاكرة التي تعمل بديناميكية نشطة حيث تهتم بتفسير المعلومات، و تكاملها، و ترابطها مع معلومات سابقة تُعلمت، و هي ذات أهمية في عملية الفهم القرائي، و الاستدلال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  <a:ea typeface="Mohammad Head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Corbel"/>
                <a:cs typeface="Mohammad Head"/>
              </a:rPr>
              <a:t>الرياضي, و التفكير الناقد، و اشتقاق المعاني و اتخاذ القرارات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Content Placeholder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858000" cy="46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500" spc="-1" strike="noStrike">
              <a:solidFill>
                <a:srgbClr val="ffc800"/>
              </a:solidFill>
              <a:latin typeface="Corbel"/>
              <a:ea typeface="Tahoma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0" y="7920"/>
            <a:ext cx="81532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46160" y="19080"/>
            <a:ext cx="82422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ell</dc:creator>
  <dc:description/>
  <dc:language>en-US</dc:language>
  <cp:lastModifiedBy>master</cp:lastModifiedBy>
  <dcterms:modified xsi:type="dcterms:W3CDTF">2013-03-12T05:40:33Z</dcterms:modified>
  <cp:revision>125</cp:revision>
  <dc:subject/>
  <dc:title>PowerPoint Presentation</dc:title>
</cp:coreProperties>
</file>