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8799-89E1-4D46-B3D9-C22CE067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610-9A07-4DB4-BC61-2755C0F2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F26B-659B-491B-AA77-664B1386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4033-3897-48D4-BC95-14B62BF5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D06-B7F6-4314-ACE0-38493325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4C3-23A6-45A8-A7FE-6D78E12F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C25-466A-4E24-9F82-6EED9EE1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B49B-A30E-48DD-823C-2B05709E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C2C-F9DC-48B4-A8C8-E896EA96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95D-39CF-4A26-8700-CD8601AA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CBEC-44B4-44F7-B58C-021F30DAC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509C-D14E-4002-851C-4A6B8F26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80E3-CBB2-4838-92E9-B15982D3662F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2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0.png"/><Relationship Id="rId4" Type="http://schemas.openxmlformats.org/officeDocument/2006/relationships/image" Target="../media/image2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6837480" cy="263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2"/>
          <a:stretch/>
        </p:blipFill>
        <p:spPr>
          <a:xfrm>
            <a:off x="2195640" y="3141720"/>
            <a:ext cx="3651120" cy="12794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3"/>
          <a:stretch/>
        </p:blipFill>
        <p:spPr>
          <a:xfrm>
            <a:off x="1042920" y="4510080"/>
            <a:ext cx="4129200" cy="1260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4"/>
          <a:stretch/>
        </p:blipFill>
        <p:spPr>
          <a:xfrm>
            <a:off x="5796000" y="2406600"/>
            <a:ext cx="2382840" cy="4451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63520" cy="6597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8244000" y="260280"/>
            <a:ext cx="26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7534440" cy="523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5508720" y="1916280"/>
            <a:ext cx="2143080" cy="428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3"/>
          <a:stretch/>
        </p:blipFill>
        <p:spPr>
          <a:xfrm>
            <a:off x="826920" y="2852640"/>
            <a:ext cx="4334040" cy="3114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4"/>
          <a:stretch/>
        </p:blipFill>
        <p:spPr>
          <a:xfrm>
            <a:off x="5219640" y="3429000"/>
            <a:ext cx="310536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4716360" y="260280"/>
            <a:ext cx="4143600" cy="3076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547640" y="836640"/>
            <a:ext cx="2772000" cy="2200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3500280"/>
            <a:ext cx="4267080" cy="308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4"/>
          <a:stretch/>
        </p:blipFill>
        <p:spPr>
          <a:xfrm>
            <a:off x="5148360" y="4005360"/>
            <a:ext cx="32670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356000" y="333360"/>
            <a:ext cx="4353120" cy="3000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187280" y="836640"/>
            <a:ext cx="2867040" cy="2009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539640" y="3429000"/>
            <a:ext cx="4210200" cy="3048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4932360" y="4221000"/>
            <a:ext cx="3514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3971880" cy="3067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84360" y="1125360"/>
            <a:ext cx="3514680" cy="1667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539640" y="3500280"/>
            <a:ext cx="4105440" cy="305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4859280" y="4508640"/>
            <a:ext cx="3505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771640" y="2852640"/>
            <a:ext cx="3651480" cy="127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1619280" y="4221000"/>
            <a:ext cx="4129200" cy="1260720"/>
          </a:xfrm>
          <a:prstGeom prst="rect">
            <a:avLst/>
          </a:prstGeom>
          <a:ln w="0">
            <a:noFill/>
          </a:ln>
        </p:spPr>
      </p:pic>
      <p:sp>
        <p:nvSpPr>
          <p:cNvPr id="65" name="مستطيل مستدير الزوايا 4"/>
          <p:cNvSpPr/>
          <p:nvPr/>
        </p:nvSpPr>
        <p:spPr>
          <a:xfrm>
            <a:off x="3060720" y="765000"/>
            <a:ext cx="3382920" cy="1511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مربع نص 3" descr=""/>
          <p:cNvPicPr/>
          <p:nvPr/>
        </p:nvPicPr>
        <p:blipFill>
          <a:blip r:embed="rId3"/>
          <a:stretch/>
        </p:blipFill>
        <p:spPr>
          <a:xfrm>
            <a:off x="3097080" y="811080"/>
            <a:ext cx="3054600" cy="1389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468360" y="260280"/>
            <a:ext cx="263520" cy="6597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5"/>
          <a:stretch/>
        </p:blipFill>
        <p:spPr>
          <a:xfrm>
            <a:off x="8244000" y="260280"/>
            <a:ext cx="26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8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مربع نص 1"/>
          <p:cNvSpPr/>
          <p:nvPr/>
        </p:nvSpPr>
        <p:spPr>
          <a:xfrm>
            <a:off x="4211640" y="620640"/>
            <a:ext cx="453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كان هناك نملة نشيطة تجمع حبات القمح ، وفي أحد الايام زارها هدهد كبير ، فوجد حبات قمح على الارض فاكل منها حبة ، فغضبت النملة على الهدهد غضبا شديداً ، وأخذ ت تصرخ وتصرخ بصوت عال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مربع نص 2"/>
          <p:cNvSpPr/>
          <p:nvPr/>
        </p:nvSpPr>
        <p:spPr>
          <a:xfrm>
            <a:off x="468360" y="2924280"/>
            <a:ext cx="3959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ركها الهدهد ورحل بعيدا وفي أثناء الطريق .. شعر بألم في بطنه فنام قليلا على العشب .. وهو يفكر في النملة التي سرق منها حبة القمح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قدت الهداهد صديقها فذهبت إلى منزله للسؤال عنه .. فوجدته مريضا فسألته عما حدث له ، فأخبرها بقصته مع النملة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55640" y="404640"/>
            <a:ext cx="3270240" cy="2160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6084720" y="2637000"/>
            <a:ext cx="2811600" cy="2087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4500720" y="4724280"/>
            <a:ext cx="26733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8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مربع نص 2"/>
          <p:cNvSpPr/>
          <p:nvPr/>
        </p:nvSpPr>
        <p:spPr>
          <a:xfrm>
            <a:off x="539640" y="476280"/>
            <a:ext cx="417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كرت الهداهد في مساعدة صديقهم ، فطارت إلى منزل النملة وقد اخذت معها تفاحتين لتقديمها للنملة بدلا من حبة القمح التي أكلها الهدهد ، في تلك الأثناء قابلتهم النملة باستغراب لسبب مجيئهم ، فاخبروها بمرض الهدهد المعتدي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مربع نص 3"/>
          <p:cNvSpPr/>
          <p:nvPr/>
        </p:nvSpPr>
        <p:spPr>
          <a:xfrm>
            <a:off x="4643280" y="3357720"/>
            <a:ext cx="4105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فقررت النملة الذهاب معهم لزيارته ، فحملها أحدهم على جناحيه لزيارة الهدهد المعتدي والاطمئنان على صحته ، وحين رأى الهدهد المعتدي النملة طلب منها أن تسامحه، فقالت له : لابأس طهور إن شاء الله ، كما قالت سامحك الله على مافعلت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وقد سامحتك أنا أيضا ، فشفاك الله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4932360" y="476280"/>
            <a:ext cx="3341520" cy="2303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" descr=""/>
          <p:cNvPicPr/>
          <p:nvPr/>
        </p:nvPicPr>
        <p:blipFill>
          <a:blip r:embed="rId2"/>
          <a:stretch/>
        </p:blipFill>
        <p:spPr>
          <a:xfrm>
            <a:off x="468360" y="2924280"/>
            <a:ext cx="2519280" cy="182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3"/>
          <a:stretch/>
        </p:blipFill>
        <p:spPr>
          <a:xfrm>
            <a:off x="2050920" y="4653000"/>
            <a:ext cx="25178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8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0" descr=""/>
          <p:cNvPicPr/>
          <p:nvPr/>
        </p:nvPicPr>
        <p:blipFill>
          <a:blip r:embed="rId1"/>
          <a:stretch/>
        </p:blipFill>
        <p:spPr>
          <a:xfrm>
            <a:off x="611280" y="4594320"/>
            <a:ext cx="2448000" cy="2147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"/>
          <p:cNvPicPr/>
          <p:nvPr/>
        </p:nvPicPr>
        <p:blipFill>
          <a:blip r:embed="rId2"/>
          <a:stretch/>
        </p:blipFill>
        <p:spPr>
          <a:xfrm>
            <a:off x="1979640" y="4008600"/>
            <a:ext cx="6437160" cy="1581120"/>
          </a:xfrm>
          <a:prstGeom prst="rect">
            <a:avLst/>
          </a:prstGeom>
          <a:ln w="0">
            <a:noFill/>
          </a:ln>
        </p:spPr>
      </p:pic>
      <p:sp>
        <p:nvSpPr>
          <p:cNvPr id="81" name="مربع نص 1"/>
          <p:cNvSpPr/>
          <p:nvPr/>
        </p:nvSpPr>
        <p:spPr>
          <a:xfrm>
            <a:off x="5076720" y="765000"/>
            <a:ext cx="316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ثم ذهبت النملة عائدة إلى منزلها وقدمت للهداهد حبات من القمح .. كعربون صداقة بينهما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3"/>
          <a:stretch/>
        </p:blipFill>
        <p:spPr>
          <a:xfrm>
            <a:off x="826920" y="333360"/>
            <a:ext cx="4105440" cy="2448000"/>
          </a:xfrm>
          <a:prstGeom prst="rect">
            <a:avLst/>
          </a:prstGeom>
          <a:ln w="0">
            <a:noFill/>
          </a:ln>
        </p:spPr>
      </p:pic>
      <p:sp>
        <p:nvSpPr>
          <p:cNvPr id="83" name="مستطيل مستدير الزوايا 4"/>
          <p:cNvSpPr/>
          <p:nvPr/>
        </p:nvSpPr>
        <p:spPr>
          <a:xfrm>
            <a:off x="2700360" y="2997360"/>
            <a:ext cx="41752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مربع نص 5" descr=""/>
          <p:cNvPicPr/>
          <p:nvPr/>
        </p:nvPicPr>
        <p:blipFill>
          <a:blip r:embed="rId4"/>
          <a:stretch/>
        </p:blipFill>
        <p:spPr>
          <a:xfrm>
            <a:off x="2633760" y="2859120"/>
            <a:ext cx="4303440" cy="12556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63520" cy="6597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6"/>
          <a:stretch/>
        </p:blipFill>
        <p:spPr>
          <a:xfrm>
            <a:off x="8459640" y="260280"/>
            <a:ext cx="26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8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1:58:41Z</dcterms:created>
  <dc:creator>راايق</dc:creator>
  <dc:description/>
  <dc:language>en-US</dc:language>
  <cp:lastModifiedBy>راايق</cp:lastModifiedBy>
  <dcterms:modified xsi:type="dcterms:W3CDTF">2011-03-22T06:32:52Z</dcterms:modified>
  <cp:revision>15</cp:revision>
  <dc:subject/>
  <dc:title>الشريحة 1</dc:title>
</cp:coreProperties>
</file>