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61C-4721-4CBE-B348-60126348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5C8-924C-4244-8DA1-D5F1660B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30CC-8B72-487C-BE4D-821902DB5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7BB-DA34-4772-A94B-4909FA67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41C-67CE-4A76-9427-C9E934AB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EBF-E665-4B28-B55F-73738224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E9A-634E-4088-B5D4-8E511487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750-24EB-454E-A13D-1F8DE96C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133-393F-428C-A06C-44B3A7AE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B35-DE59-4EC8-9CD1-449CFB1D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B90-BA3F-411F-B9FE-34A390A0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DC5-BFC9-408C-856B-E7C54104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CBD5-C515-40E4-A799-38E98E146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240" y="990360"/>
            <a:ext cx="3962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u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•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ing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Font typeface="Wingdings" charset="2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ed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761760" y="1905120"/>
            <a:ext cx="60948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60948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181480" y="1905120"/>
            <a:ext cx="60984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1480" y="1905120"/>
            <a:ext cx="609840" cy="6094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Bafayad</cp:lastModifiedBy>
  <dcterms:modified xsi:type="dcterms:W3CDTF">2004-05-01T15:44:15Z</dcterms:modified>
  <cp:revision>5</cp:revision>
  <dc:subject/>
  <dc:title>عرض تقديمي من PowerPoint</dc:title>
</cp:coreProperties>
</file>