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AE02-D031-4733-BF5E-E814BE7DF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0CC3-1A45-4A81-98A1-BC969FD8F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32B6-0A2F-448E-853F-C0A338963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4C1E-CF91-471F-8C1C-F5758D553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108B-88AE-43CB-AC3F-3138D34A2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709E-8A78-4626-ACA0-93FE26E1E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DBB9-B1DA-498A-BEC4-5D1A123F5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D42D-E5A8-473F-B9C6-6B9286D83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DBCB-A4D2-4945-9690-4BC6266B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040C-0DE0-4207-9F1D-2796A1F1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7E17-EADE-4D34-8C08-9141B621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592E-1427-4499-AD5E-CA9816C8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FEC7B-5AF0-40CA-94DA-B934365A670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52480" y="3524400"/>
            <a:ext cx="1838520" cy="1752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343400" y="3352680"/>
            <a:ext cx="2986200" cy="200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23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447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000000"/>
                </a:solidFill>
                <a:latin typeface="Times New Roman"/>
              </a:rPr>
              <a:t>الاخـتـصـارات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اختصارات بعض الكلم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590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اختصارات الاماك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4419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اختصارات الاعدا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77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770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828800" y="2533680"/>
            <a:ext cx="1838160" cy="1752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4419720" y="23623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24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اختصارات القياس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2133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اختصارات ايام الأسبوع واشهر السن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3657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اختصارات خاص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5105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اختصارات خاص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77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770" fill="hold"/>
                                        <p:tgtEl>
                                          <p:spTgt spid="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77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770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45720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. Common Symbo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267080" y="1980720"/>
            <a:ext cx="41911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Times New Roman"/>
              </a:rPr>
              <a:t>رموز عامة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prep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68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Makkah St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7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U.K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8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University R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9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5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10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e.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000000"/>
                </a:solidFill>
                <a:latin typeface="Times New Roman"/>
              </a:rPr>
              <a:t>الـتـمـاريـن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5T19:12:10Z</dcterms:created>
  <dc:creator>Bafayad</dc:creator>
  <dc:description/>
  <dc:language>en-US</dc:language>
  <cp:lastModifiedBy>معمل الانجليزي</cp:lastModifiedBy>
  <dcterms:modified xsi:type="dcterms:W3CDTF">2005-03-27T06:42:15Z</dcterms:modified>
  <cp:revision>8</cp:revision>
  <dc:subject/>
  <dc:title>عرض تقديمي من PowerPoint</dc:title>
</cp:coreProperties>
</file>