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A3D5-BABD-4EA8-82EE-9CC400C4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0B8A-2306-480C-9E2E-D1951A43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5A04-D4E6-48EE-AD98-22BF3814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C731-CD97-4D4B-A1C9-C93D79C4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69AE-D951-418B-8B34-124BDA7D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6BE-8724-44C2-8245-CF35810A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DC5B-61FA-4E42-A539-35496A61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2A35-8BD5-4ECD-85FC-7ED35241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5A4-C6D0-4B22-AA14-1D2E60CC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DF78-B703-4F0F-8E89-37630B27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4183-37EE-4E85-87E1-5322A8C1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EAA-F194-4C6F-BE6C-679C6B0B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84F4-4443-4E26-AD4F-0E013B3815A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sledges did Robert Scott ha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kind of sledges were the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 they eat well or bad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d the return successful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3810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rwegia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n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 ,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ted </a:t>
            </a:r>
            <a:r>
              <a:rPr b="0" lang="en-US" sz="66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343400" y="990360"/>
            <a:ext cx="4114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urne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t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e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ccesfuly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77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77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77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77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77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" dur="77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77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" dur="77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4-02T05:12:48Z</dcterms:modified>
  <cp:revision>8</cp:revision>
  <dc:subject/>
  <dc:title>عرض تقديمي من PowerPoint</dc:title>
</cp:coreProperties>
</file>