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9661-E56E-4F71-A7E3-9E4DE6AD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7C5-03F1-4E8C-A4AE-E0DAC7C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D22-24B1-4145-A79C-EFAFA3E4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E87-EBE8-46B2-9559-E403FC35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5EB-5CA2-420C-A325-04BA8623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5F2-D9CF-4CC7-BC0F-39025E78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8222-DDEC-4777-B168-0ADB62B8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10BD-5629-4900-B417-9ECBF467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778E-AE8E-4C8F-9EFE-6F79FE23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742-F757-456E-BA2F-E25B3984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F18-5117-429A-9EBD-1270E467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7507-CE2D-4383-BF92-34BC92F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B67C-2215-455C-BB3A-AB690D41F92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3629160"/>
            <a:ext cx="2666880" cy="254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786200" y="376236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VIDING 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mo- 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nth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in Islamic calendar. </a:t>
            </a:r>
            <a:br>
              <a:rPr sz="4000"/>
            </a:b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Ram-</a:t>
            </a:r>
            <a:br>
              <a:rPr sz="4000"/>
            </a:br>
            <a:r>
              <a:rPr b="0" lang="ar-SA" sz="4000" spc="-1" strike="noStrike">
                <a:solidFill>
                  <a:srgbClr val="ff3300"/>
                </a:solidFill>
                <a:latin typeface="Arial"/>
              </a:rPr>
              <a:t>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They are not allowed to eat or drink between dawn and sunset. Fasting strengthens a person by increasing his self-contr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madan is the ninth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mon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Islamic calenda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adult must fast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Ramadan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not allowed to eat or drink between dawn and sunset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sting strengthens a person by increasing his self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5520" y="457200"/>
            <a:ext cx="26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mad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 not divide wor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not necessa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is difficu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does not help you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ff33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333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ma-niti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armac-ology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teri-nar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81480" y="91404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-ces </a:t>
            </a:r>
            <a:r>
              <a:rPr b="0" lang="en-US" sz="4000" spc="-1" strike="noStrike">
                <a:solidFill>
                  <a:srgbClr val="ff3300"/>
                </a:solidFill>
                <a:latin typeface="Webdings"/>
                <a:ea typeface="Webdings"/>
              </a:rPr>
              <a:t>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-e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conom-ics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cie-ty </a:t>
            </a:r>
            <a:r>
              <a:rPr b="0" lang="en-US" sz="40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abi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ir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f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iversit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jects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mp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inah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8:11:20Z</dcterms:created>
  <dc:creator>Bafayad</dc:creator>
  <dc:description/>
  <dc:language>en-US</dc:language>
  <cp:lastModifiedBy>معمل الانجليزي</cp:lastModifiedBy>
  <dcterms:modified xsi:type="dcterms:W3CDTF">2005-03-19T08:37:29Z</dcterms:modified>
  <cp:revision>11</cp:revision>
  <dc:subject/>
  <dc:title>Ramadan is the ninth mo-  nth in Islamic calendar.  All adult must fast Ram- adan. They are not allowed to eat or drink between dawn and sunset. Fasting strengthens a person by increasing his self-control.</dc:title>
</cp:coreProperties>
</file>