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EDE-0E78-4A79-A7C9-75B48D2C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AE47-DC05-41EA-A5E5-FBB6B63C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AF4-E415-4EC2-8EA2-96B97238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A04-D2A4-4D3A-AEA4-A6B56B4BD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211A-DFE1-4DA4-9EC9-B0C21B12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28E2-9FA9-4BEF-9A90-6FCBF984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ECF-C22A-48FC-BD3D-9E1E91C8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44A-4942-413F-B06D-2E1805F6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B49B-79DE-4B90-81D1-CC7059D9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CA1-1A9D-4DF0-873A-78BEB6E9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7639-2610-4BB6-9C1C-23AEA7CD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335-0C71-471C-9F77-FF7E025A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06E6-DD8E-4597-B02E-4AFAE0CD9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kespeare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dg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24280" y="609480"/>
            <a:ext cx="3810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on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lo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t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io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51:13Z</dcterms:created>
  <dc:creator>Bafayad</dc:creator>
  <dc:description/>
  <dc:language>en-US</dc:language>
  <cp:lastModifiedBy>Bafayad</cp:lastModifiedBy>
  <dcterms:modified xsi:type="dcterms:W3CDTF">2004-02-14T14:51:22Z</dcterms:modified>
  <cp:revision>1</cp:revision>
  <dc:subject/>
  <dc:title>عرض تقديمي من PowerPoint</dc:title>
</cp:coreProperties>
</file>