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E7E-EA07-4982-A528-22FAFD21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A4F-624E-481F-B7D9-CF83F986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0FF-D3B8-4102-8258-A615CBB6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7230-8C47-4086-87F1-613BD50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C12-2F26-4B10-887E-6481C6B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D35E-18EF-4823-A5E1-625D10A0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D75A-71A1-4483-A168-444BACA7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D5F-52ED-437F-A807-76C13E2F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C05-0180-45A7-9E47-332A4991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E91-7EB1-4B48-AE9B-D63B3664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C34-CD40-4809-9758-428EC5A7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074-8434-4504-BFD0-8D9FCFBB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E0E6-C0AA-4F1F-83F9-87359EAC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G00343_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Calligraphy" descr=""/>
          <p:cNvPicPr/>
          <p:nvPr/>
        </p:nvPicPr>
        <p:blipFill>
          <a:blip r:embed="rId1"/>
          <a:stretch/>
        </p:blipFill>
        <p:spPr>
          <a:xfrm>
            <a:off x="2590920" y="4667400"/>
            <a:ext cx="3657600" cy="196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e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24280" y="3808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orativ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6858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mparing Roman Script with Gothic Scrip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man and Gothic a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well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n English script. Roman is mor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comm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han Gothic because It is easier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read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cause of this , Roman Script is more often  used in prin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n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eryday handwriting than Gothic .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man script is not as heavy as Gothic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less decorativ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 scripts are vertica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3T05:05:05Z</dcterms:modified>
  <cp:revision>8</cp:revision>
  <dc:subject/>
  <dc:title>عرض تقديمي من PowerPoint</dc:title>
</cp:coreProperties>
</file>