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430F-D3BC-447A-8DF3-239A04AB8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BAC-80BC-4F03-86BE-AA498EFC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EF1C-1FD1-4CDD-AEC6-AB0FA145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2813-CE7D-4282-B0DE-9A09DC7B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FC6-8DD3-484C-B209-32B43D8F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C8A-B561-4EB1-A2B9-056FF0A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9FD-1959-4832-9A20-330D5C5F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D0F1-B631-428F-8519-E2BFB23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B1A1-998C-4946-8108-A6E4007B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DE4-7604-4363-BB86-25C0B55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8BB-EC88-4A09-9873-6B2072D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5AB2-C6CC-4B7A-80E6-51A3F3BC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CE8B-D2E3-449E-809C-9ABFFD3C21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ضاعفة الحرف الساكن الأخ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1981080"/>
            <a:ext cx="2666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ضاعف الحرف الساكن الاخير اذ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كلمة بمقطع واحد وتنتهي بحرف علة + ساك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-4744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نتهت بعلة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1981080"/>
            <a:ext cx="243864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كننا لا نضاعف اذا كان هنا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حرفين علة او ساك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لم تنتهي بمقطع مش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 انتهت الكلمة ب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تغيير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ي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 هؤلاء 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غير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لي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اذا انتهت الكلمة بساكن +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غير اذا انتهت الكلمة بعلة +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حذ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في اخر الكلم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1981080"/>
            <a:ext cx="29718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حذ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كانت لا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أ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8640" indent="-45864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e + l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981080"/>
            <a:ext cx="2743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لكننا لا نحذفها اذ كانت تنط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 اضاف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1981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عند اضافة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الي الكلمة فأنن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1981080"/>
            <a:ext cx="54100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نضف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 اذا انتهت الكلمة ب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 – s – sh – x – 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واحيانا: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بعض الاستثناءات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to – pho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828800" y="2533680"/>
            <a:ext cx="18381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419720" y="2362320"/>
            <a:ext cx="298584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. 18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2120" y="304560"/>
            <a:ext cx="7772400" cy="19047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g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run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des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promi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for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f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7772400" cy="19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o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bab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h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boi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paus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 tomat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 consid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 citi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.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4572000"/>
            <a:ext cx="7772400" cy="190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pray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ti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enjoy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contro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 travell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 vis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 trie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 oper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 prefer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5T19:00:17Z</dcterms:created>
  <dc:creator>Bafayad</dc:creator>
  <dc:description/>
  <dc:language>en-US</dc:language>
  <cp:lastModifiedBy>معمل الانجليزي</cp:lastModifiedBy>
  <dcterms:modified xsi:type="dcterms:W3CDTF">2005-03-21T07:20:04Z</dcterms:modified>
  <cp:revision>11</cp:revision>
  <dc:subject/>
  <dc:title>عرض تقديمي من PowerPoint</dc:title>
</cp:coreProperties>
</file>