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DE7-170E-4990-BCCC-807E419D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4AE-CFD8-464A-88B4-2C09A982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F30-BD2D-49AC-B52E-7F65CF6B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5E1-B157-44BC-AE78-D912D0E3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4FD-698F-45BA-955D-0AE49476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FD5-1710-4971-83D0-9A60E71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183-98CB-4953-95B5-CC8D31AC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335-9D19-4294-935C-B26C62A7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750-D662-4D1E-8E2E-4B3D2CEB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193-CA0E-49A5-95C4-F1756EA3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9E8C-97CD-43FB-B7FF-3833DEE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FC8-559B-4875-B6C8-5972AE9C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E4F6-09CF-4A79-B4C7-956EB6F22CD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358128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34099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68580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Wo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6858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8195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4120" y="28195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8769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re Abbrev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487692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اختصارات اخر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1771560"/>
            <a:ext cx="1838160" cy="1752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419720" y="160020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3885840"/>
            <a:ext cx="6019920" cy="25146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chequ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lif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ty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t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trouse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l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program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ol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tel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T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N.B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e.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10t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O.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3-27T08:49:45Z</dcterms:modified>
  <cp:revision>7</cp:revision>
  <dc:subject/>
  <dc:title>عرض تقديمي من PowerPoint</dc:title>
</cp:coreProperties>
</file>