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2FF-0B38-4425-BB52-43DC18E0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32A-22CC-44B3-A718-6FDF8465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0F4-B253-4FB1-9238-6AD620A2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D976-7C8A-4864-8B21-1C554E44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4CAD-E074-4265-B134-1C9A9AB6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DCD-5C22-4F9F-9522-5E4D583E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CCC-3C68-41AB-B3A0-2590F933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33C-0F25-4BE1-A3FD-55E31B6E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AE13-5656-473E-9F92-1D9755E1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DBB3-237C-4C07-97AD-47ED7D55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7B9-2A1D-4319-BCAE-F7A1D82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FA79-FEB7-4209-8A34-CE7463C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A0D1-F23B-41D2-AAA9-CC66A2E867C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44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en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ziz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yad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921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9903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u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il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100"/>
              </a:spcBef>
              <a:buClr>
                <a:srgbClr val="3333cc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3:05Z</dcterms:created>
  <dc:creator>Bafayad</dc:creator>
  <dc:description/>
  <dc:language>en-US</dc:language>
  <cp:lastModifiedBy>معمل الانجليزي</cp:lastModifiedBy>
  <dcterms:modified xsi:type="dcterms:W3CDTF">2005-03-26T04:41:37Z</dcterms:modified>
  <cp:revision>3</cp:revision>
  <dc:subject/>
  <dc:title>عرض تقديمي من PowerPoint</dc:title>
</cp:coreProperties>
</file>