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CD7-A766-4333-9D0B-F173C28A4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BCD6-435F-4367-999F-8A7137E0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8CD-1DFD-47C8-B420-27A9F2F5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E2F-D0B6-4FFC-B23A-69B7E48D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0B04-B2B4-4EEE-B7BE-D590AA31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3AE-E87D-44A0-B01E-EFE3760C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3CD8C-5E08-47B2-9106-E75C2258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30DC-4846-453A-BBBF-94B4BCE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614C-B397-4CE6-BDB2-1E22AC22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DE7D-D6B1-4160-AE26-7DC9FC8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19F7-80F0-492B-A387-3050A821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9FE6-0F05-4F7F-9A2B-556D35122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7B23-D06B-478D-8A93-F9A140F8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A818-C40F-4BD4-BBCC-69D47B42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365E-5CF4-4DF7-ABA3-42341F55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7EE3-08F9-4721-85BF-322FE9DA3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66A6-B8CA-4F0D-AC85-F0B5799F1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18E-32F7-480A-B245-CF14212F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762E-3833-43EE-BAAF-ECC2A366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291-9441-48A1-849F-02BA374F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EE4C-5132-4713-9948-63C768F8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8F8-9AC0-42A0-A235-26128D47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C5C-87EC-4C3F-A84D-18542B95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74B1-203D-4F46-BB66-1FF39F41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85F9-24E5-4942-8F32-CBD8D9059FE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8695-8590-4C1F-B4D9-71380CC8CFC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211640" y="189000"/>
            <a:ext cx="792000" cy="307080"/>
          </a:xfrm>
          <a:prstGeom prst="rect">
            <a:avLst/>
          </a:prstGeom>
          <a:solidFill>
            <a:srgbClr val="cc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476280"/>
            <a:ext cx="2448000" cy="30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 SPELL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50920" y="836640"/>
            <a:ext cx="4249800" cy="307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ing the last conso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119700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hould I double the last consonant of wor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1628640"/>
            <a:ext cx="1441440" cy="441252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908000" y="1628640"/>
            <a:ext cx="3384720" cy="452376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he last consonan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has 1 syllable an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1 consona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t – sit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g – bigg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– stopp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a stressed syll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 – controll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- beginn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wel + 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vel - trave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5580000" y="1628640"/>
            <a:ext cx="3384720" cy="441252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double the last consonan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 are two vowels or two consonan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---wa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l --- coo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ing ---brin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last syllable is not stress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t – visit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- devel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w , x or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w -   sh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– box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w - draw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50920" y="189000"/>
            <a:ext cx="25905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ing y to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50920" y="549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chang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79280" y="981000"/>
            <a:ext cx="2232000" cy="21420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 thes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627280" y="981000"/>
            <a:ext cx="2376360" cy="214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+change the y to 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 word ends in a consonant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y – t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rry – carri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y  - dri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 – fl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292720" y="981000"/>
            <a:ext cx="3240000" cy="1928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change it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 in a vowel + 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y – play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y – bu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y – sa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24000" y="3429000"/>
            <a:ext cx="2232000" cy="30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ing off the final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468360" y="371628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 should I take the final e off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50920" y="4005360"/>
            <a:ext cx="2160360" cy="2253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700360" y="4076640"/>
            <a:ext cx="2663640" cy="22532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– writ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– u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ome exception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 ___d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e __ ly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580000" y="4076640"/>
            <a:ext cx="2879640" cy="1604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do not remove the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 is sil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__ se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 __ be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189000"/>
            <a:ext cx="158436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ing 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692280"/>
            <a:ext cx="2952720" cy="30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should I add e 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000" y="1125360"/>
            <a:ext cx="2232000" cy="48481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you ad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__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a wo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3276720" y="1197000"/>
            <a:ext cx="3240000" cy="4736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e 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ord ends in ch , s , sh , x  or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sometimes  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tch __ wat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x __ box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__ do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 __ g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tato __ pot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mato __ tomato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are several exceptions, for examp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oto __ pho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 __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deo __ video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4:19:37Z</dcterms:created>
  <dc:creator>عبدالله &amp; محمد</dc:creator>
  <dc:description/>
  <dc:language>en-US</dc:language>
  <cp:lastModifiedBy>- </cp:lastModifiedBy>
  <dcterms:modified xsi:type="dcterms:W3CDTF">2007-02-17T15:10:26Z</dcterms:modified>
  <cp:revision>12</cp:revision>
  <dc:subject/>
  <dc:title>الشريحة 1</dc:title>
</cp:coreProperties>
</file>