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450-7774-47B0-AF47-4BA56A15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6C6-5BB1-4BF4-857A-B02B084E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63F-CE4F-487F-B562-46E29A1F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6DA-7971-49A8-A35E-F9DD5CFE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E82-8177-4015-81CB-A0666B22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EC9-6772-42D1-971C-BE8378F0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D08-D0FA-4328-87CB-84754C2B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83B-8AFF-443A-A1B4-C71C026A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CF9-02CE-435E-8F37-8F8BBE9B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3CA-0926-4CA7-BCDB-76D38136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176-E58C-4968-8AA4-16AE313D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8E7-9826-46F2-AB5C-A41FA06D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3EAD-D0BF-4591-816E-1058239352D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029040"/>
            <a:ext cx="298620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انجليزية البريطانية و الانجليزية الأمريك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1- Different Sp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شتمل على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u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4120" y="60948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حروف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777240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er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257800"/>
            <a:ext cx="77724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 الكلمات التي تنتهي ب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بريطاني تتغير الي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بالأمريكي (لاحظ حرف العلة قبلها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3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449568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2- Different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1143000"/>
            <a:ext cx="32763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Times New Roman"/>
              </a:rPr>
              <a:t>كلمات مختل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3353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hum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di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travelli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kilome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labou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refuel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7. colour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. favour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9. centimet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. cen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4191120"/>
            <a:ext cx="7772400" cy="236196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rubbe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curt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fla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pe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 sho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 lor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26:55Z</dcterms:created>
  <dc:creator>Bafayad</dc:creator>
  <dc:description/>
  <dc:language>en-US</dc:language>
  <cp:lastModifiedBy>معمل الانجليزي</cp:lastModifiedBy>
  <dcterms:modified xsi:type="dcterms:W3CDTF">2005-04-04T04:47:35Z</dcterms:modified>
  <cp:revision>7</cp:revision>
  <dc:subject/>
  <dc:title>عرض تقديمي من PowerPoint</dc:title>
</cp:coreProperties>
</file>