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28BA-FCBE-4E97-A466-EAA06FCCF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520F-2C09-474D-A931-A733B037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FC99-B9B4-4066-8B2A-79F42BC0B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04FC-AEBF-45FE-8317-0439F61E3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F440-4C56-4AB1-825C-B30DA91C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3395-7B20-4DFD-AE5D-2B66E078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450B-64C0-4B0A-8B02-4BA999F0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7357-6155-4BA8-BFDA-659EC655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D2AF-212A-4D35-AA8A-135787B6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1202-62B1-445A-B066-874940FC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0700-493B-4553-82B0-898757A6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D55D-B850-41F6-BE5D-588FC1A3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ADF6-86F5-4043-9BE4-75B963B5B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3333cc"/>
                </a:solidFill>
                <a:latin typeface="Times New Roman"/>
              </a:rPr>
              <a:t>Writing Book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C:\CLIPART\HOMEANIM\AG00343_.GIF"/>
          <p:cNvPicPr/>
          <p:nvPr/>
        </p:nvPicPr>
        <p:blipFill>
          <a:blip r:embed="rId1"/>
          <a:stretch/>
        </p:blipFill>
        <p:spPr>
          <a:xfrm>
            <a:off x="1709640" y="3886200"/>
            <a:ext cx="2100240" cy="2590920"/>
          </a:xfrm>
          <a:prstGeom prst="rect">
            <a:avLst/>
          </a:prstGeom>
          <a:ln w="0">
            <a:noFill/>
          </a:ln>
        </p:spPr>
      </p:pic>
      <p:sp>
        <p:nvSpPr>
          <p:cNvPr id="43" name="WordArt 4"/>
          <p:cNvSpPr txBox="1"/>
          <p:nvPr/>
        </p:nvSpPr>
        <p:spPr>
          <a:xfrm>
            <a:off x="4648320" y="4191120"/>
            <a:ext cx="29098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1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… …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o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... …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but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… …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… 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WordArt 4"/>
          <p:cNvSpPr txBox="1"/>
          <p:nvPr/>
        </p:nvSpPr>
        <p:spPr>
          <a:xfrm>
            <a:off x="6172200" y="609480"/>
            <a:ext cx="1981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4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04920" y="533520"/>
            <a:ext cx="441936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بداية الجم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سماء الأشخاص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لقاب الأشخا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سماء اللغ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سماء الأماك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عناو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سماء الشهو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أسماء الأيا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'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' 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ضمير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عنوان 1"/>
          <p:cNvSpPr/>
          <p:nvPr/>
        </p:nvSpPr>
        <p:spPr>
          <a:xfrm>
            <a:off x="4572000" y="228600"/>
            <a:ext cx="4191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الحروف الكبير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عنوان 1"/>
          <p:cNvSpPr/>
          <p:nvPr/>
        </p:nvSpPr>
        <p:spPr>
          <a:xfrm>
            <a:off x="5181480" y="1752480"/>
            <a:ext cx="35816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ستخدم الحروف الكبيرة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</a:t>
            </a:r>
            <a:r>
              <a:rPr b="1" i="1" lang="ar-SA" sz="32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الحالات التا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837720" y="3200040"/>
            <a:ext cx="44197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في نهاية كل جمل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بعد الاختصار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371600" y="53352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Full  Stop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</a:rPr>
              <a:t>النقاط</a:t>
            </a:r>
            <a:r>
              <a:rPr b="0" lang="ar-SA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438280" y="205740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ستخدم النقاط في الحالات التا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837720" y="3200040"/>
            <a:ext cx="44197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 algn="r" rtl="1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مع المفرد نضع ، ثم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 algn="r" rtl="1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مع الجمع نضع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</a:rPr>
              <a:t>ثم 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 algn="r" rtl="1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000000"/>
                </a:solidFill>
                <a:latin typeface="Times New Roman"/>
              </a:rPr>
              <a:t>مع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t is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ar-SA" sz="3600" spc="-1" strike="noStrike">
                <a:solidFill>
                  <a:srgbClr val="000000"/>
                </a:solidFill>
                <a:latin typeface="Times New Roman"/>
              </a:rPr>
              <a:t>و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t h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1371600" y="533520"/>
            <a:ext cx="6858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postrophes  </a:t>
            </a:r>
            <a:r>
              <a:rPr b="0" lang="ar-SA" sz="5400" spc="-1" strike="noStrike">
                <a:solidFill>
                  <a:srgbClr val="000000"/>
                </a:solidFill>
                <a:latin typeface="Times New Roman"/>
              </a:rPr>
              <a:t>الفواصل العليا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2438280" y="205740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ستخدم الفواصل العليا في الحالات التا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ين الأشياء في القوائ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عد الكلمات الافتتاح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عد العبارات الطوي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 rtl="1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عد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في نهاية الجم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عد الأسئلة الذيل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بعد خانة الأل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في مواضع خاصة من الرسا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1371600" y="38088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Commas  </a:t>
            </a:r>
            <a:r>
              <a:rPr b="1" i="1" lang="ar-SA" sz="4800" spc="-1" strike="noStrike">
                <a:solidFill>
                  <a:srgbClr val="000000"/>
                </a:solidFill>
                <a:latin typeface="Times New Roman"/>
              </a:rPr>
              <a:t>الفواص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438280" y="15238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نستخدم </a:t>
            </a:r>
            <a:r>
              <a:rPr b="1" i="1" lang="ar-SA" sz="3600" spc="-1" strike="noStrike">
                <a:solidFill>
                  <a:srgbClr val="000000"/>
                </a:solidFill>
                <a:latin typeface="Times New Roman"/>
              </a:rPr>
              <a:t>الفواصل </a:t>
            </a:r>
            <a:r>
              <a:rPr b="1" i="1" lang="ar-SA" sz="36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في الحالات التا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371600" y="533520"/>
            <a:ext cx="6400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7430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000000"/>
                </a:solidFill>
                <a:latin typeface="Times New Roman"/>
                <a:cs typeface="Arabic Transparent"/>
              </a:rPr>
              <a:t>لا تنسى الفراغ في بداية كل قطعة بمقدار </a:t>
            </a:r>
            <a:r>
              <a:rPr b="1" i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5</a:t>
            </a:r>
            <a:r>
              <a:rPr b="1" i="1" lang="ar-SA" sz="4800" spc="-1" strike="noStrike">
                <a:solidFill>
                  <a:srgbClr val="000000"/>
                </a:solidFill>
                <a:latin typeface="Times New Roman"/>
                <a:ea typeface="Arabic Transparent"/>
              </a:rPr>
              <a:t> أحر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ter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got out of my father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 car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 saw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-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 on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aled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eet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bruary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met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ctor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-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sser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 was at his brother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 hospital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 said she wanted to learn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rman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opp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e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opp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1001"/>
              </a:spcBef>
              <a:buClr>
                <a:srgbClr val="33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e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457200" y="388620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kniv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box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tomato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star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appl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par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مع الجمل المتشابه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مع الجمل المتناقض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مع جمل بها اختيا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548280" indent="-548280">
              <a:spcBef>
                <a:spcPts val="1199"/>
              </a:spcBef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عند الربط نحذف الكلمات المتكرر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WordArt 4"/>
          <p:cNvSpPr txBox="1"/>
          <p:nvPr/>
        </p:nvSpPr>
        <p:spPr>
          <a:xfrm>
            <a:off x="1981080" y="609480"/>
            <a:ext cx="6172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الروابط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4T14:22:52Z</dcterms:created>
  <dc:creator>Bafayad</dc:creator>
  <dc:description/>
  <dc:language>en-US</dc:language>
  <cp:lastModifiedBy>- </cp:lastModifiedBy>
  <dcterms:modified xsi:type="dcterms:W3CDTF">2007-02-24T21:08:30Z</dcterms:modified>
  <cp:revision>15</cp:revision>
  <dc:subject/>
  <dc:title>Writing Book</dc:title>
</cp:coreProperties>
</file>