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407-D548-441E-A783-D320AEA2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0920" y="2124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33720" y="334908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491-A17B-4755-BED6-067C44E9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0920" y="2124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48040" y="76212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33720" y="334908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48040" y="334908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09D8-8289-42A3-9280-CB6CF948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0920" y="2124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2480" y="76212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0880" y="76212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33720" y="334908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52480" y="334908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0880" y="334908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445-0EB7-483F-8546-58D6DDD5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3267-0350-497C-A235-DE0DA8BA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2124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FE85-38A8-4200-85C2-9011C625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0920" y="2124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AAC1-05C3-46E8-8326-C13B73E3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0920" y="2124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648040" y="76212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B9D0-7757-4253-A95B-23866F35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0920" y="2124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30C3-E570-400A-893E-6A8427E3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90920" y="759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6E1C-3CA2-4D57-9E5B-D7E8A21D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0920" y="2124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48040" y="76212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133720" y="334908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CDE2-E346-4151-BFFD-9EAF89DA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0920" y="2124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4A7-9874-4443-B9EA-7A50FE46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90920" y="2124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48040" y="76212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48040" y="334908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5A01-A650-442B-8457-F6E0DDF7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90920" y="2124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48040" y="76212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33720" y="334908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C36A-5E6B-4201-9B8C-9E5500E6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0920" y="2124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133720" y="334908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BEC4-62DF-4DC8-A5C8-F8F8E0F9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90920" y="2124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48040" y="76212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720" y="334908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648040" y="334908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309F-06B2-4411-9F7E-8D9125B5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90920" y="2124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52480" y="76212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70880" y="76212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133720" y="334908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452480" y="334908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70880" y="334908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8CB1-A302-42F2-A1A2-7F0A464F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0920" y="2124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E7B-98EA-4B4C-AFA5-D869566C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0920" y="2124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48040" y="76212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248-522E-4A58-A2EF-59E644D1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2124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6CD-9903-4FE1-8973-B1C7BFE1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90920" y="759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776-C663-4D19-81BA-C5AFE50B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0920" y="2124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48040" y="76212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33720" y="334908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46F1-13F3-4C46-AEB5-30B6AE0D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0920" y="2124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8040" y="76212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48040" y="334908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26E-9C74-404D-B259-8FD14641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0920" y="2124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8040" y="76212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334908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39F-64E5-450E-87DF-E004C766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920" y="75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568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62616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08D5-4E3F-4B00-A689-C2FAACC6C260}" type="slidenum">
              <a:rPr b="1" lang="en-S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he_big_question"/>
          <p:cNvPicPr/>
          <p:nvPr/>
        </p:nvPicPr>
        <p:blipFill>
          <a:blip r:embed="rId3"/>
          <a:stretch/>
        </p:blipFill>
        <p:spPr>
          <a:xfrm>
            <a:off x="-228600" y="2840040"/>
            <a:ext cx="2781360" cy="371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0920" y="75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568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76320" y="662940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934320" y="6629400"/>
            <a:ext cx="21333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F12A-1A72-496F-961E-2560ADE00C99}" type="slidenum">
              <a:rPr b="1" lang="en-S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520" y="1676520"/>
            <a:ext cx="5410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Snap ITC"/>
              </a:rPr>
              <a:t>Grammar</a:t>
            </a:r>
            <a:endParaRPr b="0" lang="en-US" sz="8000" spc="-1" strike="noStrike">
              <a:solidFill>
                <a:srgbClr val="09568f"/>
              </a:solidFill>
              <a:latin typeface="Impact"/>
            </a:endParaRPr>
          </a:p>
        </p:txBody>
      </p:sp>
      <p:pic>
        <p:nvPicPr>
          <p:cNvPr id="84" name="Picture 4" descr="question_pop_up_from_box_hg_clr"/>
          <p:cNvPicPr/>
          <p:nvPr/>
        </p:nvPicPr>
        <p:blipFill>
          <a:blip r:embed="rId1"/>
          <a:stretch/>
        </p:blipFill>
        <p:spPr>
          <a:xfrm>
            <a:off x="6477120" y="3124080"/>
            <a:ext cx="2428920" cy="3333960"/>
          </a:xfrm>
          <a:prstGeom prst="rect">
            <a:avLst/>
          </a:prstGeom>
          <a:ln w="0">
            <a:noFill/>
          </a:ln>
        </p:spPr>
      </p:pic>
      <p:pic>
        <p:nvPicPr>
          <p:cNvPr id="85" name="ROMANCE ANONIMO - JUEGOS PROHIBIDOS (POPULAR)!!S.MP3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515880" cy="5335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6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8242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5105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Earwig Factory"/>
              </a:rPr>
              <a:t>Thank you!!!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question_pop_up_from_box_rotate_hg_clr"/>
          <p:cNvPicPr/>
          <p:nvPr/>
        </p:nvPicPr>
        <p:blipFill>
          <a:blip r:embed="rId2"/>
          <a:stretch/>
        </p:blipFill>
        <p:spPr>
          <a:xfrm>
            <a:off x="6172200" y="3276720"/>
            <a:ext cx="2724120" cy="33336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43200" y="2286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Snap ITC"/>
              </a:rPr>
              <a:t>Content</a:t>
            </a:r>
            <a:endParaRPr b="0" lang="en-US" sz="36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 continuous tense and the form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e going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present continuous as a future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bination o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ill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present continuous te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e going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orm used for int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 of the use of be going to 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ill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 express int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e going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orm used for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mmar practi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Snap ITC"/>
              </a:rPr>
              <a:t>The present continuous tense and the form </a:t>
            </a:r>
            <a:r>
              <a:rPr b="0" i="1" lang="en-US" sz="3200" spc="-1" strike="noStrike">
                <a:solidFill>
                  <a:srgbClr val="a50021"/>
                </a:solidFill>
                <a:latin typeface="Snap ITC"/>
              </a:rPr>
              <a:t>be going to.</a:t>
            </a:r>
            <a:endParaRPr b="0" lang="en-US" sz="32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Several ways of expressing the future for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The simple pres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Will + infinitive, used for inten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The present continuou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Kristen ITC"/>
              </a:rPr>
              <a:t>be going to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 for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The future simpl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In this unit, we focus on the present continuous tense and the form </a:t>
            </a:r>
            <a:r>
              <a:rPr b="1" i="1" lang="en-US" sz="2400" spc="-1" strike="noStrike">
                <a:solidFill>
                  <a:srgbClr val="ff0000"/>
                </a:solidFill>
                <a:latin typeface="Kristen ITC"/>
              </a:rPr>
              <a:t>be going to</a:t>
            </a: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 as a future form in order to see the difference between th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>
            <a:hlinkClick r:id="" action="ppaction://hlinkshowjump?jump=nextslide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9686" y="10800"/>
                </a:moveTo>
                <a:lnTo>
                  <a:pt x="9181" y="17806"/>
                </a:lnTo>
                <a:lnTo>
                  <a:pt x="9181" y="3794"/>
                </a:lnTo>
                <a:close/>
              </a:path>
              <a:path fill="darken" w="32375" h="21600">
                <a:moveTo>
                  <a:pt x="21531" y="3794"/>
                </a:moveTo>
                <a:lnTo>
                  <a:pt x="21531" y="17806"/>
                </a:lnTo>
                <a:lnTo>
                  <a:pt x="23194" y="17806"/>
                </a:lnTo>
                <a:lnTo>
                  <a:pt x="2319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>
            <a:hlinkClick r:id="rId1" action="ppaction://hlinksldjump"/>
          </p:cNvPr>
          <p:cNvSpPr/>
          <p:nvPr/>
        </p:nvSpPr>
        <p:spPr>
          <a:xfrm>
            <a:off x="82296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>
            <a:hlinkClick r:id="" action="ppaction://hlinkshowjump?jump=previousslide"/>
          </p:cNvPr>
          <p:cNvSpPr/>
          <p:nvPr/>
        </p:nvSpPr>
        <p:spPr>
          <a:xfrm>
            <a:off x="77724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75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nap ITC"/>
              </a:rPr>
              <a:t>The  present continuous as a future form</a:t>
            </a:r>
            <a:endParaRPr b="0" lang="en-US" sz="28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33720" y="990720"/>
            <a:ext cx="6705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The present continuous can express a definite arrangement in the near fu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Example: </a:t>
            </a:r>
            <a:r>
              <a:rPr b="0" i="1" lang="en-US" sz="2000" spc="-1" strike="noStrike">
                <a:solidFill>
                  <a:srgbClr val="ff3300"/>
                </a:solidFill>
                <a:latin typeface="Tempus Sans ITC"/>
              </a:rPr>
              <a:t>I’m taking an exam in October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implies that I have entered for 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Note that the time must be mentioned, otherwise there may be confusion between present and fu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With verbs of movement such as </a:t>
            </a:r>
            <a:r>
              <a:rPr b="0" i="1" lang="en-US" sz="2000" spc="-1" strike="noStrike">
                <a:solidFill>
                  <a:srgbClr val="ff3300"/>
                </a:solidFill>
                <a:latin typeface="Tempus Sans ITC"/>
              </a:rPr>
              <a:t>arrive, come, fly, go, leave…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, verbs indicating position such as </a:t>
            </a:r>
            <a:r>
              <a:rPr b="0" i="1" lang="en-US" sz="2000" spc="-1" strike="noStrike">
                <a:solidFill>
                  <a:srgbClr val="ff3300"/>
                </a:solidFill>
                <a:latin typeface="Tempus Sans ITC"/>
              </a:rPr>
              <a:t>stay remain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, and the verbs </a:t>
            </a:r>
            <a:r>
              <a:rPr b="0" i="1" lang="en-US" sz="2000" spc="-1" strike="noStrike">
                <a:solidFill>
                  <a:srgbClr val="ff3300"/>
                </a:solidFill>
                <a:latin typeface="Tempus Sans ITC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Tempus Sans ITC"/>
              </a:rPr>
              <a:t>have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(food or drink), the present continuous can be used more wide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Example: </a:t>
            </a:r>
            <a:r>
              <a:rPr b="0" i="1" lang="en-US" sz="2000" spc="-1" strike="noStrike">
                <a:solidFill>
                  <a:srgbClr val="ff3300"/>
                </a:solidFill>
                <a:latin typeface="Tempus Sans ITC"/>
              </a:rPr>
              <a:t>I’m going home tonigh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It can express a decision or plan without a definite arrang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>
            <a:hlinkClick r:id="" action="ppaction://hlinkshowjump?jump=nextslide"/>
          </p:cNvPr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8623" y="10800"/>
                </a:moveTo>
                <a:lnTo>
                  <a:pt x="8118" y="17806"/>
                </a:lnTo>
                <a:lnTo>
                  <a:pt x="8118" y="3794"/>
                </a:lnTo>
                <a:close/>
              </a:path>
              <a:path fill="darken" w="30248" h="21600">
                <a:moveTo>
                  <a:pt x="20468" y="3794"/>
                </a:moveTo>
                <a:lnTo>
                  <a:pt x="20468" y="17806"/>
                </a:lnTo>
                <a:lnTo>
                  <a:pt x="22131" y="17806"/>
                </a:lnTo>
                <a:lnTo>
                  <a:pt x="2213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">
            <a:hlinkClick r:id="" action="ppaction://hlinkshowjump?jump=previousslide"/>
          </p:cNvPr>
          <p:cNvSpPr/>
          <p:nvPr/>
        </p:nvSpPr>
        <p:spPr>
          <a:xfrm>
            <a:off x="75438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1625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9780" y="3794"/>
                </a:lnTo>
                <a:lnTo>
                  <a:pt x="9780" y="17806"/>
                </a:lnTo>
                <a:lnTo>
                  <a:pt x="811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>
            <a:hlinkClick r:id="rId1" action="ppaction://hlinksldjump"/>
          </p:cNvPr>
          <p:cNvSpPr/>
          <p:nvPr/>
        </p:nvSpPr>
        <p:spPr>
          <a:xfrm>
            <a:off x="80773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609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Snap ITC"/>
              </a:rPr>
              <a:t>The combination of will + infinitive and the present continuous tense</a:t>
            </a:r>
            <a:endParaRPr b="0" lang="en-US" sz="32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Look at the example below to see how they are combin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ANN: </a:t>
            </a:r>
            <a:r>
              <a:rPr b="0" i="1" lang="en-US" sz="2400" spc="-1" strike="noStrike">
                <a:solidFill>
                  <a:srgbClr val="ff3300"/>
                </a:solidFill>
                <a:latin typeface="High Tower Text"/>
              </a:rPr>
              <a:t>I’ll have to pay $100 rent at the end of this month and I don’t know where to find the mone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TOM: </a:t>
            </a:r>
            <a:r>
              <a:rPr b="0" i="1" lang="en-US" sz="2400" spc="-1" strike="noStrike">
                <a:solidFill>
                  <a:srgbClr val="ff3300"/>
                </a:solidFill>
                <a:latin typeface="High Tower Text"/>
              </a:rPr>
              <a:t>Don’t worry. I’ll lend you $1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igh Tower Text"/>
              </a:rPr>
              <a:t>Later, but before Tom has actually lent the money, Ann will say: </a:t>
            </a:r>
            <a:r>
              <a:rPr b="0" i="1" lang="en-US" sz="2400" spc="-1" strike="noStrike">
                <a:solidFill>
                  <a:srgbClr val="ff3300"/>
                </a:solidFill>
                <a:latin typeface="High Tower Text"/>
              </a:rPr>
              <a:t>Tom is lending me $1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>
            <a:hlinkClick r:id="" action="ppaction://hlinkshowjump?jump=nextslide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20775" y="10800"/>
                </a:moveTo>
                <a:lnTo>
                  <a:pt x="10269" y="17806"/>
                </a:lnTo>
                <a:lnTo>
                  <a:pt x="10269" y="3794"/>
                </a:lnTo>
                <a:close/>
              </a:path>
              <a:path fill="darken" w="34552" h="21600">
                <a:moveTo>
                  <a:pt x="22620" y="3794"/>
                </a:moveTo>
                <a:lnTo>
                  <a:pt x="22620" y="17806"/>
                </a:lnTo>
                <a:lnTo>
                  <a:pt x="24282" y="17806"/>
                </a:lnTo>
                <a:lnTo>
                  <a:pt x="24282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rId1" action="ppaction://hlinksldjump"/>
          </p:cNvPr>
          <p:cNvSpPr/>
          <p:nvPr/>
        </p:nvSpPr>
        <p:spPr>
          <a:xfrm>
            <a:off x="80010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" action="ppaction://hlinkshowjump?jump=previousslide"/>
          </p:cNvPr>
          <p:cNvSpPr/>
          <p:nvPr/>
        </p:nvSpPr>
        <p:spPr>
          <a:xfrm>
            <a:off x="7391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3777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11932" y="3794"/>
                </a:lnTo>
                <a:lnTo>
                  <a:pt x="11932" y="17806"/>
                </a:lnTo>
                <a:lnTo>
                  <a:pt x="102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0920" y="75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Snap ITC"/>
              </a:rPr>
              <a:t>The </a:t>
            </a:r>
            <a:r>
              <a:rPr b="1" i="1" lang="en-US" sz="2800" spc="-1" strike="noStrike">
                <a:solidFill>
                  <a:srgbClr val="a50021"/>
                </a:solidFill>
                <a:latin typeface="Snap ITC"/>
              </a:rPr>
              <a:t>Be going to</a:t>
            </a:r>
            <a:r>
              <a:rPr b="0" lang="en-US" sz="2800" spc="-1" strike="noStrike">
                <a:solidFill>
                  <a:srgbClr val="a50021"/>
                </a:solidFill>
                <a:latin typeface="Snap ITC"/>
              </a:rPr>
              <a:t>  form used for intention</a:t>
            </a:r>
            <a:endParaRPr b="0" lang="en-US" sz="28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Century"/>
              </a:rPr>
              <a:t>Be going to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 can be used for the near future with a time expression as an alternative to the present continuous, but it doesn’t imply an arrang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Example: </a:t>
            </a:r>
            <a:r>
              <a:rPr b="0" i="1" lang="en-US" sz="2000" spc="-1" strike="noStrike">
                <a:solidFill>
                  <a:srgbClr val="ff3300"/>
                </a:solidFill>
                <a:latin typeface="Century"/>
              </a:rPr>
              <a:t>I’m going to meet Tom 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(Tom may get a surpri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Be going to can be used with time clause when we want to emphasize the subject’s inten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Example: </a:t>
            </a:r>
            <a:r>
              <a:rPr b="0" i="1" lang="en-US" sz="2000" spc="-1" strike="noStrike">
                <a:solidFill>
                  <a:srgbClr val="ff3300"/>
                </a:solidFill>
                <a:latin typeface="Century"/>
              </a:rPr>
              <a:t>What are you going to do when you get your degre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Be going to can be used without a time express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Example: </a:t>
            </a:r>
            <a:r>
              <a:rPr b="0" i="1" lang="en-US" sz="2000" spc="-1" strike="noStrike">
                <a:solidFill>
                  <a:srgbClr val="ff3300"/>
                </a:solidFill>
                <a:latin typeface="Century"/>
              </a:rPr>
              <a:t>I’m going to buy you a new boo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Note that it is not very usual to put the verbs </a:t>
            </a:r>
            <a:r>
              <a:rPr b="0" i="1" lang="en-US" sz="2000" spc="-1" strike="noStrike">
                <a:solidFill>
                  <a:srgbClr val="ff3300"/>
                </a:solidFill>
                <a:latin typeface="Century"/>
              </a:rPr>
              <a:t>go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Century"/>
              </a:rPr>
              <a:t>come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 into the </a:t>
            </a:r>
            <a:r>
              <a:rPr b="0" i="1" lang="en-US" sz="2000" spc="-1" strike="noStrike">
                <a:solidFill>
                  <a:srgbClr val="ff3300"/>
                </a:solidFill>
                <a:latin typeface="Century"/>
              </a:rPr>
              <a:t>be going to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 for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>
            <a:hlinkClick r:id="" action="ppaction://hlinkshowjump?jump=nextslide"/>
          </p:cNvPr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8623" y="10800"/>
                </a:moveTo>
                <a:lnTo>
                  <a:pt x="8118" y="17806"/>
                </a:lnTo>
                <a:lnTo>
                  <a:pt x="8118" y="3794"/>
                </a:lnTo>
                <a:close/>
              </a:path>
              <a:path fill="darken" w="30248" h="21600">
                <a:moveTo>
                  <a:pt x="20468" y="3794"/>
                </a:moveTo>
                <a:lnTo>
                  <a:pt x="20468" y="17806"/>
                </a:lnTo>
                <a:lnTo>
                  <a:pt x="22131" y="17806"/>
                </a:lnTo>
                <a:lnTo>
                  <a:pt x="2213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>
            <a:hlinkClick r:id="rId1" action="ppaction://hlinksldjump"/>
          </p:cNvPr>
          <p:cNvSpPr/>
          <p:nvPr/>
        </p:nvSpPr>
        <p:spPr>
          <a:xfrm>
            <a:off x="80773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previousslide"/>
          </p:cNvPr>
          <p:cNvSpPr/>
          <p:nvPr/>
        </p:nvSpPr>
        <p:spPr>
          <a:xfrm>
            <a:off x="75438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1625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9780" y="3794"/>
                </a:lnTo>
                <a:lnTo>
                  <a:pt x="9780" y="17806"/>
                </a:lnTo>
                <a:lnTo>
                  <a:pt x="811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Snap ITC"/>
              </a:rPr>
              <a:t>Comparison of the use of </a:t>
            </a:r>
            <a:r>
              <a:rPr b="1" i="1" lang="en-US" sz="2800" spc="-1" strike="noStrike">
                <a:solidFill>
                  <a:srgbClr val="a50021"/>
                </a:solidFill>
                <a:latin typeface="Snap ITC"/>
              </a:rPr>
              <a:t>be going to</a:t>
            </a:r>
            <a:r>
              <a:rPr b="0" lang="en-US" sz="2800" spc="-1" strike="noStrike">
                <a:solidFill>
                  <a:srgbClr val="a50021"/>
                </a:solidFill>
                <a:latin typeface="Snap ITC"/>
              </a:rPr>
              <a:t>  and </a:t>
            </a:r>
            <a:r>
              <a:rPr b="1" i="1" lang="en-US" sz="2800" spc="-1" strike="noStrike">
                <a:solidFill>
                  <a:srgbClr val="a50021"/>
                </a:solidFill>
                <a:latin typeface="Snap ITC"/>
              </a:rPr>
              <a:t>will + infinitive </a:t>
            </a:r>
            <a:r>
              <a:rPr b="0" lang="en-US" sz="2800" spc="-1" strike="noStrike">
                <a:solidFill>
                  <a:srgbClr val="a50021"/>
                </a:solidFill>
                <a:latin typeface="Snap ITC"/>
              </a:rPr>
              <a:t> to express intention</a:t>
            </a:r>
            <a:endParaRPr b="0" lang="en-US" sz="28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7400" y="12193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The </a:t>
            </a:r>
            <a:r>
              <a:rPr b="0" i="1" lang="en-US" sz="2400" spc="-1" strike="noStrike">
                <a:solidFill>
                  <a:srgbClr val="ff3300"/>
                </a:solidFill>
                <a:latin typeface="Bodoni MT"/>
              </a:rPr>
              <a:t>be going to</a:t>
            </a: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 form always implies a premeditated intention, and often an intention + 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Bodoni MT"/>
              </a:rPr>
              <a:t>Will + infinitive</a:t>
            </a: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 implies intention alone, and this intention is usually unpremedit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Exampl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i="1" lang="en-US" sz="2400" spc="-1" strike="noStrike">
                <a:solidFill>
                  <a:srgbClr val="ff3300"/>
                </a:solidFill>
                <a:latin typeface="Bodoni MT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Bodoni MT"/>
              </a:rPr>
              <a:t>I have bought some bricks and I’m going to build a gar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Bodoni MT"/>
              </a:rPr>
              <a:t>There is somebody at the hall door. I’ll go and open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Will + infinitive used to express intention at the moment of decis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" action="ppaction://hlinkshowjump?jump=nextslide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6461" y="10800"/>
                </a:moveTo>
                <a:lnTo>
                  <a:pt x="5956" y="17806"/>
                </a:lnTo>
                <a:lnTo>
                  <a:pt x="5956" y="3794"/>
                </a:lnTo>
                <a:close/>
              </a:path>
              <a:path fill="darken" w="25924" h="21600">
                <a:moveTo>
                  <a:pt x="18306" y="3794"/>
                </a:moveTo>
                <a:lnTo>
                  <a:pt x="18306" y="17806"/>
                </a:lnTo>
                <a:lnTo>
                  <a:pt x="19969" y="17806"/>
                </a:lnTo>
                <a:lnTo>
                  <a:pt x="1996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81532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>
            <a:hlinkClick r:id="" action="ppaction://hlinkshowjump?jump=previousslide"/>
          </p:cNvPr>
          <p:cNvSpPr/>
          <p:nvPr/>
        </p:nvSpPr>
        <p:spPr>
          <a:xfrm>
            <a:off x="76960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1625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9780" y="3794"/>
                </a:lnTo>
                <a:lnTo>
                  <a:pt x="9780" y="17806"/>
                </a:lnTo>
                <a:lnTo>
                  <a:pt x="811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0920" y="75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Snap ITC"/>
              </a:rPr>
              <a:t>The</a:t>
            </a:r>
            <a:r>
              <a:rPr b="1" i="1" lang="en-US" sz="2800" spc="-1" strike="noStrike">
                <a:solidFill>
                  <a:srgbClr val="a50021"/>
                </a:solidFill>
                <a:latin typeface="Snap ITC"/>
              </a:rPr>
              <a:t> be going to  </a:t>
            </a:r>
            <a:r>
              <a:rPr b="0" lang="en-US" sz="2800" spc="-1" strike="noStrike">
                <a:solidFill>
                  <a:srgbClr val="a50021"/>
                </a:solidFill>
                <a:latin typeface="Snap ITC"/>
              </a:rPr>
              <a:t>form used for prediction</a:t>
            </a:r>
            <a:endParaRPr b="0" lang="en-US" sz="28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0" y="10663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The </a:t>
            </a:r>
            <a:r>
              <a:rPr b="0" i="1" lang="en-US" sz="2000" spc="-1" strike="noStrike">
                <a:solidFill>
                  <a:srgbClr val="ff3300"/>
                </a:solidFill>
                <a:latin typeface="Harrington"/>
              </a:rPr>
              <a:t>be going to</a:t>
            </a: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 form can express the speaker’s feeling of certainty. The time is usually not mentioned, but the action is expected to happen in the near or immediate futu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Example:</a:t>
            </a:r>
            <a:r>
              <a:rPr b="0" i="1" lang="en-US" sz="2000" spc="-1" strike="noStrike">
                <a:solidFill>
                  <a:srgbClr val="ff3300"/>
                </a:solidFill>
                <a:latin typeface="Harrington"/>
              </a:rPr>
              <a:t> Look at those clouds! It’s going to rai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Harrington"/>
              </a:rPr>
              <a:t>Will</a:t>
            </a: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 is a common way of expressing what the speaker thinks, believes, hopes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Example: </a:t>
            </a:r>
            <a:r>
              <a:rPr b="0" i="1" lang="en-US" sz="2000" spc="-1" strike="noStrike">
                <a:solidFill>
                  <a:srgbClr val="ff3300"/>
                </a:solidFill>
                <a:latin typeface="Harrington"/>
              </a:rPr>
              <a:t>It will probably be col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Harrington"/>
              </a:rPr>
              <a:t>Be going to</a:t>
            </a: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 implies that there are signs that something will happ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Harrington"/>
              </a:rPr>
              <a:t>Will</a:t>
            </a: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 implies that the speaker thinks/believes that it will happ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Harrington"/>
              </a:rPr>
              <a:t>Be going to</a:t>
            </a:r>
            <a:r>
              <a:rPr b="1" lang="en-US" sz="2000" spc="-1" strike="noStrike">
                <a:solidFill>
                  <a:srgbClr val="000000"/>
                </a:solidFill>
                <a:latin typeface="Harrington"/>
              </a:rPr>
              <a:t> is normally used about the immediate future; will doesn’t imply any particular time and could refer to the remote fu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>
            <a:hlinkClick r:id="" action="ppaction://hlinkshowjump?jump=nextslide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6461" y="10800"/>
                </a:moveTo>
                <a:lnTo>
                  <a:pt x="5956" y="17806"/>
                </a:lnTo>
                <a:lnTo>
                  <a:pt x="5956" y="3794"/>
                </a:lnTo>
                <a:close/>
              </a:path>
              <a:path fill="darken" w="25924" h="21600">
                <a:moveTo>
                  <a:pt x="18306" y="3794"/>
                </a:moveTo>
                <a:lnTo>
                  <a:pt x="18306" y="17806"/>
                </a:lnTo>
                <a:lnTo>
                  <a:pt x="19969" y="17806"/>
                </a:lnTo>
                <a:lnTo>
                  <a:pt x="1996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82296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>
            <a:hlinkClick r:id="" action="ppaction://hlinkshowjump?jump=previousslide"/>
          </p:cNvPr>
          <p:cNvSpPr/>
          <p:nvPr/>
        </p:nvSpPr>
        <p:spPr>
          <a:xfrm>
            <a:off x="77724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1625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9780" y="3794"/>
                </a:lnTo>
                <a:lnTo>
                  <a:pt x="9780" y="17806"/>
                </a:lnTo>
                <a:lnTo>
                  <a:pt x="811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200"/>
                </a:solidFill>
                <a:latin typeface="Snap ITC"/>
              </a:rPr>
              <a:t>Grammar practice </a:t>
            </a:r>
            <a:endParaRPr b="0" lang="en-US" sz="3200" spc="-1" strike="noStrike">
              <a:solidFill>
                <a:srgbClr val="09568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33720" y="762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npri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nprior"/>
              </a:rPr>
              <a:t>Practic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npri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nprior"/>
              </a:rPr>
              <a:t>Practic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npri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nprior"/>
              </a:rPr>
              <a:t>Practic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>
            <a:hlinkClick r:id="" action="ppaction://hlinkshowjump?jump=nextslide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6461" y="10800"/>
                </a:moveTo>
                <a:lnTo>
                  <a:pt x="5956" y="17806"/>
                </a:lnTo>
                <a:lnTo>
                  <a:pt x="5956" y="3794"/>
                </a:lnTo>
                <a:close/>
              </a:path>
              <a:path fill="darken" w="25924" h="21600">
                <a:moveTo>
                  <a:pt x="18306" y="3794"/>
                </a:moveTo>
                <a:lnTo>
                  <a:pt x="18306" y="17806"/>
                </a:lnTo>
                <a:lnTo>
                  <a:pt x="19969" y="17806"/>
                </a:lnTo>
                <a:lnTo>
                  <a:pt x="1996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82296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>
            <a:hlinkClick r:id="" action="ppaction://hlinkshowjump?jump=previousslide"/>
          </p:cNvPr>
          <p:cNvSpPr/>
          <p:nvPr/>
        </p:nvSpPr>
        <p:spPr>
          <a:xfrm>
            <a:off x="76960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1625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9780" y="3794"/>
                </a:lnTo>
                <a:lnTo>
                  <a:pt x="9780" y="17806"/>
                </a:lnTo>
                <a:lnTo>
                  <a:pt x="811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4:19:27Z</dcterms:created>
  <dc:creator>eclipse</dc:creator>
  <dc:description/>
  <dc:language>en-US</dc:language>
  <cp:lastModifiedBy>user</cp:lastModifiedBy>
  <dcterms:modified xsi:type="dcterms:W3CDTF">2007-12-23T05:25:31Z</dcterms:modified>
  <cp:revision>12</cp:revision>
  <dc:subject/>
  <dc:title>The Big Question?</dc:title>
</cp:coreProperties>
</file>