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E93-B77A-43D9-A277-F9E2564E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4DD-336A-4ABF-BD99-02DDD289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EB0-1175-4926-B7F5-F010387E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332-7C50-4B70-884F-BA967756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6B19-E2B1-4CC7-9DF9-B7297224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DF1F-2FD7-489B-BF2B-BCBA074F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5B0-5470-4796-9694-322EAEFF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CCE9-CE4A-42F2-8212-87C8E8EE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03B6-135B-438D-902E-447C947C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FDA-7A99-48E5-87EA-63B3E687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7CF-B0F2-486E-8C44-B5991D3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EC9-F693-4D77-9706-8015353F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9DCF-8E07-408A-B02A-7FCCA4B7A8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762120"/>
            <a:ext cx="510552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</a:rPr>
              <a:t>قصة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333399"/>
                </a:solidFill>
                <a:latin typeface="Arial"/>
              </a:rPr>
              <a:t>الأدوات المكتبية</a:t>
            </a:r>
            <a:r>
              <a:rPr b="1" lang="ar-AE" sz="54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</a:rPr>
              <a:t>اعداد /  نورالشمس</a:t>
            </a:r>
            <a:r>
              <a:rPr b="1" lang="ar-AE" sz="54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945000" y="351000"/>
            <a:ext cx="2384280" cy="3087000"/>
            <a:chOff x="945000" y="351000"/>
            <a:chExt cx="2384280" cy="3087000"/>
          </a:xfrm>
        </p:grpSpPr>
        <p:sp>
          <p:nvSpPr>
            <p:cNvPr id="171" name=""/>
            <p:cNvSpPr/>
            <p:nvPr/>
          </p:nvSpPr>
          <p:spPr>
            <a:xfrm rot="20614200">
              <a:off x="1295280" y="533160"/>
              <a:ext cx="1683000" cy="27223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614200">
              <a:off x="1657800" y="1595520"/>
              <a:ext cx="228600" cy="216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872800">
              <a:off x="2002680" y="1780920"/>
              <a:ext cx="339120" cy="658440"/>
            </a:xfrm>
            <a:custGeom>
              <a:avLst/>
              <a:gdLst>
                <a:gd name="textAreaLeft" fmla="*/ 99720 w 339120"/>
                <a:gd name="textAreaRight" fmla="*/ 339480 w 339120"/>
                <a:gd name="textAreaTop" fmla="*/ 164520 h 658440"/>
                <a:gd name="textAreaBottom" fmla="*/ 493920 h 65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20614200">
              <a:off x="2042640" y="1394640"/>
              <a:ext cx="228960" cy="216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9945800">
              <a:off x="1589760" y="882720"/>
              <a:ext cx="998640" cy="1944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61880" y="285120"/>
            <a:ext cx="1930320" cy="3019320"/>
            <a:chOff x="3161880" y="285120"/>
            <a:chExt cx="1930320" cy="3019320"/>
          </a:xfrm>
        </p:grpSpPr>
        <p:sp>
          <p:nvSpPr>
            <p:cNvPr id="177" name=""/>
            <p:cNvSpPr/>
            <p:nvPr/>
          </p:nvSpPr>
          <p:spPr>
            <a:xfrm rot="73200">
              <a:off x="3381120" y="302400"/>
              <a:ext cx="1679400" cy="298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73200">
              <a:off x="3811680" y="1351440"/>
              <a:ext cx="228240" cy="237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6117200">
              <a:off x="4035600" y="1670400"/>
              <a:ext cx="265320" cy="613800"/>
            </a:xfrm>
            <a:custGeom>
              <a:avLst/>
              <a:gdLst>
                <a:gd name="textAreaLeft" fmla="*/ 77760 w 265320"/>
                <a:gd name="textAreaRight" fmla="*/ 265680 w 265320"/>
                <a:gd name="textAreaTop" fmla="*/ 153360 h 613800"/>
                <a:gd name="textAreaBottom" fmla="*/ 460440 h 61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73200">
              <a:off x="4110840" y="1299240"/>
              <a:ext cx="228240" cy="237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21004800">
              <a:off x="3320280" y="635040"/>
              <a:ext cx="1516680" cy="19717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810320" y="253440"/>
            <a:ext cx="2222280" cy="3468240"/>
            <a:chOff x="4810320" y="253440"/>
            <a:chExt cx="2222280" cy="3468240"/>
          </a:xfrm>
        </p:grpSpPr>
        <p:sp>
          <p:nvSpPr>
            <p:cNvPr id="183" name=""/>
            <p:cNvSpPr/>
            <p:nvPr/>
          </p:nvSpPr>
          <p:spPr>
            <a:xfrm rot="668400">
              <a:off x="5105520" y="380520"/>
              <a:ext cx="1631880" cy="3213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68400">
              <a:off x="5540040" y="1403640"/>
              <a:ext cx="221760" cy="255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713000">
              <a:off x="5776560" y="1887120"/>
              <a:ext cx="294120" cy="594000"/>
            </a:xfrm>
            <a:custGeom>
              <a:avLst/>
              <a:gdLst>
                <a:gd name="textAreaLeft" fmla="*/ 86400 w 294120"/>
                <a:gd name="textAreaRight" fmla="*/ 294480 w 294120"/>
                <a:gd name="textAreaTop" fmla="*/ 148320 h 594000"/>
                <a:gd name="textAreaBottom" fmla="*/ 445680 h 59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668400">
              <a:off x="6045480" y="1460880"/>
              <a:ext cx="221760" cy="255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14040" y="1117080"/>
              <a:ext cx="1053000" cy="1491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721840" y="939240"/>
            <a:ext cx="2989800" cy="3392280"/>
            <a:chOff x="5721840" y="939240"/>
            <a:chExt cx="2989800" cy="3392280"/>
          </a:xfrm>
        </p:grpSpPr>
        <p:sp>
          <p:nvSpPr>
            <p:cNvPr id="189" name=""/>
            <p:cNvSpPr/>
            <p:nvPr/>
          </p:nvSpPr>
          <p:spPr>
            <a:xfrm rot="1971000">
              <a:off x="6400800" y="1143000"/>
              <a:ext cx="1631880" cy="2984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302600">
              <a:off x="6612840" y="1740960"/>
              <a:ext cx="1347480" cy="1651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971000">
              <a:off x="7109280" y="2005200"/>
              <a:ext cx="221760" cy="237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8015000">
              <a:off x="6891120" y="2611080"/>
              <a:ext cx="213120" cy="657720"/>
            </a:xfrm>
            <a:custGeom>
              <a:avLst/>
              <a:gdLst>
                <a:gd name="textAreaLeft" fmla="*/ 62640 w 213120"/>
                <a:gd name="textAreaRight" fmla="*/ 213480 w 213120"/>
                <a:gd name="textAreaTop" fmla="*/ 164160 h 657720"/>
                <a:gd name="textAreaBottom" fmla="*/ 493560 h 6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971000">
              <a:off x="7558560" y="2356200"/>
              <a:ext cx="221760" cy="237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 rot="6514200">
            <a:off x="-177840" y="3149280"/>
            <a:ext cx="4114800" cy="1930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81080" y="4267080"/>
            <a:ext cx="556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66"/>
                </a:solidFill>
                <a:latin typeface="Arial"/>
              </a:rPr>
              <a:t>ذهبت الأوراق الى صديقها المقص وأخبرته عن قصتهن , فضحك المقص وقال : بالطبع يمكنني أن أغير شكل كل ورق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4529880" y="1097640"/>
            <a:ext cx="3284640" cy="3215160"/>
            <a:chOff x="4529880" y="1097640"/>
            <a:chExt cx="3284640" cy="3215160"/>
          </a:xfrm>
        </p:grpSpPr>
        <p:sp>
          <p:nvSpPr>
            <p:cNvPr id="197" name=""/>
            <p:cNvSpPr/>
            <p:nvPr/>
          </p:nvSpPr>
          <p:spPr>
            <a:xfrm rot="21313200">
              <a:off x="4648320" y="1218960"/>
              <a:ext cx="3047760" cy="2971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382200">
              <a:off x="5348160" y="1839960"/>
              <a:ext cx="505080" cy="425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442400">
              <a:off x="5757840" y="2775960"/>
              <a:ext cx="533160" cy="1371600"/>
            </a:xfrm>
            <a:custGeom>
              <a:avLst/>
              <a:gdLst>
                <a:gd name="textAreaLeft" fmla="*/ 156600 w 533160"/>
                <a:gd name="textAreaRight" fmla="*/ 533520 w 533160"/>
                <a:gd name="textAreaTop" fmla="*/ 342720 h 1371600"/>
                <a:gd name="textAreaBottom" fmla="*/ 102888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382200">
              <a:off x="6606720" y="2023920"/>
              <a:ext cx="505080" cy="42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 rot="7770600">
            <a:off x="659880" y="3148920"/>
            <a:ext cx="4114800" cy="1930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95480" y="464832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وأقصك أنتِ أيتها الورقة الأولى على شكل دائر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343400" y="1219320"/>
            <a:ext cx="3200400" cy="3047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7770600">
            <a:off x="583920" y="3072960"/>
            <a:ext cx="4114800" cy="1930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743200" y="48006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ثم أنتِ أيتها الورقة الثانية على شكل مرب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668400">
            <a:off x="4722840" y="1805040"/>
            <a:ext cx="674640" cy="522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668400">
            <a:off x="6259680" y="1922400"/>
            <a:ext cx="674640" cy="522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6713000">
            <a:off x="5350320" y="2530800"/>
            <a:ext cx="600120" cy="1805040"/>
          </a:xfrm>
          <a:custGeom>
            <a:avLst/>
            <a:gdLst>
              <a:gd name="textAreaLeft" fmla="*/ 176400 w 600120"/>
              <a:gd name="textAreaRight" fmla="*/ 600480 w 600120"/>
              <a:gd name="textAreaTop" fmla="*/ 451080 h 1805040"/>
              <a:gd name="textAreaBottom" fmla="*/ 1353960 h 180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 rot="7770600">
            <a:off x="583920" y="3377880"/>
            <a:ext cx="411480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91120" y="685800"/>
            <a:ext cx="3429000" cy="3581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800600"/>
            <a:ext cx="49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أما أنتِ أيتها الورقة الثالثة فعلى شكل المثلث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668400">
            <a:off x="5275440" y="1944720"/>
            <a:ext cx="515880" cy="430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668400">
            <a:off x="5961240" y="1944720"/>
            <a:ext cx="515880" cy="4302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6713000">
            <a:off x="5617080" y="2448360"/>
            <a:ext cx="482760" cy="1388880"/>
          </a:xfrm>
          <a:custGeom>
            <a:avLst/>
            <a:gdLst>
              <a:gd name="textAreaLeft" fmla="*/ 141840 w 482760"/>
              <a:gd name="textAreaRight" fmla="*/ 483120 w 482760"/>
              <a:gd name="textAreaTop" fmla="*/ 347040 h 1388880"/>
              <a:gd name="textAreaBottom" fmla="*/ 1041840 h 138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 rot="7770600">
            <a:off x="736200" y="2768400"/>
            <a:ext cx="4114800" cy="1930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00600" y="838080"/>
            <a:ext cx="2438280" cy="3657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4876920"/>
            <a:ext cx="4952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وأخيرا أيتها الورقة الرابعة .. على شكل المستطيل .. فما رأيكن الآ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668400">
            <a:off x="5162040" y="1935000"/>
            <a:ext cx="559080" cy="408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527000">
            <a:off x="5529960" y="2361240"/>
            <a:ext cx="637920" cy="1608120"/>
          </a:xfrm>
          <a:custGeom>
            <a:avLst/>
            <a:gdLst>
              <a:gd name="textAreaLeft" fmla="*/ 187560 w 637920"/>
              <a:gd name="textAreaRight" fmla="*/ 637920 w 637920"/>
              <a:gd name="textAreaTop" fmla="*/ 402120 h 1608120"/>
              <a:gd name="textAreaBottom" fmla="*/ 1206360 h 160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668400">
            <a:off x="6222600" y="1935000"/>
            <a:ext cx="558720" cy="408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172200" y="380880"/>
            <a:ext cx="1600200" cy="1600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1313200">
            <a:off x="6781680" y="2057400"/>
            <a:ext cx="1828800" cy="1676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1447920"/>
            <a:ext cx="2362320" cy="2057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380880"/>
            <a:ext cx="1523880" cy="2743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57200"/>
            <a:ext cx="1981080" cy="1828800"/>
          </a:xfrm>
          <a:prstGeom prst="cloudCallout">
            <a:avLst>
              <a:gd name="adj1" fmla="val 27884"/>
              <a:gd name="adj2" fmla="val 7239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843120" cy="1409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7400" y="4038480"/>
            <a:ext cx="617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ضحكت الأرواق كثيرا وقلن يا إلهي لقد تغيرنا أكثر واختلف شكلنا , شكرا أيها المقص , ولكن هل يمكننا أن نتغير أكثر ؟ قال لهن المقص : اذهبن الى صديقنا الصمغ لعله يساعدك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rot="5400000">
            <a:off x="-228960" y="2896200"/>
            <a:ext cx="3733560" cy="1751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668400">
            <a:off x="3484080" y="1203120"/>
            <a:ext cx="349200" cy="30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527000">
            <a:off x="3674880" y="1623240"/>
            <a:ext cx="477720" cy="1005120"/>
          </a:xfrm>
          <a:custGeom>
            <a:avLst/>
            <a:gdLst>
              <a:gd name="textAreaLeft" fmla="*/ 140400 w 477720"/>
              <a:gd name="textAreaRight" fmla="*/ 478080 w 477720"/>
              <a:gd name="textAreaTop" fmla="*/ 251280 h 1005120"/>
              <a:gd name="textAreaBottom" fmla="*/ 753840 h 10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668400">
            <a:off x="4146120" y="1203120"/>
            <a:ext cx="349200" cy="30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668400">
            <a:off x="5343480" y="2170080"/>
            <a:ext cx="35712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668400">
            <a:off x="5816520" y="2169720"/>
            <a:ext cx="355680" cy="247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713000">
            <a:off x="5506200" y="2403720"/>
            <a:ext cx="361800" cy="861840"/>
          </a:xfrm>
          <a:custGeom>
            <a:avLst/>
            <a:gdLst>
              <a:gd name="textAreaLeft" fmla="*/ 106200 w 361800"/>
              <a:gd name="textAreaRight" fmla="*/ 362160 w 361800"/>
              <a:gd name="textAreaTop" fmla="*/ 215280 h 861840"/>
              <a:gd name="textAreaBottom" fmla="*/ 646560 h 86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668400">
            <a:off x="6286320" y="689040"/>
            <a:ext cx="336240" cy="274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713000">
            <a:off x="6710040" y="1074600"/>
            <a:ext cx="316080" cy="903240"/>
          </a:xfrm>
          <a:custGeom>
            <a:avLst/>
            <a:gdLst>
              <a:gd name="textAreaLeft" fmla="*/ 92880 w 316080"/>
              <a:gd name="textAreaRight" fmla="*/ 316440 w 316080"/>
              <a:gd name="textAreaTop" fmla="*/ 225720 h 903240"/>
              <a:gd name="textAreaBottom" fmla="*/ 677520 h 90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668400">
            <a:off x="7054560" y="750960"/>
            <a:ext cx="336600" cy="272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382200">
            <a:off x="7095960" y="2406240"/>
            <a:ext cx="30348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6426200">
            <a:off x="7358400" y="2930760"/>
            <a:ext cx="274680" cy="816120"/>
          </a:xfrm>
          <a:custGeom>
            <a:avLst/>
            <a:gdLst>
              <a:gd name="textAreaLeft" fmla="*/ 80640 w 274680"/>
              <a:gd name="textAreaRight" fmla="*/ 275040 w 274680"/>
              <a:gd name="textAreaTop" fmla="*/ 204120 h 816120"/>
              <a:gd name="textAreaBottom" fmla="*/ 612360 h 81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382200">
            <a:off x="7850160" y="2511000"/>
            <a:ext cx="303120" cy="241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6867720" y="1908000"/>
            <a:ext cx="1962000" cy="1823040"/>
            <a:chOff x="6867720" y="1908000"/>
            <a:chExt cx="1962000" cy="1823040"/>
          </a:xfrm>
        </p:grpSpPr>
        <p:sp>
          <p:nvSpPr>
            <p:cNvPr id="242" name=""/>
            <p:cNvSpPr/>
            <p:nvPr/>
          </p:nvSpPr>
          <p:spPr>
            <a:xfrm rot="21313200">
              <a:off x="6934320" y="1981080"/>
              <a:ext cx="1828800" cy="1676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382200">
              <a:off x="7354440" y="2330640"/>
              <a:ext cx="302760" cy="239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426200">
              <a:off x="7606440" y="2843640"/>
              <a:ext cx="215280" cy="893160"/>
            </a:xfrm>
            <a:custGeom>
              <a:avLst/>
              <a:gdLst>
                <a:gd name="textAreaLeft" fmla="*/ 63360 w 215280"/>
                <a:gd name="textAreaRight" fmla="*/ 215640 w 215280"/>
                <a:gd name="textAreaTop" fmla="*/ 223200 h 893160"/>
                <a:gd name="textAreaBottom" fmla="*/ 669960 h 89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382200">
              <a:off x="8109720" y="2434680"/>
              <a:ext cx="302760" cy="241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562720" y="304920"/>
            <a:ext cx="1828800" cy="1676160"/>
            <a:chOff x="5562720" y="304920"/>
            <a:chExt cx="1828800" cy="1676160"/>
          </a:xfrm>
        </p:grpSpPr>
        <p:sp>
          <p:nvSpPr>
            <p:cNvPr id="247" name=""/>
            <p:cNvSpPr/>
            <p:nvPr/>
          </p:nvSpPr>
          <p:spPr>
            <a:xfrm rot="668400">
              <a:off x="5781600" y="626760"/>
              <a:ext cx="38556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6713000">
              <a:off x="6282000" y="987840"/>
              <a:ext cx="330480" cy="1031760"/>
            </a:xfrm>
            <a:custGeom>
              <a:avLst/>
              <a:gdLst>
                <a:gd name="textAreaLeft" fmla="*/ 97200 w 330480"/>
                <a:gd name="textAreaRight" fmla="*/ 330840 w 330480"/>
                <a:gd name="textAreaTop" fmla="*/ 257760 h 1031760"/>
                <a:gd name="textAreaBottom" fmla="*/ 774000 h 10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668400">
              <a:off x="6659280" y="691200"/>
              <a:ext cx="385560" cy="287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62720" y="304920"/>
              <a:ext cx="1828800" cy="1676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114800" y="1676520"/>
            <a:ext cx="2362320" cy="2209680"/>
            <a:chOff x="4114800" y="1676520"/>
            <a:chExt cx="2362320" cy="2209680"/>
          </a:xfrm>
        </p:grpSpPr>
        <p:sp>
          <p:nvSpPr>
            <p:cNvPr id="252" name=""/>
            <p:cNvSpPr/>
            <p:nvPr/>
          </p:nvSpPr>
          <p:spPr>
            <a:xfrm rot="668400">
              <a:off x="4924080" y="2451600"/>
              <a:ext cx="35676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713000">
              <a:off x="5073120" y="2734560"/>
              <a:ext cx="388440" cy="862200"/>
            </a:xfrm>
            <a:custGeom>
              <a:avLst/>
              <a:gdLst>
                <a:gd name="textAreaLeft" fmla="*/ 114120 w 388440"/>
                <a:gd name="textAreaRight" fmla="*/ 388800 w 388440"/>
                <a:gd name="textAreaTop" fmla="*/ 215640 h 862200"/>
                <a:gd name="textAreaBottom" fmla="*/ 646920 h 86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668400">
              <a:off x="5397120" y="2451960"/>
              <a:ext cx="354960" cy="26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14800" y="1676520"/>
              <a:ext cx="2362320" cy="22096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971800" y="304920"/>
            <a:ext cx="1600200" cy="2819160"/>
            <a:chOff x="2971800" y="304920"/>
            <a:chExt cx="1600200" cy="2819160"/>
          </a:xfrm>
        </p:grpSpPr>
        <p:sp>
          <p:nvSpPr>
            <p:cNvPr id="257" name=""/>
            <p:cNvSpPr/>
            <p:nvPr/>
          </p:nvSpPr>
          <p:spPr>
            <a:xfrm rot="668400">
              <a:off x="3250080" y="1150560"/>
              <a:ext cx="366480" cy="31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527000">
              <a:off x="3454560" y="1570320"/>
              <a:ext cx="491760" cy="1055160"/>
            </a:xfrm>
            <a:custGeom>
              <a:avLst/>
              <a:gdLst>
                <a:gd name="textAreaLeft" fmla="*/ 144360 w 491760"/>
                <a:gd name="textAreaRight" fmla="*/ 491760 w 491760"/>
                <a:gd name="textAreaTop" fmla="*/ 263880 h 1055160"/>
                <a:gd name="textAreaBottom" fmla="*/ 791640 h 105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668400">
              <a:off x="3945600" y="1150560"/>
              <a:ext cx="366840" cy="31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304920"/>
              <a:ext cx="1600200" cy="2819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1822680" cy="30481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0"/>
            <a:ext cx="2438280" cy="1981080"/>
          </a:xfrm>
          <a:prstGeom prst="cloudCallout">
            <a:avLst>
              <a:gd name="adj1" fmla="val -1888"/>
              <a:gd name="adj2" fmla="val 7636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33520" y="457200"/>
            <a:ext cx="1143000" cy="1218960"/>
            <a:chOff x="533520" y="457200"/>
            <a:chExt cx="1143000" cy="1218960"/>
          </a:xfrm>
        </p:grpSpPr>
        <p:sp>
          <p:nvSpPr>
            <p:cNvPr id="264" name=""/>
            <p:cNvSpPr/>
            <p:nvPr/>
          </p:nvSpPr>
          <p:spPr>
            <a:xfrm>
              <a:off x="533520" y="457200"/>
              <a:ext cx="685800" cy="761760"/>
            </a:xfrm>
            <a:prstGeom prst="foldedCorner">
              <a:avLst>
                <a:gd name="adj" fmla="val 125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5800" y="609480"/>
              <a:ext cx="685800" cy="76212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8080" y="761760"/>
              <a:ext cx="685800" cy="76212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914400"/>
              <a:ext cx="685800" cy="76176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57400" y="4027320"/>
            <a:ext cx="609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ذهبت الأرواق بسرعة الى صديقها الصمغ وبعد أن سمع قصتهن قال : والآن جاء دوري في تغييركن أيتها الأوراق , وكل ما أحتاجه هو هذه المجموعة من الأوراق الملونة .فما رأيكن أن تختار كل واحدة منكن لونا من هذه الألوان ثم أقوم أنا والصق كل ورقة على لونها المفض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736640" y="154080"/>
            <a:ext cx="2698560" cy="3044520"/>
            <a:chOff x="1736640" y="154080"/>
            <a:chExt cx="2698560" cy="3044520"/>
          </a:xfrm>
        </p:grpSpPr>
        <p:sp>
          <p:nvSpPr>
            <p:cNvPr id="270" name=""/>
            <p:cNvSpPr/>
            <p:nvPr/>
          </p:nvSpPr>
          <p:spPr>
            <a:xfrm rot="19758000">
              <a:off x="2285640" y="380520"/>
              <a:ext cx="1600200" cy="259092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2122200" y="543600"/>
              <a:ext cx="1796400" cy="2009880"/>
              <a:chOff x="2122200" y="543600"/>
              <a:chExt cx="1796400" cy="2009880"/>
            </a:xfrm>
          </p:grpSpPr>
          <p:sp>
            <p:nvSpPr>
              <p:cNvPr id="272" name=""/>
              <p:cNvSpPr/>
              <p:nvPr/>
            </p:nvSpPr>
            <p:spPr>
              <a:xfrm rot="20344200">
                <a:off x="2582280" y="1359720"/>
                <a:ext cx="239040" cy="191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4602800">
                <a:off x="2955240" y="1427040"/>
                <a:ext cx="299520" cy="687960"/>
              </a:xfrm>
              <a:custGeom>
                <a:avLst/>
                <a:gdLst>
                  <a:gd name="textAreaLeft" fmla="*/ 87840 w 299520"/>
                  <a:gd name="textAreaRight" fmla="*/ 299880 w 299520"/>
                  <a:gd name="textAreaTop" fmla="*/ 172080 h 687960"/>
                  <a:gd name="textAreaBottom" fmla="*/ 516240 h 687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0344200">
                <a:off x="2966760" y="1118880"/>
                <a:ext cx="239040" cy="191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9675800">
                <a:off x="2498400" y="689400"/>
                <a:ext cx="1043640" cy="171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"/>
          <p:cNvGrpSpPr/>
          <p:nvPr/>
        </p:nvGrpSpPr>
        <p:grpSpPr>
          <a:xfrm>
            <a:off x="3398040" y="213840"/>
            <a:ext cx="2271960" cy="3026160"/>
            <a:chOff x="3398040" y="213840"/>
            <a:chExt cx="2271960" cy="3026160"/>
          </a:xfrm>
        </p:grpSpPr>
        <p:sp>
          <p:nvSpPr>
            <p:cNvPr id="277" name=""/>
            <p:cNvSpPr/>
            <p:nvPr/>
          </p:nvSpPr>
          <p:spPr>
            <a:xfrm rot="20653200">
              <a:off x="3733920" y="380520"/>
              <a:ext cx="1600200" cy="269244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3686760" y="549000"/>
              <a:ext cx="1721160" cy="1848600"/>
              <a:chOff x="3686760" y="549000"/>
              <a:chExt cx="1721160" cy="1848600"/>
            </a:xfrm>
          </p:grpSpPr>
          <p:sp>
            <p:nvSpPr>
              <p:cNvPr id="279" name=""/>
              <p:cNvSpPr/>
              <p:nvPr/>
            </p:nvSpPr>
            <p:spPr>
              <a:xfrm rot="21322200">
                <a:off x="4300560" y="1279440"/>
                <a:ext cx="204480" cy="185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5765600">
                <a:off x="4469400" y="1488240"/>
                <a:ext cx="270360" cy="494280"/>
              </a:xfrm>
              <a:custGeom>
                <a:avLst/>
                <a:gdLst>
                  <a:gd name="textAreaLeft" fmla="*/ 79560 w 270360"/>
                  <a:gd name="textAreaRight" fmla="*/ 270720 w 270360"/>
                  <a:gd name="textAreaTop" fmla="*/ 123480 h 494280"/>
                  <a:gd name="textAreaBottom" fmla="*/ 37080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21322200">
                <a:off x="4561920" y="1205640"/>
                <a:ext cx="203400" cy="185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653200">
                <a:off x="3870360" y="704160"/>
                <a:ext cx="1353960" cy="1538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5213520" y="390240"/>
            <a:ext cx="2070000" cy="2801160"/>
            <a:chOff x="5213520" y="390240"/>
            <a:chExt cx="2070000" cy="2801160"/>
          </a:xfrm>
        </p:grpSpPr>
        <p:sp>
          <p:nvSpPr>
            <p:cNvPr id="284" name=""/>
            <p:cNvSpPr/>
            <p:nvPr/>
          </p:nvSpPr>
          <p:spPr>
            <a:xfrm rot="811800">
              <a:off x="5486400" y="533520"/>
              <a:ext cx="1523880" cy="251460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535360" y="838440"/>
              <a:ext cx="1467720" cy="1529280"/>
              <a:chOff x="5535360" y="838440"/>
              <a:chExt cx="1467720" cy="1529280"/>
            </a:xfrm>
          </p:grpSpPr>
          <p:sp>
            <p:nvSpPr>
              <p:cNvPr id="286" name=""/>
              <p:cNvSpPr/>
              <p:nvPr/>
            </p:nvSpPr>
            <p:spPr>
              <a:xfrm rot="1480200">
                <a:off x="5888880" y="1137960"/>
                <a:ext cx="253080" cy="21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7524200">
                <a:off x="6058800" y="1528560"/>
                <a:ext cx="253080" cy="677160"/>
              </a:xfrm>
              <a:custGeom>
                <a:avLst/>
                <a:gdLst>
                  <a:gd name="textAreaLeft" fmla="*/ 74160 w 253080"/>
                  <a:gd name="textAreaRight" fmla="*/ 253080 w 253080"/>
                  <a:gd name="textAreaTop" fmla="*/ 169200 h 677160"/>
                  <a:gd name="textAreaBottom" fmla="*/ 507960 h 67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480200">
                <a:off x="6437880" y="1321200"/>
                <a:ext cx="253080" cy="21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811800">
                <a:off x="5668920" y="960840"/>
                <a:ext cx="1200600" cy="1284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0494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6156360" y="1092240"/>
            <a:ext cx="2469600" cy="2962080"/>
            <a:chOff x="6156360" y="1092240"/>
            <a:chExt cx="2469600" cy="2962080"/>
          </a:xfrm>
        </p:grpSpPr>
        <p:sp>
          <p:nvSpPr>
            <p:cNvPr id="292" name=""/>
            <p:cNvSpPr/>
            <p:nvPr/>
          </p:nvSpPr>
          <p:spPr>
            <a:xfrm rot="1517400">
              <a:off x="6629040" y="1294920"/>
              <a:ext cx="1523880" cy="2556000"/>
            </a:xfrm>
            <a:prstGeom prst="foldedCorner">
              <a:avLst>
                <a:gd name="adj" fmla="val 125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755400" y="1772280"/>
              <a:ext cx="1301400" cy="1380600"/>
              <a:chOff x="6755400" y="1772280"/>
              <a:chExt cx="1301400" cy="1380600"/>
            </a:xfrm>
          </p:grpSpPr>
          <p:sp>
            <p:nvSpPr>
              <p:cNvPr id="294" name=""/>
              <p:cNvSpPr/>
              <p:nvPr/>
            </p:nvSpPr>
            <p:spPr>
              <a:xfrm rot="194400">
                <a:off x="6791400" y="1805760"/>
                <a:ext cx="1229040" cy="1313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863400">
                <a:off x="7116480" y="2050200"/>
                <a:ext cx="203400" cy="18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6907400">
                <a:off x="7180200" y="2514960"/>
                <a:ext cx="168480" cy="600120"/>
              </a:xfrm>
              <a:custGeom>
                <a:avLst/>
                <a:gdLst>
                  <a:gd name="textAreaLeft" fmla="*/ 49320 w 168480"/>
                  <a:gd name="textAreaRight" fmla="*/ 168840 w 168480"/>
                  <a:gd name="textAreaTop" fmla="*/ 150120 h 600120"/>
                  <a:gd name="textAreaBottom" fmla="*/ 45036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863400">
                <a:off x="7607160" y="2201760"/>
                <a:ext cx="20340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2666880" y="3886200"/>
            <a:ext cx="50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وبعد أن اختارت كل ورقة لونها , ألصق الصمغ ورقة الدائرة على اللون الأحمر وورقة المربع على اللون الأصفر وورقة المثلث على اللون الأزرق وأخيرا ورقة المستطيل على اللون الأخض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920960" y="183960"/>
            <a:ext cx="2710800" cy="3136680"/>
            <a:chOff x="1920960" y="183960"/>
            <a:chExt cx="2710800" cy="3136680"/>
          </a:xfrm>
        </p:grpSpPr>
        <p:sp>
          <p:nvSpPr>
            <p:cNvPr id="300" name=""/>
            <p:cNvSpPr/>
            <p:nvPr/>
          </p:nvSpPr>
          <p:spPr>
            <a:xfrm rot="19758000">
              <a:off x="2514240" y="380520"/>
              <a:ext cx="1523880" cy="274320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309760" y="582840"/>
              <a:ext cx="1807560" cy="2068560"/>
              <a:chOff x="2309760" y="582840"/>
              <a:chExt cx="1807560" cy="2068560"/>
            </a:xfrm>
          </p:grpSpPr>
          <p:sp>
            <p:nvSpPr>
              <p:cNvPr id="302" name=""/>
              <p:cNvSpPr/>
              <p:nvPr/>
            </p:nvSpPr>
            <p:spPr>
              <a:xfrm rot="20344200">
                <a:off x="2782080" y="1404720"/>
                <a:ext cx="227520" cy="20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4602800">
                <a:off x="3148560" y="1522440"/>
                <a:ext cx="317160" cy="655200"/>
              </a:xfrm>
              <a:custGeom>
                <a:avLst/>
                <a:gdLst>
                  <a:gd name="textAreaLeft" fmla="*/ 93240 w 317160"/>
                  <a:gd name="textAreaRight" fmla="*/ 317520 w 317160"/>
                  <a:gd name="textAreaTop" fmla="*/ 163800 h 655200"/>
                  <a:gd name="textAreaBottom" fmla="*/ 491400 h 65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20344200">
                <a:off x="3148200" y="1175400"/>
                <a:ext cx="227520" cy="2026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19675800">
                <a:off x="2716560" y="707400"/>
                <a:ext cx="993600" cy="1818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3550320" y="-167040"/>
            <a:ext cx="2271960" cy="3026160"/>
            <a:chOff x="3550320" y="-167040"/>
            <a:chExt cx="2271960" cy="3026160"/>
          </a:xfrm>
        </p:grpSpPr>
        <p:sp>
          <p:nvSpPr>
            <p:cNvPr id="307" name=""/>
            <p:cNvSpPr/>
            <p:nvPr/>
          </p:nvSpPr>
          <p:spPr>
            <a:xfrm rot="20653200">
              <a:off x="3886200" y="0"/>
              <a:ext cx="1600200" cy="269244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39040" y="168120"/>
              <a:ext cx="1721160" cy="1848600"/>
              <a:chOff x="3839040" y="168120"/>
              <a:chExt cx="1721160" cy="1848600"/>
            </a:xfrm>
          </p:grpSpPr>
          <p:sp>
            <p:nvSpPr>
              <p:cNvPr id="309" name=""/>
              <p:cNvSpPr/>
              <p:nvPr/>
            </p:nvSpPr>
            <p:spPr>
              <a:xfrm rot="21322200">
                <a:off x="4452840" y="898560"/>
                <a:ext cx="204480" cy="185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15765600">
                <a:off x="4621680" y="1107360"/>
                <a:ext cx="270360" cy="494280"/>
              </a:xfrm>
              <a:custGeom>
                <a:avLst/>
                <a:gdLst>
                  <a:gd name="textAreaLeft" fmla="*/ 79560 w 270360"/>
                  <a:gd name="textAreaRight" fmla="*/ 270720 w 270360"/>
                  <a:gd name="textAreaTop" fmla="*/ 123480 h 494280"/>
                  <a:gd name="textAreaBottom" fmla="*/ 370800 h 494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1322200">
                <a:off x="4714200" y="824760"/>
                <a:ext cx="203400" cy="185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653200">
                <a:off x="4022640" y="323280"/>
                <a:ext cx="1353960" cy="1538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5213520" y="390240"/>
            <a:ext cx="2070000" cy="2801160"/>
            <a:chOff x="5213520" y="390240"/>
            <a:chExt cx="2070000" cy="2801160"/>
          </a:xfrm>
        </p:grpSpPr>
        <p:sp>
          <p:nvSpPr>
            <p:cNvPr id="314" name=""/>
            <p:cNvSpPr/>
            <p:nvPr/>
          </p:nvSpPr>
          <p:spPr>
            <a:xfrm rot="811800">
              <a:off x="5486400" y="533520"/>
              <a:ext cx="1523880" cy="251460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535360" y="838440"/>
              <a:ext cx="1467720" cy="1529280"/>
              <a:chOff x="5535360" y="838440"/>
              <a:chExt cx="1467720" cy="1529280"/>
            </a:xfrm>
          </p:grpSpPr>
          <p:sp>
            <p:nvSpPr>
              <p:cNvPr id="316" name=""/>
              <p:cNvSpPr/>
              <p:nvPr/>
            </p:nvSpPr>
            <p:spPr>
              <a:xfrm rot="1480200">
                <a:off x="5888880" y="1137960"/>
                <a:ext cx="253080" cy="21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524200">
                <a:off x="6058800" y="1528560"/>
                <a:ext cx="253080" cy="677160"/>
              </a:xfrm>
              <a:custGeom>
                <a:avLst/>
                <a:gdLst>
                  <a:gd name="textAreaLeft" fmla="*/ 74160 w 253080"/>
                  <a:gd name="textAreaRight" fmla="*/ 253080 w 253080"/>
                  <a:gd name="textAreaTop" fmla="*/ 169200 h 677160"/>
                  <a:gd name="textAreaBottom" fmla="*/ 507960 h 67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480200">
                <a:off x="6437880" y="1321200"/>
                <a:ext cx="253080" cy="21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811800">
                <a:off x="5668920" y="960840"/>
                <a:ext cx="1200600" cy="12841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20494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6156360" y="1092240"/>
            <a:ext cx="2469600" cy="2962080"/>
            <a:chOff x="6156360" y="1092240"/>
            <a:chExt cx="2469600" cy="2962080"/>
          </a:xfrm>
        </p:grpSpPr>
        <p:sp>
          <p:nvSpPr>
            <p:cNvPr id="322" name=""/>
            <p:cNvSpPr/>
            <p:nvPr/>
          </p:nvSpPr>
          <p:spPr>
            <a:xfrm rot="1517400">
              <a:off x="6629040" y="1294920"/>
              <a:ext cx="1523880" cy="2556000"/>
            </a:xfrm>
            <a:prstGeom prst="foldedCorner">
              <a:avLst>
                <a:gd name="adj" fmla="val 125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6755400" y="1772280"/>
              <a:ext cx="1301400" cy="1380600"/>
              <a:chOff x="6755400" y="1772280"/>
              <a:chExt cx="1301400" cy="1380600"/>
            </a:xfrm>
          </p:grpSpPr>
          <p:sp>
            <p:nvSpPr>
              <p:cNvPr id="324" name=""/>
              <p:cNvSpPr/>
              <p:nvPr/>
            </p:nvSpPr>
            <p:spPr>
              <a:xfrm rot="194400">
                <a:off x="6791400" y="1805760"/>
                <a:ext cx="1229040" cy="1313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863400">
                <a:off x="7116480" y="2050200"/>
                <a:ext cx="203400" cy="18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6907400">
                <a:off x="7180200" y="2514960"/>
                <a:ext cx="168480" cy="600120"/>
              </a:xfrm>
              <a:custGeom>
                <a:avLst/>
                <a:gdLst>
                  <a:gd name="textAreaLeft" fmla="*/ 49320 w 168480"/>
                  <a:gd name="textAreaRight" fmla="*/ 168840 w 168480"/>
                  <a:gd name="textAreaTop" fmla="*/ 150120 h 600120"/>
                  <a:gd name="textAreaBottom" fmla="*/ 450360 h 60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863400">
                <a:off x="7607160" y="2201760"/>
                <a:ext cx="20340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533520" y="762120"/>
            <a:ext cx="1752480" cy="1828800"/>
          </a:xfrm>
          <a:prstGeom prst="cloudCallout">
            <a:avLst>
              <a:gd name="adj1" fmla="val 10597"/>
              <a:gd name="adj2" fmla="val 756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1218960" cy="1011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666880" y="3886200"/>
            <a:ext cx="58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فرحت الأوراق كثيرا وقلن شكرا أيها الصمغ لقد أصبح لنا شكل جديد ومختلف ,نحن سعداء جدا ولكن هل يمكننا أن نفعل شيئا آخر لشكلنا . قال الصمغ لهن : اذهبن إلى صديقتنا الدباسة لعلها تساعدك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406080" y="318960"/>
            <a:ext cx="2997720" cy="3476880"/>
            <a:chOff x="406080" y="318960"/>
            <a:chExt cx="2997720" cy="3476880"/>
          </a:xfrm>
        </p:grpSpPr>
        <p:sp>
          <p:nvSpPr>
            <p:cNvPr id="332" name=""/>
            <p:cNvSpPr/>
            <p:nvPr/>
          </p:nvSpPr>
          <p:spPr>
            <a:xfrm rot="19758000">
              <a:off x="1066320" y="533160"/>
              <a:ext cx="1676520" cy="304776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836640" y="760320"/>
              <a:ext cx="1999440" cy="2292840"/>
              <a:chOff x="836640" y="760320"/>
              <a:chExt cx="1999440" cy="2292840"/>
            </a:xfrm>
          </p:grpSpPr>
          <p:sp>
            <p:nvSpPr>
              <p:cNvPr id="334" name=""/>
              <p:cNvSpPr/>
              <p:nvPr/>
            </p:nvSpPr>
            <p:spPr>
              <a:xfrm rot="20344200">
                <a:off x="1359720" y="1670040"/>
                <a:ext cx="250200" cy="225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4602800">
                <a:off x="1764720" y="1805040"/>
                <a:ext cx="352440" cy="720720"/>
              </a:xfrm>
              <a:custGeom>
                <a:avLst/>
                <a:gdLst>
                  <a:gd name="textAreaLeft" fmla="*/ 103680 w 352440"/>
                  <a:gd name="textAreaRight" fmla="*/ 352800 w 352440"/>
                  <a:gd name="textAreaTop" fmla="*/ 180000 h 720720"/>
                  <a:gd name="textAreaBottom" fmla="*/ 54072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0344200">
                <a:off x="1762560" y="1417680"/>
                <a:ext cx="250560" cy="225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9675800">
                <a:off x="1289520" y="896400"/>
                <a:ext cx="1093320" cy="20206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2252520" y="183960"/>
            <a:ext cx="2505960" cy="3137040"/>
            <a:chOff x="2252520" y="183960"/>
            <a:chExt cx="2505960" cy="3137040"/>
          </a:xfrm>
        </p:grpSpPr>
        <p:sp>
          <p:nvSpPr>
            <p:cNvPr id="339" name=""/>
            <p:cNvSpPr/>
            <p:nvPr/>
          </p:nvSpPr>
          <p:spPr>
            <a:xfrm rot="20653200">
              <a:off x="2590920" y="380520"/>
              <a:ext cx="1828800" cy="2743200"/>
            </a:xfrm>
            <a:prstGeom prst="foldedCorner">
              <a:avLst>
                <a:gd name="adj" fmla="val 125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2571120" y="526320"/>
              <a:ext cx="1915200" cy="1929240"/>
              <a:chOff x="2571120" y="526320"/>
              <a:chExt cx="1915200" cy="1929240"/>
            </a:xfrm>
          </p:grpSpPr>
          <p:sp>
            <p:nvSpPr>
              <p:cNvPr id="341" name=""/>
              <p:cNvSpPr/>
              <p:nvPr/>
            </p:nvSpPr>
            <p:spPr>
              <a:xfrm rot="21322200">
                <a:off x="3251880" y="1296720"/>
                <a:ext cx="23364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5765600">
                <a:off x="3447000" y="1476000"/>
                <a:ext cx="275400" cy="564840"/>
              </a:xfrm>
              <a:custGeom>
                <a:avLst/>
                <a:gdLst>
                  <a:gd name="textAreaLeft" fmla="*/ 81000 w 275400"/>
                  <a:gd name="textAreaRight" fmla="*/ 275400 w 275400"/>
                  <a:gd name="textAreaTop" fmla="*/ 141120 h 564840"/>
                  <a:gd name="textAreaBottom" fmla="*/ 423720 h 564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322200">
                <a:off x="3550320" y="1213200"/>
                <a:ext cx="232560" cy="189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653200">
                <a:off x="2755080" y="707040"/>
                <a:ext cx="1547280" cy="15674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3945960" y="123120"/>
            <a:ext cx="2547360" cy="3335040"/>
            <a:chOff x="3945960" y="123120"/>
            <a:chExt cx="2547360" cy="3335040"/>
          </a:xfrm>
        </p:grpSpPr>
        <p:sp>
          <p:nvSpPr>
            <p:cNvPr id="346" name=""/>
            <p:cNvSpPr/>
            <p:nvPr/>
          </p:nvSpPr>
          <p:spPr>
            <a:xfrm rot="811800">
              <a:off x="4266720" y="304560"/>
              <a:ext cx="1905120" cy="2971800"/>
            </a:xfrm>
            <a:prstGeom prst="foldedCorner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36200" y="655200"/>
              <a:ext cx="1814040" cy="1826280"/>
              <a:chOff x="4336200" y="655200"/>
              <a:chExt cx="1814040" cy="1826280"/>
            </a:xfrm>
          </p:grpSpPr>
          <p:sp>
            <p:nvSpPr>
              <p:cNvPr id="348" name=""/>
              <p:cNvSpPr/>
              <p:nvPr/>
            </p:nvSpPr>
            <p:spPr>
              <a:xfrm rot="1480200">
                <a:off x="4762800" y="1014120"/>
                <a:ext cx="316440" cy="260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7524200">
                <a:off x="4993200" y="1456920"/>
                <a:ext cx="299160" cy="846720"/>
              </a:xfrm>
              <a:custGeom>
                <a:avLst/>
                <a:gdLst>
                  <a:gd name="textAreaLeft" fmla="*/ 87840 w 299160"/>
                  <a:gd name="textAreaRight" fmla="*/ 299520 w 299160"/>
                  <a:gd name="textAreaTop" fmla="*/ 211680 h 846720"/>
                  <a:gd name="textAreaBottom" fmla="*/ 635040 h 84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480200">
                <a:off x="5449320" y="1239480"/>
                <a:ext cx="316440" cy="260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811800">
                <a:off x="4492800" y="809640"/>
                <a:ext cx="1500840" cy="1517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"/>
          <p:cNvGrpSpPr/>
          <p:nvPr/>
        </p:nvGrpSpPr>
        <p:grpSpPr>
          <a:xfrm>
            <a:off x="5488920" y="433800"/>
            <a:ext cx="2890440" cy="3399120"/>
            <a:chOff x="5488920" y="433800"/>
            <a:chExt cx="2890440" cy="3399120"/>
          </a:xfrm>
        </p:grpSpPr>
        <p:sp>
          <p:nvSpPr>
            <p:cNvPr id="353" name=""/>
            <p:cNvSpPr/>
            <p:nvPr/>
          </p:nvSpPr>
          <p:spPr>
            <a:xfrm rot="1517400">
              <a:off x="6019560" y="685440"/>
              <a:ext cx="1828800" cy="2895480"/>
            </a:xfrm>
            <a:prstGeom prst="foldedCorner">
              <a:avLst>
                <a:gd name="adj" fmla="val 125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6172200" y="1224000"/>
              <a:ext cx="1556640" cy="1568880"/>
              <a:chOff x="6172200" y="1224000"/>
              <a:chExt cx="1556640" cy="1568880"/>
            </a:xfrm>
          </p:grpSpPr>
          <p:sp>
            <p:nvSpPr>
              <p:cNvPr id="355" name=""/>
              <p:cNvSpPr/>
              <p:nvPr/>
            </p:nvSpPr>
            <p:spPr>
              <a:xfrm rot="194400">
                <a:off x="6212880" y="1264320"/>
                <a:ext cx="1474920" cy="14878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863400">
                <a:off x="6599880" y="1538640"/>
                <a:ext cx="244080" cy="212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6907400">
                <a:off x="6689520" y="2046600"/>
                <a:ext cx="190800" cy="720360"/>
              </a:xfrm>
              <a:custGeom>
                <a:avLst/>
                <a:gdLst>
                  <a:gd name="textAreaLeft" fmla="*/ 56160 w 190800"/>
                  <a:gd name="textAreaRight" fmla="*/ 191160 w 190800"/>
                  <a:gd name="textAreaTop" fmla="*/ 180000 h 720360"/>
                  <a:gd name="textAreaBottom" fmla="*/ 540360 h 72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863400">
                <a:off x="7190280" y="1715400"/>
                <a:ext cx="244080" cy="21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 rot="1258200">
            <a:off x="6000840" y="3900240"/>
            <a:ext cx="2411280" cy="2000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33520" y="3962520"/>
            <a:ext cx="5638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66"/>
                </a:solidFill>
                <a:latin typeface="Arial"/>
              </a:rPr>
              <a:t>توجهت الأوراق الى صديقتها الدباسة وبعد أن أخبرتها بقصتهن ,ابتسمت الدباسة وقالت : والآن جاء دوري لأغيركن أيتها الأوراق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73400" y="646560"/>
            <a:ext cx="2625480" cy="3910320"/>
            <a:chOff x="473400" y="646560"/>
            <a:chExt cx="2625480" cy="3910320"/>
          </a:xfrm>
        </p:grpSpPr>
        <p:sp>
          <p:nvSpPr>
            <p:cNvPr id="44" name=""/>
            <p:cNvSpPr/>
            <p:nvPr/>
          </p:nvSpPr>
          <p:spPr>
            <a:xfrm rot="20609400">
              <a:off x="947880" y="810720"/>
              <a:ext cx="1676160" cy="3581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4408800">
              <a:off x="1749240" y="2577240"/>
              <a:ext cx="462960" cy="1053360"/>
            </a:xfrm>
            <a:custGeom>
              <a:avLst/>
              <a:gdLst>
                <a:gd name="textAreaLeft" fmla="*/ 136080 w 462960"/>
                <a:gd name="textAreaRight" fmla="*/ 463320 w 462960"/>
                <a:gd name="textAreaTop" fmla="*/ 43560 h 1053360"/>
                <a:gd name="textAreaBottom" fmla="*/ 1009800 h 105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0609400">
              <a:off x="956880" y="1701000"/>
              <a:ext cx="287280" cy="30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09400">
              <a:off x="1660320" y="1528920"/>
              <a:ext cx="287280" cy="30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291040" y="452160"/>
            <a:ext cx="2504880" cy="3743640"/>
            <a:chOff x="2291040" y="452160"/>
            <a:chExt cx="2504880" cy="3743640"/>
          </a:xfrm>
        </p:grpSpPr>
        <p:sp>
          <p:nvSpPr>
            <p:cNvPr id="49" name=""/>
            <p:cNvSpPr/>
            <p:nvPr/>
          </p:nvSpPr>
          <p:spPr>
            <a:xfrm rot="20790000">
              <a:off x="2666880" y="609480"/>
              <a:ext cx="1752840" cy="3429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4590000">
              <a:off x="3447720" y="2268000"/>
              <a:ext cx="443520" cy="1101600"/>
            </a:xfrm>
            <a:custGeom>
              <a:avLst/>
              <a:gdLst>
                <a:gd name="textAreaLeft" fmla="*/ 130320 w 443520"/>
                <a:gd name="textAreaRight" fmla="*/ 443880 w 443520"/>
                <a:gd name="textAreaTop" fmla="*/ 45720 h 1101600"/>
                <a:gd name="textAreaBottom" fmla="*/ 1055880 h 11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790000">
              <a:off x="2808720" y="1459080"/>
              <a:ext cx="30024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0790000">
              <a:off x="3539160" y="1252440"/>
              <a:ext cx="300240" cy="295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494240" y="493560"/>
            <a:ext cx="1906920" cy="3356280"/>
            <a:chOff x="4494240" y="493560"/>
            <a:chExt cx="1906920" cy="3356280"/>
          </a:xfrm>
        </p:grpSpPr>
        <p:sp>
          <p:nvSpPr>
            <p:cNvPr id="54" name=""/>
            <p:cNvSpPr/>
            <p:nvPr/>
          </p:nvSpPr>
          <p:spPr>
            <a:xfrm rot="163800">
              <a:off x="4571280" y="533520"/>
              <a:ext cx="1752480" cy="32763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563800">
              <a:off x="5233320" y="2114280"/>
              <a:ext cx="423720" cy="1101600"/>
            </a:xfrm>
            <a:custGeom>
              <a:avLst/>
              <a:gdLst>
                <a:gd name="textAreaLeft" fmla="*/ 124560 w 423720"/>
                <a:gd name="textAreaRight" fmla="*/ 424080 w 423720"/>
                <a:gd name="textAreaTop" fmla="*/ 45720 h 1101600"/>
                <a:gd name="textAreaBottom" fmla="*/ 1055880 h 11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3800">
              <a:off x="4917600" y="1195920"/>
              <a:ext cx="300240" cy="28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3800">
              <a:off x="5668920" y="1224360"/>
              <a:ext cx="300240" cy="28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834160" y="932760"/>
            <a:ext cx="2809800" cy="3697200"/>
            <a:chOff x="5834160" y="932760"/>
            <a:chExt cx="2809800" cy="3697200"/>
          </a:xfrm>
        </p:grpSpPr>
        <p:sp>
          <p:nvSpPr>
            <p:cNvPr id="59" name=""/>
            <p:cNvSpPr/>
            <p:nvPr/>
          </p:nvSpPr>
          <p:spPr>
            <a:xfrm rot="1159200">
              <a:off x="6324480" y="1143000"/>
              <a:ext cx="1828800" cy="3276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559200">
              <a:off x="6894360" y="2681640"/>
              <a:ext cx="423720" cy="1149480"/>
            </a:xfrm>
            <a:custGeom>
              <a:avLst/>
              <a:gdLst>
                <a:gd name="textAreaLeft" fmla="*/ 124560 w 423720"/>
                <a:gd name="textAreaRight" fmla="*/ 424080 w 423720"/>
                <a:gd name="textAreaTop" fmla="*/ 47880 h 1149480"/>
                <a:gd name="textAreaBottom" fmla="*/ 11016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159200">
              <a:off x="6922800" y="1710720"/>
              <a:ext cx="313200" cy="28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159200">
              <a:off x="7660440" y="1981800"/>
              <a:ext cx="313200" cy="282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295280" y="4572000"/>
            <a:ext cx="640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</a:rPr>
              <a:t>يحكى أنه كان هناك مجموعة من الأوراق البيضاء , جلست تتحدث مع بعضها وهي حزينة وتشتكي فتقول : لماذا نحن أوراق بيضاء دائما ؟ نريد أن نتغير , ولكن كيف يحصل ذلك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324720" y="277200"/>
            <a:ext cx="3855240" cy="5191920"/>
            <a:chOff x="324720" y="277200"/>
            <a:chExt cx="3855240" cy="5191920"/>
          </a:xfrm>
        </p:grpSpPr>
        <p:grpSp>
          <p:nvGrpSpPr>
            <p:cNvPr id="362" name=""/>
            <p:cNvGrpSpPr/>
            <p:nvPr/>
          </p:nvGrpSpPr>
          <p:grpSpPr>
            <a:xfrm>
              <a:off x="324720" y="725040"/>
              <a:ext cx="3236040" cy="4744080"/>
              <a:chOff x="324720" y="725040"/>
              <a:chExt cx="3236040" cy="4744080"/>
            </a:xfrm>
          </p:grpSpPr>
          <p:sp>
            <p:nvSpPr>
              <p:cNvPr id="363" name=""/>
              <p:cNvSpPr/>
              <p:nvPr/>
            </p:nvSpPr>
            <p:spPr>
              <a:xfrm rot="21517200">
                <a:off x="380880" y="761760"/>
                <a:ext cx="3123720" cy="4669920"/>
              </a:xfrm>
              <a:prstGeom prst="foldedCorner">
                <a:avLst>
                  <a:gd name="adj" fmla="val 12500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851760" y="1238400"/>
                <a:ext cx="2183760" cy="3190320"/>
                <a:chOff x="851760" y="1238400"/>
                <a:chExt cx="2183760" cy="3190320"/>
              </a:xfrm>
            </p:grpSpPr>
            <p:sp>
              <p:nvSpPr>
                <p:cNvPr id="365" name=""/>
                <p:cNvSpPr/>
                <p:nvPr/>
              </p:nvSpPr>
              <p:spPr>
                <a:xfrm rot="502800">
                  <a:off x="1258200" y="2235600"/>
                  <a:ext cx="466560" cy="34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rot="16361400">
                  <a:off x="1603080" y="2586960"/>
                  <a:ext cx="540000" cy="1343160"/>
                </a:xfrm>
                <a:custGeom>
                  <a:avLst/>
                  <a:gdLst>
                    <a:gd name="textAreaLeft" fmla="*/ 158760 w 540000"/>
                    <a:gd name="textAreaRight" fmla="*/ 540360 w 540000"/>
                    <a:gd name="textAreaTop" fmla="*/ 335880 h 1343160"/>
                    <a:gd name="textAreaBottom" fmla="*/ 1007640 h 134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rot="502800">
                  <a:off x="2142720" y="2192760"/>
                  <a:ext cx="466920" cy="3448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rot="21435000">
                  <a:off x="924840" y="1285200"/>
                  <a:ext cx="2036880" cy="30960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" name=""/>
            <p:cNvGrpSpPr/>
            <p:nvPr/>
          </p:nvGrpSpPr>
          <p:grpSpPr>
            <a:xfrm>
              <a:off x="597960" y="476640"/>
              <a:ext cx="3074040" cy="4830840"/>
              <a:chOff x="597960" y="476640"/>
              <a:chExt cx="3074040" cy="4830840"/>
            </a:xfrm>
          </p:grpSpPr>
          <p:sp>
            <p:nvSpPr>
              <p:cNvPr id="370" name=""/>
              <p:cNvSpPr/>
              <p:nvPr/>
            </p:nvSpPr>
            <p:spPr>
              <a:xfrm rot="21468600">
                <a:off x="686880" y="529920"/>
                <a:ext cx="2895480" cy="4723920"/>
              </a:xfrm>
              <a:prstGeom prst="foldedCorner">
                <a:avLst>
                  <a:gd name="adj" fmla="val 125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991080" y="1069560"/>
                <a:ext cx="2551320" cy="2790720"/>
                <a:chOff x="991080" y="1069560"/>
                <a:chExt cx="2551320" cy="2790720"/>
              </a:xfrm>
            </p:grpSpPr>
            <p:sp>
              <p:nvSpPr>
                <p:cNvPr id="372" name=""/>
                <p:cNvSpPr/>
                <p:nvPr/>
              </p:nvSpPr>
              <p:spPr>
                <a:xfrm rot="537000">
                  <a:off x="1871640" y="2070000"/>
                  <a:ext cx="369720" cy="325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6581000">
                  <a:off x="2018160" y="2489040"/>
                  <a:ext cx="474480" cy="894240"/>
                </a:xfrm>
                <a:custGeom>
                  <a:avLst/>
                  <a:gdLst>
                    <a:gd name="textAreaLeft" fmla="*/ 139320 w 474480"/>
                    <a:gd name="textAreaRight" fmla="*/ 474840 w 474480"/>
                    <a:gd name="textAreaTop" fmla="*/ 223560 h 894240"/>
                    <a:gd name="textAreaBottom" fmla="*/ 670680 h 894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rot="537000">
                  <a:off x="2361960" y="2051640"/>
                  <a:ext cx="368280" cy="325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rot="21468600">
                  <a:off x="1041480" y="1115280"/>
                  <a:ext cx="2449800" cy="26989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893880" y="328320"/>
              <a:ext cx="2919600" cy="4667040"/>
              <a:chOff x="893880" y="328320"/>
              <a:chExt cx="2919600" cy="4667040"/>
            </a:xfrm>
          </p:grpSpPr>
          <p:sp>
            <p:nvSpPr>
              <p:cNvPr id="377" name=""/>
              <p:cNvSpPr/>
              <p:nvPr/>
            </p:nvSpPr>
            <p:spPr>
              <a:xfrm rot="21477600">
                <a:off x="974160" y="375840"/>
                <a:ext cx="2758680" cy="457164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1172160" y="1117800"/>
                <a:ext cx="2254680" cy="2410200"/>
                <a:chOff x="1172160" y="1117800"/>
                <a:chExt cx="2254680" cy="2410200"/>
              </a:xfrm>
            </p:grpSpPr>
            <p:sp>
              <p:nvSpPr>
                <p:cNvPr id="379" name=""/>
                <p:cNvSpPr/>
                <p:nvPr/>
              </p:nvSpPr>
              <p:spPr>
                <a:xfrm rot="546000">
                  <a:off x="1455480" y="1626120"/>
                  <a:ext cx="458280" cy="400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rot="16590000">
                  <a:off x="2052000" y="2213640"/>
                  <a:ext cx="460080" cy="1226160"/>
                </a:xfrm>
                <a:custGeom>
                  <a:avLst/>
                  <a:gdLst>
                    <a:gd name="textAreaLeft" fmla="*/ 135360 w 460080"/>
                    <a:gd name="textAreaRight" fmla="*/ 460440 w 460080"/>
                    <a:gd name="textAreaTop" fmla="*/ 306360 h 1226160"/>
                    <a:gd name="textAreaBottom" fmla="*/ 919800 h 1226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rot="546000">
                  <a:off x="2500920" y="1678680"/>
                  <a:ext cx="458280" cy="400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rot="21477600">
                  <a:off x="1212840" y="1155600"/>
                  <a:ext cx="2172960" cy="233424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" name=""/>
            <p:cNvGrpSpPr/>
            <p:nvPr/>
          </p:nvGrpSpPr>
          <p:grpSpPr>
            <a:xfrm>
              <a:off x="1040760" y="277200"/>
              <a:ext cx="3139200" cy="4385520"/>
              <a:chOff x="1040760" y="277200"/>
              <a:chExt cx="3139200" cy="4385520"/>
            </a:xfrm>
          </p:grpSpPr>
          <p:sp>
            <p:nvSpPr>
              <p:cNvPr id="384" name=""/>
              <p:cNvSpPr/>
              <p:nvPr/>
            </p:nvSpPr>
            <p:spPr>
              <a:xfrm rot="21535800">
                <a:off x="1153440" y="304560"/>
                <a:ext cx="2986200" cy="4330440"/>
              </a:xfrm>
              <a:prstGeom prst="foldedCorner">
                <a:avLst>
                  <a:gd name="adj" fmla="val 12500"/>
                </a:avLst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212800">
                <a:off x="1380960" y="1177560"/>
                <a:ext cx="2408040" cy="22255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881200">
                <a:off x="1828440" y="1828440"/>
                <a:ext cx="398520" cy="317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6200000">
                <a:off x="2346120" y="2254320"/>
                <a:ext cx="566640" cy="1068480"/>
              </a:xfrm>
              <a:custGeom>
                <a:avLst/>
                <a:gdLst>
                  <a:gd name="textAreaLeft" fmla="*/ 166680 w 566640"/>
                  <a:gd name="textAreaRight" fmla="*/ 567000 w 566640"/>
                  <a:gd name="textAreaTop" fmla="*/ 267120 h 1068480"/>
                  <a:gd name="textAreaBottom" fmla="*/ 801360 h 106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881200">
                <a:off x="2819160" y="1828440"/>
                <a:ext cx="398520" cy="32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 rot="1258200">
            <a:off x="4952880" y="990360"/>
            <a:ext cx="3200400" cy="26542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4191120" y="3581280"/>
            <a:ext cx="464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هيا أسرعن وتجمعن مع بعضكن ولتجلس كل واحدة فوق الأخرى وبسرعة و هل أنتن مستعدات ؟ أنا سأدبسكن مع بعض حتى لا تتفرقن وتظل كل واحدة منكن مع صديقات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1521000" y="1177560"/>
            <a:ext cx="2010960" cy="3018960"/>
            <a:chOff x="1521000" y="1177560"/>
            <a:chExt cx="2010960" cy="3018960"/>
          </a:xfrm>
        </p:grpSpPr>
        <p:sp>
          <p:nvSpPr>
            <p:cNvPr id="392" name=""/>
            <p:cNvSpPr/>
            <p:nvPr/>
          </p:nvSpPr>
          <p:spPr>
            <a:xfrm rot="568200">
              <a:off x="1886040" y="2105640"/>
              <a:ext cx="441000" cy="33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6426800">
              <a:off x="2193840" y="2457360"/>
              <a:ext cx="516960" cy="1269720"/>
            </a:xfrm>
            <a:custGeom>
              <a:avLst/>
              <a:gdLst>
                <a:gd name="textAreaLeft" fmla="*/ 151920 w 516960"/>
                <a:gd name="textAreaRight" fmla="*/ 517320 w 516960"/>
                <a:gd name="textAreaTop" fmla="*/ 317520 h 1269720"/>
                <a:gd name="textAreaBottom" fmla="*/ 952560 h 12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568200">
              <a:off x="2723040" y="2081160"/>
              <a:ext cx="441360" cy="33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1499800">
              <a:off x="1563480" y="1204920"/>
              <a:ext cx="1925280" cy="2963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51120" y="585000"/>
            <a:ext cx="3239640" cy="4672440"/>
            <a:chOff x="951120" y="585000"/>
            <a:chExt cx="3239640" cy="4672440"/>
          </a:xfrm>
        </p:grpSpPr>
        <p:grpSp>
          <p:nvGrpSpPr>
            <p:cNvPr id="397" name=""/>
            <p:cNvGrpSpPr/>
            <p:nvPr/>
          </p:nvGrpSpPr>
          <p:grpSpPr>
            <a:xfrm>
              <a:off x="990720" y="609480"/>
              <a:ext cx="3200040" cy="4647960"/>
              <a:chOff x="990720" y="609480"/>
              <a:chExt cx="3200040" cy="4647960"/>
            </a:xfrm>
          </p:grpSpPr>
          <p:sp>
            <p:nvSpPr>
              <p:cNvPr id="398" name=""/>
              <p:cNvSpPr/>
              <p:nvPr/>
            </p:nvSpPr>
            <p:spPr>
              <a:xfrm>
                <a:off x="990720" y="609480"/>
                <a:ext cx="3200040" cy="4647960"/>
              </a:xfrm>
              <a:prstGeom prst="foldedCorner">
                <a:avLst>
                  <a:gd name="adj" fmla="val 125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1281600" y="1400400"/>
                <a:ext cx="2520720" cy="2373120"/>
                <a:chOff x="1281600" y="1400400"/>
                <a:chExt cx="2520720" cy="2373120"/>
              </a:xfrm>
            </p:grpSpPr>
            <p:sp>
              <p:nvSpPr>
                <p:cNvPr id="400" name=""/>
                <p:cNvSpPr/>
                <p:nvPr/>
              </p:nvSpPr>
              <p:spPr>
                <a:xfrm rot="668400">
                  <a:off x="1583640" y="1856160"/>
                  <a:ext cx="531360" cy="40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16713000">
                  <a:off x="2266920" y="2386800"/>
                  <a:ext cx="467640" cy="1422360"/>
                </a:xfrm>
                <a:custGeom>
                  <a:avLst/>
                  <a:gdLst>
                    <a:gd name="textAreaLeft" fmla="*/ 137520 w 467640"/>
                    <a:gd name="textAreaRight" fmla="*/ 468000 w 467640"/>
                    <a:gd name="textAreaTop" fmla="*/ 355680 h 1422360"/>
                    <a:gd name="textAreaBottom" fmla="*/ 1067040 h 1422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rot="668400">
                  <a:off x="2793600" y="1947600"/>
                  <a:ext cx="531360" cy="406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1281600" y="1400400"/>
                  <a:ext cx="2520720" cy="23731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4" name=""/>
            <p:cNvSpPr/>
            <p:nvPr/>
          </p:nvSpPr>
          <p:spPr>
            <a:xfrm rot="21583200">
              <a:off x="1042920" y="609480"/>
              <a:ext cx="2952720" cy="456408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052640" y="609480"/>
              <a:ext cx="2817720" cy="4419360"/>
              <a:chOff x="1052640" y="609480"/>
              <a:chExt cx="2817720" cy="4419360"/>
            </a:xfrm>
          </p:grpSpPr>
          <p:sp>
            <p:nvSpPr>
              <p:cNvPr id="406" name=""/>
              <p:cNvSpPr/>
              <p:nvPr/>
            </p:nvSpPr>
            <p:spPr>
              <a:xfrm>
                <a:off x="1052640" y="609480"/>
                <a:ext cx="2817720" cy="4419360"/>
              </a:xfrm>
              <a:prstGeom prst="foldedCorner">
                <a:avLst>
                  <a:gd name="adj" fmla="val 125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413720" y="1161720"/>
                <a:ext cx="2383920" cy="2525040"/>
                <a:chOff x="1413720" y="1161720"/>
                <a:chExt cx="2383920" cy="2525040"/>
              </a:xfrm>
            </p:grpSpPr>
            <p:sp>
              <p:nvSpPr>
                <p:cNvPr id="408" name=""/>
                <p:cNvSpPr/>
                <p:nvPr/>
              </p:nvSpPr>
              <p:spPr>
                <a:xfrm rot="668400">
                  <a:off x="2230200" y="2047680"/>
                  <a:ext cx="3600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rot="16713000">
                  <a:off x="2355480" y="2428920"/>
                  <a:ext cx="443880" cy="870120"/>
                </a:xfrm>
                <a:custGeom>
                  <a:avLst/>
                  <a:gdLst>
                    <a:gd name="textAreaLeft" fmla="*/ 130320 w 443880"/>
                    <a:gd name="textAreaRight" fmla="*/ 444240 w 443880"/>
                    <a:gd name="textAreaTop" fmla="*/ 217440 h 870120"/>
                    <a:gd name="textAreaBottom" fmla="*/ 652680 h 870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rot="668400">
                  <a:off x="2707560" y="2048040"/>
                  <a:ext cx="358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413720" y="1161720"/>
                  <a:ext cx="2383920" cy="252504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 rot="21535800">
              <a:off x="990720" y="609120"/>
              <a:ext cx="2666880" cy="4280040"/>
            </a:xfrm>
            <a:prstGeom prst="foldedCorner">
              <a:avLst>
                <a:gd name="adj" fmla="val 12500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 rot="1258200">
            <a:off x="5029200" y="685440"/>
            <a:ext cx="3200400" cy="265428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1008720" y="914400"/>
            <a:ext cx="2841840" cy="3581280"/>
            <a:chOff x="1008720" y="914400"/>
            <a:chExt cx="2841840" cy="3581280"/>
          </a:xfrm>
        </p:grpSpPr>
        <p:sp>
          <p:nvSpPr>
            <p:cNvPr id="415" name=""/>
            <p:cNvSpPr/>
            <p:nvPr/>
          </p:nvSpPr>
          <p:spPr>
            <a:xfrm rot="20212800">
              <a:off x="1353960" y="1473120"/>
              <a:ext cx="2151360" cy="2198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20881200">
              <a:off x="1828800" y="2133720"/>
              <a:ext cx="355680" cy="312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200000">
              <a:off x="2224800" y="2550240"/>
              <a:ext cx="496800" cy="996840"/>
            </a:xfrm>
            <a:custGeom>
              <a:avLst/>
              <a:gdLst>
                <a:gd name="textAreaLeft" fmla="*/ 145800 w 496800"/>
                <a:gd name="textAreaRight" fmla="*/ 497160 w 496800"/>
                <a:gd name="textAreaTop" fmla="*/ 249120 h 996840"/>
                <a:gd name="textAreaBottom" fmla="*/ 747720 h 9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881200">
              <a:off x="2666880" y="2133360"/>
              <a:ext cx="355680" cy="31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143000" y="914400"/>
              <a:ext cx="76320" cy="6094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43000" y="2286000"/>
              <a:ext cx="76320" cy="6094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19320" y="3886200"/>
              <a:ext cx="75960" cy="60948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343400" y="3429000"/>
            <a:ext cx="38862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والآن ها قد أصبح شكلكن مثل الكتاب ولا ينقصكن إلا غلاف يحمي ويحافظ على الجميع فما رأيك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ضحكت الأوراق كثيرا وتبدل حزن الجميع الى سعا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051840" y="377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33520" y="304920"/>
            <a:ext cx="7924680" cy="6019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99"/>
              </a:gs>
              <a:gs pos="50000">
                <a:srgbClr val="ffff99"/>
              </a:gs>
              <a:gs pos="100000">
                <a:srgbClr val="ff9999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380880"/>
            <a:ext cx="62485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اسئلة بعد سرد القصة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لماذا كانت الأوراق البيضاء حزين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إلى أين ذهبت الأوراق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كيف ساعد القلم الأوراق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كيف ساعد المقص الأوراق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كيف ساعدهم المقص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كيف ساعدتهم الدباسة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 لو أردت أن تصنع كتابا فما الذي تحتاجه ؟ أو ما الكتاب الذي ستصنع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417600"/>
            <a:ext cx="8610480" cy="59720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2590920" y="1143000"/>
            <a:ext cx="4495680" cy="37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333399"/>
                </a:solidFill>
                <a:latin typeface="Arial"/>
              </a:rPr>
              <a:t>مع تحياتي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</a:rPr>
              <a:t>نورالشمس</a:t>
            </a:r>
            <a:r>
              <a:rPr b="1" lang="ar-AE" sz="54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</a:rPr>
              <a:t>منتديات التربية و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1595520" y="1217520"/>
            <a:ext cx="2547720" cy="3440520"/>
            <a:chOff x="1595520" y="1217520"/>
            <a:chExt cx="2547720" cy="3440520"/>
          </a:xfrm>
        </p:grpSpPr>
        <p:sp>
          <p:nvSpPr>
            <p:cNvPr id="65" name=""/>
            <p:cNvSpPr/>
            <p:nvPr/>
          </p:nvSpPr>
          <p:spPr>
            <a:xfrm rot="20507400">
              <a:off x="2033640" y="1401480"/>
              <a:ext cx="1671480" cy="30718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4308000">
              <a:off x="2837880" y="2845080"/>
              <a:ext cx="397080" cy="1050480"/>
            </a:xfrm>
            <a:custGeom>
              <a:avLst/>
              <a:gdLst>
                <a:gd name="textAreaLeft" fmla="*/ 116640 w 397080"/>
                <a:gd name="textAreaRight" fmla="*/ 397440 w 397080"/>
                <a:gd name="textAreaTop" fmla="*/ 43560 h 1050480"/>
                <a:gd name="textAreaBottom" fmla="*/ 1006920 h 105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0507400">
              <a:off x="2100240" y="2202480"/>
              <a:ext cx="286560" cy="264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20507400">
              <a:off x="2780640" y="1978560"/>
              <a:ext cx="286560" cy="264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299400" y="450360"/>
            <a:ext cx="2468880" cy="3595320"/>
            <a:chOff x="3299400" y="450360"/>
            <a:chExt cx="2468880" cy="3595320"/>
          </a:xfrm>
        </p:grpSpPr>
        <p:sp>
          <p:nvSpPr>
            <p:cNvPr id="70" name=""/>
            <p:cNvSpPr/>
            <p:nvPr/>
          </p:nvSpPr>
          <p:spPr>
            <a:xfrm rot="20790000">
              <a:off x="3657600" y="609480"/>
              <a:ext cx="1752480" cy="3276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4590000">
              <a:off x="4460760" y="2171880"/>
              <a:ext cx="423720" cy="1101240"/>
            </a:xfrm>
            <a:custGeom>
              <a:avLst/>
              <a:gdLst>
                <a:gd name="textAreaLeft" fmla="*/ 124560 w 423720"/>
                <a:gd name="textAreaRight" fmla="*/ 424080 w 423720"/>
                <a:gd name="textAreaTop" fmla="*/ 45720 h 1101240"/>
                <a:gd name="textAreaBottom" fmla="*/ 1055520 h 110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790000">
              <a:off x="3777840" y="1409040"/>
              <a:ext cx="300240" cy="282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20790000">
              <a:off x="4508640" y="1233720"/>
              <a:ext cx="300240" cy="282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86400" y="685800"/>
            <a:ext cx="1828800" cy="3352680"/>
            <a:chOff x="5486400" y="685800"/>
            <a:chExt cx="1828800" cy="3352680"/>
          </a:xfrm>
        </p:grpSpPr>
        <p:sp>
          <p:nvSpPr>
            <p:cNvPr id="75" name=""/>
            <p:cNvSpPr/>
            <p:nvPr/>
          </p:nvSpPr>
          <p:spPr>
            <a:xfrm>
              <a:off x="5486400" y="685800"/>
              <a:ext cx="1828800" cy="33526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400000">
              <a:off x="6209640" y="2292840"/>
              <a:ext cx="433440" cy="1149480"/>
            </a:xfrm>
            <a:custGeom>
              <a:avLst/>
              <a:gdLst>
                <a:gd name="textAreaLeft" fmla="*/ 127440 w 433440"/>
                <a:gd name="textAreaRight" fmla="*/ 433800 w 433440"/>
                <a:gd name="textAreaTop" fmla="*/ 47880 h 1149480"/>
                <a:gd name="textAreaBottom" fmla="*/ 11016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9600" y="1379160"/>
              <a:ext cx="313200" cy="288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3680" y="1379160"/>
              <a:ext cx="313200" cy="2887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102000" y="1828080"/>
            <a:ext cx="2502360" cy="3583080"/>
            <a:chOff x="6102000" y="1828080"/>
            <a:chExt cx="2502360" cy="3583080"/>
          </a:xfrm>
        </p:grpSpPr>
        <p:sp>
          <p:nvSpPr>
            <p:cNvPr id="80" name=""/>
            <p:cNvSpPr/>
            <p:nvPr/>
          </p:nvSpPr>
          <p:spPr>
            <a:xfrm rot="668400">
              <a:off x="6400440" y="1981080"/>
              <a:ext cx="1905120" cy="32767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068400">
              <a:off x="7072560" y="3510720"/>
              <a:ext cx="423720" cy="1197360"/>
            </a:xfrm>
            <a:custGeom>
              <a:avLst/>
              <a:gdLst>
                <a:gd name="textAreaLeft" fmla="*/ 124560 w 423720"/>
                <a:gd name="textAreaRight" fmla="*/ 424080 w 423720"/>
                <a:gd name="textAreaTop" fmla="*/ 49680 h 1197360"/>
                <a:gd name="textAreaBottom" fmla="*/ 1147680 h 119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668400">
              <a:off x="6894000" y="2584800"/>
              <a:ext cx="326520" cy="282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668400">
              <a:off x="7695360" y="2742480"/>
              <a:ext cx="326520" cy="2822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28600" y="457200"/>
            <a:ext cx="2286000" cy="1676520"/>
            <a:chOff x="228600" y="457200"/>
            <a:chExt cx="2286000" cy="1676520"/>
          </a:xfrm>
        </p:grpSpPr>
        <p:sp>
          <p:nvSpPr>
            <p:cNvPr id="85" name=""/>
            <p:cNvSpPr/>
            <p:nvPr/>
          </p:nvSpPr>
          <p:spPr>
            <a:xfrm>
              <a:off x="228600" y="457200"/>
              <a:ext cx="2286000" cy="1676520"/>
            </a:xfrm>
            <a:prstGeom prst="cloudCallout">
              <a:avLst>
                <a:gd name="adj1" fmla="val 19999"/>
                <a:gd name="adj2" fmla="val 67615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 flipH="1" rot="9561600">
              <a:off x="533160" y="990360"/>
              <a:ext cx="187776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609480" y="51814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66"/>
                </a:solidFill>
                <a:latin typeface="Arial"/>
              </a:rPr>
              <a:t>قالت إحدى الأوراق : لماذا لا نذهب الى صديقنا القلم , ونسأله لعله يساعدن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329560" y="852120"/>
            <a:ext cx="2122920" cy="3096360"/>
            <a:chOff x="2329560" y="852120"/>
            <a:chExt cx="2122920" cy="3096360"/>
          </a:xfrm>
        </p:grpSpPr>
        <p:sp>
          <p:nvSpPr>
            <p:cNvPr id="89" name=""/>
            <p:cNvSpPr/>
            <p:nvPr/>
          </p:nvSpPr>
          <p:spPr>
            <a:xfrm rot="20707800">
              <a:off x="2666880" y="990360"/>
              <a:ext cx="1447920" cy="28191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4507800">
              <a:off x="3337200" y="2350440"/>
              <a:ext cx="364680" cy="910080"/>
            </a:xfrm>
            <a:custGeom>
              <a:avLst/>
              <a:gdLst>
                <a:gd name="textAreaLeft" fmla="*/ 107280 w 364680"/>
                <a:gd name="textAreaRight" fmla="*/ 364680 w 364680"/>
                <a:gd name="textAreaTop" fmla="*/ 37800 h 910080"/>
                <a:gd name="textAreaBottom" fmla="*/ 872280 h 9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0707800">
              <a:off x="2745360" y="1687680"/>
              <a:ext cx="248040" cy="24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0707800">
              <a:off x="3345480" y="1528560"/>
              <a:ext cx="248040" cy="2426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596040" y="925560"/>
            <a:ext cx="2104560" cy="2949120"/>
            <a:chOff x="3596040" y="925560"/>
            <a:chExt cx="2104560" cy="2949120"/>
          </a:xfrm>
        </p:grpSpPr>
        <p:sp>
          <p:nvSpPr>
            <p:cNvPr id="94" name=""/>
            <p:cNvSpPr/>
            <p:nvPr/>
          </p:nvSpPr>
          <p:spPr>
            <a:xfrm rot="20790000">
              <a:off x="3886200" y="1066320"/>
              <a:ext cx="1523880" cy="26672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4590000">
              <a:off x="4590360" y="2307600"/>
              <a:ext cx="344880" cy="957600"/>
            </a:xfrm>
            <a:custGeom>
              <a:avLst/>
              <a:gdLst>
                <a:gd name="textAreaLeft" fmla="*/ 101160 w 344880"/>
                <a:gd name="textAreaRight" fmla="*/ 344880 w 344880"/>
                <a:gd name="textAreaTop" fmla="*/ 39600 h 957600"/>
                <a:gd name="textAreaBottom" fmla="*/ 918000 h 9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790000">
              <a:off x="4001760" y="1723320"/>
              <a:ext cx="261000" cy="229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20790000">
              <a:off x="4636800" y="1570680"/>
              <a:ext cx="261000" cy="2296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456880" y="559800"/>
            <a:ext cx="1659240" cy="2995560"/>
            <a:chOff x="5456880" y="559800"/>
            <a:chExt cx="1659240" cy="2995560"/>
          </a:xfrm>
        </p:grpSpPr>
        <p:sp>
          <p:nvSpPr>
            <p:cNvPr id="99" name=""/>
            <p:cNvSpPr/>
            <p:nvPr/>
          </p:nvSpPr>
          <p:spPr>
            <a:xfrm rot="21344400">
              <a:off x="5562360" y="609480"/>
              <a:ext cx="1447560" cy="28958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143800">
              <a:off x="6151680" y="2036520"/>
              <a:ext cx="374400" cy="909720"/>
            </a:xfrm>
            <a:custGeom>
              <a:avLst/>
              <a:gdLst>
                <a:gd name="textAreaLeft" fmla="*/ 110160 w 374400"/>
                <a:gd name="textAreaRight" fmla="*/ 374760 w 374400"/>
                <a:gd name="textAreaTop" fmla="*/ 37800 h 909720"/>
                <a:gd name="textAreaBottom" fmla="*/ 871920 h 90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21344400">
              <a:off x="5757480" y="1236600"/>
              <a:ext cx="248040" cy="249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1344400">
              <a:off x="6375960" y="1190520"/>
              <a:ext cx="248040" cy="249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396480" y="1295640"/>
            <a:ext cx="2294640" cy="2895120"/>
            <a:chOff x="6396480" y="1295640"/>
            <a:chExt cx="2294640" cy="2895120"/>
          </a:xfrm>
        </p:grpSpPr>
        <p:sp>
          <p:nvSpPr>
            <p:cNvPr id="104" name=""/>
            <p:cNvSpPr/>
            <p:nvPr/>
          </p:nvSpPr>
          <p:spPr>
            <a:xfrm rot="668400">
              <a:off x="6629040" y="1447560"/>
              <a:ext cx="1828800" cy="25905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6068400">
              <a:off x="7326000" y="2556720"/>
              <a:ext cx="334800" cy="1149480"/>
            </a:xfrm>
            <a:custGeom>
              <a:avLst/>
              <a:gdLst>
                <a:gd name="textAreaLeft" fmla="*/ 98280 w 334800"/>
                <a:gd name="textAreaRight" fmla="*/ 335160 w 334800"/>
                <a:gd name="textAreaTop" fmla="*/ 47880 h 1149480"/>
                <a:gd name="textAreaBottom" fmla="*/ 1101600 h 114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668400">
              <a:off x="7075800" y="1909800"/>
              <a:ext cx="313200" cy="223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668400">
              <a:off x="7845120" y="2061360"/>
              <a:ext cx="313200" cy="2232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 flipH="1" rot="7677000">
            <a:off x="-33120" y="3787200"/>
            <a:ext cx="4419720" cy="806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3720" y="4343400"/>
            <a:ext cx="5943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66"/>
                </a:solidFill>
                <a:latin typeface="Arial"/>
              </a:rPr>
              <a:t>ذهبت الأوراق الى صديقها القلم وأخبرته سبب حزنها , فابتسم وقال : إنه يمكنني أن أساعدكن وأغير شكل أي واحدة منك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flipH="1" rot="7677000">
            <a:off x="-154800" y="3539160"/>
            <a:ext cx="4876920" cy="8906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3882600" y="212040"/>
            <a:ext cx="3721320" cy="4757040"/>
            <a:chOff x="3882600" y="212040"/>
            <a:chExt cx="3721320" cy="4757040"/>
          </a:xfrm>
        </p:grpSpPr>
        <p:sp>
          <p:nvSpPr>
            <p:cNvPr id="112" name=""/>
            <p:cNvSpPr/>
            <p:nvPr/>
          </p:nvSpPr>
          <p:spPr>
            <a:xfrm rot="668400">
              <a:off x="4266720" y="456840"/>
              <a:ext cx="2952720" cy="4267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97200" y="1282680"/>
              <a:ext cx="2438280" cy="23619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668400">
              <a:off x="5206680" y="1739520"/>
              <a:ext cx="401760" cy="339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713000">
              <a:off x="5427360" y="2515680"/>
              <a:ext cx="304920" cy="1190520"/>
            </a:xfrm>
            <a:custGeom>
              <a:avLst/>
              <a:gdLst>
                <a:gd name="textAreaLeft" fmla="*/ 89640 w 304920"/>
                <a:gd name="textAreaRight" fmla="*/ 305280 w 304920"/>
                <a:gd name="textAreaTop" fmla="*/ 297720 h 1190520"/>
                <a:gd name="textAreaBottom" fmla="*/ 893160 h 119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668400">
              <a:off x="6197400" y="1968120"/>
              <a:ext cx="401760" cy="3394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86000" y="5029200"/>
            <a:ext cx="4800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66"/>
                </a:solidFill>
                <a:latin typeface="Arial"/>
              </a:rPr>
              <a:t>فأرسم عليك أيتها الورقة الأولى شكل الدائرة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 flipH="1" rot="7677000">
            <a:off x="-154800" y="3539160"/>
            <a:ext cx="4876920" cy="8906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3897360" y="439200"/>
            <a:ext cx="3691800" cy="4607640"/>
            <a:chOff x="3897360" y="439200"/>
            <a:chExt cx="3691800" cy="4607640"/>
          </a:xfrm>
        </p:grpSpPr>
        <p:sp>
          <p:nvSpPr>
            <p:cNvPr id="120" name=""/>
            <p:cNvSpPr/>
            <p:nvPr/>
          </p:nvSpPr>
          <p:spPr>
            <a:xfrm rot="668400">
              <a:off x="4266720" y="685440"/>
              <a:ext cx="2952720" cy="4114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668400">
              <a:off x="5054040" y="1995840"/>
              <a:ext cx="401760" cy="327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713000">
              <a:off x="5559120" y="2457360"/>
              <a:ext cx="376560" cy="1074960"/>
            </a:xfrm>
            <a:custGeom>
              <a:avLst/>
              <a:gdLst>
                <a:gd name="textAreaLeft" fmla="*/ 110520 w 376560"/>
                <a:gd name="textAreaRight" fmla="*/ 376920 w 376560"/>
                <a:gd name="textAreaTop" fmla="*/ 268560 h 1074960"/>
                <a:gd name="textAreaBottom" fmla="*/ 806400 h 107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68400">
              <a:off x="5968440" y="2069280"/>
              <a:ext cx="401760" cy="327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25800" y="1628640"/>
              <a:ext cx="1905120" cy="1910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209680" y="510552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66"/>
                </a:solidFill>
                <a:latin typeface="Arial"/>
              </a:rPr>
              <a:t>وأرسم عليك أيتها الورقة الثانية شكل المربع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 flipH="1" rot="7677000">
            <a:off x="-154800" y="3539160"/>
            <a:ext cx="4876920" cy="89064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857400" y="377280"/>
            <a:ext cx="3721320" cy="4757040"/>
            <a:chOff x="3857400" y="377280"/>
            <a:chExt cx="3721320" cy="4757040"/>
          </a:xfrm>
        </p:grpSpPr>
        <p:sp>
          <p:nvSpPr>
            <p:cNvPr id="128" name=""/>
            <p:cNvSpPr/>
            <p:nvPr/>
          </p:nvSpPr>
          <p:spPr>
            <a:xfrm rot="668400">
              <a:off x="4241520" y="622080"/>
              <a:ext cx="2952720" cy="4267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668400">
              <a:off x="5105520" y="2057040"/>
              <a:ext cx="401400" cy="339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713000">
              <a:off x="5382000" y="2461680"/>
              <a:ext cx="379440" cy="1079280"/>
            </a:xfrm>
            <a:custGeom>
              <a:avLst/>
              <a:gdLst>
                <a:gd name="textAreaLeft" fmla="*/ 111600 w 379440"/>
                <a:gd name="textAreaRight" fmla="*/ 379800 w 379440"/>
                <a:gd name="textAreaTop" fmla="*/ 269640 h 1079280"/>
                <a:gd name="textAreaBottom" fmla="*/ 809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668400">
              <a:off x="5638680" y="2057040"/>
              <a:ext cx="401760" cy="33984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91120" y="1066680"/>
              <a:ext cx="2666880" cy="2819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438280" y="502920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66"/>
                </a:solidFill>
                <a:latin typeface="Arial"/>
              </a:rPr>
              <a:t>وأرسم عليك أيتها الورقة الثالثة شكل المثلث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 flipH="1" rot="7677000">
            <a:off x="-154800" y="3539160"/>
            <a:ext cx="4876920" cy="8906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4123800" y="309240"/>
            <a:ext cx="3467520" cy="4563720"/>
            <a:chOff x="4123800" y="309240"/>
            <a:chExt cx="3467520" cy="4563720"/>
          </a:xfrm>
        </p:grpSpPr>
        <p:sp>
          <p:nvSpPr>
            <p:cNvPr id="136" name=""/>
            <p:cNvSpPr/>
            <p:nvPr/>
          </p:nvSpPr>
          <p:spPr>
            <a:xfrm rot="668400">
              <a:off x="4495320" y="533520"/>
              <a:ext cx="2724120" cy="41148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668400">
              <a:off x="5292360" y="1916640"/>
              <a:ext cx="370080" cy="327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6527000">
              <a:off x="5491080" y="2372040"/>
              <a:ext cx="512640" cy="1065960"/>
            </a:xfrm>
            <a:custGeom>
              <a:avLst/>
              <a:gdLst>
                <a:gd name="textAreaLeft" fmla="*/ 150480 w 512640"/>
                <a:gd name="textAreaRight" fmla="*/ 513000 w 512640"/>
                <a:gd name="textAreaTop" fmla="*/ 266400 h 1065960"/>
                <a:gd name="textAreaBottom" fmla="*/ 799560 h 106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668400">
              <a:off x="5995080" y="1916640"/>
              <a:ext cx="370440" cy="327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0840" y="1035360"/>
              <a:ext cx="1616760" cy="2939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752480" y="50292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66"/>
                </a:solidFill>
                <a:latin typeface="Arial"/>
              </a:rPr>
              <a:t>وأنتِ أيتها الورقة الرابعة شكل المستطيل .. فما رأيكن الآ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641960" y="329760"/>
            <a:ext cx="2736000" cy="3620880"/>
            <a:chOff x="1641960" y="329760"/>
            <a:chExt cx="2736000" cy="3620880"/>
          </a:xfrm>
        </p:grpSpPr>
        <p:sp>
          <p:nvSpPr>
            <p:cNvPr id="143" name=""/>
            <p:cNvSpPr/>
            <p:nvPr/>
          </p:nvSpPr>
          <p:spPr>
            <a:xfrm rot="20614200">
              <a:off x="2057400" y="533520"/>
              <a:ext cx="1905120" cy="321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614200">
              <a:off x="2459880" y="1782000"/>
              <a:ext cx="258840" cy="255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4872800">
              <a:off x="2854800" y="2020320"/>
              <a:ext cx="400320" cy="745560"/>
            </a:xfrm>
            <a:custGeom>
              <a:avLst/>
              <a:gdLst>
                <a:gd name="textAreaLeft" fmla="*/ 117720 w 400320"/>
                <a:gd name="textAreaRight" fmla="*/ 400680 w 400320"/>
                <a:gd name="textAreaTop" fmla="*/ 186480 h 745560"/>
                <a:gd name="textAreaBottom" fmla="*/ 559440 h 74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614200">
              <a:off x="2895840" y="1554480"/>
              <a:ext cx="259200" cy="255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9945800">
              <a:off x="2389320" y="945000"/>
              <a:ext cx="1130760" cy="2295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389400" y="439560"/>
            <a:ext cx="2590200" cy="3619800"/>
            <a:chOff x="3389400" y="439560"/>
            <a:chExt cx="2590200" cy="3619800"/>
          </a:xfrm>
        </p:grpSpPr>
        <p:sp>
          <p:nvSpPr>
            <p:cNvPr id="149" name=""/>
            <p:cNvSpPr/>
            <p:nvPr/>
          </p:nvSpPr>
          <p:spPr>
            <a:xfrm rot="21276000">
              <a:off x="3768480" y="528480"/>
              <a:ext cx="2053800" cy="3441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1276000">
              <a:off x="4259160" y="1784520"/>
              <a:ext cx="279000" cy="273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5720000">
              <a:off x="4600800" y="2092320"/>
              <a:ext cx="306000" cy="750600"/>
            </a:xfrm>
            <a:custGeom>
              <a:avLst/>
              <a:gdLst>
                <a:gd name="textAreaLeft" fmla="*/ 90000 w 306000"/>
                <a:gd name="textAreaRight" fmla="*/ 306360 w 306000"/>
                <a:gd name="textAreaTop" fmla="*/ 187560 h 750600"/>
                <a:gd name="textAreaBottom" fmla="*/ 563040 h 75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276000">
              <a:off x="4614840" y="1678680"/>
              <a:ext cx="279360" cy="273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607600">
              <a:off x="3674520" y="933840"/>
              <a:ext cx="1854720" cy="22741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347440" y="521640"/>
            <a:ext cx="2595960" cy="3541320"/>
            <a:chOff x="5347440" y="521640"/>
            <a:chExt cx="2595960" cy="3541320"/>
          </a:xfrm>
        </p:grpSpPr>
        <p:sp>
          <p:nvSpPr>
            <p:cNvPr id="155" name=""/>
            <p:cNvSpPr/>
            <p:nvPr/>
          </p:nvSpPr>
          <p:spPr>
            <a:xfrm rot="668400">
              <a:off x="5638680" y="685800"/>
              <a:ext cx="2013120" cy="32130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668400">
              <a:off x="6175440" y="1708200"/>
              <a:ext cx="273600" cy="255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713000">
              <a:off x="6500520" y="2122560"/>
              <a:ext cx="293760" cy="732600"/>
            </a:xfrm>
            <a:custGeom>
              <a:avLst/>
              <a:gdLst>
                <a:gd name="textAreaLeft" fmla="*/ 86400 w 293760"/>
                <a:gd name="textAreaRight" fmla="*/ 294120 w 293760"/>
                <a:gd name="textAreaTop" fmla="*/ 183240 h 732600"/>
                <a:gd name="textAreaBottom" fmla="*/ 549720 h 73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68400">
              <a:off x="6798600" y="1765800"/>
              <a:ext cx="273600" cy="255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560" y="1422000"/>
              <a:ext cx="1298880" cy="1491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29320" y="2008080"/>
            <a:ext cx="3099240" cy="3388320"/>
            <a:chOff x="5629320" y="2008080"/>
            <a:chExt cx="3099240" cy="3388320"/>
          </a:xfrm>
        </p:grpSpPr>
        <p:sp>
          <p:nvSpPr>
            <p:cNvPr id="161" name=""/>
            <p:cNvSpPr/>
            <p:nvPr/>
          </p:nvSpPr>
          <p:spPr>
            <a:xfrm rot="1971000">
              <a:off x="6248520" y="2286000"/>
              <a:ext cx="1860480" cy="283212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302600">
              <a:off x="6484320" y="2856240"/>
              <a:ext cx="1536120" cy="1567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71000">
              <a:off x="7022520" y="3090600"/>
              <a:ext cx="253080" cy="225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8015000">
              <a:off x="6853680" y="3609360"/>
              <a:ext cx="202320" cy="749880"/>
            </a:xfrm>
            <a:custGeom>
              <a:avLst/>
              <a:gdLst>
                <a:gd name="textAreaLeft" fmla="*/ 59400 w 202320"/>
                <a:gd name="textAreaRight" fmla="*/ 202680 w 202320"/>
                <a:gd name="textAreaTop" fmla="*/ 187560 h 749880"/>
                <a:gd name="textAreaBottom" fmla="*/ 562680 h 74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971000">
              <a:off x="7546320" y="3462480"/>
              <a:ext cx="253080" cy="225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flipH="1" rot="5190600">
            <a:off x="-914760" y="3733920"/>
            <a:ext cx="4289400" cy="782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52280" y="380880"/>
            <a:ext cx="1828800" cy="1600200"/>
          </a:xfrm>
          <a:prstGeom prst="cloudCallout">
            <a:avLst>
              <a:gd name="adj1" fmla="val -10763"/>
              <a:gd name="adj2" fmla="val 8373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 rot="7372800">
            <a:off x="367200" y="834120"/>
            <a:ext cx="1420920" cy="666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3880" y="3962520"/>
            <a:ext cx="51818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ضحكت الأوراق وقلن : يا إلهي لقد تغير شكلنا شكرا لك أيها القلم , ولكن هل يمكنك أن تغير شكلنا أكثر 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66"/>
                </a:solidFill>
                <a:latin typeface="Arial"/>
              </a:rPr>
              <a:t>قال القلم لهن : اذهبن الى صديقنا المقص لعله يساعدك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06-10-18T20:37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