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47E0-D166-4DF8-8284-71BA871619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E2C4-36AD-4684-BFA6-57BC0E1D48C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9559-AE1E-4F95-BCE0-F63C74489C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0FC9-5832-4C35-8B86-F04CEF0BAA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D29-398F-4A35-B50F-1FDF6871A63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D350-2294-4184-BCA3-4EDA2857321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C9DE-8534-4791-B8FE-E4B4693AC61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9D27-A0A3-46C9-9366-A61E0A280F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F5C5-0580-4FAE-B4DB-7848FF132F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5A28-208D-4C1B-AA7A-E72A587E4F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23C-D532-4E37-B1FA-832ACAA1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F87-274C-4BBD-9A7B-F2A57D25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619-CDC8-45A5-9FE3-00AEA465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679-CC24-4C81-AD3F-FCED3270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182-E480-4229-9BED-A801A333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0A3-0EEC-4992-9B16-1C8599EB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F58-ED7C-4629-98FC-52B1DE5C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529-1B5A-4653-B91A-741B06A8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7DF-CB73-424D-AC90-91A6331B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849-3C79-4905-A0A4-EACE13AD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7F6-F553-4DA2-8C39-93D0A81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E24-0F77-4378-BC20-AB1C4B19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bbd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C216-DCBA-4B36-801D-2ECA5BCCD1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giclanternfestival.org/british_flag.jpg&amp;imgrefurl=http://daveloneranger.blogspot.com/&amp;h=482&amp;w=800&amp;sz=126&amp;hl=en&amp;start=3&amp;tbnid=GwXI8suNvkynNM:&amp;tbnh=86&amp;tbnw=143&amp;prev=/images%3Fq%3Dbritish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salemthesoldier.us/american_flag.gif&amp;imgrefurl=http://www.salemthesoldier.us/&amp;h=230&amp;w=368&amp;sz=11&amp;hl=en&amp;start=15&amp;tbnid=UkE30PcyYlzx_M:&amp;tbnh=76&amp;tbnw=122&amp;prev=/images%3Fq%3Damerica%2Bflag%26gbv%3D2%26hl%3De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/imgres?imgurl=http://www.salemthesoldier.us/american_flag.gif&amp;imgrefurl=http://www.salemthesoldier.us/&amp;h=230&amp;w=368&amp;sz=11&amp;hl=en&amp;start=15&amp;tbnid=UkE30PcyYlzx_M:&amp;tbnh=76&amp;tbnw=122&amp;prev=/images%3Fq%3Damerica%2Bflag%26gbv%3D2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magiclanternfestival.org/british_flag.jpg&amp;imgrefurl=http://daveloneranger.blogspot.com/&amp;h=482&amp;w=800&amp;sz=126&amp;hl=en&amp;start=3&amp;tbnid=GwXI8suNvkynNM:&amp;tbnh=86&amp;tbnw=143&amp;prev=/images%3Fq%3Dbritish%26gbv%3D2%26hl%3Den" TargetMode="External"/><Relationship Id="rId5" Type="http://schemas.openxmlformats.org/officeDocument/2006/relationships/image" Target="../media/image1.jpeg"/><Relationship Id="rId6" Type="http://schemas.openxmlformats.org/officeDocument/2006/relationships/hyperlink" Target="http://images.google.com/imgres?imgurl=http://exscale.se/__files/3d/dream-flat/dream-flat-10.jpg&amp;imgrefurl=http://exscale.se/archives/2006/02/24/dream-flat/&amp;h=960&amp;w=1280&amp;sz=446&amp;hl=en&amp;start=2&amp;tbnid=Z-b74kYDhdFe1M:&amp;tbnh=113&amp;tbnw=150&amp;prev=/images%3Fq%3Dflat%26gbv%3D2%26hl%3Den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com/imgres?imgurl=http://stan.uio.no/blog/isne/film%2520reel%25202.JPG&amp;imgrefurl=http://stan.uio.no/blog/isne/social_event/&amp;h=1364&amp;w=1091&amp;sz=163&amp;hl=en&amp;start=3&amp;tbnid=SCzidFLjjN91ZM:&amp;tbnh=150&amp;tbnw=120&amp;prev=/images%3Fq%3Dfilm%26gbv%3D2%26hl%3Den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giclanternfestival.org/british_flag.jpg&amp;imgrefurl=http://daveloneranger.blogspot.com/&amp;h=482&amp;w=800&amp;sz=126&amp;hl=en&amp;start=3&amp;tbnid=GwXI8suNvkynNM:&amp;tbnh=86&amp;tbnw=143&amp;prev=/images%3Fq%3Dbritish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salemthesoldier.us/american_flag.gif&amp;imgrefurl=http://www.salemthesoldier.us/&amp;h=230&amp;w=368&amp;sz=11&amp;hl=en&amp;start=15&amp;tbnid=UkE30PcyYlzx_M:&amp;tbnh=76&amp;tbnw=122&amp;prev=/images%3Fq%3Damerica%2Bflag%26gbv%3D2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onekama.k12.mi.us/principal/archive.pre.2006/5principal011.jpg&amp;imgrefurl=http://www.onekama.k12.mi.us/principal/index.htm&amp;h=362&amp;w=360&amp;sz=19&amp;hl=en&amp;start=16&amp;tbnid=d224X659FwN3TM:&amp;tbnh=121&amp;tbnw=120&amp;prev=/images%3Fq%3Dprincipal%26gbv%3D2%26hl%3De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www.georgianhomebb.ca/images/yard1.jpg&amp;imgrefurl=http://www.georgianhomebb.ca/other_pictures.shtml&amp;h=375&amp;w=500&amp;sz=124&amp;hl=en&amp;start=2&amp;tbnid=Bv0TFjAxplOCiM:&amp;tbnh=98&amp;tbnw=130&amp;prev=/images%3Fq%3Dyard%26gbv%3D2%26hl%3De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dakotatrucksales.com/siteart/Truck.jpg&amp;imgrefurl=http://www.dakotatrucksales.com/&amp;h=306&amp;w=461&amp;sz=19&amp;hl=en&amp;start=16&amp;tbnid=i5a31WRztUbsdM:&amp;tbnh=85&amp;tbnw=128&amp;prev=/images%3Fq%3Dtruck%26gbv%3D2%26hl%3Den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giclanternfestival.org/british_flag.jpg&amp;imgrefurl=http://daveloneranger.blogspot.com/&amp;h=482&amp;w=800&amp;sz=126&amp;hl=en&amp;start=3&amp;tbnid=GwXI8suNvkynNM:&amp;tbnh=86&amp;tbnw=143&amp;prev=/images%3Fq%3Dbritish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salemthesoldier.us/american_flag.gif&amp;imgrefurl=http://www.salemthesoldier.us/&amp;h=230&amp;w=368&amp;sz=11&amp;hl=en&amp;start=15&amp;tbnid=UkE30PcyYlzx_M:&amp;tbnh=76&amp;tbnw=122&amp;prev=/images%3Fq%3Damerica%2Bflag%26gbv%3D2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stjoechannel.com/media/jpg/gas-pump2007-11-29-1196355184.jpg&amp;imgrefurl=http://stjoechannel.com/&amp;h=400&amp;w=400&amp;sz=17&amp;hl=en&amp;start=1&amp;tbnid=9-ak0C1GkOPvkM:&amp;tbnh=124&amp;tbnw=124&amp;prev=/images%3Fq%3Dgas%26gbv%3D2%26hl%3D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images.inmagine.com/img/photodisc/pdgp035/pdGP035005.jpg&amp;imgrefurl=http://www.inmagine.com/pdgp035/pdGP035005-photo&amp;h=316&amp;w=400&amp;sz=10&amp;hl=en&amp;start=10&amp;tbnid=EndIIEsEzY_d3M:&amp;tbnh=98&amp;tbnw=124&amp;prev=/images%3Fq%3Deraser%26gbv%3D2%26hl%3D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www.spca.bc.ca/help/ThriftStorePhotos/Port%2520Alberni%2520Thrift%2520Store%252001.jpg&amp;imgrefurl=http://www.spca.bc.ca/help/DonateUsedItems.asp&amp;h=600&amp;w=800&amp;sz=97&amp;hl=en&amp;start=10&amp;tbnid=QIxJU7Cy60lTJM:&amp;tbnh=107&amp;tbnw=143&amp;prev=/images%3Fq%3Dstore%26gbv%3D2%26hl%3D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www.thegreenhead.com/imgs/faucet-light-1.jpg&amp;imgrefurl=http://www.thegreenhead.com/2005/11/faucet-light-add-bright-blue.php&amp;h=478&amp;w=500&amp;sz=37&amp;hl=en&amp;start=5&amp;tbnid=vo5lCO5FfmVKpM:&amp;tbnh=124&amp;tbnw=130&amp;prev=/images%3Fq%3Dfaucet%26gbv%3D2%26hl%3Den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ritish And America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Made By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Nilo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Miss .RJ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merican_flag"/>
          <p:cNvPicPr/>
          <p:nvPr/>
        </p:nvPicPr>
        <p:blipFill>
          <a:blip r:embed="rId1"/>
          <a:stretch/>
        </p:blipFill>
        <p:spPr>
          <a:xfrm>
            <a:off x="6858000" y="1981080"/>
            <a:ext cx="1162080" cy="723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british_flag"/>
          <p:cNvPicPr/>
          <p:nvPr/>
        </p:nvPicPr>
        <p:blipFill>
          <a:blip r:embed="rId2"/>
          <a:stretch/>
        </p:blipFill>
        <p:spPr>
          <a:xfrm>
            <a:off x="2590920" y="1981080"/>
            <a:ext cx="1143000" cy="730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838080" y="2057400"/>
            <a:ext cx="53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British                       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95280" y="26668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fferent spell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295280" y="380880"/>
            <a:ext cx="457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0c0c0"/>
                </a:solidFill>
                <a:latin typeface="Arial"/>
              </a:rPr>
              <a:t>1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0c0c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3520" y="121932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i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 our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eri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 or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l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Comic Sans MS"/>
                        </a:rPr>
                        <a:t>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l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Comic Sans MS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v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Comic Sans MS"/>
                        </a:rPr>
                        <a:t>ou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v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Comic Sans MS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b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Comic Sans MS"/>
                        </a:rPr>
                        <a:t>ou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b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Comic Sans MS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81" descr="british_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676520"/>
            <a:ext cx="129564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3" descr="american_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1752480"/>
            <a:ext cx="11620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i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 tre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eri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 ter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1371600"/>
          <a:ext cx="8229600" cy="3809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i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 ll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eri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 l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l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l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l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</a:t>
                      </a:r>
                      <a:r>
                        <a:rPr b="1" lang="en-US" sz="2800" spc="-1" strike="noStrike">
                          <a:solidFill>
                            <a:srgbClr val="dd238d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990720" y="6094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c0c0c0"/>
                </a:solidFill>
                <a:latin typeface="Arial"/>
              </a:rPr>
              <a:t>2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c0c0c0"/>
              </a:solidFill>
              <a:latin typeface="Arial"/>
              <a:ea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68360" y="2681280"/>
            <a:ext cx="576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ifferent word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7200" y="457200"/>
            <a:ext cx="7620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tish             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rtain……...  drap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xi"/>
          <p:cNvPicPr/>
          <p:nvPr/>
        </p:nvPicPr>
        <p:blipFill>
          <a:blip r:embed="rId1"/>
          <a:stretch/>
        </p:blipFill>
        <p:spPr>
          <a:xfrm>
            <a:off x="6477120" y="13716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merican_fla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57200"/>
            <a:ext cx="1162080" cy="723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british_fl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457200"/>
            <a:ext cx="1143000" cy="730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762120" y="350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lat…......……a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dream-flat-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00800" y="3200400"/>
            <a:ext cx="144792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762120" y="51814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lm……………..mov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film%2520reel%2520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4876920"/>
            <a:ext cx="14479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533520" y="685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tish            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british_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609480"/>
            <a:ext cx="1143000" cy="730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merican_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609480"/>
            <a:ext cx="1162080" cy="723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80880" y="2286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 teacher…..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80880" y="3657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arden…………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33520" y="5029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rry…………...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5principal0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905120"/>
            <a:ext cx="151128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yard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24480" y="35812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Truck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48520" y="5029200"/>
            <a:ext cx="1828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tish             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british_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609480"/>
            <a:ext cx="1143000" cy="73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american_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609480"/>
            <a:ext cx="1162080" cy="723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33520" y="19051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trol…..……..……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3520" y="30481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bber………….….era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33520" y="40384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p………………....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9480" y="5029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p……………………fauc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gas-pump2007-11-29-119635518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16002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pdGP03500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24480" y="2895480"/>
            <a:ext cx="129564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Port%2520Alberni%2520Thrift%2520Store%25200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48520" y="3886200"/>
            <a:ext cx="1361880" cy="1019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faucet-light-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72200" y="4952880"/>
            <a:ext cx="14479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8:14:09Z</dcterms:created>
  <dc:creator>USER</dc:creator>
  <dc:description/>
  <dc:language>en-US</dc:language>
  <cp:lastModifiedBy>RJ</cp:lastModifiedBy>
  <dcterms:modified xsi:type="dcterms:W3CDTF">2008-04-20T20:59:28Z</dcterms:modified>
  <cp:revision>4</cp:revision>
  <dc:subject/>
  <dc:title>British And American English</dc:title>
</cp:coreProperties>
</file>