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5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92C-2A96-4303-9921-86D23537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9CB-4064-48F7-912E-C7A69EA3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75F-7809-49CF-8A47-B0518AC4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9A9-92F5-4D89-8150-E095DB9F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A35-0590-4D72-A013-20BDC08D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247-8602-4F89-AD02-04B3D9A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CA3-4513-4CB0-90D0-143AF88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021-227F-4884-B0BA-0D42E57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1D0-6815-452C-B6CE-CA979B26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921-B363-4DB0-A417-56783EE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BB9-2A6B-4EEE-B863-58A6F7B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282-F96A-40D9-8E66-56812E82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5FB-FA95-471A-931A-8F97B0CBE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987640" y="4941720"/>
            <a:ext cx="1655640" cy="1366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71640" y="117360"/>
            <a:ext cx="7234200" cy="6624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2266920" y="1052640"/>
            <a:ext cx="14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052640"/>
            <a:ext cx="935280" cy="10810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795640" y="98100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67280" y="1052280"/>
            <a:ext cx="1513080" cy="10080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3213000"/>
            <a:ext cx="0" cy="100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3213000"/>
            <a:ext cx="1368360" cy="1224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372360" y="5516280"/>
            <a:ext cx="0" cy="649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800000">
            <a:off x="2268360" y="5516280"/>
            <a:ext cx="935280" cy="108108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5975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6156360" y="3213000"/>
            <a:ext cx="936720" cy="863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6920" y="5084640"/>
            <a:ext cx="64944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3141720"/>
            <a:ext cx="719280" cy="15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5084640"/>
            <a:ext cx="64908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345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236000" y="2203560"/>
            <a:ext cx="64908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2133720"/>
            <a:ext cx="64944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4076640"/>
            <a:ext cx="158292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516640"/>
            <a:ext cx="64944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5516640"/>
            <a:ext cx="649440" cy="7207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00" y="144360"/>
            <a:ext cx="8550000" cy="6453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500720" y="620640"/>
            <a:ext cx="1655640" cy="1366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1655640" cy="165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4869000"/>
            <a:ext cx="1656000" cy="1366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877240" cy="6624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7" name=""/>
          <p:cNvSpPr/>
          <p:nvPr/>
        </p:nvSpPr>
        <p:spPr>
          <a:xfrm flipH="1">
            <a:off x="1115640" y="1125360"/>
            <a:ext cx="5761080" cy="3095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547280" y="3284640"/>
            <a:ext cx="5688360" cy="2592360"/>
          </a:xfrm>
          <a:prstGeom prst="line">
            <a:avLst/>
          </a:prstGeom>
          <a:ln w="57240">
            <a:solidFill>
              <a:srgbClr val="ff00ff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55640" y="2781360"/>
            <a:ext cx="6337440" cy="302400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00000" y="1341360"/>
            <a:ext cx="640872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71640" y="1052640"/>
            <a:ext cx="6192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826920" y="1052280"/>
            <a:ext cx="6337440" cy="2592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60" y="1196640"/>
            <a:ext cx="6481800" cy="4608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834920" y="5877000"/>
            <a:ext cx="5257800" cy="216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44280"/>
            <a:ext cx="7704000" cy="6769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16360" y="981000"/>
            <a:ext cx="718920" cy="604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64000" y="3917880"/>
            <a:ext cx="771480" cy="303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68360" y="6316560"/>
            <a:ext cx="719280" cy="28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44280"/>
            <a:ext cx="8496000" cy="6767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6" name=""/>
          <p:cNvSpPr/>
          <p:nvPr/>
        </p:nvSpPr>
        <p:spPr>
          <a:xfrm flipH="1">
            <a:off x="2268000" y="1557360"/>
            <a:ext cx="4464360" cy="1150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979280" y="1989000"/>
            <a:ext cx="4824360" cy="93528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79280" y="3284640"/>
            <a:ext cx="4753080" cy="2881080"/>
          </a:xfrm>
          <a:prstGeom prst="line">
            <a:avLst/>
          </a:prstGeom>
          <a:ln w="57240">
            <a:solidFill>
              <a:srgbClr val="ff00ff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692000" y="1196640"/>
            <a:ext cx="5111640" cy="3816360"/>
          </a:xfrm>
          <a:prstGeom prst="line">
            <a:avLst/>
          </a:prstGeom>
          <a:ln w="57240">
            <a:solidFill>
              <a:srgbClr val="339966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050920" y="4365360"/>
            <a:ext cx="4321440" cy="1942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3720" y="260280"/>
            <a:ext cx="8325000" cy="6337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148360" y="2276640"/>
            <a:ext cx="1655640" cy="16556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58920" y="2494080"/>
            <a:ext cx="1428840" cy="136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19640" y="4508640"/>
            <a:ext cx="1584360" cy="1728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4869000"/>
            <a:ext cx="2303640" cy="1439640"/>
          </a:xfrm>
          <a:prstGeom prst="rect">
            <a:avLst/>
          </a:prstGeom>
          <a:solidFill>
            <a:srgbClr val="00cc99">
              <a:alpha val="2000"/>
            </a:srgbClr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04200" cy="6193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5651640" y="1484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19573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484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1002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51640" y="39736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45496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39736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496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9000" y="260280"/>
            <a:ext cx="8764560" cy="6337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24000" y="2349360"/>
            <a:ext cx="1944360" cy="1656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4941720"/>
            <a:ext cx="1800000" cy="1656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7040" y="260280"/>
            <a:ext cx="8628120" cy="6292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6443640" y="404640"/>
            <a:ext cx="1655640" cy="1656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637000"/>
            <a:ext cx="1656000" cy="16556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941720"/>
            <a:ext cx="1655640" cy="1656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12-13T06:30:30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