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409-059C-4A73-8CB2-AFE46951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EC7-55FD-4654-901C-07CE451F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F49-B575-46EA-B984-941E941A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69E-FD07-4293-A3E1-198B5904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6D9F-639F-4BC6-BA2E-66143554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8BD-F814-4802-8C63-8873939C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6D91-BD0F-4656-8042-6D7C1995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A63-A25A-4DA6-86D7-6B45E779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E37-0BCF-4ECD-A390-0274CA69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7DA-7613-4577-88B8-03CF20E9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D70-8E07-45B8-9866-5546053D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06A-0FA6-43EF-B0A9-0F4BE6DF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51BF-B655-44BF-9966-50CA0E33C7C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rcRect l="0" t="0" r="0" b="41655"/>
          <a:stretch/>
        </p:blipFill>
        <p:spPr>
          <a:xfrm>
            <a:off x="611280" y="476280"/>
            <a:ext cx="8064360" cy="5761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7236000" y="2997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2997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6920" y="2997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56720" y="2565360"/>
            <a:ext cx="36036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4720" y="2637000"/>
            <a:ext cx="36036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56720" y="4508640"/>
            <a:ext cx="36036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4508640"/>
            <a:ext cx="36036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997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2997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2997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08720" y="3613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613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613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90920" y="3613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3613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3613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836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4836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4869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5484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5484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5484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4836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4836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49100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9640" y="5484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27280" y="5516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35280" y="55576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395280" y="404640"/>
            <a:ext cx="8353440" cy="5904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7164360" y="16286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24360" y="162864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700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31813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51280" y="31813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640" y="32529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5373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24000" y="189000"/>
            <a:ext cx="8569080" cy="6524640"/>
          </a:xfrm>
          <a:prstGeom prst="rect">
            <a:avLst/>
          </a:prstGeom>
          <a:ln w="76320">
            <a:solidFill>
              <a:srgbClr val="6666ff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5292720" y="9079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36360" y="9079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64000" y="162864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36360" y="15969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2349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36360" y="2276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35640" y="2997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36360" y="2924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59640" y="4724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4724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04000" y="59180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59896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392040" y="289080"/>
            <a:ext cx="8358120" cy="6379920"/>
          </a:xfrm>
          <a:prstGeom prst="rect">
            <a:avLst/>
          </a:prstGeom>
          <a:ln w="76320">
            <a:solidFill>
              <a:srgbClr val="6666ff"/>
            </a:solidFill>
            <a:miter/>
          </a:ln>
        </p:spPr>
      </p:pic>
      <p:sp>
        <p:nvSpPr>
          <p:cNvPr id="240" name=""/>
          <p:cNvSpPr/>
          <p:nvPr/>
        </p:nvSpPr>
        <p:spPr>
          <a:xfrm>
            <a:off x="7093080" y="44766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2000" y="44766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447660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7640" y="534204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987640" y="44766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43700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443700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24000" y="53420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rcRect l="0" t="59529" r="0" b="0"/>
          <a:stretch/>
        </p:blipFill>
        <p:spPr>
          <a:xfrm>
            <a:off x="684360" y="333360"/>
            <a:ext cx="8064360" cy="6120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6588000" y="1413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32360" y="1413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14560" y="1413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1413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36846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04000" y="45496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04000" y="5445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7162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4581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19640" y="5413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51260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rcRect l="0" t="0" r="0" b="38312"/>
          <a:stretch/>
        </p:blipFill>
        <p:spPr>
          <a:xfrm>
            <a:off x="466560" y="404640"/>
            <a:ext cx="8209080" cy="5904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6588000" y="16686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1596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227664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22446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16720" y="28209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289260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5280" y="3397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27280" y="3397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6000" y="49100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49100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49100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57736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57340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57736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rcRect l="0" t="59486" r="0" b="0"/>
          <a:stretch/>
        </p:blipFill>
        <p:spPr>
          <a:xfrm>
            <a:off x="539640" y="404640"/>
            <a:ext cx="8064720" cy="59058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7236000" y="4405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4405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4405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4365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66920" y="43340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436572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rcRect l="0" t="0" r="0" b="30485"/>
          <a:stretch/>
        </p:blipFill>
        <p:spPr>
          <a:xfrm>
            <a:off x="468360" y="476280"/>
            <a:ext cx="8197920" cy="5977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7236000" y="3141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3348000" y="2421000"/>
            <a:ext cx="700200" cy="647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1763640" y="2421000"/>
            <a:ext cx="700200" cy="64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9"/>
          <a:stretch/>
        </p:blipFill>
        <p:spPr>
          <a:xfrm>
            <a:off x="3348000" y="3068640"/>
            <a:ext cx="700200" cy="647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0"/>
          <a:stretch/>
        </p:blipFill>
        <p:spPr>
          <a:xfrm>
            <a:off x="1784520" y="3068640"/>
            <a:ext cx="699840" cy="647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3800520" y="4510080"/>
            <a:ext cx="700200" cy="647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2"/>
          <a:stretch/>
        </p:blipFill>
        <p:spPr>
          <a:xfrm>
            <a:off x="2987640" y="4508640"/>
            <a:ext cx="700200" cy="647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2268360" y="4510080"/>
            <a:ext cx="700200" cy="647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4"/>
          <a:stretch/>
        </p:blipFill>
        <p:spPr>
          <a:xfrm>
            <a:off x="1547640" y="4510080"/>
            <a:ext cx="700200" cy="64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5"/>
          <a:stretch/>
        </p:blipFill>
        <p:spPr>
          <a:xfrm>
            <a:off x="3348000" y="5013360"/>
            <a:ext cx="700200" cy="647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6"/>
          <a:stretch/>
        </p:blipFill>
        <p:spPr>
          <a:xfrm>
            <a:off x="2627280" y="5013360"/>
            <a:ext cx="700200" cy="6476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7"/>
          <a:stretch/>
        </p:blipFill>
        <p:spPr>
          <a:xfrm>
            <a:off x="1908000" y="5013360"/>
            <a:ext cx="700200" cy="64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8"/>
          <a:stretch/>
        </p:blipFill>
        <p:spPr>
          <a:xfrm>
            <a:off x="2987640" y="5516640"/>
            <a:ext cx="700200" cy="64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9"/>
          <a:stretch/>
        </p:blipFill>
        <p:spPr>
          <a:xfrm>
            <a:off x="2268360" y="5518080"/>
            <a:ext cx="700200" cy="647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164360" y="5373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rcRect l="0" t="68282" r="0" b="0"/>
          <a:stretch/>
        </p:blipFill>
        <p:spPr>
          <a:xfrm>
            <a:off x="539640" y="981000"/>
            <a:ext cx="8197920" cy="5112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3492360" y="1773360"/>
            <a:ext cx="935280" cy="107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1763640" y="1773360"/>
            <a:ext cx="98748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419640" y="2852640"/>
            <a:ext cx="1008000" cy="8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1763640" y="2637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3851280" y="4221000"/>
            <a:ext cx="576360" cy="64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2"/>
          <a:stretch/>
        </p:blipFill>
        <p:spPr>
          <a:xfrm>
            <a:off x="2843280" y="4221000"/>
            <a:ext cx="576360" cy="64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1835280" y="4221000"/>
            <a:ext cx="576000" cy="64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307280" y="39006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rcRect l="0" t="0" r="0" b="52388"/>
          <a:stretch/>
        </p:blipFill>
        <p:spPr>
          <a:xfrm>
            <a:off x="468360" y="404640"/>
            <a:ext cx="8170920" cy="59770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6083280" y="35416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350028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34686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4365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43340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43340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56360" y="5268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5268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5268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rcRect l="0" t="46432" r="0" b="0"/>
          <a:stretch/>
        </p:blipFill>
        <p:spPr>
          <a:xfrm>
            <a:off x="468360" y="333360"/>
            <a:ext cx="8170920" cy="6120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6732720" y="126828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49840" y="1268280"/>
            <a:ext cx="100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12366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8000" y="12366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1197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1165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16720" y="26370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22920" y="2637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29080" y="256536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2565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24000" y="2565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2637000"/>
            <a:ext cx="9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59640" y="4836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87640" y="4836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rcRect l="0" t="93060" r="0" b="0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rcRect l="0" t="0" r="0" b="93060"/>
          <a:stretch/>
        </p:blipFill>
        <p:spPr>
          <a:xfrm>
            <a:off x="0" y="0"/>
            <a:ext cx="9144000" cy="333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rcRect l="0" t="0" r="96465" b="0"/>
          <a:stretch/>
        </p:blipFill>
        <p:spPr>
          <a:xfrm>
            <a:off x="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rcRect l="96465" t="0" r="0" b="0"/>
          <a:stretch/>
        </p:blipFill>
        <p:spPr>
          <a:xfrm>
            <a:off x="8820000" y="0"/>
            <a:ext cx="32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108000" y="324000"/>
            <a:ext cx="8996400" cy="6273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7523280" y="2133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43640" y="2133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6720" y="21337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16360" y="2133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2133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2560" y="2133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23280" y="4005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15280" y="4005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92720" y="40053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87640" y="4044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63640" y="404496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1280" y="40449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88000" y="53420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534204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53737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0-12-08T16:06:48Z</dcterms:modified>
  <cp:revision>10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