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9.wmf" ContentType="image/x-wmf"/>
  <Override PartName="/ppt/media/image12.wmf" ContentType="image/x-wmf"/>
  <Override PartName="/ppt/media/image17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C8E-DD41-4AA6-B862-3AE79AA5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F65-BF1E-4B5B-AF6D-B1A9D027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137B-1E1B-4BE3-84F1-B51515FAD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055-FF5A-469F-9D55-7A0A86FD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539E-358A-45E1-9FCD-50BDB7B1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51B7-FB93-4CB4-B349-96E15E2D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CC03-3A78-44FB-BBE2-95976844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70CB-1153-4382-9FAF-CD109B9B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ABDA-B338-41A4-BF11-3A7F90D6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8B88-1E58-4E21-BF7F-EABB3CC7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EB4B-1468-4997-9D04-31527A78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BE7-D2B7-418F-AF07-7C0E6677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E17C-0555-491D-A831-B11D28E0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58A1-2E13-4458-8A33-D6AD2806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5DAD-BDCB-4D1C-9635-1BCC0DB1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416F-B7D1-4FFC-BDE0-91C4C864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CF76-C361-46FA-9178-394C79FD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100-1E47-44B1-B30C-FA9B8BEE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2B4-31D8-4EA2-8B2E-FC868AFC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F8E8-262B-4CB7-85CA-63CE668C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885-840D-475D-9E8C-9AA02954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82A-BB10-48D4-A581-00C0F1A4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8D4-7D06-4EA8-8EC9-FF9B8CEC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F62-0BDF-4B52-B5D8-6C8A5B73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B265-7C34-4576-BAFB-9B765D5C7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005F-5AC1-4761-8ED7-799782592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06440" y="387360"/>
            <a:ext cx="8413560" cy="5994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7308720" y="2565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1640" y="2637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19280" y="2637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2637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35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36036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4538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9440" y="4538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4538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46116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92360" y="46116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88000" y="5475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95640" y="5475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166680" y="333360"/>
            <a:ext cx="8809200" cy="6048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6227640" y="30272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32720" y="364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19640" y="30686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81440" y="3746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6720" y="30272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6920" y="3746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32720" y="46116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32720" y="5259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2360" y="46116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5259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6116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5300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189000" y="87480"/>
            <a:ext cx="8764560" cy="66830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8029440" y="54936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51640" y="54936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28000" y="83808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83808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29440" y="112536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51640" y="112536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93080" y="622440"/>
            <a:ext cx="142920" cy="142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16720" y="62064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3080" y="83808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16720" y="83808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105264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16720" y="105408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0" y="54936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59280" y="838080"/>
            <a:ext cx="14256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112536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11280" y="112536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0920" y="83808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63640" y="549360"/>
            <a:ext cx="1429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19162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32720" y="2421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8000" y="1916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21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67640" y="5691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20000" y="5589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5661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661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76720" y="5691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6"/>
          <a:stretch/>
        </p:blipFill>
        <p:spPr>
          <a:xfrm>
            <a:off x="301680" y="404640"/>
            <a:ext cx="8539200" cy="5977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54" name=""/>
          <p:cNvSpPr/>
          <p:nvPr/>
        </p:nvSpPr>
        <p:spPr>
          <a:xfrm>
            <a:off x="6659640" y="2565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24720" y="3068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77080" y="2997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00720" y="3068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21440" y="3068640"/>
            <a:ext cx="50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24720" y="364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77080" y="35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27640" y="364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2720" y="364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22560" y="2492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30988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997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068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3068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59280" y="36036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27280" y="35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24000" y="364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3645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99280" y="43959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6000" y="497196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77080" y="48276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72360" y="49719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92720" y="4898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08720" y="55468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77080" y="54039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73800" y="5546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92720" y="5546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4365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4941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00360" y="4869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4941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71640" y="4941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48000" y="5475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27280" y="5373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475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71640" y="5516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8" dur="indefinite" restart="never" nodeType="tmRoot">
          <p:childTnLst>
            <p:seq>
              <p:cTn id="2009" dur="indefinite" nodeType="mainSeq">
                <p:childTnLst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325440" y="93600"/>
            <a:ext cx="8493120" cy="66708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95" name=""/>
          <p:cNvSpPr/>
          <p:nvPr/>
        </p:nvSpPr>
        <p:spPr>
          <a:xfrm>
            <a:off x="6516720" y="44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80360" y="5065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51640" y="10112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48360" y="434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43640" y="549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4000" y="506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8360" y="9079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5080" y="1052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4000" y="1011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68360" y="-270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3640" y="476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76720" y="9810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00360" y="404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24000" y="476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6000" y="476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00360" y="9079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24000" y="1011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16000" y="981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59640" y="51879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24720" y="5661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61080" y="5661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51879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48000" y="57340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40000" y="57340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fill="hold">
                      <p:stCondLst>
                        <p:cond delay="indefinite"/>
                      </p:stCondLst>
                      <p:childTnLst>
                        <p:par>
                          <p:cTn id="2679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0" fill="hold">
                      <p:stCondLst>
                        <p:cond delay="indefinite"/>
                      </p:stCondLst>
                      <p:childTnLst>
                        <p:par>
                          <p:cTn id="2751" fill="hold">
                            <p:stCondLst>
                              <p:cond delay="0"/>
                            </p:stCondLst>
                            <p:childTnLst>
                              <p:par>
                                <p:cTn id="27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6" fill="hold">
                      <p:stCondLst>
                        <p:cond delay="indefinite"/>
                      </p:stCondLst>
                      <p:childTnLst>
                        <p:par>
                          <p:cTn id="2787" fill="hold">
                            <p:stCondLst>
                              <p:cond delay="0"/>
                            </p:stCondLst>
                            <p:childTnLst>
                              <p:par>
                                <p:cTn id="27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4" fill="hold">
                      <p:stCondLst>
                        <p:cond delay="indefinite"/>
                      </p:stCondLst>
                      <p:childTnLst>
                        <p:par>
                          <p:cTn id="2805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fill="hold">
                      <p:stCondLst>
                        <p:cond delay="indefinite"/>
                      </p:stCondLst>
                      <p:childTnLst>
                        <p:par>
                          <p:cTn id="2823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8" fill="hold">
                      <p:stCondLst>
                        <p:cond delay="indefinite"/>
                      </p:stCondLst>
                      <p:childTnLst>
                        <p:par>
                          <p:cTn id="2859" fill="hold">
                            <p:stCondLst>
                              <p:cond delay="0"/>
                            </p:stCondLst>
                            <p:childTnLst>
                              <p:par>
                                <p:cTn id="28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fill="hold">
                      <p:stCondLst>
                        <p:cond delay="indefinite"/>
                      </p:stCondLst>
                      <p:childTnLst>
                        <p:par>
                          <p:cTn id="2967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2" fill="hold">
                      <p:stCondLst>
                        <p:cond delay="indefinite"/>
                      </p:stCondLst>
                      <p:childTnLst>
                        <p:par>
                          <p:cTn id="3003" fill="hold">
                            <p:stCondLst>
                              <p:cond delay="0"/>
                            </p:stCondLst>
                            <p:childTnLst>
                              <p:par>
                                <p:cTn id="30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324000" y="368280"/>
            <a:ext cx="8424720" cy="6120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24" name=""/>
          <p:cNvSpPr/>
          <p:nvPr/>
        </p:nvSpPr>
        <p:spPr>
          <a:xfrm>
            <a:off x="6084720" y="2492280"/>
            <a:ext cx="86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72360" y="3357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92360" y="2565360"/>
            <a:ext cx="86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79640" y="3357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72360" y="4683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72360" y="5546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979640" y="4724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9640" y="5516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0" dur="indefinite" restart="never" nodeType="tmRoot">
          <p:childTnLst>
            <p:seq>
              <p:cTn id="3111" dur="indefinite" nodeType="mainSeq">
                <p:childTnLst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9" fill="hold">
                      <p:stCondLst>
                        <p:cond delay="indefinite"/>
                      </p:stCondLst>
                      <p:childTnLst>
                        <p:par>
                          <p:cTn id="3230" fill="hold">
                            <p:stCondLst>
                              <p:cond delay="0"/>
                            </p:stCondLst>
                            <p:childTnLst>
                              <p:par>
                                <p:cTn id="3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6"/>
          <a:stretch/>
        </p:blipFill>
        <p:spPr>
          <a:xfrm>
            <a:off x="179280" y="333360"/>
            <a:ext cx="8859960" cy="6048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337" name=""/>
          <p:cNvSpPr/>
          <p:nvPr/>
        </p:nvSpPr>
        <p:spPr>
          <a:xfrm>
            <a:off x="7812000" y="2565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08720" y="2492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32720" y="2565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24360" y="2565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12000" y="3429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08720" y="3357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61080" y="3459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6000" y="3429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85080" y="4322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36000" y="4179960"/>
            <a:ext cx="50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4322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96000" y="4322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56720" y="5187960"/>
            <a:ext cx="50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36000" y="5043600"/>
            <a:ext cx="50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32720" y="51879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96000" y="51879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35280" y="2637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2492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56000" y="2637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116000" y="263700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37080" y="3500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132000" y="3357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56000" y="3530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87280" y="350028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42926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48000" y="51879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87640" y="41799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56000" y="4322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47640" y="4322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89440" y="5043600"/>
            <a:ext cx="50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56000" y="51879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47640" y="51879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5" dur="indefinite" restart="never" nodeType="tmRoot">
          <p:childTnLst>
            <p:seq>
              <p:cTn id="3266" dur="indefinite" nodeType="mainSeq">
                <p:childTnLst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4" fill="hold">
                      <p:stCondLst>
                        <p:cond delay="indefinite"/>
                      </p:stCondLst>
                      <p:childTnLst>
                        <p:par>
                          <p:cTn id="3295" fill="hold">
                            <p:stCondLst>
                              <p:cond delay="0"/>
                            </p:stCondLst>
                            <p:childTnLst>
                              <p:par>
                                <p:cTn id="3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fill="hold">
                      <p:stCondLst>
                        <p:cond delay="indefinite"/>
                      </p:stCondLst>
                      <p:childTnLst>
                        <p:par>
                          <p:cTn id="3385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fill="hold">
                      <p:stCondLst>
                        <p:cond delay="indefinite"/>
                      </p:stCondLst>
                      <p:childTnLst>
                        <p:par>
                          <p:cTn id="3403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fill="hold">
                      <p:stCondLst>
                        <p:cond delay="indefinite"/>
                      </p:stCondLst>
                      <p:childTnLst>
                        <p:par>
                          <p:cTn id="3493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fill="hold">
                      <p:stCondLst>
                        <p:cond delay="indefinite"/>
                      </p:stCondLst>
                      <p:childTnLst>
                        <p:par>
                          <p:cTn id="3511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8" fill="hold">
                      <p:stCondLst>
                        <p:cond delay="indefinite"/>
                      </p:stCondLst>
                      <p:childTnLst>
                        <p:par>
                          <p:cTn id="3529" fill="hold">
                            <p:stCondLst>
                              <p:cond delay="0"/>
                            </p:stCondLst>
                            <p:childTnLst>
                              <p:par>
                                <p:cTn id="3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6" fill="hold">
                      <p:stCondLst>
                        <p:cond delay="indefinite"/>
                      </p:stCondLst>
                      <p:childTnLst>
                        <p:par>
                          <p:cTn id="3547" fill="hold">
                            <p:stCondLst>
                              <p:cond delay="0"/>
                            </p:stCondLst>
                            <p:childTnLst>
                              <p:par>
                                <p:cTn id="35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4" fill="hold">
                      <p:stCondLst>
                        <p:cond delay="indefinite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fill="hold">
                      <p:stCondLst>
                        <p:cond delay="indefinite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0" fill="hold">
                      <p:stCondLst>
                        <p:cond delay="indefinite"/>
                      </p:stCondLst>
                      <p:childTnLst>
                        <p:par>
                          <p:cTn id="3601" fill="hold">
                            <p:stCondLst>
                              <p:cond delay="0"/>
                            </p:stCondLst>
                            <p:childTnLst>
                              <p:par>
                                <p:cTn id="3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6" fill="hold">
                      <p:stCondLst>
                        <p:cond delay="indefinite"/>
                      </p:stCondLst>
                      <p:childTnLst>
                        <p:par>
                          <p:cTn id="3637" fill="hold">
                            <p:stCondLst>
                              <p:cond delay="0"/>
                            </p:stCondLst>
                            <p:childTnLst>
                              <p:par>
                                <p:cTn id="36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fill="hold">
                      <p:stCondLst>
                        <p:cond delay="indefinite"/>
                      </p:stCondLst>
                      <p:childTnLst>
                        <p:par>
                          <p:cTn id="3691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8" fill="hold">
                      <p:stCondLst>
                        <p:cond delay="indefinite"/>
                      </p:stCondLst>
                      <p:childTnLst>
                        <p:par>
                          <p:cTn id="3709" fill="hold">
                            <p:stCondLst>
                              <p:cond delay="0"/>
                            </p:stCondLst>
                            <p:childTnLst>
                              <p:par>
                                <p:cTn id="3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6" fill="hold">
                      <p:stCondLst>
                        <p:cond delay="indefinite"/>
                      </p:stCondLst>
                      <p:childTnLst>
                        <p:par>
                          <p:cTn id="3727" fill="hold">
                            <p:stCondLst>
                              <p:cond delay="0"/>
                            </p:stCondLst>
                            <p:childTnLst>
                              <p:par>
                                <p:cTn id="3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4" fill="hold">
                      <p:stCondLst>
                        <p:cond delay="indefinite"/>
                      </p:stCondLst>
                      <p:childTnLst>
                        <p:par>
                          <p:cTn id="3745" fill="hold">
                            <p:stCondLst>
                              <p:cond delay="0"/>
                            </p:stCondLst>
                            <p:childTnLst>
                              <p:par>
                                <p:cTn id="37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6" fill="hold">
                      <p:stCondLst>
                        <p:cond delay="indefinite"/>
                      </p:stCondLst>
                      <p:childTnLst>
                        <p:par>
                          <p:cTn id="3817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95280" y="404640"/>
            <a:ext cx="8353440" cy="5904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00720" y="5796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620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00720" y="2090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2133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36036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73080" y="36036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5114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3080" y="5157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250920" y="333360"/>
            <a:ext cx="8697960" cy="6120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813800" y="4538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08720" y="4437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4538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4538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4538520"/>
            <a:ext cx="50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4437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4538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538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392040" y="115920"/>
            <a:ext cx="8359920" cy="66769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7307280" y="314172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3027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3141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1417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55468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5475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27640" y="5546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5546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325440" y="404640"/>
            <a:ext cx="8493120" cy="5977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667640" y="18032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1700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17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35640" y="177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08720" y="51148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501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5084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24360" y="5013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5084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84720" y="4869000"/>
            <a:ext cx="5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69720" y="333360"/>
            <a:ext cx="8404560" cy="6048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6732720" y="2565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2349360"/>
            <a:ext cx="433080" cy="574920"/>
          </a:xfrm>
          <a:custGeom>
            <a:avLst/>
            <a:gdLst>
              <a:gd name="textAreaLeft" fmla="*/ 0 w 433080"/>
              <a:gd name="textAreaRight" fmla="*/ 433440 w 433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21600" h="21600">
                <a:moveTo>
                  <a:pt x="7200" y="10800"/>
                </a:moveTo>
                <a:arcTo wR="-3600" hR="-3600" stAng="-10800000" swAng="-12649387"/>
                <a:lnTo>
                  <a:pt x="1525" y="16334"/>
                </a:lnTo>
                <a:arcTo wR="10800" hR="10800" stAng="8950613" swAng="12649387"/>
                <a:lnTo>
                  <a:pt x="24300" y="10800"/>
                </a:lnTo>
                <a:lnTo>
                  <a:pt x="18000" y="17100"/>
                </a:lnTo>
                <a:lnTo>
                  <a:pt x="117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2421000"/>
            <a:ext cx="360360" cy="576360"/>
          </a:xfrm>
          <a:custGeom>
            <a:avLst/>
            <a:gdLst>
              <a:gd name="textAreaLeft" fmla="*/ 0 w 360360"/>
              <a:gd name="textAreaRight" fmla="*/ 360720 w 360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1732877"/>
                <a:lnTo>
                  <a:pt x="395" y="13695"/>
                </a:lnTo>
                <a:arcTo wR="10800" hR="10800" stAng="9867123" swAng="1173287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62200" y="3575160"/>
            <a:ext cx="433440" cy="574560"/>
          </a:xfrm>
          <a:custGeom>
            <a:avLst/>
            <a:gdLst>
              <a:gd name="textAreaLeft" fmla="*/ 0 w 433440"/>
              <a:gd name="textAreaRight" fmla="*/ 433800 w 433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7200" y="10800"/>
                </a:moveTo>
                <a:arcTo wR="-3600" hR="-3600" stAng="-10800000" swAng="-12649387"/>
                <a:lnTo>
                  <a:pt x="1525" y="16334"/>
                </a:lnTo>
                <a:arcTo wR="10800" hR="10800" stAng="8950613" swAng="12649387"/>
                <a:lnTo>
                  <a:pt x="24300" y="10800"/>
                </a:lnTo>
                <a:lnTo>
                  <a:pt x="18000" y="17100"/>
                </a:lnTo>
                <a:lnTo>
                  <a:pt x="117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67280" y="3575160"/>
            <a:ext cx="433440" cy="574560"/>
          </a:xfrm>
          <a:custGeom>
            <a:avLst/>
            <a:gdLst>
              <a:gd name="textAreaLeft" fmla="*/ 0 w 433440"/>
              <a:gd name="textAreaRight" fmla="*/ 433800 w 433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7200" y="10800"/>
                </a:moveTo>
                <a:arcTo wR="-3600" hR="-3600" stAng="-10800000" swAng="-12649387"/>
                <a:lnTo>
                  <a:pt x="1525" y="16334"/>
                </a:lnTo>
                <a:arcTo wR="10800" hR="10800" stAng="8950613" swAng="12649387"/>
                <a:lnTo>
                  <a:pt x="24300" y="10800"/>
                </a:lnTo>
                <a:lnTo>
                  <a:pt x="18000" y="17100"/>
                </a:lnTo>
                <a:lnTo>
                  <a:pt x="117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8920" y="3575160"/>
            <a:ext cx="433440" cy="574560"/>
          </a:xfrm>
          <a:custGeom>
            <a:avLst/>
            <a:gdLst>
              <a:gd name="textAreaLeft" fmla="*/ 0 w 433440"/>
              <a:gd name="textAreaRight" fmla="*/ 433800 w 433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7200" y="10800"/>
                </a:moveTo>
                <a:arcTo wR="-3600" hR="-3600" stAng="-10800000" swAng="-12649387"/>
                <a:lnTo>
                  <a:pt x="1525" y="16334"/>
                </a:lnTo>
                <a:arcTo wR="10800" hR="10800" stAng="8950613" swAng="12649387"/>
                <a:lnTo>
                  <a:pt x="24300" y="10800"/>
                </a:lnTo>
                <a:lnTo>
                  <a:pt x="18000" y="17100"/>
                </a:lnTo>
                <a:lnTo>
                  <a:pt x="117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3890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4941720"/>
            <a:ext cx="433440" cy="574920"/>
          </a:xfrm>
          <a:custGeom>
            <a:avLst/>
            <a:gdLst>
              <a:gd name="textAreaLeft" fmla="*/ 0 w 433440"/>
              <a:gd name="textAreaRight" fmla="*/ 433800 w 4334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21600" h="21600">
                <a:moveTo>
                  <a:pt x="7200" y="10800"/>
                </a:moveTo>
                <a:arcTo wR="-3600" hR="-3600" stAng="-10800000" swAng="-12649387"/>
                <a:lnTo>
                  <a:pt x="1525" y="16334"/>
                </a:lnTo>
                <a:arcTo wR="10800" hR="10800" stAng="8950613" swAng="12649387"/>
                <a:lnTo>
                  <a:pt x="24300" y="10800"/>
                </a:lnTo>
                <a:lnTo>
                  <a:pt x="18000" y="17100"/>
                </a:lnTo>
                <a:lnTo>
                  <a:pt x="117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4941720"/>
            <a:ext cx="433440" cy="574920"/>
          </a:xfrm>
          <a:custGeom>
            <a:avLst/>
            <a:gdLst>
              <a:gd name="textAreaLeft" fmla="*/ 0 w 433440"/>
              <a:gd name="textAreaRight" fmla="*/ 433800 w 4334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21600" h="21600">
                <a:moveTo>
                  <a:pt x="7200" y="10800"/>
                </a:moveTo>
                <a:arcTo wR="-3600" hR="-3600" stAng="-10800000" swAng="-12649387"/>
                <a:lnTo>
                  <a:pt x="1525" y="16334"/>
                </a:lnTo>
                <a:arcTo wR="10800" hR="10800" stAng="8950613" swAng="12649387"/>
                <a:lnTo>
                  <a:pt x="24300" y="10800"/>
                </a:lnTo>
                <a:lnTo>
                  <a:pt x="18000" y="17100"/>
                </a:lnTo>
                <a:lnTo>
                  <a:pt x="117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6560" y="4941720"/>
            <a:ext cx="433440" cy="574920"/>
          </a:xfrm>
          <a:custGeom>
            <a:avLst/>
            <a:gdLst>
              <a:gd name="textAreaLeft" fmla="*/ 0 w 433440"/>
              <a:gd name="textAreaRight" fmla="*/ 433800 w 4334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21600" h="21600">
                <a:moveTo>
                  <a:pt x="7200" y="10800"/>
                </a:moveTo>
                <a:arcTo wR="-3600" hR="-3600" stAng="-10800000" swAng="-12649387"/>
                <a:lnTo>
                  <a:pt x="1525" y="16334"/>
                </a:lnTo>
                <a:arcTo wR="10800" hR="10800" stAng="8950613" swAng="12649387"/>
                <a:lnTo>
                  <a:pt x="24300" y="10800"/>
                </a:lnTo>
                <a:lnTo>
                  <a:pt x="18000" y="17100"/>
                </a:lnTo>
                <a:lnTo>
                  <a:pt x="117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7080" y="51879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66680" y="120600"/>
            <a:ext cx="8809200" cy="6615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2843280" y="1341360"/>
            <a:ext cx="433440" cy="574920"/>
          </a:xfrm>
          <a:custGeom>
            <a:avLst/>
            <a:gdLst>
              <a:gd name="textAreaLeft" fmla="*/ 0 w 433440"/>
              <a:gd name="textAreaRight" fmla="*/ 433800 w 4334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21600" h="21600">
                <a:moveTo>
                  <a:pt x="7200" y="10800"/>
                </a:moveTo>
                <a:arcTo wR="-3600" hR="-3600" stAng="-10800000" swAng="-12649387"/>
                <a:lnTo>
                  <a:pt x="1525" y="16334"/>
                </a:lnTo>
                <a:arcTo wR="10800" hR="10800" stAng="8950613" swAng="12649387"/>
                <a:lnTo>
                  <a:pt x="24300" y="10800"/>
                </a:lnTo>
                <a:lnTo>
                  <a:pt x="18000" y="17100"/>
                </a:lnTo>
                <a:lnTo>
                  <a:pt x="117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1341360"/>
            <a:ext cx="433440" cy="574920"/>
          </a:xfrm>
          <a:custGeom>
            <a:avLst/>
            <a:gdLst>
              <a:gd name="textAreaLeft" fmla="*/ 0 w 433440"/>
              <a:gd name="textAreaRight" fmla="*/ 433800 w 4334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21600" h="21600">
                <a:moveTo>
                  <a:pt x="7200" y="10800"/>
                </a:moveTo>
                <a:arcTo wR="-3600" hR="-3600" stAng="-10800000" swAng="-12649387"/>
                <a:lnTo>
                  <a:pt x="1525" y="16334"/>
                </a:lnTo>
                <a:arcTo wR="10800" hR="10800" stAng="8950613" swAng="12649387"/>
                <a:lnTo>
                  <a:pt x="24300" y="10800"/>
                </a:lnTo>
                <a:lnTo>
                  <a:pt x="18000" y="17100"/>
                </a:lnTo>
                <a:lnTo>
                  <a:pt x="117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1341360"/>
            <a:ext cx="433080" cy="574920"/>
          </a:xfrm>
          <a:custGeom>
            <a:avLst/>
            <a:gdLst>
              <a:gd name="textAreaLeft" fmla="*/ 0 w 433080"/>
              <a:gd name="textAreaRight" fmla="*/ 433440 w 433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21600" h="21600">
                <a:moveTo>
                  <a:pt x="7200" y="10800"/>
                </a:moveTo>
                <a:arcTo wR="-3600" hR="-3600" stAng="-10800000" swAng="-12649387"/>
                <a:lnTo>
                  <a:pt x="1525" y="16334"/>
                </a:lnTo>
                <a:arcTo wR="10800" hR="10800" stAng="8950613" swAng="12649387"/>
                <a:lnTo>
                  <a:pt x="24300" y="10800"/>
                </a:lnTo>
                <a:lnTo>
                  <a:pt x="18000" y="17100"/>
                </a:lnTo>
                <a:lnTo>
                  <a:pt x="117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8360" y="4438800"/>
            <a:ext cx="433440" cy="574560"/>
          </a:xfrm>
          <a:custGeom>
            <a:avLst/>
            <a:gdLst>
              <a:gd name="textAreaLeft" fmla="*/ 0 w 433440"/>
              <a:gd name="textAreaRight" fmla="*/ 433800 w 433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7200" y="10800"/>
                </a:moveTo>
                <a:arcTo wR="-3600" hR="-3600" stAng="-10800000" swAng="-12649387"/>
                <a:lnTo>
                  <a:pt x="1525" y="16334"/>
                </a:lnTo>
                <a:arcTo wR="10800" hR="10800" stAng="8950613" swAng="12649387"/>
                <a:lnTo>
                  <a:pt x="24300" y="10800"/>
                </a:lnTo>
                <a:lnTo>
                  <a:pt x="18000" y="17100"/>
                </a:lnTo>
                <a:lnTo>
                  <a:pt x="117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0200" y="4438800"/>
            <a:ext cx="433080" cy="574560"/>
          </a:xfrm>
          <a:custGeom>
            <a:avLst/>
            <a:gdLst>
              <a:gd name="textAreaLeft" fmla="*/ 0 w 433080"/>
              <a:gd name="textAreaRight" fmla="*/ 433440 w 4330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7200" y="10800"/>
                </a:moveTo>
                <a:arcTo wR="-3600" hR="-3600" stAng="-10800000" swAng="-12649387"/>
                <a:lnTo>
                  <a:pt x="1525" y="16334"/>
                </a:lnTo>
                <a:arcTo wR="10800" hR="10800" stAng="8950613" swAng="12649387"/>
                <a:lnTo>
                  <a:pt x="24300" y="10800"/>
                </a:lnTo>
                <a:lnTo>
                  <a:pt x="18000" y="17100"/>
                </a:lnTo>
                <a:lnTo>
                  <a:pt x="117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13800" y="26668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2720" y="263700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3080" y="2708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13800" y="5762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32720" y="5762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24360" y="576252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369720" y="92160"/>
            <a:ext cx="8404560" cy="66722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7381800" y="29541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93080" y="57625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325440" y="333360"/>
            <a:ext cx="8493120" cy="6048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7453440" y="162864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53440" y="479736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0-12-12T06:19:25Z</dcterms:modified>
  <cp:revision>6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