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8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C7D-94A5-4ED0-A9A3-57633BFE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352-72E6-4922-84C3-A58707AD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236-54DD-40B7-ACB6-08D6A15C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4E4-09A5-4686-9EDD-B924F221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08F5-8093-44FC-956E-39363598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8980-E590-4D32-8B8E-2C43A8A1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552F-CA4E-4D9B-9810-AB2C6578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CB0A-482C-4B6E-AC29-DDFCD099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EA39-B79E-4C4D-B30B-A1B21F89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5C11-3D33-4036-91B8-DFE98844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D3B8-C138-47A4-B809-2D50B36E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A57-4BA3-411B-AA0D-AFCACD01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8BC7-1C5F-4761-8797-B1F81036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0D9B-10C0-402B-9942-45C2207F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C6BA-A9B4-4568-839B-F26073B9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FB5B-B799-429B-88C9-34B5F819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CDF5-1391-4C6F-956C-8B0CBE108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962-A755-44BB-91B4-1F9F7C7E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7E05-173A-47ED-9396-B63674BD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B0C-A0DA-4327-BFA1-55BE6CC9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282-68CC-40E3-994B-E5DAA4F2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874-59FF-4E3E-AAC5-8CE1BE19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3B5-75A6-4FEF-88F3-31C48556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CCB-095E-4CB9-AF86-C9D6209B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1253-48E1-4A1E-B5A8-5826A35B4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AB22-F7FF-42C6-93F4-194BDF76C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14360" y="404640"/>
            <a:ext cx="8313840" cy="5904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4714920" y="2492280"/>
            <a:ext cx="1081080" cy="79236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08720" y="5373720"/>
            <a:ext cx="1081080" cy="79200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8496000" cy="6191280"/>
          </a:xfrm>
          <a:prstGeom prst="rect">
            <a:avLst/>
          </a:prstGeom>
          <a:ln w="76320">
            <a:solidFill>
              <a:srgbClr val="0000ff"/>
            </a:solidFill>
            <a:prstDash val="lgDashDotDot"/>
            <a:miter/>
          </a:ln>
        </p:spPr>
      </p:pic>
      <p:sp>
        <p:nvSpPr>
          <p:cNvPr id="163" name=""/>
          <p:cNvSpPr/>
          <p:nvPr/>
        </p:nvSpPr>
        <p:spPr>
          <a:xfrm rot="16200000">
            <a:off x="2376360" y="1017360"/>
            <a:ext cx="1440000" cy="165600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11280" y="2637000"/>
            <a:ext cx="1224000" cy="122364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1979640" y="3933720"/>
            <a:ext cx="1224000" cy="165600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436680" y="333360"/>
            <a:ext cx="8269200" cy="60483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1620720" y="328464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72360" y="324324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33577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24360" y="56196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56196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55897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95280" y="404640"/>
            <a:ext cx="8424720" cy="5904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156360" y="1700280"/>
            <a:ext cx="1224000" cy="79200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16360" y="378612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Times New Roman"/>
              </a:rPr>
              <a:t>اطول م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450540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Times New Roman"/>
              </a:rPr>
              <a:t>اقصر م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16360" y="5226120"/>
            <a:ext cx="18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Times New Roman"/>
              </a:rPr>
              <a:t>اقصر م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395280" y="69840"/>
            <a:ext cx="8353440" cy="6716880"/>
          </a:xfrm>
          <a:prstGeom prst="rect">
            <a:avLst/>
          </a:prstGeom>
          <a:ln w="76320">
            <a:solidFill>
              <a:srgbClr val="0000ff"/>
            </a:solidFill>
            <a:prstDash val="dash"/>
            <a:miter/>
          </a:ln>
        </p:spPr>
      </p:pic>
      <p:sp>
        <p:nvSpPr>
          <p:cNvPr id="103" name=""/>
          <p:cNvSpPr/>
          <p:nvPr/>
        </p:nvSpPr>
        <p:spPr>
          <a:xfrm>
            <a:off x="6227640" y="184464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39625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27640" y="60516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144360" y="260280"/>
            <a:ext cx="8675640" cy="6453360"/>
          </a:xfrm>
          <a:prstGeom prst="rect">
            <a:avLst/>
          </a:prstGeom>
          <a:ln cap="rnd" w="7632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11" name=""/>
          <p:cNvSpPr/>
          <p:nvPr/>
        </p:nvSpPr>
        <p:spPr>
          <a:xfrm>
            <a:off x="2556000" y="155736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Times New Roman"/>
              </a:rPr>
              <a:t>القلم الرصا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2349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Times New Roman"/>
              </a:rPr>
              <a:t>الممح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4500720" y="3645000"/>
            <a:ext cx="1655640" cy="647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468360" y="4221000"/>
            <a:ext cx="4668840" cy="1192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179280" y="5589720"/>
            <a:ext cx="65134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324000" y="0"/>
            <a:ext cx="8496000" cy="6553080"/>
          </a:xfrm>
          <a:prstGeom prst="rect">
            <a:avLst/>
          </a:prstGeom>
          <a:ln w="76320">
            <a:solidFill>
              <a:srgbClr val="0000ff"/>
            </a:solidFill>
            <a:prstDash val="sysDot"/>
            <a:miter/>
          </a:ln>
        </p:spPr>
      </p:pic>
      <p:sp>
        <p:nvSpPr>
          <p:cNvPr id="121" name=""/>
          <p:cNvSpPr/>
          <p:nvPr/>
        </p:nvSpPr>
        <p:spPr>
          <a:xfrm>
            <a:off x="5148360" y="1557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206064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36450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48360" y="4005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551664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48360" y="59500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324000" y="339840"/>
            <a:ext cx="8496000" cy="6041880"/>
          </a:xfrm>
          <a:prstGeom prst="rect">
            <a:avLst/>
          </a:prstGeom>
          <a:ln w="76320">
            <a:solidFill>
              <a:srgbClr val="0000ff"/>
            </a:solidFill>
            <a:prstDash val="dash"/>
            <a:miter/>
          </a:ln>
        </p:spPr>
      </p:pic>
      <p:sp>
        <p:nvSpPr>
          <p:cNvPr id="132" name=""/>
          <p:cNvSpPr/>
          <p:nvPr/>
        </p:nvSpPr>
        <p:spPr>
          <a:xfrm>
            <a:off x="395280" y="1197000"/>
            <a:ext cx="2017800" cy="230328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72360" y="4726080"/>
            <a:ext cx="1224000" cy="122400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95280" y="404640"/>
            <a:ext cx="8310600" cy="5977080"/>
          </a:xfrm>
          <a:prstGeom prst="rect">
            <a:avLst/>
          </a:prstGeom>
          <a:ln w="76320">
            <a:solidFill>
              <a:srgbClr val="0000ff"/>
            </a:solidFill>
            <a:prstDash val="dashDot"/>
            <a:miter/>
          </a:ln>
        </p:spPr>
      </p:pic>
      <p:sp>
        <p:nvSpPr>
          <p:cNvPr id="139" name=""/>
          <p:cNvSpPr/>
          <p:nvPr/>
        </p:nvSpPr>
        <p:spPr>
          <a:xfrm>
            <a:off x="3851280" y="1916280"/>
            <a:ext cx="1081080" cy="79200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4076640"/>
            <a:ext cx="2016360" cy="208908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468360" y="333360"/>
            <a:ext cx="8280360" cy="6120000"/>
          </a:xfrm>
          <a:prstGeom prst="rect">
            <a:avLst/>
          </a:prstGeom>
          <a:ln w="76320">
            <a:solidFill>
              <a:srgbClr val="0000ff"/>
            </a:solidFill>
            <a:prstDash val="lgDash"/>
            <a:miter/>
          </a:ln>
        </p:spPr>
      </p:pic>
      <p:sp>
        <p:nvSpPr>
          <p:cNvPr id="146" name=""/>
          <p:cNvSpPr/>
          <p:nvPr/>
        </p:nvSpPr>
        <p:spPr>
          <a:xfrm>
            <a:off x="755640" y="1197000"/>
            <a:ext cx="1655640" cy="172728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08360" y="3141720"/>
            <a:ext cx="1295280" cy="151128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20000" y="4869000"/>
            <a:ext cx="1081080" cy="136836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168120" y="216000"/>
            <a:ext cx="8796600" cy="6453000"/>
          </a:xfrm>
          <a:prstGeom prst="rect">
            <a:avLst/>
          </a:prstGeom>
          <a:ln w="76320">
            <a:solidFill>
              <a:srgbClr val="0000ff"/>
            </a:solidFill>
            <a:prstDash val="lgDashDot"/>
            <a:miter/>
          </a:ln>
        </p:spPr>
      </p:pic>
      <p:sp>
        <p:nvSpPr>
          <p:cNvPr id="154" name=""/>
          <p:cNvSpPr/>
          <p:nvPr/>
        </p:nvSpPr>
        <p:spPr>
          <a:xfrm>
            <a:off x="4932360" y="1125360"/>
            <a:ext cx="1224000" cy="165600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68360" y="1916280"/>
            <a:ext cx="1081440" cy="79200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4362480"/>
            <a:ext cx="54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Times New Roman"/>
              </a:rPr>
              <a:t>حقيبة السفر الكبيرة تسع اغراضا اكث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5805360"/>
            <a:ext cx="37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Times New Roman"/>
              </a:rPr>
              <a:t>خليل لدية عصير اكث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0-12-14T07:49:27Z</dcterms:modified>
  <cp:revision>3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