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D0D-2DA7-451C-AC8E-5F8E2D96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13E-37A2-485A-9136-7052405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AAA-1E4A-49B4-9A27-BFAC791A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75E-0E30-4C80-BBCF-8155EBA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5ABB-CCFE-4567-8255-9A929AA2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9795-63CD-4140-820D-C9C5C3D0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641-F7A2-43A7-9250-E06E6C7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5A0-2BCD-4CE6-A6BD-9A24B164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A91-3C9B-4FCB-87A6-F518EDE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49B0-9319-4194-AABB-DB62BE61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58AF-BA20-4D15-97AC-5479A33F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4CB-66E7-447C-BB32-0CE3D68A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B9AE-C6F4-4936-A38B-A2692BF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18C6-6AAD-4292-8266-47AE83E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AB0-F9C3-46E7-A2E5-CC478B6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BDA3-EE1F-4567-9CD7-5E7E1419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F7E1-0427-40D6-9BD0-C878E190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604-A29D-40A1-A0EC-E45EBEE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19E-AB57-4A43-B932-CBE5A331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318-B48B-42A4-9283-00A09635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BB6-A901-4AF2-8EAC-F4FA4046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BDB-837F-488C-87A8-28EFC08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E78-DA16-4A5A-9D1D-E07270A6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E4A-6E23-4461-8860-372FDE2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490-ECD9-4175-B8C3-A4603B8F52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2CCA-93E8-473D-B7E0-8A0E638793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53276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Unit: 3 Lesson: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ell MT"/>
              </a:rPr>
              <a:t>A refreshing Drin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0728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775640" y="6165720"/>
            <a:ext cx="1368360" cy="69228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4226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Read then Answer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What do you think the most popular drink in the wor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0"/>
            <a:ext cx="5328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 MT"/>
              </a:rPr>
              <a:t>A Refreshing Dr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8944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560" y="148428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Which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would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rath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rink coffee or tea? Give a reason for your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916360" y="-360"/>
            <a:ext cx="396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2349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1190520" cy="139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981000" cy="1104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Where does coffee come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made of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b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4105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944720" cy="2089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1066680" cy="1238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651640" y="907920"/>
            <a:ext cx="1368360" cy="118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1322640" cy="143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081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Where does tea come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made of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be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194472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06668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148360" y="4508640"/>
            <a:ext cx="1285920" cy="118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04000" y="692280"/>
            <a:ext cx="1214640" cy="13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 Why do people drink coffee and t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ey improve people’s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perform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t 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771280" y="-360"/>
            <a:ext cx="4032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003400" cy="2665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197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 How do you make t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use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tea ba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</a:rPr>
              <a:t>loose te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484000" y="-360"/>
            <a:ext cx="42973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ell MT"/>
              </a:rPr>
              <a:t>A Refreshing Drin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1655640" cy="134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1657440" cy="1250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67640" y="6165720"/>
            <a:ext cx="1008000" cy="4320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7:14:07Z</dcterms:created>
  <dc:creator>**</dc:creator>
  <dc:description/>
  <dc:language>en-US</dc:language>
  <cp:lastModifiedBy>**</cp:lastModifiedBy>
  <dcterms:modified xsi:type="dcterms:W3CDTF">2005-03-12T20:06:51Z</dcterms:modified>
  <cp:revision>6</cp:revision>
  <dc:subject/>
  <dc:title>Unit: 3 Lesson:1 A refreshing Drink</dc:title>
</cp:coreProperties>
</file>