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9BC93-1D73-4E76-B798-8347CBAA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45151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228760" y="6910200"/>
            <a:ext cx="45151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62CD5-960E-458B-8202-EEEF5DFB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42480" y="568944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228760" y="691020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42480" y="691020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C73C4-BE8D-4A38-92F0-D5F2C838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145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55520" y="5689440"/>
            <a:ext cx="145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282280" y="5689440"/>
            <a:ext cx="145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228760" y="6910200"/>
            <a:ext cx="145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55520" y="6910200"/>
            <a:ext cx="145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282280" y="6910200"/>
            <a:ext cx="145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2C4E7-C996-436A-97F7-7EA81A81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E6B7-717F-4829-A1BE-B827888A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28760" y="5689440"/>
            <a:ext cx="451512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C1DA-73B3-4555-9222-57771FD8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451512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9D0E-5E38-4C19-8EB3-887983C8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220320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42480" y="5689440"/>
            <a:ext cx="220320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C612-DF08-4702-8083-4209F480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BB46-BBBA-4C92-962C-FC6CEA90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228760" y="2437920"/>
            <a:ext cx="4515120" cy="136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15BB-D215-4F9A-9012-702861B4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42480" y="5689440"/>
            <a:ext cx="220320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28760" y="691020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CCB9-CE96-4B66-9D43-CB55BD25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228760" y="5689440"/>
            <a:ext cx="451512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AB53C-87E0-41C0-A691-CDAF57A2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220320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42480" y="568944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42480" y="691020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A794-F9FA-4092-B2F2-3935BDA1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42480" y="568944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28760" y="6910200"/>
            <a:ext cx="45151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D826-FD70-4B6F-8045-635A5DEF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45151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28760" y="6910200"/>
            <a:ext cx="45151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AEB3-38B3-4778-8FD8-86C53F4A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42480" y="568944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28760" y="691020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42480" y="691020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5C79-C0A7-454D-BCC3-022FA82E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145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755520" y="5689440"/>
            <a:ext cx="145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282280" y="5689440"/>
            <a:ext cx="145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28760" y="6910200"/>
            <a:ext cx="145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755520" y="6910200"/>
            <a:ext cx="145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282280" y="6910200"/>
            <a:ext cx="14536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E03D-1D6D-41DC-9DC5-16455FAE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451512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3D97C-1E0D-4EFE-B74A-71399580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220320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42480" y="5689440"/>
            <a:ext cx="220320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B5EF6-94B9-4C64-BB07-569966D4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03180-4683-4909-865A-8CDC0707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228760" y="2437920"/>
            <a:ext cx="4515120" cy="1365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5A26C-DB8B-45F1-904A-CB8B7CDF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42480" y="5689440"/>
            <a:ext cx="220320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28760" y="691020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265EF-15AB-4293-B3B8-A1443928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2203200" cy="23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2480" y="568944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42480" y="691020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A4673-5242-4712-94C4-A46501F9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28760" y="568944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42480" y="5689440"/>
            <a:ext cx="2203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28760" y="6910200"/>
            <a:ext cx="45151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1E75E-3D1B-4FC2-B3F5-C8751AC2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E4DF-8933-487B-B848-CEA20B1715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6857640" cy="728280"/>
            <a:chOff x="0" y="0"/>
            <a:chExt cx="6857640" cy="7282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14200" cy="711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9600" y="180000"/>
              <a:ext cx="6548040" cy="366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07080" y="180000"/>
              <a:ext cx="103320" cy="18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0400" y="0"/>
              <a:ext cx="104760" cy="1843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10400" y="180000"/>
              <a:ext cx="104760" cy="18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05920" y="366120"/>
              <a:ext cx="102240" cy="1843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8640" y="181800"/>
              <a:ext cx="105840" cy="1843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7080" y="361800"/>
              <a:ext cx="103320" cy="1843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5920" y="546480"/>
              <a:ext cx="102240" cy="181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6857640" cy="9143640"/>
            <a:chOff x="0" y="0"/>
            <a:chExt cx="6857640" cy="914364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2628720" cy="914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87000" y="2253960"/>
              <a:ext cx="5570640" cy="3377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422000"/>
              <a:ext cx="2149920" cy="4209480"/>
              <a:chOff x="0" y="1422000"/>
              <a:chExt cx="2149920" cy="4209480"/>
            </a:xfrm>
          </p:grpSpPr>
          <p:sp>
            <p:nvSpPr>
              <p:cNvPr id="55" name=""/>
              <p:cNvSpPr/>
              <p:nvPr/>
            </p:nvSpPr>
            <p:spPr>
              <a:xfrm>
                <a:off x="429840" y="4776840"/>
                <a:ext cx="432000" cy="8546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87000" y="2253600"/>
                <a:ext cx="430920" cy="8571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0720" y="1422000"/>
                <a:ext cx="439200" cy="846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6080" y="4776840"/>
                <a:ext cx="437760" cy="8546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0720" y="2253600"/>
                <a:ext cx="439200" cy="857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56080" y="3098160"/>
                <a:ext cx="437760" cy="8442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98160"/>
                <a:ext cx="436680" cy="8442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287000" y="3098160"/>
                <a:ext cx="430920" cy="8442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29840" y="3930120"/>
                <a:ext cx="432000" cy="858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6080" y="3930120"/>
                <a:ext cx="437760" cy="858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8FCE-53D1-4203-802D-FB9E575A30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  <a:cs typeface="AL-Mohanad"/>
              </a:rPr>
              <a:t>الكفايات اللـغوية</a:t>
            </a:r>
            <a:r>
              <a:rPr b="1" lang="en-US" sz="46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br>
              <a:rPr sz="4600"/>
            </a:b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AL-Mohanad"/>
              </a:rPr>
              <a:t>للتعليم الثانوي الـمرن </a:t>
            </a:r>
            <a:br>
              <a:rPr sz="2800"/>
            </a:b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AL-Mohanad"/>
              </a:rPr>
              <a:t>عرب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L-Mohanad"/>
              </a:rPr>
              <a:t>4</a:t>
            </a:r>
            <a:br>
              <a:rPr sz="2800"/>
            </a:br>
            <a:r>
              <a:rPr b="1" lang="hi-IN" sz="4600" spc="-1" strike="noStrike">
                <a:solidFill>
                  <a:srgbClr val="ffffff"/>
                </a:solidFill>
                <a:latin typeface="Arial"/>
                <a:cs typeface="AL-Mohanad"/>
              </a:rPr>
              <a:t>كتاب الـمعلم</a:t>
            </a:r>
            <a:r>
              <a:rPr b="1" lang="en-US" sz="46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04280" y="5689440"/>
            <a:ext cx="6339240" cy="28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Arial"/>
                <a:cs typeface="AL-Mohanad"/>
              </a:rPr>
              <a:t>الـمؤلفون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L-Mohanad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AL-Mohanad"/>
              </a:rPr>
              <a:t>جمعان بن سعيد القحطا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L-Mohana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  <a:cs typeface="AL-Mohanad"/>
              </a:rPr>
              <a:t>عبد الله بن سعد الغنام       محمد بن علي القحطا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L-Mohana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L-Mohana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L-Mohanad"/>
              </a:rPr>
              <a:t>1424 </a:t>
            </a:r>
            <a:r>
              <a:rPr b="1" lang="hi-IN" sz="1600" spc="-1" strike="noStrike">
                <a:solidFill>
                  <a:srgbClr val="000000"/>
                </a:solidFill>
                <a:latin typeface="Arial"/>
                <a:cs typeface="AL-Mohanad"/>
              </a:rPr>
              <a:t>ـ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L-Mohanad"/>
              </a:rPr>
              <a:t>1425</a:t>
            </a:r>
            <a:r>
              <a:rPr b="1" lang="hi-IN" sz="1600" spc="-1" strike="noStrike">
                <a:solidFill>
                  <a:srgbClr val="000000"/>
                </a:solidFill>
                <a:latin typeface="Arial"/>
                <a:cs typeface="AL-Mohanad"/>
              </a:rPr>
              <a:t>هـ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L-Mohanad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9680" y="898560"/>
            <a:ext cx="3019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AL-Mohanad"/>
              </a:rPr>
              <a:t>الـمملكة العربية السعود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L-Mohanad"/>
              </a:rPr>
              <a:t>  وزارة التـربية والتعـلي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L-Mohanad"/>
              </a:rPr>
              <a:t>      التطوير التربو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7920" y="1403280"/>
            <a:ext cx="787680" cy="86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1:20:21Z</dcterms:created>
  <dc:creator>user</dc:creator>
  <dc:description/>
  <dc:language>en-US</dc:language>
  <cp:lastModifiedBy>user</cp:lastModifiedBy>
  <dcterms:modified xsi:type="dcterms:W3CDTF">2003-11-05T23:03:45Z</dcterms:modified>
  <cp:revision>6</cp:revision>
  <dc:subject/>
  <dc:title>الكفايات اللـغوية  للتعليم الثانوي الـمرن  عرب 4 </dc:title>
</cp:coreProperties>
</file>