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FAFF-8668-487D-91C4-C9369310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33A2-9C21-44C2-804E-232EE4B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A083-12E7-449D-AD26-3833FAA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5552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8228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2876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5552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28228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E096-8F3D-4E62-B44F-93BF2B1C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6E9-05E0-4904-BC2E-7B2F118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7C8-6ED9-481A-88FE-EC78096F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E284-BDA8-4177-9404-79BB1599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0ED-6C60-4DC9-82A1-AA2A696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B47-F428-48D7-B414-5E8CC27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228760" y="2437920"/>
            <a:ext cx="4515120" cy="136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E105-53BD-413B-A726-BFE54BC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FF2-8443-4F85-89A9-834DE83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6025-C8B8-41E9-A6AD-C322779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371-36A5-480E-B93A-2ECF5AB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B8DB-7D24-488B-8F2A-40A4ACE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DE2-166F-40DB-9F81-5F89F6B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01BF-5C5E-4466-B728-29A98F46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5552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8228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2876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5552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28228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CBC7-52BB-4C96-A7D7-3BA59D69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D138-69F3-49BE-AB9B-DCABDA50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D928-5384-4B69-8D21-1DB9BF0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AE0D-E732-48BB-BDBF-86813FB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228760" y="2437920"/>
            <a:ext cx="4515120" cy="136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07FD-48E9-4229-80AB-26A592E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99AE-6ED1-4E40-8156-234A6CD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CBB1-076C-41AA-A40C-0D89BA0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6294-6E07-4E6F-B1A0-F4AF45E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B60-BDF2-4EAE-AE7E-34BD8F60E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2A0-48BC-45A9-A845-A6F55CB84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36896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Arial"/>
                <a:cs typeface="AL-Mohanad"/>
              </a:rPr>
              <a:t>الكفايات اللـغوية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br>
              <a:rPr sz="5000"/>
            </a:b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Mohanad"/>
              </a:rPr>
              <a:t>للتعليم الثانوي الـمرن   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Mohanad"/>
              </a:rPr>
              <a:t>عر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Mohanad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br>
              <a:rPr sz="2400"/>
            </a:b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AL-Mohanad"/>
              </a:rPr>
              <a:t>كتاب الـمعل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49000" y="5689080"/>
            <a:ext cx="61945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ohanad"/>
              </a:rPr>
              <a:t>الـمؤلفو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ohanad"/>
              </a:rPr>
              <a:t>جمعان بن سعيد القحطان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ohanad"/>
              </a:rPr>
              <a:t>عبد الله بن سعد الغنام       محمد بن علي القحطان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1424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ohanad"/>
              </a:rPr>
              <a:t>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L-Mohanad"/>
              </a:rPr>
              <a:t>1425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ohanad"/>
              </a:rPr>
              <a:t>ه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Mohana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7720" y="538200"/>
            <a:ext cx="33559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ohanad"/>
              </a:rPr>
              <a:t>الـمملكة العربية السعود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ohanad"/>
              </a:rPr>
              <a:t>وزارة التربية والتعل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ohanad"/>
              </a:rPr>
              <a:t>التطوير الترب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7920" y="1403280"/>
            <a:ext cx="787680" cy="8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07:03Z</dcterms:created>
  <dc:creator>user</dc:creator>
  <dc:description/>
  <dc:language>en-US</dc:language>
  <cp:lastModifiedBy>user</cp:lastModifiedBy>
  <dcterms:modified xsi:type="dcterms:W3CDTF">2003-11-05T22:48:27Z</dcterms:modified>
  <cp:revision>4</cp:revision>
  <dc:subject/>
  <dc:title>الكفايات اللـغوية  للتعليم الثانوي الـمرن  عرب 3</dc:title>
</cp:coreProperties>
</file>