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C4C4-72F8-45F0-BB6F-158DA40A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85960" y="1692360"/>
            <a:ext cx="54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504960" y="3903840"/>
            <a:ext cx="300996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4960" y="5172480"/>
            <a:ext cx="300996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36DB-CB4E-4B69-9B85-AFC454B4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85960" y="1692360"/>
            <a:ext cx="54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04960" y="3903840"/>
            <a:ext cx="146880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7560" y="3903840"/>
            <a:ext cx="146880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04960" y="5172480"/>
            <a:ext cx="146880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7560" y="5172480"/>
            <a:ext cx="146880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9033-89AC-40A8-87A9-42656021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85960" y="1692360"/>
            <a:ext cx="54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504960" y="3903840"/>
            <a:ext cx="96912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23040" y="3903840"/>
            <a:ext cx="96912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540760" y="3903840"/>
            <a:ext cx="96912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504960" y="5172480"/>
            <a:ext cx="96912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523040" y="5172480"/>
            <a:ext cx="96912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540760" y="5172480"/>
            <a:ext cx="96912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5FB-693E-42BB-A4B6-F3C67856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E37E-6B89-4F74-9FEB-94FFF398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85960" y="1692360"/>
            <a:ext cx="54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504960" y="3903840"/>
            <a:ext cx="3009960" cy="24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122A-83DF-4504-BF87-26744ECF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85960" y="1692360"/>
            <a:ext cx="54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04960" y="3903840"/>
            <a:ext cx="3009960" cy="24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89C4-521E-46EA-8BA6-E621EDAA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85960" y="1692360"/>
            <a:ext cx="54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04960" y="3903840"/>
            <a:ext cx="1468800" cy="24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7560" y="3903840"/>
            <a:ext cx="1468800" cy="24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C83B-639A-4CE1-B666-71C3A6A8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5960" y="1692360"/>
            <a:ext cx="54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606E-9579-4962-81A9-0DC4DB0B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85960" y="1692360"/>
            <a:ext cx="5428440" cy="83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A2DB-B36D-4EAC-BB62-757B68A9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85960" y="1692360"/>
            <a:ext cx="54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04960" y="3903840"/>
            <a:ext cx="146880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7560" y="3903840"/>
            <a:ext cx="1468800" cy="24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504960" y="5172480"/>
            <a:ext cx="146880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EA5B-B99E-4DF4-BE31-820EB42B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5960" y="1692360"/>
            <a:ext cx="54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504960" y="3903840"/>
            <a:ext cx="3009960" cy="24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D171-1D94-485A-887B-28EB87FD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85960" y="1692360"/>
            <a:ext cx="54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04960" y="3903840"/>
            <a:ext cx="1468800" cy="24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7560" y="3903840"/>
            <a:ext cx="146880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47560" y="5172480"/>
            <a:ext cx="146880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0319-6504-4CBF-B146-21531503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85960" y="1692360"/>
            <a:ext cx="54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504960" y="3903840"/>
            <a:ext cx="146880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7560" y="3903840"/>
            <a:ext cx="146880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504960" y="5172480"/>
            <a:ext cx="300996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4761-C1E5-44D7-8766-296A5ED3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85960" y="1692360"/>
            <a:ext cx="54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04960" y="3903840"/>
            <a:ext cx="300996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4960" y="5172480"/>
            <a:ext cx="300996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0E7C-1007-4C78-8C47-087AC61F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85960" y="1692360"/>
            <a:ext cx="54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504960" y="3903840"/>
            <a:ext cx="146880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7560" y="3903840"/>
            <a:ext cx="146880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504960" y="5172480"/>
            <a:ext cx="146880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7560" y="5172480"/>
            <a:ext cx="146880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D3EA-2A11-4FDD-ABC7-C05160C0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5960" y="1692360"/>
            <a:ext cx="54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504960" y="3903840"/>
            <a:ext cx="96912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23040" y="3903840"/>
            <a:ext cx="96912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540760" y="3903840"/>
            <a:ext cx="96912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4960" y="5172480"/>
            <a:ext cx="96912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23040" y="5172480"/>
            <a:ext cx="96912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540760" y="5172480"/>
            <a:ext cx="96912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4E73-8561-454E-9F39-F9E96F75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5960" y="1692360"/>
            <a:ext cx="54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4960" y="3903840"/>
            <a:ext cx="3009960" cy="24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B68B-DB38-4219-8D68-8CD3766E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85960" y="1692360"/>
            <a:ext cx="54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04960" y="3903840"/>
            <a:ext cx="1468800" cy="24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7560" y="3903840"/>
            <a:ext cx="1468800" cy="24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DE9A-F9BF-4053-BAA5-881CAD2F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85960" y="1692360"/>
            <a:ext cx="54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4F9B-CB28-4534-8039-C20EB154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85960" y="1692360"/>
            <a:ext cx="5428440" cy="83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6449-033C-4AF1-8435-A43E0846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85960" y="1692360"/>
            <a:ext cx="54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04960" y="3903840"/>
            <a:ext cx="146880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7560" y="3903840"/>
            <a:ext cx="1468800" cy="24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04960" y="5172480"/>
            <a:ext cx="146880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F17C-F526-4B84-86B1-40B5BAA1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85960" y="1692360"/>
            <a:ext cx="54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04960" y="3903840"/>
            <a:ext cx="1468800" cy="24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7560" y="3903840"/>
            <a:ext cx="146880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7560" y="5172480"/>
            <a:ext cx="146880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D31F-9F29-499F-8C68-42700D75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5960" y="1692360"/>
            <a:ext cx="54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4960" y="3903840"/>
            <a:ext cx="146880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7560" y="3903840"/>
            <a:ext cx="146880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4960" y="5172480"/>
            <a:ext cx="3009960" cy="11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284F-F515-4D98-BBFC-B8F7057E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5714640" cy="9143280"/>
            <a:chOff x="0" y="0"/>
            <a:chExt cx="5714640" cy="914328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2399760" cy="9143280"/>
              <a:chOff x="0" y="0"/>
              <a:chExt cx="2399760" cy="914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71320" cy="914328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2720" y="0"/>
                <a:ext cx="2057040" cy="15555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171360" y="2641320"/>
              <a:ext cx="5543280" cy="425160"/>
              <a:chOff x="171360" y="2641320"/>
              <a:chExt cx="5543280" cy="425160"/>
            </a:xfrm>
          </p:grpSpPr>
          <p:sp>
            <p:nvSpPr>
              <p:cNvPr id="5" name=""/>
              <p:cNvSpPr/>
              <p:nvPr/>
            </p:nvSpPr>
            <p:spPr>
              <a:xfrm>
                <a:off x="456840" y="2641320"/>
                <a:ext cx="5257800" cy="42300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171360" y="2641320"/>
                <a:ext cx="295200" cy="4251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8160" y="1112400"/>
            <a:ext cx="5750640" cy="13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28560" y="3149640"/>
            <a:ext cx="5770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828440" y="8331120"/>
            <a:ext cx="15987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343040" y="8331120"/>
            <a:ext cx="21733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3360" y="8323200"/>
            <a:ext cx="4399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F374-8DEF-493B-84A2-7F15EBBCDAE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4400280" cy="9143640"/>
            <a:chOff x="0" y="0"/>
            <a:chExt cx="4400280" cy="914364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3429000" cy="914364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4080" y="1320840"/>
              <a:ext cx="3886200" cy="25394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723760" y="6519960"/>
            <a:ext cx="3657960" cy="425160"/>
            <a:chOff x="2723760" y="6519960"/>
            <a:chExt cx="3657960" cy="425160"/>
          </a:xfrm>
        </p:grpSpPr>
        <p:sp>
          <p:nvSpPr>
            <p:cNvPr id="52" name=""/>
            <p:cNvSpPr/>
            <p:nvPr/>
          </p:nvSpPr>
          <p:spPr>
            <a:xfrm flipH="1">
              <a:off x="2723400" y="6519960"/>
              <a:ext cx="3469320" cy="4233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86600" y="6519960"/>
              <a:ext cx="195120" cy="4251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1828440" y="8331120"/>
            <a:ext cx="15987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4343040" y="8331120"/>
            <a:ext cx="21733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57240" y="8330760"/>
            <a:ext cx="44136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DF5F-F23C-4D6D-A1F3-044CFC079C1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885960" y="1692360"/>
            <a:ext cx="54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080" y="1320480"/>
            <a:ext cx="6172200" cy="25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003366"/>
                </a:solidFill>
                <a:latin typeface="Arial"/>
                <a:cs typeface="Hesham Gornata"/>
              </a:rPr>
              <a:t>الكفـايات اللــغــوية </a:t>
            </a:r>
            <a:br>
              <a:rPr sz="4400"/>
            </a:br>
            <a:r>
              <a:rPr b="1" lang="ar-AE" sz="4400" spc="-1" strike="noStrike">
                <a:solidFill>
                  <a:srgbClr val="003366"/>
                </a:solidFill>
                <a:latin typeface="Arial"/>
                <a:cs typeface="Hesham Gornata"/>
              </a:rPr>
              <a:t>عرب </a:t>
            </a:r>
            <a:r>
              <a:rPr b="1" lang="ar-AE" sz="4400" spc="-1" strike="noStrike">
                <a:solidFill>
                  <a:srgbClr val="003366"/>
                </a:solidFill>
                <a:latin typeface="Arial"/>
                <a:ea typeface="Hesham Gornata"/>
              </a:rPr>
              <a:t>1</a:t>
            </a:r>
            <a:r>
              <a:rPr b="1" lang="ar-AE" sz="4400" spc="-1" strike="noStrike">
                <a:solidFill>
                  <a:srgbClr val="003366"/>
                </a:solidFill>
                <a:latin typeface="Arial"/>
                <a:ea typeface="Hesham Gornata"/>
              </a:rPr>
              <a:t>	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504960" y="3903840"/>
            <a:ext cx="3009960" cy="24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3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6666"/>
                </a:solidFill>
                <a:latin typeface="Arial"/>
                <a:cs typeface="Hesham Gornata"/>
              </a:rPr>
              <a:t>دليل المعلم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37000" y="250920"/>
            <a:ext cx="20876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3366"/>
                </a:solidFill>
                <a:latin typeface="Arial"/>
                <a:cs typeface="Hesham Gornata"/>
              </a:rPr>
              <a:t>الـمملكة العربية السعودية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3366"/>
                </a:solidFill>
                <a:latin typeface="Arial"/>
                <a:cs typeface="Hesham Gornata"/>
              </a:rPr>
              <a:t>وزارة الـمعارف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3366"/>
                </a:solidFill>
                <a:latin typeface="Arial"/>
                <a:cs typeface="Hesham Gornata"/>
              </a:rPr>
              <a:t>التطوير التربوي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0280" y="7164360"/>
            <a:ext cx="288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3366"/>
                </a:solidFill>
                <a:latin typeface="Arial"/>
                <a:ea typeface="Hesham Gornata"/>
              </a:rPr>
              <a:t>1423</a:t>
            </a:r>
            <a:r>
              <a:rPr b="0" lang="ar-AE" sz="2800" spc="-1" strike="noStrike">
                <a:solidFill>
                  <a:srgbClr val="003366"/>
                </a:solidFill>
                <a:latin typeface="Arial"/>
                <a:ea typeface="Hesham Gornata"/>
              </a:rPr>
              <a:t>   ــ   </a:t>
            </a:r>
            <a:r>
              <a:rPr b="0" lang="ar-AE" sz="2800" spc="-1" strike="noStrike">
                <a:solidFill>
                  <a:srgbClr val="003366"/>
                </a:solidFill>
                <a:latin typeface="Arial"/>
                <a:ea typeface="Hesham Gornata"/>
              </a:rPr>
              <a:t>2003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341520" y="157320"/>
            <a:ext cx="116712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AlKhadani</cp:lastModifiedBy>
  <dcterms:modified xsi:type="dcterms:W3CDTF">2003-02-16T16:29:28Z</dcterms:modified>
  <cp:revision>4</cp:revision>
  <dc:subject/>
  <dc:title>PowerPoint Presentation</dc:title>
</cp:coreProperties>
</file>